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0FDE-03DB-46D3-BF2A-E5AA200D1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F730-F51A-4951-BAA4-DFB5EEF4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4D4A-9A34-42B1-8670-FD1657FD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4103-4500-4527-BED9-678D70B85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F358-541E-47EC-BEDE-3C5EC658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24E6-7B09-4004-9EEE-CC8722A4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2CD5-A87F-4DA4-B3CA-E0D3A04A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5EE2-8755-42B6-89DD-6CFFD55F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7E6B-B8B1-450D-87CD-F33629C0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5798-34A2-49A8-848F-D0DD45A0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9D2A-ED09-4200-BF5D-7BFD60B4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B826-344F-41B6-ACB3-522D01AF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D3AF-01CD-46B3-A1FA-62EE1C9E39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263276907_8"/>
          <p:cNvPicPr/>
          <p:nvPr/>
        </p:nvPicPr>
        <p:blipFill>
          <a:blip r:embed="rId1"/>
          <a:stretch/>
        </p:blipFill>
        <p:spPr>
          <a:xfrm>
            <a:off x="468360" y="692280"/>
            <a:ext cx="4390920" cy="51130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5076720" y="1628640"/>
            <a:ext cx="32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4859280" y="2565360"/>
            <a:ext cx="40338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1000" spc="-1" strike="noStrike">
                <a:solidFill>
                  <a:srgbClr val="0033cc"/>
                </a:solidFill>
                <a:latin typeface="Arial"/>
              </a:rPr>
              <a:t>ХОД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A06-5_6"/>
          <p:cNvPicPr/>
          <p:nvPr/>
        </p:nvPicPr>
        <p:blipFill>
          <a:blip r:embed="rId1"/>
          <a:stretch/>
        </p:blipFill>
        <p:spPr>
          <a:xfrm>
            <a:off x="900000" y="333360"/>
            <a:ext cx="7704360" cy="53276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2771640" y="580536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КОСМОНАВ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539640" y="1916280"/>
            <a:ext cx="45370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Arial"/>
              </a:rPr>
              <a:t>МЕТА</a:t>
            </a: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4427640" y="2492280"/>
            <a:ext cx="1512720" cy="576360"/>
          </a:xfrm>
          <a:prstGeom prst="rightArrow">
            <a:avLst>
              <a:gd name="adj1" fmla="val 50000"/>
              <a:gd name="adj2" fmla="val 6561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5796000" y="620640"/>
            <a:ext cx="360036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500" spc="-1" strike="noStrike">
                <a:solidFill>
                  <a:srgbClr val="0033cc"/>
                </a:solidFill>
                <a:latin typeface="Arial"/>
              </a:rPr>
              <a:t>О</a:t>
            </a:r>
            <a:endParaRPr b="0" lang="en-US" sz="3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knf9e8b492c82ce73bc6db39923861dc792_800"/>
          <p:cNvPicPr/>
          <p:nvPr/>
        </p:nvPicPr>
        <p:blipFill>
          <a:blip r:embed="rId1"/>
          <a:stretch/>
        </p:blipFill>
        <p:spPr>
          <a:xfrm>
            <a:off x="468360" y="404640"/>
            <a:ext cx="8280360" cy="5778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3348000" y="5661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611280" y="260280"/>
            <a:ext cx="345600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979640" y="2205000"/>
            <a:ext cx="13683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0033cc"/>
                </a:solidFill>
                <a:latin typeface="Arial"/>
              </a:rPr>
              <a:t>Е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911840" y="1700280"/>
            <a:ext cx="299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 u="sng">
                <a:solidFill>
                  <a:srgbClr val="0033cc"/>
                </a:solidFill>
                <a:uFillTx/>
                <a:latin typeface="Arial"/>
              </a:rPr>
              <a:t>ЛЕ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5724360" y="2924280"/>
            <a:ext cx="13161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33cc"/>
                </a:solidFill>
                <a:latin typeface="Arial"/>
              </a:rPr>
              <a:t>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ждлор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57610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2484360" y="5661000"/>
            <a:ext cx="38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2987640" y="572292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СЕЛ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42920" y="-2043000"/>
            <a:ext cx="4608720" cy="100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6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71640" y="2492280"/>
            <a:ext cx="14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Н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40360" y="3141720"/>
            <a:ext cx="2448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33cc"/>
                </a:solidFill>
                <a:latin typeface="Arial"/>
              </a:rPr>
              <a:t>РА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777080" cy="6120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708360" y="5877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ЕН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69272365_lunohod2"/>
          <p:cNvPicPr/>
          <p:nvPr/>
        </p:nvPicPr>
        <p:blipFill>
          <a:blip r:embed="rId1"/>
          <a:stretch/>
        </p:blipFill>
        <p:spPr>
          <a:xfrm>
            <a:off x="684360" y="692280"/>
            <a:ext cx="7991280" cy="55450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3276720" y="5734080"/>
            <a:ext cx="32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419640" y="5661000"/>
            <a:ext cx="24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635280" y="558972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ЛУНО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ьтпвку"/>
          <p:cNvPicPr/>
          <p:nvPr/>
        </p:nvPicPr>
        <p:blipFill>
          <a:blip r:embed="rId1"/>
          <a:stretch/>
        </p:blipFill>
        <p:spPr>
          <a:xfrm>
            <a:off x="900000" y="836640"/>
            <a:ext cx="4176720" cy="54007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5219640" y="2349360"/>
            <a:ext cx="32400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33cc"/>
                </a:solidFill>
                <a:latin typeface="Arial"/>
              </a:rPr>
              <a:t>ЕТА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vzluy3"/>
          <p:cNvPicPr/>
          <p:nvPr/>
        </p:nvPicPr>
        <p:blipFill>
          <a:blip r:embed="rId1"/>
          <a:stretch/>
        </p:blipFill>
        <p:spPr>
          <a:xfrm>
            <a:off x="1547640" y="836640"/>
            <a:ext cx="6696360" cy="4602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556000" y="5661000"/>
            <a:ext cx="4392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cc"/>
                </a:solidFill>
                <a:latin typeface="Arial"/>
              </a:rPr>
              <a:t>РАКЕТ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468360" y="-2979720"/>
            <a:ext cx="5327640" cy="110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7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556000" y="1557360"/>
            <a:ext cx="792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33cc"/>
                </a:solidFill>
                <a:latin typeface="Arial"/>
              </a:rPr>
              <a:t>З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508720" y="2637000"/>
            <a:ext cx="31669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33cc"/>
                </a:solidFill>
                <a:latin typeface="Arial"/>
              </a:rPr>
              <a:t>ЗДА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159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8"/>
          <p:cNvSpPr/>
          <p:nvPr/>
        </p:nvSpPr>
        <p:spPr>
          <a:xfrm>
            <a:off x="2556000" y="580536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ЗВЕЗ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092fb282769913afb484549b6a7cde1c"/>
          <p:cNvPicPr/>
          <p:nvPr/>
        </p:nvPicPr>
        <p:blipFill>
          <a:blip r:embed="rId1"/>
          <a:stretch/>
        </p:blipFill>
        <p:spPr>
          <a:xfrm>
            <a:off x="971640" y="1628640"/>
            <a:ext cx="4895640" cy="4105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55640" y="-963720"/>
            <a:ext cx="172872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800" spc="-1" strike="noStrike">
                <a:solidFill>
                  <a:srgbClr val="000000"/>
                </a:solidFill>
                <a:latin typeface="Arial"/>
              </a:rPr>
              <a:t>,,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867280" y="1413000"/>
            <a:ext cx="237672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900" spc="-1" strike="noStrike">
                <a:solidFill>
                  <a:srgbClr val="0033cc"/>
                </a:solidFill>
                <a:latin typeface="Arial"/>
              </a:rPr>
              <a:t>с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916360" y="1125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М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3851280" y="3141720"/>
            <a:ext cx="34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68360" y="-171360"/>
            <a:ext cx="2519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ЖДЛО"/>
          <p:cNvPicPr/>
          <p:nvPr/>
        </p:nvPicPr>
        <p:blipFill>
          <a:blip r:embed="rId1"/>
          <a:stretch/>
        </p:blipFill>
        <p:spPr>
          <a:xfrm>
            <a:off x="468360" y="620640"/>
            <a:ext cx="8207280" cy="4896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0"/>
          <p:cNvSpPr/>
          <p:nvPr/>
        </p:nvSpPr>
        <p:spPr>
          <a:xfrm>
            <a:off x="2843280" y="5805360"/>
            <a:ext cx="38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МАР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0_8aa43_23112cbc_XL"/>
          <p:cNvPicPr/>
          <p:nvPr/>
        </p:nvPicPr>
        <p:blipFill>
          <a:blip r:embed="rId1"/>
          <a:stretch/>
        </p:blipFill>
        <p:spPr>
          <a:xfrm>
            <a:off x="539640" y="836640"/>
            <a:ext cx="4392720" cy="5427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4284720" y="-1486080"/>
            <a:ext cx="6476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5867280" y="1557360"/>
            <a:ext cx="2521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 u="sng">
                <a:solidFill>
                  <a:srgbClr val="0033cc"/>
                </a:solidFill>
                <a:uFillTx/>
                <a:latin typeface="Arial"/>
              </a:rPr>
              <a:t>МО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6084720" y="2997360"/>
            <a:ext cx="23749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33cc"/>
                </a:solidFill>
                <a:latin typeface="Arial"/>
              </a:rPr>
              <a:t>ВТ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1332000" y="260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07:21:44Z</dcterms:created>
  <dc:creator>User5</dc:creator>
  <dc:description/>
  <dc:language>en-US</dc:language>
  <cp:lastModifiedBy>User5</cp:lastModifiedBy>
  <dcterms:modified xsi:type="dcterms:W3CDTF">2013-04-05T08:45:26Z</dcterms:modified>
  <cp:revision>14</cp:revision>
  <dc:subject/>
  <dc:title>Слайд 1</dc:title>
</cp:coreProperties>
</file>