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5BC-30D1-4F1C-A89B-692CA632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E57-0546-40DF-B72E-05FC137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6B6-EC00-4E16-9DDF-B6E6FABE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E0B-0108-40FC-89B3-FF60A97F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88B-FBF0-46FC-AD1F-A9BFC782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B5E-6489-4048-BBEC-CC981010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E54-4BBA-4183-B7BB-825396B9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0C5-381D-48CC-8D1E-661CDE03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898-51DC-4F84-AC91-E178AE07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23F-C80B-4601-9840-DAF6D0D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488-E3DE-4218-B63F-5B65DFA7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AF6-7642-4F6C-B624-1CD355A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DA6D-231C-4D2B-BAF9-D6415FC73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63276907_8"/>
          <p:cNvPicPr/>
          <p:nvPr/>
        </p:nvPicPr>
        <p:blipFill>
          <a:blip r:embed="rId1"/>
          <a:stretch/>
        </p:blipFill>
        <p:spPr>
          <a:xfrm>
            <a:off x="468360" y="692280"/>
            <a:ext cx="4390920" cy="5113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076720" y="162864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859280" y="2565360"/>
            <a:ext cx="40338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1000" spc="-1" strike="noStrike">
                <a:solidFill>
                  <a:srgbClr val="0033cc"/>
                </a:solidFill>
                <a:latin typeface="Arial"/>
              </a:rPr>
              <a:t>ХОД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A06-5_6"/>
          <p:cNvPicPr/>
          <p:nvPr/>
        </p:nvPicPr>
        <p:blipFill>
          <a:blip r:embed="rId1"/>
          <a:stretch/>
        </p:blipFill>
        <p:spPr>
          <a:xfrm>
            <a:off x="900000" y="333360"/>
            <a:ext cx="7704360" cy="5327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771640" y="5805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КОСМОНАВ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539640" y="1916280"/>
            <a:ext cx="4537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</a:rPr>
              <a:t>МЕТА</a:t>
            </a: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427640" y="2492280"/>
            <a:ext cx="1512720" cy="576360"/>
          </a:xfrm>
          <a:prstGeom prst="rightArrow">
            <a:avLst>
              <a:gd name="adj1" fmla="val 50000"/>
              <a:gd name="adj2" fmla="val 656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796000" y="620640"/>
            <a:ext cx="360036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0033cc"/>
                </a:solidFill>
                <a:latin typeface="Arial"/>
              </a:rPr>
              <a:t>О</a:t>
            </a:r>
            <a:endParaRPr b="0" lang="en-US" sz="3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knf9e8b492c82ce73bc6db39923861dc792_800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5778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3348000" y="566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11280" y="260280"/>
            <a:ext cx="3456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979640" y="2205000"/>
            <a:ext cx="136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911840" y="1700280"/>
            <a:ext cx="299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0033cc"/>
                </a:solidFill>
                <a:uFillTx/>
                <a:latin typeface="Arial"/>
              </a:rPr>
              <a:t>ЛЕ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724360" y="2924280"/>
            <a:ext cx="1316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33cc"/>
                </a:solidFill>
                <a:latin typeface="Arial"/>
              </a:rPr>
              <a:t>Я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ждлор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61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484360" y="5661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987640" y="5722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ЕЛ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-2043000"/>
            <a:ext cx="4608720" cy="100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249228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141720"/>
            <a:ext cx="2448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33cc"/>
                </a:solidFill>
                <a:latin typeface="Arial"/>
              </a:rPr>
              <a:t>РА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77080" cy="612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08360" y="587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69272365_lunohod2"/>
          <p:cNvPicPr/>
          <p:nvPr/>
        </p:nvPicPr>
        <p:blipFill>
          <a:blip r:embed="rId1"/>
          <a:stretch/>
        </p:blipFill>
        <p:spPr>
          <a:xfrm>
            <a:off x="684360" y="69228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276720" y="573408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419640" y="566100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635280" y="55897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УН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ьтпвку"/>
          <p:cNvPicPr/>
          <p:nvPr/>
        </p:nvPicPr>
        <p:blipFill>
          <a:blip r:embed="rId1"/>
          <a:stretch/>
        </p:blipFill>
        <p:spPr>
          <a:xfrm>
            <a:off x="900000" y="836640"/>
            <a:ext cx="4176720" cy="5400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219640" y="2349360"/>
            <a:ext cx="3240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33cc"/>
                </a:solidFill>
                <a:latin typeface="Arial"/>
              </a:rPr>
              <a:t>ЕТ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vzluy3"/>
          <p:cNvPicPr/>
          <p:nvPr/>
        </p:nvPicPr>
        <p:blipFill>
          <a:blip r:embed="rId1"/>
          <a:stretch/>
        </p:blipFill>
        <p:spPr>
          <a:xfrm>
            <a:off x="1547640" y="836640"/>
            <a:ext cx="6696360" cy="4602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556000" y="5661000"/>
            <a:ext cx="43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cc"/>
                </a:solidFill>
                <a:latin typeface="Arial"/>
              </a:rPr>
              <a:t>РАКЕТ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468360" y="-2979720"/>
            <a:ext cx="53276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7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6000" y="1557360"/>
            <a:ext cx="79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cc"/>
                </a:solidFill>
                <a:latin typeface="Arial"/>
              </a:rPr>
              <a:t>З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08720" y="2637000"/>
            <a:ext cx="3166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cc"/>
                </a:solidFill>
                <a:latin typeface="Arial"/>
              </a:rPr>
              <a:t>ЗДА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159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2556000" y="5805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ВЕЗ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92fb282769913afb484549b6a7cde1c"/>
          <p:cNvPicPr/>
          <p:nvPr/>
        </p:nvPicPr>
        <p:blipFill>
          <a:blip r:embed="rId1"/>
          <a:stretch/>
        </p:blipFill>
        <p:spPr>
          <a:xfrm>
            <a:off x="971640" y="1628640"/>
            <a:ext cx="4895640" cy="4105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55640" y="-963720"/>
            <a:ext cx="1728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Arial"/>
              </a:rPr>
              <a:t>,,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867280" y="1413000"/>
            <a:ext cx="23767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0033cc"/>
                </a:solidFill>
                <a:latin typeface="Arial"/>
              </a:rPr>
              <a:t>с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916360" y="112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851280" y="3141720"/>
            <a:ext cx="34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68360" y="-171360"/>
            <a:ext cx="2519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ЖДЛО"/>
          <p:cNvPicPr/>
          <p:nvPr/>
        </p:nvPicPr>
        <p:blipFill>
          <a:blip r:embed="rId1"/>
          <a:stretch/>
        </p:blipFill>
        <p:spPr>
          <a:xfrm>
            <a:off x="468360" y="620640"/>
            <a:ext cx="8207280" cy="4896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"/>
          <p:cNvSpPr/>
          <p:nvPr/>
        </p:nvSpPr>
        <p:spPr>
          <a:xfrm>
            <a:off x="2843280" y="58053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МАР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_8aa43_23112cbc_XL"/>
          <p:cNvPicPr/>
          <p:nvPr/>
        </p:nvPicPr>
        <p:blipFill>
          <a:blip r:embed="rId1"/>
          <a:stretch/>
        </p:blipFill>
        <p:spPr>
          <a:xfrm>
            <a:off x="539640" y="836640"/>
            <a:ext cx="4392720" cy="5427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284720" y="-1486080"/>
            <a:ext cx="647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867280" y="1557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 u="sng">
                <a:solidFill>
                  <a:srgbClr val="0033cc"/>
                </a:solidFill>
                <a:uFillTx/>
                <a:latin typeface="Arial"/>
              </a:rPr>
              <a:t>МО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084720" y="2997360"/>
            <a:ext cx="237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cc"/>
                </a:solidFill>
                <a:latin typeface="Arial"/>
              </a:rPr>
              <a:t>ВТ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332000" y="26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7:21:44Z</dcterms:created>
  <dc:creator>User5</dc:creator>
  <dc:description/>
  <dc:language>en-US</dc:language>
  <cp:lastModifiedBy>User5</cp:lastModifiedBy>
  <dcterms:modified xsi:type="dcterms:W3CDTF">2013-04-05T08:45:26Z</dcterms:modified>
  <cp:revision>14</cp:revision>
  <dc:subject/>
  <dc:title>Слайд 1</dc:title>
</cp:coreProperties>
</file>