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1AB-6713-42E2-B068-0BD57948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DDB-64A2-4555-94E7-C0087614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7F9-E135-4A8A-B057-9B92600B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E1-DA95-40CC-90D7-B47FB829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8F3-AAA7-473C-BA42-B0AC6A6B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879A-4837-4963-ADDC-872E8EE5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AFA6-E848-4AA3-ABE0-3575702F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110-DCB3-48AE-AE97-B231CA44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56FC-3AA5-42FB-97EA-8DACC0F7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5750-6A12-4DFD-94EE-92926552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93E5-4320-4287-AFE6-10573427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215-D6CB-449E-A516-A278D262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9ADB-66F3-4FBC-A6BA-046FD02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4E1C-FA27-4A0E-8A18-61EA3AB2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22E5-3307-4A59-90D0-655E8393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A927-9496-4800-82BC-E80BC714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F70-C49F-4CE7-B805-430E7684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20E-D81A-4366-9416-9BAA2AC5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383-5C7E-45E0-BAAD-CC819CC2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776-4118-4436-95AC-247E72BE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E48-A444-4B61-9648-B992AF16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DAC-437F-4648-A26C-E5320C6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259-3651-4A0A-AEBB-9C4ECD3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38B-6BCE-4263-A9E2-11C7D90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97A-8D31-46DA-85D1-139BA0945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6480-702E-4157-B4C6-870415626E0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Содержимое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4599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3" descr="Рисунок2.jpg"/>
          <p:cNvPicPr/>
          <p:nvPr/>
        </p:nvPicPr>
        <p:blipFill>
          <a:blip r:embed="rId2"/>
          <a:stretch/>
        </p:blipFill>
        <p:spPr>
          <a:xfrm>
            <a:off x="4548240" y="0"/>
            <a:ext cx="4595760" cy="312120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3" descr="Рисунок3.jpg"/>
          <p:cNvPicPr/>
          <p:nvPr/>
        </p:nvPicPr>
        <p:blipFill>
          <a:blip r:embed="rId3"/>
          <a:stretch/>
        </p:blipFill>
        <p:spPr>
          <a:xfrm>
            <a:off x="4548240" y="3041640"/>
            <a:ext cx="4595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органов дыхания. Путешествие воздух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- гортань, 2 - трахея, 4- легко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- бронхи, 6 - кислор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dihatsist"/>
          <p:cNvPicPr/>
          <p:nvPr/>
        </p:nvPicPr>
        <p:blipFill>
          <a:blip r:embed="rId1"/>
          <a:stretch/>
        </p:blipFill>
        <p:spPr>
          <a:xfrm>
            <a:off x="1500120" y="1785960"/>
            <a:ext cx="610560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егочные пузырьки. Капилля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Picture 2" descr="C:\Documents and Settings\я\Рабочий стол\B1774p322-2.jpg"/>
          <p:cNvPicPr/>
          <p:nvPr/>
        </p:nvPicPr>
        <p:blipFill>
          <a:blip r:embed="rId1"/>
          <a:stretch/>
        </p:blipFill>
        <p:spPr>
          <a:xfrm>
            <a:off x="2143080" y="2000160"/>
            <a:ext cx="4929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роверь свои знания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1. Носоглотк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2. Гортань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3. Трахе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4. Бронх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5. Лёгк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2071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ccecff"/>
                </a:solidFill>
                <a:latin typeface="Arial"/>
              </a:rPr>
              <a:t>Спасибо         за работу      на уроке!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18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ecff"/>
                </a:solidFill>
                <a:latin typeface="Arial"/>
              </a:rPr>
              <a:t>Органы дыхани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Вопросы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1. Что такое дыхани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2. Какие органы дыхания вы знаете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3. Главный орган дыхан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4. Как правильно дышать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5. Что опасно для органов дыхан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онятийный словарь: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Система дыхания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– система органов, обеспечивающая поступление в организм кислорода и удаление углекислого га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ыхание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процесс поглощения из воздуха кислорода и выделения углекислого газ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осоглот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6" descr="slide0500_image003"/>
          <p:cNvPicPr/>
          <p:nvPr/>
        </p:nvPicPr>
        <p:blipFill>
          <a:blip r:embed="rId1"/>
          <a:stretch/>
        </p:blipFill>
        <p:spPr>
          <a:xfrm>
            <a:off x="2195640" y="1295280"/>
            <a:ext cx="48243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т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2" name="Picture 6" descr="C:\Documents and Settings\я\Рабочий стол\494B.JPG"/>
          <p:cNvPicPr/>
          <p:nvPr/>
        </p:nvPicPr>
        <p:blipFill>
          <a:blip r:embed="rId1"/>
          <a:stretch/>
        </p:blipFill>
        <p:spPr>
          <a:xfrm>
            <a:off x="2286000" y="1500120"/>
            <a:ext cx="47862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ахе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4" descr="трахея"/>
          <p:cNvPicPr/>
          <p:nvPr/>
        </p:nvPicPr>
        <p:blipFill>
          <a:blip r:embed="rId1"/>
          <a:stretch/>
        </p:blipFill>
        <p:spPr>
          <a:xfrm>
            <a:off x="2411280" y="1268280"/>
            <a:ext cx="4176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ронх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517"/>
          <p:cNvPicPr/>
          <p:nvPr/>
        </p:nvPicPr>
        <p:blipFill>
          <a:blip r:embed="rId1"/>
          <a:stretch/>
        </p:blipFill>
        <p:spPr>
          <a:xfrm>
            <a:off x="1763640" y="1268280"/>
            <a:ext cx="5329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ёгко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4" descr="Ne kur"/>
          <p:cNvPicPr/>
          <p:nvPr/>
        </p:nvPicPr>
        <p:blipFill>
          <a:blip r:embed="rId1"/>
          <a:stretch/>
        </p:blipFill>
        <p:spPr>
          <a:xfrm>
            <a:off x="1258920" y="1484280"/>
            <a:ext cx="6481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1:31:22Z</dcterms:created>
  <dc:creator>Щапова</dc:creator>
  <dc:description/>
  <dc:language>en-US</dc:language>
  <cp:lastModifiedBy>а</cp:lastModifiedBy>
  <dcterms:modified xsi:type="dcterms:W3CDTF">2013-04-14T09:07:10Z</dcterms:modified>
  <cp:revision>13</cp:revision>
  <dc:subject/>
  <dc:title>Слайд 1</dc:title>
</cp:coreProperties>
</file>