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C5C-7B8D-4EDF-81B8-35E31260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A6C-5416-49D1-9AF9-842C6AFE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5D9-8200-4B94-89CC-3B5A9AE2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7C8-C298-4000-AA55-3D952B63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3B65-0F4F-4CE5-8D8C-6B5A0DA0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CA29-151D-46A1-9F2D-D16345C6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EBF8-8359-4227-BFBA-8DC422BB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AFDF-5583-45B4-BBE9-38496F84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EB74-7454-4E4B-820D-887F55FE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87CE-DF2F-4D23-875A-4B72DA78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317E-9F23-4AB2-A87B-ADC9A94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8C8-7B0C-44F0-BAB7-3D3FAC68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258F-68DF-4CE3-80F0-CF4EADE0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36C6-F4FB-4B75-9A95-D6F3870A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AAAA-82F4-409B-B225-FE550F9E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7DD1-08F1-44F8-A38C-D630FDBA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E4C9-2DFD-4A60-8E91-A82DCDE5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5E2-097E-4A20-B409-FE583845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40F-844D-4898-B2DB-01BA57B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0AE-441E-44C4-A678-CF162739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132-86FE-4201-BFD0-57D3DAAE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6C3-387C-4B95-B176-A849FC9A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756-F8EF-46D5-9859-1B021119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9FE-C892-439C-9E40-778E25FE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55A6-DE16-4CC0-B29D-6AB73BDAB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2BC4-9B52-4C2E-A3BF-DC97C3979B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4599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3" descr="Рисунок2.jpg"/>
          <p:cNvPicPr/>
          <p:nvPr/>
        </p:nvPicPr>
        <p:blipFill>
          <a:blip r:embed="rId2"/>
          <a:stretch/>
        </p:blipFill>
        <p:spPr>
          <a:xfrm>
            <a:off x="4548240" y="0"/>
            <a:ext cx="4595760" cy="312120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3" descr="Рисунок3.jpg"/>
          <p:cNvPicPr/>
          <p:nvPr/>
        </p:nvPicPr>
        <p:blipFill>
          <a:blip r:embed="rId3"/>
          <a:stretch/>
        </p:blipFill>
        <p:spPr>
          <a:xfrm>
            <a:off x="4548240" y="3041640"/>
            <a:ext cx="4595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стема органов дыхания. Путешествие воздух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- гортань, 2 - трахея, 4- легко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- бронхи, 6 -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dihatsist"/>
          <p:cNvPicPr/>
          <p:nvPr/>
        </p:nvPicPr>
        <p:blipFill>
          <a:blip r:embed="rId1"/>
          <a:stretch/>
        </p:blipFill>
        <p:spPr>
          <a:xfrm>
            <a:off x="1500120" y="1785960"/>
            <a:ext cx="6105600" cy="36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гочные пузырьки. Капилля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2" descr="C:\Documents and Settings\я\Рабочий стол\B1774p322-2.jpg"/>
          <p:cNvPicPr/>
          <p:nvPr/>
        </p:nvPicPr>
        <p:blipFill>
          <a:blip r:embed="rId1"/>
          <a:stretch/>
        </p:blipFill>
        <p:spPr>
          <a:xfrm>
            <a:off x="2143080" y="2000160"/>
            <a:ext cx="49291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роверь свои знания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1. Носоглотк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2. Гортан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3. Трахе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4. Бронх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5. Лёг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0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Спасибо         за работу      на уроке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Органы дыхания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Вопросы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1. Что такое дыхани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2. Какие органы дыхания вы знает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3. Главный орган дыхания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4. Как правильно дышать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5. Что опасно для органов дыхания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нятийный словарь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Система дыхания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система органов, обеспечивающая поступление в организм кислорода и удаление углекислого га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ыхани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процесс поглощения из воздуха кислорода и выделения углекислого газ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осогло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6" descr="slide0500_image003"/>
          <p:cNvPicPr/>
          <p:nvPr/>
        </p:nvPicPr>
        <p:blipFill>
          <a:blip r:embed="rId1"/>
          <a:stretch/>
        </p:blipFill>
        <p:spPr>
          <a:xfrm>
            <a:off x="2195640" y="1295280"/>
            <a:ext cx="482436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та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6" descr="C:\Documents and Settings\я\Рабочий стол\494B.JPG"/>
          <p:cNvPicPr/>
          <p:nvPr/>
        </p:nvPicPr>
        <p:blipFill>
          <a:blip r:embed="rId1"/>
          <a:stretch/>
        </p:blipFill>
        <p:spPr>
          <a:xfrm>
            <a:off x="2286000" y="1500120"/>
            <a:ext cx="4786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ахе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4" descr="трахея"/>
          <p:cNvPicPr/>
          <p:nvPr/>
        </p:nvPicPr>
        <p:blipFill>
          <a:blip r:embed="rId1"/>
          <a:stretch/>
        </p:blipFill>
        <p:spPr>
          <a:xfrm>
            <a:off x="2411280" y="1268280"/>
            <a:ext cx="4176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ронх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4" descr="517"/>
          <p:cNvPicPr/>
          <p:nvPr/>
        </p:nvPicPr>
        <p:blipFill>
          <a:blip r:embed="rId1"/>
          <a:stretch/>
        </p:blipFill>
        <p:spPr>
          <a:xfrm>
            <a:off x="1763640" y="1268280"/>
            <a:ext cx="5329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ёгк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Ne kur"/>
          <p:cNvPicPr/>
          <p:nvPr/>
        </p:nvPicPr>
        <p:blipFill>
          <a:blip r:embed="rId1"/>
          <a:stretch/>
        </p:blipFill>
        <p:spPr>
          <a:xfrm>
            <a:off x="1258920" y="1484280"/>
            <a:ext cx="6481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22Z</dcterms:created>
  <dc:creator>Щапова</dc:creator>
  <dc:description/>
  <dc:language>en-US</dc:language>
  <cp:lastModifiedBy>а</cp:lastModifiedBy>
  <dcterms:modified xsi:type="dcterms:W3CDTF">2013-04-14T09:07:10Z</dcterms:modified>
  <cp:revision>13</cp:revision>
  <dc:subject/>
  <dc:title>Слайд 1</dc:title>
</cp:coreProperties>
</file>