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19.png" ContentType="image/png"/>
  <Override PartName="/ppt/media/image13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28.gif" ContentType="image/gif"/>
  <Override PartName="/ppt/media/image14.jpeg" ContentType="image/jpeg"/>
  <Override PartName="/ppt/media/image30.jpeg" ContentType="image/jpeg"/>
  <Override PartName="/ppt/media/image15.png" ContentType="image/png"/>
  <Override PartName="/ppt/media/image31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6.gif" ContentType="image/gif"/>
  <Override PartName="/ppt/media/image17.gif" ContentType="image/gif"/>
  <Override PartName="/ppt/media/image6.gif" ContentType="image/gif"/>
  <Override PartName="/ppt/media/image21.jpeg" ContentType="image/jpeg"/>
  <Override PartName="/ppt/media/image18.png" ContentType="image/png"/>
  <Override PartName="/ppt/media/image20.png" ContentType="image/png"/>
  <Override PartName="/ppt/media/image23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BB98-A57A-4FC6-B4A0-9295731471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3C50-6942-427F-8B24-E7A4B1FA66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4CC-FB81-4FF2-8BA3-418BD01E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383004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1631-FBCD-4A5E-BE60-96BF73AF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860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F898-37CE-4EE1-88F3-9B8E202D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616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14300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616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830040"/>
            <a:ext cx="26449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390-5FD1-41AC-B9C1-0F22F3D0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7020-A404-4179-A505-458724EC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C8B-5490-4538-B1F6-1FA6241F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8ADD-AAE0-45B4-B74E-32E1046F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4DB6-83AD-4EAA-9BFD-342DFB3C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285840"/>
            <a:ext cx="821520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0F46-02C1-41BC-A845-A92F5F56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D490-57EC-45F9-9D8A-C0DC16EE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8600" y="383004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436-3675-4A13-8703-6C0169EC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8600" y="1143000"/>
            <a:ext cx="4008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3830040"/>
            <a:ext cx="821520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2532-B02B-4887-AFAB-F0FC4852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48DB-2894-494F-AFEE-0F376D6188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6"/>
          <p:cNvSpPr/>
          <p:nvPr/>
        </p:nvSpPr>
        <p:spPr>
          <a:xfrm>
            <a:off x="4500720" y="0"/>
            <a:ext cx="4643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Муниципальное 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средняя общеобразовательная школа №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Муниципального образования город Армави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4500720" y="1357200"/>
            <a:ext cx="4000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cc33"/>
                </a:solidFill>
                <a:latin typeface="Arial"/>
              </a:rPr>
              <a:t>Учитель русского языка и литерату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cc33"/>
                </a:solidFill>
                <a:latin typeface="Arial"/>
              </a:rPr>
              <a:t>Иванова Елена Евген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3571920" y="4071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2"/>
          <p:cNvSpPr/>
          <p:nvPr/>
        </p:nvSpPr>
        <p:spPr>
          <a:xfrm>
            <a:off x="2428920" y="4500720"/>
            <a:ext cx="457200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Урок рус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в 5 кл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1b6"/>
          <p:cNvPicPr/>
          <p:nvPr/>
        </p:nvPicPr>
        <p:blipFill>
          <a:blip r:embed="rId1"/>
          <a:stretch/>
        </p:blipFill>
        <p:spPr>
          <a:xfrm>
            <a:off x="6858000" y="5072040"/>
            <a:ext cx="1911240" cy="154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Users\1\Desktop\Конкурс Кл.рук\порт-о\c27c5437272f.png"/>
          <p:cNvPicPr/>
          <p:nvPr/>
        </p:nvPicPr>
        <p:blipFill>
          <a:blip r:embed="rId2"/>
          <a:stretch/>
        </p:blipFill>
        <p:spPr>
          <a:xfrm>
            <a:off x="439560" y="214200"/>
            <a:ext cx="2703600" cy="20005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7"/>
          <p:cNvSpPr/>
          <p:nvPr/>
        </p:nvSpPr>
        <p:spPr>
          <a:xfrm>
            <a:off x="1189800" y="2924280"/>
            <a:ext cx="68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ые и краткие прилаг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лные прилагательные :     Краткие прилагательные: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ый                                  недобр 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сокий                                     низок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огатый                                      зол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емный                                       светел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орячий                                      колюч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ткий                                      краток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420840" y="212760"/>
            <a:ext cx="8229600" cy="793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539640" y="1143000"/>
            <a:ext cx="8104320" cy="25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есенняя ноч…, возле дач…, снег блестящ…, лесная глуш…, ландыш пахуч…, упругий мяч…, ветер горяч…, черная туш</a:t>
            </a: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…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79" name="Picture 3" descr="D:\Картинки\анимация\cveta-1209.gif"/>
          <p:cNvPicPr/>
          <p:nvPr/>
        </p:nvPicPr>
        <p:blipFill>
          <a:blip r:embed="rId4"/>
          <a:stretch/>
        </p:blipFill>
        <p:spPr>
          <a:xfrm>
            <a:off x="684360" y="4081320"/>
            <a:ext cx="2735280" cy="218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D:\Картинки\анимация\sporta-1293.gif"/>
          <p:cNvPicPr/>
          <p:nvPr/>
        </p:nvPicPr>
        <p:blipFill>
          <a:blip r:embed="rId5"/>
          <a:stretch/>
        </p:blipFill>
        <p:spPr>
          <a:xfrm>
            <a:off x="3708360" y="4437000"/>
            <a:ext cx="1625760" cy="1600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:\Картинки\анимация\Photo%20160_tm.gif"/>
          <p:cNvPicPr/>
          <p:nvPr/>
        </p:nvPicPr>
        <p:blipFill>
          <a:blip r:embed="rId6"/>
          <a:stretch/>
        </p:blipFill>
        <p:spPr>
          <a:xfrm>
            <a:off x="6227640" y="4221000"/>
            <a:ext cx="2011320" cy="19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212760"/>
            <a:ext cx="8229600" cy="793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есенняя ночь (сущ.3 скл.), возле дач (сущ. 1 скл. В Р.п.), снег блестящ (кр.прил.), лесная глушь(сущ.3 скл.), ландыш пахуч  (кр.прил), упругий мяч (сущ.2 скл.), ветер горяч (кр.прил.) , черная тушь (сущ.3 скл.).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20840" y="219240"/>
            <a:ext cx="8229600" cy="1201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Елена\Downloads\199835.jpg"/>
          <p:cNvPicPr/>
          <p:nvPr/>
        </p:nvPicPr>
        <p:blipFill>
          <a:blip r:embed="rId2"/>
          <a:stretch/>
        </p:blipFill>
        <p:spPr>
          <a:xfrm>
            <a:off x="179280" y="1484280"/>
            <a:ext cx="2737080" cy="2739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Елена\Downloads\gloomy_day.jpg"/>
          <p:cNvPicPr/>
          <p:nvPr/>
        </p:nvPicPr>
        <p:blipFill>
          <a:blip r:embed="rId3"/>
          <a:stretch/>
        </p:blipFill>
        <p:spPr>
          <a:xfrm>
            <a:off x="6875640" y="1484280"/>
            <a:ext cx="2070000" cy="2760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Елена\Downloads\69eff2e20597.jpg"/>
          <p:cNvPicPr/>
          <p:nvPr/>
        </p:nvPicPr>
        <p:blipFill>
          <a:blip r:embed="rId4"/>
          <a:stretch/>
        </p:blipFill>
        <p:spPr>
          <a:xfrm>
            <a:off x="3132000" y="1773360"/>
            <a:ext cx="3479760" cy="23209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6"/>
          <p:cNvSpPr/>
          <p:nvPr/>
        </p:nvSpPr>
        <p:spPr>
          <a:xfrm flipH="1" flipV="1" rot="10800000">
            <a:off x="539640" y="452952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 - помощник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мурно, серо, мрачно, печально, тоскливо, грустно, облачно, ненастно, неприветливо, неясно, беззвездно, ветрено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2" descr=""/>
          <p:cNvPicPr/>
          <p:nvPr/>
        </p:nvPicPr>
        <p:blipFill>
          <a:blip r:embed="rId1"/>
          <a:stretch/>
        </p:blipFill>
        <p:spPr>
          <a:xfrm>
            <a:off x="2036880" y="66600"/>
            <a:ext cx="5967360" cy="981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school05-12"/>
          <p:cNvPicPr/>
          <p:nvPr/>
        </p:nvPicPr>
        <p:blipFill>
          <a:blip r:embed="rId2"/>
          <a:stretch/>
        </p:blipFill>
        <p:spPr>
          <a:xfrm>
            <a:off x="0" y="3643200"/>
            <a:ext cx="2786040" cy="3098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1\Рабочий стол\Мои документы\Мои рисунки\победа, успех\4de5308b8c2f.gif"/>
          <p:cNvPicPr/>
          <p:nvPr/>
        </p:nvPicPr>
        <p:blipFill>
          <a:blip r:embed="rId3"/>
          <a:stretch/>
        </p:blipFill>
        <p:spPr>
          <a:xfrm>
            <a:off x="785880" y="857160"/>
            <a:ext cx="1571400" cy="3372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2771640" y="1688760"/>
            <a:ext cx="594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ронтальный опро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Что такое имя прилагательн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Как изменяется имя прилагательн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Какую синтаксическую роль выполняет имя прилагательн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Какие две формы имени прилагательного вы зн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)На какие вопросы отвечает краткое имя прилагательн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) Как изменяются краткие имена прилагательн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7) Какую синтаксическую роль выполняют краткие имена прилагательн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8) как пишутся краткие имена прилагательные с основой на шипящу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1829880" y="285840"/>
            <a:ext cx="589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Documents and Settings\1\Мои документы\Мои рисунки\gaz_n_07_13.jpg"/>
          <p:cNvPicPr/>
          <p:nvPr/>
        </p:nvPicPr>
        <p:blipFill>
          <a:blip r:embed="rId1"/>
          <a:stretch/>
        </p:blipFill>
        <p:spPr>
          <a:xfrm>
            <a:off x="0" y="3141720"/>
            <a:ext cx="3997440" cy="3143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Documents and Settings\1\Рабочий стол\Мои документы\Мои рисунки\Рисунки-анимация\цветы\i0836.gif"/>
          <p:cNvPicPr/>
          <p:nvPr/>
        </p:nvPicPr>
        <p:blipFill>
          <a:blip r:embed="rId2"/>
          <a:stretch/>
        </p:blipFill>
        <p:spPr>
          <a:xfrm>
            <a:off x="6143760" y="4441680"/>
            <a:ext cx="2609640" cy="1783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4140360" y="1428840"/>
            <a:ext cx="460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р.596, стр.237. Составить 5 предложений о животных из сказок с однородными сказуемыми, выраженными прилагательными. Подчеркнуть сказуемые, выраженные краткими прилага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:\Картинки\pictures\для блога\Copy 010.gif"/>
          <p:cNvPicPr/>
          <p:nvPr/>
        </p:nvPicPr>
        <p:blipFill>
          <a:blip r:embed="rId1"/>
          <a:stretch/>
        </p:blipFill>
        <p:spPr>
          <a:xfrm>
            <a:off x="285840" y="214200"/>
            <a:ext cx="2428920" cy="2367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D:\Картинки\pictures\для блога\Изображение 182.jpg"/>
          <p:cNvPicPr/>
          <p:nvPr/>
        </p:nvPicPr>
        <p:blipFill>
          <a:blip r:embed="rId2"/>
          <a:stretch/>
        </p:blipFill>
        <p:spPr>
          <a:xfrm>
            <a:off x="5929200" y="2514600"/>
            <a:ext cx="3214800" cy="434340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3" descr=""/>
          <p:cNvPicPr/>
          <p:nvPr/>
        </p:nvPicPr>
        <p:blipFill>
          <a:blip r:embed="rId3"/>
          <a:stretch/>
        </p:blipFill>
        <p:spPr>
          <a:xfrm>
            <a:off x="957240" y="2206800"/>
            <a:ext cx="473076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539640" y="72900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.Дать представление о полной и краткой форме имен прилагательных, о грамматических особенностях кратких прилагательных и их синтаксической р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Научить различать полные и краткие прилагательные, определять их роль в предло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.Воспитать интерес к русскому языку, развить творческие способности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62064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Segoe UI"/>
              </a:rPr>
              <a:t>- Определите, к каким частям речи относятся слова с корнем –бел- . Подчеркните данные слова как члены предложения.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UI"/>
              </a:rPr>
              <a:t>1)Прыгает по вырубке белый заяц.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UI"/>
              </a:rPr>
              <a:t>2)Заяц зимой белый.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UI"/>
              </a:rPr>
              <a:t>3) Снег в лесу поражает своей белизной.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UI"/>
              </a:rPr>
              <a:t>4) Белеют в темноте сугробы снега.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Segoe UI"/>
              </a:rPr>
              <a:t>- Вспомните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UI"/>
              </a:rPr>
              <a:t>1.Что такое имя прилагательное?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UI"/>
              </a:rPr>
              <a:t>2.Как изменяются имена прилагательные?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UI"/>
              </a:rPr>
              <a:t>3.С какой частью речи  и каким образом согласуются имена прилагательные?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Segoe UI"/>
              </a:rPr>
              <a:t>4.Какова роль в предложении имени прилагательного?</a:t>
            </a: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  <a:p>
            <a:pPr marL="312120" indent="-31212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420840" y="212760"/>
            <a:ext cx="8229600" cy="793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несли птички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          Щеки розовы, нос бел,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иненькие яички,             В темноте сижу весь день,                               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корлупа мягкая,              А рубашка зелена,                                  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ся на солнышке она.       Вся на солнышке она.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елок сладкий,                                                                               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 желток костяной.</a:t>
            </a: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61" name="Picture 2" descr="C:\Users\Елена\Downloads\7eb7126ebeb5b592a75831a7d5e_prev.jpg"/>
          <p:cNvPicPr/>
          <p:nvPr/>
        </p:nvPicPr>
        <p:blipFill>
          <a:blip r:embed="rId1"/>
          <a:stretch/>
        </p:blipFill>
        <p:spPr>
          <a:xfrm>
            <a:off x="250920" y="260280"/>
            <a:ext cx="4159080" cy="3313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Елена\Downloads\Purple_Plum_Radish.jpg"/>
          <p:cNvPicPr/>
          <p:nvPr/>
        </p:nvPicPr>
        <p:blipFill>
          <a:blip r:embed="rId2"/>
          <a:stretch/>
        </p:blipFill>
        <p:spPr>
          <a:xfrm>
            <a:off x="4643280" y="3573360"/>
            <a:ext cx="4149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475920"/>
            <a:ext cx="82152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Яички (какие?) синенькие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корлупа (какая?) мягкая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елок (какой?) сладкий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Желток (какой?) костяной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Щеки (каковы?) розовы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ос (каков?) бел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убашка (какова?) зелена</a:t>
            </a: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8215200" cy="51436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468360" y="530640"/>
            <a:ext cx="82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вопросы какой? какая? какое? какие? отвечают полные прилагатель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вопросы каков? какова? каково? каковы? отвечают краткие прилагатель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ткие прилагательные не склоняются, но изменяются по числам, а в единственном числе - по род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475920"/>
            <a:ext cx="82152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Segoe UI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Segoe UI"/>
              </a:rPr>
              <a:t>Запишите пословицы. Укажите синтаксическую роль кратких прилагательных.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1) Для умелой руки все работы легки.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2) Корень учения горек, да плод сладок.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Segoe UI"/>
              </a:rPr>
              <a:t>3)Сам стар, да душа молода.</a:t>
            </a: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0d0d"/>
              </a:solidFill>
              <a:latin typeface="Segoe UI"/>
            </a:endParaRPr>
          </a:p>
        </p:txBody>
      </p:sp>
      <p:pic>
        <p:nvPicPr>
          <p:cNvPr id="70" name="Picture 1" descr="C:\Users\Елена\Downloads\information_items_1248269303.jpg"/>
          <p:cNvPicPr/>
          <p:nvPr/>
        </p:nvPicPr>
        <p:blipFill>
          <a:blip r:embed="rId6"/>
          <a:stretch/>
        </p:blipFill>
        <p:spPr>
          <a:xfrm>
            <a:off x="395280" y="4365720"/>
            <a:ext cx="2305080" cy="1981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Елена\Downloads\2210162.jpg"/>
          <p:cNvPicPr/>
          <p:nvPr/>
        </p:nvPicPr>
        <p:blipFill>
          <a:blip r:embed="rId7"/>
          <a:stretch/>
        </p:blipFill>
        <p:spPr>
          <a:xfrm>
            <a:off x="5940360" y="4437000"/>
            <a:ext cx="2909880" cy="1938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Елена\Downloads\4680337.jpg"/>
          <p:cNvPicPr/>
          <p:nvPr/>
        </p:nvPicPr>
        <p:blipFill>
          <a:blip r:embed="rId8"/>
          <a:stretch/>
        </p:blipFill>
        <p:spPr>
          <a:xfrm>
            <a:off x="3419640" y="4365720"/>
            <a:ext cx="18000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8760" y="11430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Segoe UI"/>
              </a:rPr>
              <a:t>3.Распределительный диктант</a:t>
            </a: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Segoe UI"/>
              </a:rPr>
              <a:t>   </a:t>
            </a:r>
            <a:r>
              <a:rPr b="0" lang="ru-RU" sz="3600" spc="-1" strike="noStrike">
                <a:solidFill>
                  <a:srgbClr val="0d0d0d"/>
                </a:solidFill>
                <a:latin typeface="Segoe UI"/>
              </a:rPr>
              <a:t>Красивый, недобр, высокий, низок, зол, богатый, светел, темный, колюч, горячий, краток, могуч, краткий, красив.</a:t>
            </a: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d0d0d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3:19:58Z</dcterms:created>
  <dc:creator>Татьяна</dc:creator>
  <dc:description>Корпорация Майкрософт</dc:description>
  <cp:keywords>Корпорация Майкрософт</cp:keywords>
  <dc:language>en-US</dc:language>
  <cp:lastModifiedBy>Елена и Михаил</cp:lastModifiedBy>
  <dcterms:modified xsi:type="dcterms:W3CDTF">2013-03-31T05:05:10Z</dcterms:modified>
  <cp:revision>1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31801049</vt:lpwstr>
  </property>
</Properties>
</file>