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19.png" ContentType="image/png"/>
  <Override PartName="/ppt/media/image13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2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28.gif" ContentType="image/gif"/>
  <Override PartName="/ppt/media/image14.jpeg" ContentType="image/jpeg"/>
  <Override PartName="/ppt/media/image30.jpeg" ContentType="image/jpeg"/>
  <Override PartName="/ppt/media/image15.png" ContentType="image/png"/>
  <Override PartName="/ppt/media/image31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16.gif" ContentType="image/gif"/>
  <Override PartName="/ppt/media/image17.gif" ContentType="image/gif"/>
  <Override PartName="/ppt/media/image6.gif" ContentType="image/gif"/>
  <Override PartName="/ppt/media/image21.jpeg" ContentType="image/jpeg"/>
  <Override PartName="/ppt/media/image18.png" ContentType="image/png"/>
  <Override PartName="/ppt/media/image20.png" ContentType="image/png"/>
  <Override PartName="/ppt/media/image23.jpeg" ContentType="image/jpe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Scrip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EBB8-97CA-4B42-B0CF-E8C7FD90F4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7913-202B-4831-859C-0FA6A5F3D6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0CB7-D7BC-4268-B46A-017D7AE7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152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760" y="3830040"/>
            <a:ext cx="82152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BE6B-298F-4867-81D4-46C39DF8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8760" y="383004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83004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34F4-C9D0-4AFD-8BB9-A95E270BB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6160" y="114300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3920" y="114300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8760" y="383004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6160" y="383004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3920" y="383004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AE24-8E90-4E50-90D9-3F075C3F1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8760" y="114300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BC42-7C0B-45F3-9203-4CB7F574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E3FB-E9F6-4FD7-97EE-7C5C4CF0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E68A-786D-404E-8DA2-49732B0C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E77D-85CA-44FB-95E4-AE9F40FD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285840"/>
            <a:ext cx="821520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937D-F39B-466B-85D8-00D42FA5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8760" y="383004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5232-9E8D-48DB-893A-6D6F37CE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83004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C0AC-0DC1-468B-902D-86B71238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760" y="3830040"/>
            <a:ext cx="82152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3350-76BD-4F9E-8D9A-0ACDC3D6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760" y="114300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1A7B-5DEE-4B21-945E-DED7A773CE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6"/>
          <p:cNvSpPr/>
          <p:nvPr/>
        </p:nvSpPr>
        <p:spPr>
          <a:xfrm>
            <a:off x="4500720" y="0"/>
            <a:ext cx="4643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Arial"/>
              </a:rPr>
              <a:t>Муниципальное образовательное учрежд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Arial"/>
              </a:rPr>
              <a:t>средняя общеобразовательная школа №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Arial"/>
              </a:rPr>
              <a:t>Муниципального образования город Армави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4500720" y="1357200"/>
            <a:ext cx="4000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cc33"/>
                </a:solidFill>
                <a:latin typeface="Arial"/>
              </a:rPr>
              <a:t>Учитель русского языка и литератур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cc33"/>
                </a:solidFill>
                <a:latin typeface="Arial"/>
              </a:rPr>
              <a:t>Иванова Елена Евген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3571920" y="4071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2"/>
          <p:cNvSpPr/>
          <p:nvPr/>
        </p:nvSpPr>
        <p:spPr>
          <a:xfrm>
            <a:off x="2428920" y="4500720"/>
            <a:ext cx="457200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Урок русского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в 5 клас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1b6"/>
          <p:cNvPicPr/>
          <p:nvPr/>
        </p:nvPicPr>
        <p:blipFill>
          <a:blip r:embed="rId1"/>
          <a:stretch/>
        </p:blipFill>
        <p:spPr>
          <a:xfrm>
            <a:off x="6858000" y="5072040"/>
            <a:ext cx="1911240" cy="154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C:\Users\1\Desktop\Конкурс Кл.рук\порт-о\c27c5437272f.png"/>
          <p:cNvPicPr/>
          <p:nvPr/>
        </p:nvPicPr>
        <p:blipFill>
          <a:blip r:embed="rId2"/>
          <a:stretch/>
        </p:blipFill>
        <p:spPr>
          <a:xfrm>
            <a:off x="439560" y="214200"/>
            <a:ext cx="2703600" cy="200052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7"/>
          <p:cNvSpPr/>
          <p:nvPr/>
        </p:nvSpPr>
        <p:spPr>
          <a:xfrm>
            <a:off x="1189800" y="2924280"/>
            <a:ext cx="68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ные и краткие прилага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28760" y="114300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лные прилагательные :     Краткие прилагательные:</a:t>
            </a:r>
            <a:endParaRPr b="0" lang="en-US" sz="24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расивый                                  недобр </a:t>
            </a:r>
            <a:endParaRPr b="0" lang="en-US" sz="24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ысокий                                     низок</a:t>
            </a:r>
            <a:endParaRPr b="0" lang="en-US" sz="24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огатый                                      зол</a:t>
            </a:r>
            <a:endParaRPr b="0" lang="en-US" sz="24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емный                                       светел</a:t>
            </a:r>
            <a:endParaRPr b="0" lang="en-US" sz="24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орячий                                      колюч</a:t>
            </a:r>
            <a:endParaRPr b="0" lang="en-US" sz="24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раткий                                      краток</a:t>
            </a:r>
            <a:endParaRPr b="0" lang="en-US" sz="24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расив</a:t>
            </a:r>
            <a:endParaRPr b="0" lang="en-US" sz="2400" spc="-1" strike="noStrike">
              <a:solidFill>
                <a:srgbClr val="0d0d0d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Заголовок 1" descr=""/>
          <p:cNvPicPr/>
          <p:nvPr/>
        </p:nvPicPr>
        <p:blipFill>
          <a:blip r:embed="rId1"/>
          <a:stretch/>
        </p:blipFill>
        <p:spPr>
          <a:xfrm>
            <a:off x="420840" y="212760"/>
            <a:ext cx="8229600" cy="793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539640" y="1143000"/>
            <a:ext cx="8104320" cy="25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есенняя ноч…, возле дач…, снег блестящ…, лесная глуш…, ландыш пахуч…, упругий мяч…, ветер горяч…, черная туш</a:t>
            </a:r>
            <a:r>
              <a:rPr b="0" lang="ru-RU" sz="3200" spc="-1" strike="noStrike">
                <a:solidFill>
                  <a:srgbClr val="0d0d0d"/>
                </a:solidFill>
                <a:latin typeface="Segoe UI"/>
              </a:rPr>
              <a:t>…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79" name="Picture 3" descr="D:\Картинки\анимация\cveta-1209.gif"/>
          <p:cNvPicPr/>
          <p:nvPr/>
        </p:nvPicPr>
        <p:blipFill>
          <a:blip r:embed="rId4"/>
          <a:stretch/>
        </p:blipFill>
        <p:spPr>
          <a:xfrm>
            <a:off x="684360" y="4081320"/>
            <a:ext cx="2735280" cy="2189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D:\Картинки\анимация\sporta-1293.gif"/>
          <p:cNvPicPr/>
          <p:nvPr/>
        </p:nvPicPr>
        <p:blipFill>
          <a:blip r:embed="rId5"/>
          <a:stretch/>
        </p:blipFill>
        <p:spPr>
          <a:xfrm>
            <a:off x="3708360" y="4437000"/>
            <a:ext cx="1625760" cy="1600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D:\Картинки\анимация\Photo%20160_tm.gif"/>
          <p:cNvPicPr/>
          <p:nvPr/>
        </p:nvPicPr>
        <p:blipFill>
          <a:blip r:embed="rId6"/>
          <a:stretch/>
        </p:blipFill>
        <p:spPr>
          <a:xfrm>
            <a:off x="6227640" y="4221000"/>
            <a:ext cx="2011320" cy="19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20840" y="212760"/>
            <a:ext cx="8229600" cy="793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28760" y="114300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есенняя ночь (сущ.3 скл.), возле дач (сущ. 1 скл. В Р.п.), снег блестящ (кр.прил.), лесная глушь(сущ.3 скл.), ландыш пахуч  (кр.прил), упругий мяч (сущ.2 скл.), ветер горяч (кр.прил.) , черная тушь (сущ.3 скл.).</a:t>
            </a:r>
            <a:endParaRPr b="0" lang="en-US" sz="40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d0d0d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20840" y="219240"/>
            <a:ext cx="8229600" cy="1201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Елена\Downloads\199835.jpg"/>
          <p:cNvPicPr/>
          <p:nvPr/>
        </p:nvPicPr>
        <p:blipFill>
          <a:blip r:embed="rId2"/>
          <a:stretch/>
        </p:blipFill>
        <p:spPr>
          <a:xfrm>
            <a:off x="179280" y="1484280"/>
            <a:ext cx="2737080" cy="2739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Users\Елена\Downloads\gloomy_day.jpg"/>
          <p:cNvPicPr/>
          <p:nvPr/>
        </p:nvPicPr>
        <p:blipFill>
          <a:blip r:embed="rId3"/>
          <a:stretch/>
        </p:blipFill>
        <p:spPr>
          <a:xfrm>
            <a:off x="6875640" y="1484280"/>
            <a:ext cx="2070000" cy="2760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Users\Елена\Downloads\69eff2e20597.jpg"/>
          <p:cNvPicPr/>
          <p:nvPr/>
        </p:nvPicPr>
        <p:blipFill>
          <a:blip r:embed="rId4"/>
          <a:stretch/>
        </p:blipFill>
        <p:spPr>
          <a:xfrm>
            <a:off x="3132000" y="1773360"/>
            <a:ext cx="3479760" cy="232092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6"/>
          <p:cNvSpPr/>
          <p:nvPr/>
        </p:nvSpPr>
        <p:spPr>
          <a:xfrm flipH="1" flipV="1" rot="10800000">
            <a:off x="539640" y="4529520"/>
            <a:ext cx="813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 - помощник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мурно, серо, мрачно, печально, тоскливо, грустно, облачно, ненастно, неприветливо, неясно, беззвездно, ветрено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2" descr=""/>
          <p:cNvPicPr/>
          <p:nvPr/>
        </p:nvPicPr>
        <p:blipFill>
          <a:blip r:embed="rId1"/>
          <a:stretch/>
        </p:blipFill>
        <p:spPr>
          <a:xfrm>
            <a:off x="2036880" y="66600"/>
            <a:ext cx="5967360" cy="981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school05-12"/>
          <p:cNvPicPr/>
          <p:nvPr/>
        </p:nvPicPr>
        <p:blipFill>
          <a:blip r:embed="rId2"/>
          <a:stretch/>
        </p:blipFill>
        <p:spPr>
          <a:xfrm>
            <a:off x="0" y="3643200"/>
            <a:ext cx="2786040" cy="3098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Documents and Settings\1\Рабочий стол\Мои документы\Мои рисунки\победа, успех\4de5308b8c2f.gif"/>
          <p:cNvPicPr/>
          <p:nvPr/>
        </p:nvPicPr>
        <p:blipFill>
          <a:blip r:embed="rId3"/>
          <a:stretch/>
        </p:blipFill>
        <p:spPr>
          <a:xfrm>
            <a:off x="785880" y="857160"/>
            <a:ext cx="1571400" cy="33721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2771640" y="1688760"/>
            <a:ext cx="5940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ронтальный опро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)Что такое имя прилагательн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) Как изменяется имя прилагательн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) Какую синтаксическую роль выполняет имя прилагательн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) Какие две формы имени прилагательного вы знае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)На какие вопросы отвечает краткое имя прилагательн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) Как изменяются краткие имена прилагательны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7) Какую синтаксическую роль выполняют краткие имена прилагательны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8) как пишутся краткие имена прилагательные с основой на шипящую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1829880" y="285840"/>
            <a:ext cx="589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C:\Documents and Settings\1\Мои документы\Мои рисунки\gaz_n_07_13.jpg"/>
          <p:cNvPicPr/>
          <p:nvPr/>
        </p:nvPicPr>
        <p:blipFill>
          <a:blip r:embed="rId1"/>
          <a:stretch/>
        </p:blipFill>
        <p:spPr>
          <a:xfrm>
            <a:off x="0" y="3141720"/>
            <a:ext cx="3997440" cy="3143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Documents and Settings\1\Рабочий стол\Мои документы\Мои рисунки\Рисунки-анимация\цветы\i0836.gif"/>
          <p:cNvPicPr/>
          <p:nvPr/>
        </p:nvPicPr>
        <p:blipFill>
          <a:blip r:embed="rId2"/>
          <a:stretch/>
        </p:blipFill>
        <p:spPr>
          <a:xfrm>
            <a:off x="6143760" y="4441680"/>
            <a:ext cx="2609640" cy="17830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4140360" y="1428840"/>
            <a:ext cx="4608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пр.596, стр.237. Составить 5 предложений о животных из сказок с однородными сказуемыми, выраженными прилагательными. Подчеркнуть сказуемые, выраженные краткими прилагатель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D:\Картинки\pictures\для блога\Copy 010.gif"/>
          <p:cNvPicPr/>
          <p:nvPr/>
        </p:nvPicPr>
        <p:blipFill>
          <a:blip r:embed="rId1"/>
          <a:stretch/>
        </p:blipFill>
        <p:spPr>
          <a:xfrm>
            <a:off x="285840" y="214200"/>
            <a:ext cx="2428920" cy="2367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D:\Картинки\pictures\для блога\Изображение 182.jpg"/>
          <p:cNvPicPr/>
          <p:nvPr/>
        </p:nvPicPr>
        <p:blipFill>
          <a:blip r:embed="rId2"/>
          <a:stretch/>
        </p:blipFill>
        <p:spPr>
          <a:xfrm>
            <a:off x="5929200" y="2514600"/>
            <a:ext cx="3214800" cy="434340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3" descr=""/>
          <p:cNvPicPr/>
          <p:nvPr/>
        </p:nvPicPr>
        <p:blipFill>
          <a:blip r:embed="rId3"/>
          <a:stretch/>
        </p:blipFill>
        <p:spPr>
          <a:xfrm>
            <a:off x="957240" y="2206800"/>
            <a:ext cx="473076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539640" y="729000"/>
            <a:ext cx="828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.Дать представление о полной и краткой форме имен прилагательных, о грамматических особенностях кратких прилагательных и их синтаксической ро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.Научить различать полные и краткие прилагательные, определять их роль в предлож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3.Воспитать интерес к русскому языку, развить творческие способности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62064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Segoe UI"/>
              </a:rPr>
              <a:t>- Определите, к каким частям речи относятся слова с корнем –бел- . Подчеркните данные слова как члены предложения.</a:t>
            </a:r>
            <a:endParaRPr b="0" lang="en-US" sz="2400" spc="-1" strike="noStrike">
              <a:solidFill>
                <a:srgbClr val="0d0d0d"/>
              </a:solidFill>
              <a:latin typeface="Segoe UI"/>
            </a:endParaRPr>
          </a:p>
          <a:p>
            <a:pPr marL="312120" indent="-31212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Segoe UI"/>
              </a:rPr>
              <a:t>1)Прыгает по вырубке белый заяц.</a:t>
            </a:r>
            <a:endParaRPr b="0" lang="en-US" sz="2400" spc="-1" strike="noStrike">
              <a:solidFill>
                <a:srgbClr val="0d0d0d"/>
              </a:solidFill>
              <a:latin typeface="Segoe UI"/>
            </a:endParaRPr>
          </a:p>
          <a:p>
            <a:pPr marL="312120" indent="-31212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Segoe UI"/>
              </a:rPr>
              <a:t>2)Заяц зимой белый.</a:t>
            </a:r>
            <a:endParaRPr b="0" lang="en-US" sz="2400" spc="-1" strike="noStrike">
              <a:solidFill>
                <a:srgbClr val="0d0d0d"/>
              </a:solidFill>
              <a:latin typeface="Segoe UI"/>
            </a:endParaRPr>
          </a:p>
          <a:p>
            <a:pPr marL="312120" indent="-31212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Segoe UI"/>
              </a:rPr>
              <a:t>3) Снег в лесу поражает своей белизной.</a:t>
            </a:r>
            <a:endParaRPr b="0" lang="en-US" sz="2400" spc="-1" strike="noStrike">
              <a:solidFill>
                <a:srgbClr val="0d0d0d"/>
              </a:solidFill>
              <a:latin typeface="Segoe UI"/>
            </a:endParaRPr>
          </a:p>
          <a:p>
            <a:pPr marL="312120" indent="-31212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Segoe UI"/>
              </a:rPr>
              <a:t>4) Белеют в темноте сугробы снега.</a:t>
            </a:r>
            <a:endParaRPr b="0" lang="en-US" sz="2400" spc="-1" strike="noStrike">
              <a:solidFill>
                <a:srgbClr val="0d0d0d"/>
              </a:solidFill>
              <a:latin typeface="Segoe UI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Segoe UI"/>
              </a:rPr>
              <a:t>- Вспомните</a:t>
            </a:r>
            <a:endParaRPr b="0" lang="en-US" sz="2400" spc="-1" strike="noStrike">
              <a:solidFill>
                <a:srgbClr val="0d0d0d"/>
              </a:solidFill>
              <a:latin typeface="Segoe UI"/>
            </a:endParaRPr>
          </a:p>
          <a:p>
            <a:pPr marL="312120" indent="-31212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Segoe UI"/>
              </a:rPr>
              <a:t>1.Что такое имя прилагательное?</a:t>
            </a:r>
            <a:endParaRPr b="0" lang="en-US" sz="2400" spc="-1" strike="noStrike">
              <a:solidFill>
                <a:srgbClr val="0d0d0d"/>
              </a:solidFill>
              <a:latin typeface="Segoe UI"/>
            </a:endParaRPr>
          </a:p>
          <a:p>
            <a:pPr marL="312120" indent="-31212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Segoe UI"/>
              </a:rPr>
              <a:t>2.Как изменяются имена прилагательные?</a:t>
            </a:r>
            <a:endParaRPr b="0" lang="en-US" sz="2400" spc="-1" strike="noStrike">
              <a:solidFill>
                <a:srgbClr val="0d0d0d"/>
              </a:solidFill>
              <a:latin typeface="Segoe UI"/>
            </a:endParaRPr>
          </a:p>
          <a:p>
            <a:pPr marL="312120" indent="-31212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Segoe UI"/>
              </a:rPr>
              <a:t>3.С какой частью речи  и каким образом согласуются имена прилагательные?</a:t>
            </a:r>
            <a:endParaRPr b="0" lang="en-US" sz="2400" spc="-1" strike="noStrike">
              <a:solidFill>
                <a:srgbClr val="0d0d0d"/>
              </a:solidFill>
              <a:latin typeface="Segoe UI"/>
            </a:endParaRPr>
          </a:p>
          <a:p>
            <a:pPr marL="312120" indent="-31212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Segoe UI"/>
              </a:rPr>
              <a:t>4.Какова роль в предложении имени прилагательного?</a:t>
            </a:r>
            <a:endParaRPr b="0" lang="en-US" sz="2400" spc="-1" strike="noStrike">
              <a:solidFill>
                <a:srgbClr val="0d0d0d"/>
              </a:solidFill>
              <a:latin typeface="Segoe UI"/>
            </a:endParaRPr>
          </a:p>
          <a:p>
            <a:pPr marL="312120" indent="-312120"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0d0d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420840" y="212760"/>
            <a:ext cx="8229600" cy="793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28760" y="114300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несли птички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     Щеки розовы, нос бел,</a:t>
            </a: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иненькие яички,             В темноте сижу весь день,                               </a:t>
            </a: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корлупа мягкая,              А рубашка зелена,                                  </a:t>
            </a: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ся на солнышке она.       Вся на солнышке она.</a:t>
            </a: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елок сладкий,                                                                               </a:t>
            </a: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 желток костяной.</a:t>
            </a: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61" name="Picture 2" descr="C:\Users\Елена\Downloads\7eb7126ebeb5b592a75831a7d5e_prev.jpg"/>
          <p:cNvPicPr/>
          <p:nvPr/>
        </p:nvPicPr>
        <p:blipFill>
          <a:blip r:embed="rId1"/>
          <a:stretch/>
        </p:blipFill>
        <p:spPr>
          <a:xfrm>
            <a:off x="250920" y="260280"/>
            <a:ext cx="4159080" cy="331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Users\Елена\Downloads\Purple_Plum_Radish.jpg"/>
          <p:cNvPicPr/>
          <p:nvPr/>
        </p:nvPicPr>
        <p:blipFill>
          <a:blip r:embed="rId2"/>
          <a:stretch/>
        </p:blipFill>
        <p:spPr>
          <a:xfrm>
            <a:off x="4643280" y="3573360"/>
            <a:ext cx="4149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475920"/>
            <a:ext cx="82152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Яички (какие?) синенькие</a:t>
            </a:r>
            <a:endParaRPr b="0" lang="en-US" sz="40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корлупа (какая?) мягкая</a:t>
            </a:r>
            <a:endParaRPr b="0" lang="en-US" sz="40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елок (какой?) сладкий</a:t>
            </a:r>
            <a:endParaRPr b="0" lang="en-US" sz="40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Желток (какой?) костяной</a:t>
            </a:r>
            <a:endParaRPr b="0" lang="en-US" sz="40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Щеки (каковы?) розовы</a:t>
            </a:r>
            <a:endParaRPr b="0" lang="en-US" sz="40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ос (каков?) бел</a:t>
            </a:r>
            <a:endParaRPr b="0" lang="en-US" sz="40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убашка (какова?) зелена</a:t>
            </a:r>
            <a:endParaRPr b="0" lang="en-US" sz="40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d0d0d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28760" y="1143000"/>
            <a:ext cx="8215200" cy="51436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"/>
          <p:cNvSpPr/>
          <p:nvPr/>
        </p:nvSpPr>
        <p:spPr>
          <a:xfrm>
            <a:off x="468360" y="530640"/>
            <a:ext cx="8207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вопросы какой? какая? какое? какие? отвечают полные прилагатель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вопросы каков? какова? каково? каковы? отвечают краткие прилагатель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аткие прилагательные не склоняются, но изменяются по числам, а в единственном числе - по род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95280" y="475920"/>
            <a:ext cx="82152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Segoe UI"/>
              </a:rPr>
              <a:t> </a:t>
            </a:r>
            <a:r>
              <a:rPr b="1" lang="ru-RU" sz="3200" spc="-1" strike="noStrike">
                <a:solidFill>
                  <a:srgbClr val="0d0d0d"/>
                </a:solidFill>
                <a:latin typeface="Segoe UI"/>
              </a:rPr>
              <a:t>Запишите пословицы. Укажите синтаксическую роль кратких прилагательных.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Segoe UI"/>
              </a:rPr>
              <a:t>1) Для умелой руки все работы легки.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Segoe UI"/>
              </a:rPr>
              <a:t>2) Корень учения горек, да плод сладок.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Segoe UI"/>
              </a:rPr>
              <a:t>3)Сам стар, да душа молода.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70" name="Picture 1" descr="C:\Users\Елена\Downloads\information_items_1248269303.jpg"/>
          <p:cNvPicPr/>
          <p:nvPr/>
        </p:nvPicPr>
        <p:blipFill>
          <a:blip r:embed="rId6"/>
          <a:stretch/>
        </p:blipFill>
        <p:spPr>
          <a:xfrm>
            <a:off x="395280" y="4365720"/>
            <a:ext cx="2305080" cy="1981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Елена\Downloads\2210162.jpg"/>
          <p:cNvPicPr/>
          <p:nvPr/>
        </p:nvPicPr>
        <p:blipFill>
          <a:blip r:embed="rId7"/>
          <a:stretch/>
        </p:blipFill>
        <p:spPr>
          <a:xfrm>
            <a:off x="5940360" y="4437000"/>
            <a:ext cx="2909880" cy="1938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Users\Елена\Downloads\4680337.jpg"/>
          <p:cNvPicPr/>
          <p:nvPr/>
        </p:nvPicPr>
        <p:blipFill>
          <a:blip r:embed="rId8"/>
          <a:stretch/>
        </p:blipFill>
        <p:spPr>
          <a:xfrm>
            <a:off x="3419640" y="4365720"/>
            <a:ext cx="180000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28760" y="114300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Segoe UI"/>
              </a:rPr>
              <a:t>3.Распределительный диктант</a:t>
            </a:r>
            <a:endParaRPr b="0" lang="en-US" sz="36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Segoe UI"/>
              </a:rPr>
              <a:t>   </a:t>
            </a:r>
            <a:r>
              <a:rPr b="0" lang="ru-RU" sz="3600" spc="-1" strike="noStrike">
                <a:solidFill>
                  <a:srgbClr val="0d0d0d"/>
                </a:solidFill>
                <a:latin typeface="Segoe UI"/>
              </a:rPr>
              <a:t>Красивый, недобр, высокий, низок, зол, богатый, светел, темный, колюч, горячий, краток, могуч, краткий, красив.</a:t>
            </a:r>
            <a:endParaRPr b="0" lang="en-US" sz="36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0d0d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3:19:58Z</dcterms:created>
  <dc:creator>Татьяна</dc:creator>
  <dc:description>Корпорация Майкрософт</dc:description>
  <cp:keywords>Корпорация Майкрософт</cp:keywords>
  <dc:language>en-US</dc:language>
  <cp:lastModifiedBy>Елена и Михаил</cp:lastModifiedBy>
  <dcterms:modified xsi:type="dcterms:W3CDTF">2013-03-31T05:05:10Z</dcterms:modified>
  <cp:revision>11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31801049</vt:lpwstr>
  </property>
</Properties>
</file>