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8A10-20C9-48AD-AD31-4DED18D7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9EC0-6149-4D83-80B3-A25BAC1F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F92E-2D02-4669-A7AA-3CD6BAB9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7D9A-26D2-4017-86D2-8E93A3FB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68B5-1C59-4E95-9B66-14FD72D1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CFD2-B2A7-4542-80AC-C1C0B86D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8522-2781-427D-9DF7-E211CC61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1F4E-CB0B-4298-98B2-AC5F8847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EE09-0B6D-4D68-941F-4C3A46D7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24BA-853A-449F-BEFF-942DD343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1E3E-0FD6-4BAF-9AF7-CA64AE65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E107-7F59-4075-892B-33073146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A1F4-F022-41DA-844F-C4FA3B973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Длина окружно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59280" y="259200"/>
            <a:ext cx="608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«Теория без практики мертва или бесплодна.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рактика без теории невозможна или пагубна.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Для теории нужны знания , для практики , сверх того , и умения.»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А.Н.Кры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Проверь себ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Найти длину окружности с радиусом 5 см. чему равна длина ее дуги с градусной мерой 36 градус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Длина окружности, описанной около квадрата, равна 12π см. Найти длину окружности, вписанной в этот квадр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Найти длину окружности с радиусом 9 см. чему равна длина ее дуги с градусной мерой 20 градус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 окружности длиной 75π проведена хорда, стягивающая дугу в 120 градусов. Вычислить длину данных дуги и хор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Длина окружности, вписанной в правильный треугольник, равна 2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√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см. Н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айти длину окружности, описанной около  этого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Задание на дом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104д,1105в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Составить задачу на использование формул: длины окружности ,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дуги окружности 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Дорешить задачи своего уровн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Продолжи предложени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Сегодня на уроке 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- Полученные знания мн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Цели урока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Дать определение о выводе формулы длины окружно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Научится решать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задачи на применение формулы длины окружно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Ответь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1. Сторона правильного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-угольника, вписанного в окружность с радиусом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ычисляется  по формуле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2. Угол АОВ равен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…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08720" y="3888720"/>
            <a:ext cx="1996200" cy="1994040"/>
            <a:chOff x="2808720" y="3888720"/>
            <a:chExt cx="1996200" cy="1994040"/>
          </a:xfrm>
        </p:grpSpPr>
        <p:sp>
          <p:nvSpPr>
            <p:cNvPr id="48" name=""/>
            <p:cNvSpPr/>
            <p:nvPr/>
          </p:nvSpPr>
          <p:spPr>
            <a:xfrm>
              <a:off x="2808720" y="3888720"/>
              <a:ext cx="1996200" cy="1994040"/>
            </a:xfrm>
            <a:prstGeom prst="ellipse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Arial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333399"/>
                  </a:solidFill>
                  <a:latin typeface="Arial"/>
                </a:rPr>
                <a:t>А              В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3115800" y="4808880"/>
              <a:ext cx="613080" cy="767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729240" y="4808880"/>
              <a:ext cx="767520" cy="767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Отве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3.  Сторона правильного треугольника равна 4 см, радиус описанной около него окружности равен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. Сторона правильного четырехугольника равна 8 см. Радиус вписанной в него окружности равен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. Площадь правильного шестиугольника, описанного около окружности с радиусом 6 см, равна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=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sin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180 </a:t>
            </a:r>
            <a:r>
              <a:rPr b="0" lang="ru-RU" sz="3200" spc="-1" strike="noStrike" baseline="30000">
                <a:solidFill>
                  <a:srgbClr val="333399"/>
                </a:solidFill>
                <a:latin typeface="Arial"/>
              </a:rPr>
              <a:t>0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/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Центральный 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3√2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2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72√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37000"/>
            <a:ext cx="4392360" cy="295272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Критерии оцен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«5» - нет ошиб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«4» -1 ошиб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«3» -2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«2» - 3 и более ошиб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Подум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редставьте себе, что вам нужно измерить длину проволоки, из которой изготовлен обруч. Каким образом это можно сделать?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На доске вычерчена окружность. Как измерить длину этой окружности хотя бы примерно, но как можно точне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Вывод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Периметр любого правильного вписанного в окружность многоугольника является приближенным значением длины окружности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 Это приближенное значение длины окружности при увеличении числа сторон многоугольника практически равно периметру многоугольника. Точное значение длины окружности –это предел, к которому стремиться периметр правильного вписанного в окружность многоугольника при неограниченном увеличении числа его стор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Число 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π≈22/7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π =  3,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64000" y="1341360"/>
            <a:ext cx="2560680" cy="3345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64000" y="4724280"/>
            <a:ext cx="2664000" cy="100980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Архим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43657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3 век до н.э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Формула длины дуги окружн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1. Какую часть окружности составляет дуга в 1 градус 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(1/360 часть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2. Чему равна длина дуги окружности в 1градус?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(длина дуги окружности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l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/360=2 π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/360= π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/18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3.Чему равна длина дуги окружности с градусной мерой   α? </a:t>
            </a:r>
            <a:r>
              <a:rPr b="0" lang="ru-RU" sz="3600" spc="-1" strike="noStrike">
                <a:solidFill>
                  <a:srgbClr val="ff00ff"/>
                </a:solidFill>
                <a:latin typeface="Arial"/>
              </a:rPr>
              <a:t>(длина дуги окружности </a:t>
            </a: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l</a:t>
            </a:r>
            <a:r>
              <a:rPr b="0" lang="ru-RU" sz="3600" spc="-1" strike="noStrike">
                <a:solidFill>
                  <a:srgbClr val="ff00ff"/>
                </a:solidFill>
                <a:latin typeface="Arial"/>
              </a:rPr>
              <a:t>= π</a:t>
            </a: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R</a:t>
            </a:r>
            <a:r>
              <a:rPr b="0" lang="ru-RU" sz="3600" spc="-1" strike="noStrike">
                <a:solidFill>
                  <a:srgbClr val="ff00ff"/>
                </a:solidFill>
                <a:latin typeface="Arial"/>
              </a:rPr>
              <a:t>/180 α)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20:56:16Z</dcterms:created>
  <dc:creator>Настя</dc:creator>
  <dc:description/>
  <dc:language>en-US</dc:language>
  <cp:lastModifiedBy>Сернур</cp:lastModifiedBy>
  <dcterms:modified xsi:type="dcterms:W3CDTF">2010-03-04T12:37:47Z</dcterms:modified>
  <cp:revision>7</cp:revision>
  <dc:subject/>
  <dc:title>Слайд 1</dc:title>
</cp:coreProperties>
</file>