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22F62-CCAE-44C7-BF85-C48A6B78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0CE27-349F-4AEB-A41F-473767F7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6CB1F-3307-415D-80BA-441D481F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DA4AF-23D5-45A6-A858-9E0BC8E6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D695-C519-4127-B1CD-5E516789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284B-5D9A-4A62-98A7-8CCF1AAE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5A9B-6B6D-4A80-A391-C993044C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E45A-9396-4BC5-9EB1-5066E416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8490-88E5-4C84-A3CC-ACDB8AB2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D9F4-5118-48BA-9324-BB07D295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A82A-CC77-4DEA-AC8A-0A49EC70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C19B9-1206-4F4A-A0A2-8FFF449C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DF89-A7FA-4E00-A47D-5684CBD0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B204-045C-4922-9F05-C5112D6D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84D2-43CB-4EB4-B2B1-E1A3BF1D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6BBC-CB0A-41A5-A1C2-7467186B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4C8D-AA2E-47DA-AB59-E1EAD1CC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AB376-C3B6-4DE2-897C-34D7E66A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44871-4C09-4DAE-AB83-76768A29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92427-993E-4A9A-9628-EEE95E0E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5C8A3-6B52-44EE-95ED-FC7D02EF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F5621-B191-479B-B958-140A07B4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88F12-2A21-43FE-A75D-F0F6AFA7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C1CDB-2B05-47DA-B581-B6BD2409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029E-D262-4122-AD85-4231A9F1C0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DC98-F68B-4863-9C6E-5AB62845A3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роект «Что такое лето?»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оминация: образование для родител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астники проекта: родители, педагоги, де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влечение родителей к участию в летнем оздоровительном проекте через использование страницы в интер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и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ть страницу в интернете по теме проекта «Что такое лето?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овать взаимодействие с родителями на интернет - страниц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ентовать отчет летне-оздоровительной работы в фору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исание проекта: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ние интернет- страницы, которая будет включать в себя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анкетирование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консультации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мастер-классы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фотовыставки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конкурс фотографий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форум для родителей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ект рассчитан на летний период.</a:t>
            </a:r>
            <a:br>
              <a:rPr sz="2000"/>
            </a:br>
            <a:br>
              <a:rPr sz="2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жидаемые результа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пешное создание и использование интернет – страницы родителями и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% привлечение родителей к оформлению страницы в интернете (добавление фотографий, комментариев, предложен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ление итогов проекта родителям и коллег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ктуальност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временном мире информацию можно получать не только из традиционных источников, но и через интернет. Проект необходим для более успешной и продуктивной работы родителей и педагогов, для улучшения качества воспитания и образования детей. Ведь на странице в интернете в форуме родители могут оставлять свои пожелания, рекомендации и претензии по реализации данного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ригинальность проект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лосуточное информирование родителей о деятельности  летнего оздоровительного проекта. Родители могут в интернете увидеть фото-отчет с мероприятия, оставить комментарий к фото, сохранить фото себе. Зарегистрировавшись, наблюдают за успехами своего ребенка, в специальном разделе (вход в раздел с результатами строго с паролем, для каждого из родителей индивидуаль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одители, по желанию, оставляют комментарии аноним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тапы реализации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ведение анкетирования среди родит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здание страницы в интернете по теме проекта «Что такое лето?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влечение родителей к оформлению страницы (фото, отзывы и т.п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мещение на странице различной информации по теме здоровьесбережения, консультаций по профилактике заболеваний, новостей дошкольного учреждения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здание форума на котором родители могут делиться своими впечатлениями о реализации проекта, своем отдыхе с дет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эта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зентация  отчета летне-оздоровительной работы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обходим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рн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о-методическая литерату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то-видео материа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342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ктория Леонидовна Маслов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питатель МБДОУ «Д/сад № 48» города Ачин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ж работы 3,5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43564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30T12:17:4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