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0975-B085-4F32-8384-436BE780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A8E7-11EC-4C96-B91F-494E7275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6B16-39C0-474E-AB20-78DEA75C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14C7-D461-4673-9E1E-582FDBA0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74DF-7B11-4C6A-A3AD-4C09DCFA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4974-EBD6-4974-B8E9-831E6DA5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F438-1E40-4928-A88E-F2B8C4F7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14F3-A373-42CF-979F-3533EA12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398D-C9AA-444C-BDD7-52033A01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C1C1-DCD9-42E0-B60E-B22FA13E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1469-AC40-4500-B795-BF756FC2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C4E6-5568-49A7-982C-860111B9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FAF3-A5A3-4D1F-AE2F-7AB1D8A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1CC9-1FB8-4195-BBF4-A7386C4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D5F7-CCB6-44E8-83F8-8AEDD73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BBB1-9A59-4D1A-A946-A3C13CA0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30C1-C639-4885-B1DE-46626BB6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CF79-8CF4-477E-A739-288C0034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8947-551E-4170-8CD3-BA6B8A3D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7E6D-D0B5-440A-80B7-8172EA49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46DB-6CEF-459C-90CE-A217C38E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2829-291E-443E-ABB7-71526095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A992-7E16-4DC7-B717-4285EE46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B0EA-725D-4146-A045-384081C0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54FF-5055-4E74-BC73-26157E768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C52B-057F-4995-BFBF-A27F51E3B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роект «Что такое лето?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минация: образование для роди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екта: родители, педагоги, де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лечение родителей к участию в летнем оздоровительном проекте через использование страницы в 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страницу в интернете по теме проекта «Что такое лето?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овать взаимодействие с родителями на интернет - страни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овать отчет летне-оздоровительной работы в фор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исание проекта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интернет- страницы, которая будет включать в себя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анкетирование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консультации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астер-классы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фотовыставки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конкурс фотографий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форум для родителе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ект рассчитан на летний период.</a:t>
            </a:r>
            <a:br>
              <a:rPr sz="2000"/>
            </a:br>
            <a:br>
              <a:rPr sz="2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жидаемые результ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пешное создание и использование интернет – страницы родителями 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% привлечение родителей к оформлению страницы в интернете (добавление фотографий, комментариев, предлож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ление итогов проекта родителям и колле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ьност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ом мире информацию можно получать не только из традиционных источников, но и через интернет. Проект необходим для более успешной и продуктивной работы родителей и педагогов, для улучшения качества воспитания и образования детей. Ведь на странице в интернете в форуме родители могут оставлять свои пожелания, рекомендации и претензии по реализации данного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ригинальность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лосуточное информирование родителей о деятельности  летнего оздоровительного проекта. Родители могут в интернете увидеть фото-отчет с мероприятия, оставить комментарий к фото, сохранить фото себе. Зарегистрировавшись, наблюдают за успехами своего ребенка, в специальном разделе (вход в раздел с результатами строго с паролем, для каждого из родителей индивидуаль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одители, по желанию, оставляют комментарии аноним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еализаци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ведение анкетирования среди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ие страницы в интернете по теме проекта «Что такое лето?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влечение родителей к оформлению страницы (фото, отзывы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щение на странице различной информации по теме здоровьесбережения, консультаций по профилактике заболеваний, новостей дошкольного учреждения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ие форума на котором родители могут делиться своими впечатлениями о реализации проекта, своем отдыхе с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зентация  отчета летне-оздоровительной работы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обходи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о-методическая литерату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-видео матери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ктория Леонидовна Масло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тель МБДОУ «Д/сад № 48» города Ачин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ж работы 3,5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4356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30T12:17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