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EFB-9A64-4E61-939E-2D94F0CF0F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1629-269E-4C39-AD84-49DA2BB353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0EA-704D-4577-A8CC-FAD8990D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6640-CF94-4A49-A60D-B433F8E2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C72-9ACE-47D6-A918-B396BE48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FD0-AD02-4AC2-AE33-6A0CAB7E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5B90-7961-41EC-ABDA-2F55EBC9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E32E-E0FF-486D-991A-2B1E373F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46F4-23D4-4330-AC90-55A0FD6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7396-E67A-487F-8E7D-1689A80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A232-8ACE-46E8-8202-156C23E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CBB1-FF41-4FEA-82AE-A712F205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5CE0-0EAE-4366-93F9-B28B44AA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A62-CFD2-4EC7-B532-F1A30D7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3558-E4DB-46D2-B1D0-2E71B33B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D60B-6F6D-4BDA-A709-0FE8372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3A6-C68D-4D90-BEAF-A776CF9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F67-68A7-4CB5-888F-59A6AB1E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5105-9469-40E8-A0E4-B5758FE4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E84E-546E-4D60-BD09-05E597E6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9526-70B9-4274-9D18-14FEDDF1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8956-6534-45CE-B551-9DB54587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2820-CFB1-4119-BCC4-22B60A12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F813B-8722-44AB-86A1-11E55FF8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825B-CA2A-408C-BC92-2DCE0F5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7517-3EEB-440B-85AA-AE25F8E0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C3B9-638A-40B3-907D-8E784FB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B7C7-C789-4868-B971-B75DDDA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7AED-FD71-47F7-B93C-A4EC214C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265CD-8276-40A3-B50F-682FBCF4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A043-0A63-4C3F-A0D4-2CFD869B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8E74-7AD2-4C10-A280-9FD4D281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912B-E352-4F91-BF55-81CD5867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3F3F-57AF-455E-94F8-F7EBF103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698AF-E5F8-44F1-9526-7F7D9E4F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47E-88B9-4DD2-BCCF-742F6A0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4A0B-4B5E-4668-8DC4-961905C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C9324-BB32-4142-984E-C77BF968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DC91-8AF0-47F8-A536-6ED259F1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E4777-2790-414D-A6CC-617814D8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D4F2-D49F-4100-9917-36762415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77F02-534A-43AA-9C3F-D6B2E69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ED2E0-8EB6-417B-BB2E-D90FB44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56C45-5B9E-47AF-B816-B7E2936B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4240-C4CB-4946-A08A-48A937B3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F5E4C-25E1-40E7-90D5-B9958641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F54-EAC9-4C38-9164-EEB9C8CC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36729-B1BC-4322-A80E-6F153988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68F7-181E-42F9-9DD8-AEFF40C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BBAC-5433-4DA4-ADED-83A76C3F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A52C0-1F0A-4A02-8A4D-8C2F730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AD50-0880-4468-87E4-D2EDD09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45AB-FCA1-4BBA-A54F-6391B240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3572-25B5-4CA2-A433-351B4429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E288-68D3-48C0-8E68-BAC27E1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13B4-C64E-4428-A17B-E9BA1358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6C2B-DECE-403B-BC8C-9B48C465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42720" y="93960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066-8A73-4C3E-BA01-E0851981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2964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16560" y="257976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4272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42964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4516560" y="5637240"/>
            <a:ext cx="1987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512DA-6AE3-462F-9482-DEA68A36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BE3-F14D-428B-8C61-5EF18BF4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05320" y="563724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8AD-30F7-4607-9F5F-342D790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579760"/>
            <a:ext cx="301176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720" y="5637240"/>
            <a:ext cx="6172200" cy="2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561-BEC5-409D-96BB-7FEBA962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773-1574-4471-9DE2-7CEA3713AA5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AE9D-29CC-400F-AC8F-BB96F3C2BDF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943600" y="8475480"/>
            <a:ext cx="57168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4F1D-4004-47CA-B7DF-913A49C3ECD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2374560" y="1476720"/>
            <a:ext cx="3943440" cy="5486400"/>
          </a:xfrm>
          <a:custGeom>
            <a:avLst/>
            <a:gdLst>
              <a:gd name="textAreaLeft" fmla="*/ 0 w 3943440"/>
              <a:gd name="textAreaRight" fmla="*/ 3887280 w 3943440"/>
              <a:gd name="textAreaTop" fmla="*/ 360 h 5486400"/>
              <a:gd name="textAreaBottom" fmla="*/ 5487120 h 54864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6003720" y="7144560"/>
            <a:ext cx="115560" cy="208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7560" y="775404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-360 h 1389240"/>
              <a:gd name="textAreaBottom" fmla="*/ 138924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Полилиния 16"/>
          <p:cNvGrpSpPr/>
          <p:nvPr/>
        </p:nvGrpSpPr>
        <p:grpSpPr>
          <a:xfrm>
            <a:off x="3279600" y="8326080"/>
            <a:ext cx="3584880" cy="824040"/>
            <a:chOff x="3279600" y="8326080"/>
            <a:chExt cx="3584880" cy="824040"/>
          </a:xfrm>
        </p:grpSpPr>
        <p:pic>
          <p:nvPicPr>
            <p:cNvPr id="154" name="Полилиния 16" descr=""/>
            <p:cNvPicPr/>
            <p:nvPr/>
          </p:nvPicPr>
          <p:blipFill>
            <a:blip r:embed="rId3"/>
            <a:stretch/>
          </p:blipFill>
          <p:spPr>
            <a:xfrm>
              <a:off x="3279600" y="8358480"/>
              <a:ext cx="3584880" cy="79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3286080" y="8326080"/>
              <a:ext cx="35719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1999800" y="8475480"/>
            <a:ext cx="2514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6058080" y="8475480"/>
            <a:ext cx="4572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9523-7B63-4024-AE7E-2B60BB228A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7920" y="-11160"/>
            <a:ext cx="6873840" cy="1389240"/>
          </a:xfrm>
          <a:custGeom>
            <a:avLst/>
            <a:gdLst>
              <a:gd name="textAreaLeft" fmla="*/ 0 w 6873840"/>
              <a:gd name="textAreaRight" fmla="*/ 6874200 w 6873840"/>
              <a:gd name="textAreaTop" fmla="*/ 0 h 1389240"/>
              <a:gd name="textAreaBottom" fmla="*/ 1389600 h 13892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3286080" y="-11160"/>
            <a:ext cx="3571920" cy="851040"/>
          </a:xfrm>
          <a:custGeom>
            <a:avLst/>
            <a:gdLst>
              <a:gd name="textAreaLeft" fmla="*/ 0 w 3571920"/>
              <a:gd name="textAreaRight" fmla="*/ 3572280 w 35719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4400" y="271440"/>
            <a:ext cx="6885000" cy="863640"/>
            <a:chOff x="-14400" y="271440"/>
            <a:chExt cx="6885000" cy="86364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4400" y="271440"/>
              <a:ext cx="6866640" cy="863640"/>
              <a:chOff x="-14400" y="271440"/>
              <a:chExt cx="6866640" cy="86364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6560" y="271440"/>
                <a:ext cx="683568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4040" y="527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4400" y="345240"/>
              <a:ext cx="6885000" cy="720720"/>
              <a:chOff x="-14400" y="345240"/>
              <a:chExt cx="6885000" cy="72072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9000" y="345240"/>
                <a:ext cx="6861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4040" y="601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42720" y="2579760"/>
            <a:ext cx="6172200" cy="58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CA45-5144-4D57-9163-C13BC59F0C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-1098720" y="147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28600" y="1551960"/>
            <a:ext cx="6229440" cy="54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дря Марина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ов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д рожд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01 января 1977 г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едения об образова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 высшее,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Тобольский государственный педагогический институт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2001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год,  Новоуренгойское педагогическое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илище , 199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го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альность -  учитель начальных классов, социальный педаг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ий трудовой стаж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 лет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дагогический стаж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ОУ СОШ № 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14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нимаемая должност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итель физической культ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 квалификационная категор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P1030650"/>
          <p:cNvPicPr/>
          <p:nvPr/>
        </p:nvPicPr>
        <p:blipFill>
          <a:blip r:embed="rId1"/>
          <a:stretch/>
        </p:blipFill>
        <p:spPr>
          <a:xfrm>
            <a:off x="3962520" y="1143000"/>
            <a:ext cx="2171520" cy="2438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P1030650"/>
          <p:cNvPicPr/>
          <p:nvPr/>
        </p:nvPicPr>
        <p:blipFill>
          <a:blip r:embed="rId2"/>
          <a:stretch/>
        </p:blipFill>
        <p:spPr>
          <a:xfrm>
            <a:off x="3962520" y="1123920"/>
            <a:ext cx="2324160" cy="2610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1600200" y="228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76a3"/>
                </a:solidFill>
                <a:latin typeface="Times New Roman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04920" y="838080"/>
          <a:ext cx="6248160" cy="8124840"/>
        </p:xfrm>
        <a:graphic>
          <a:graphicData uri="http://schemas.openxmlformats.org/drawingml/2006/table">
            <a:tbl>
              <a:tblPr/>
              <a:tblGrid>
                <a:gridCol w="796680"/>
                <a:gridCol w="1946520"/>
                <a:gridCol w="1687320"/>
                <a:gridCol w="18176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оводителя                             с  родителями 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сенний кро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Наше здоровье. Эмоции, чувства, поступки, стрес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итьевой режи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здоровительные 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лакса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ревнования по мини-фут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омоги себе сам Волевое поведен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Стартуем вместе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емейная спортивная спартак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ащита проекта «Закаливание и оздоровление организ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 «Все на лыжи и санк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Физическое развитие в школе и дом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ое меропри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ультура здорового образа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абав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Азбука пове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День семьи», экскур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спортивные соревнования по волей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Игра-путешествие «В страну здоров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380880" y="612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79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хема-таблица необходимой двигательной активности учащихся младших класс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52280" y="1600200"/>
          <a:ext cx="6553440" cy="7291440"/>
        </p:xfrm>
        <a:graphic>
          <a:graphicData uri="http://schemas.openxmlformats.org/drawingml/2006/table">
            <a:tbl>
              <a:tblPr/>
              <a:tblGrid>
                <a:gridCol w="1506600"/>
                <a:gridCol w="1338480"/>
                <a:gridCol w="168120"/>
                <a:gridCol w="1112760"/>
                <a:gridCol w="1163880"/>
                <a:gridCol w="176040"/>
                <a:gridCol w="1087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Ежедневный  объём времени занятий (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Гимнастика    до учебных   занятий           (в домашиих условия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изкультурные                 минутки                  на уроках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-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одвижные     пере мены 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. час в ГП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0,5 ст.) 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роки                  физической культуры (не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частие                     в соревнов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6 -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8 -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8 -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ни здоровья и спор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Е  ж  е  м  е  с  я  ч  н  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омашние за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5 - 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15 -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вижение для здоровья (оздоровительный бе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Constantia"/>
                        </a:rPr>
                        <a:t>Е  ж  е  д  н  е  в  н  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Внеклассные формы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(нед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b539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9600" y="914400"/>
            <a:ext cx="61153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ПРОЕКТ ЖИЗНЕДЕЯТЕЛЬНОСТИ МЛАДШИХ ШКОЛЬНИКОВ «ЗДОРОВЫМ БЫТЬ ЗДОРОВО!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71360" y="2133720"/>
            <a:ext cx="651528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– высшее творение природы. Но для того чтобы наслаждаться её сокровищами, он должен отвечать одному требованию: быть здоровы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ёными доказано. что 75% болезней взрослых заработаны в детские год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й проект направлен на сохранение и укрепление здоровья учащихся 1-4-х классов, а также воспитание потребности в здоровом образе жизни через игровую и соревновательную деятельность, так как только здоровый ребёнок способен успешно и в полной мере овладеть школьной програм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 данного проекта: 2010/20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здоровья детей приобретает глобальный характер.  Одной из важнейших задач школы в соответствии с целями современной реформы образования в России является сохранение и укрепление здоровья учащихс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анализ медицинских карт и беседы с родителями детей, что не будучи ещё школьниками. Они уже имеют серьёзные проблемы, которые могут в дальнейшем усугубиться и стать причиной, вызывающем трудности в обучени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152280" y="1320840"/>
          <a:ext cx="6705720" cy="4699080"/>
        </p:xfrm>
        <a:graphic>
          <a:graphicData uri="http://schemas.openxmlformats.org/drawingml/2006/table">
            <a:tbl>
              <a:tblPr/>
              <a:tblGrid>
                <a:gridCol w="1219320"/>
                <a:gridCol w="771480"/>
                <a:gridCol w="739800"/>
                <a:gridCol w="1035000"/>
                <a:gridCol w="961920"/>
                <a:gridCol w="960480"/>
                <a:gridCol w="1017720"/>
              </a:tblGrid>
              <a:tr h="70164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ведения об учащихся по группам здоровья в школе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I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сту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уч-ся                      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   уч-ся                        со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уч-ся             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                   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         уч-ся                    с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руппой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61" name="TextBox 7"/>
          <p:cNvSpPr/>
          <p:nvPr/>
        </p:nvSpPr>
        <p:spPr>
          <a:xfrm>
            <a:off x="285840" y="6197760"/>
            <a:ext cx="6400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2010/2011уч.г. в начальной школе 15 учеников занимаются в специальной медицинской  группе, в 2007/2008 году –  31 чел., в 2008/2009 году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 чел.,  в 2009/2010 году -17че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з таблицы видно, что количество обучающихся по сравнению с 2007/2008г. значительно уменьши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формирования мотивации у младших школьников здорового образа жизни и профилактики детской заболеваемости необходимо развивать двигательную активность через игровые и соревновательные методы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507600"/>
            <a:ext cx="6286680" cy="806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28600" y="507960"/>
          <a:ext cx="6172200" cy="45086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ведения о заболеваниях младших школь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Нарушение осанки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I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(Найманова Н.) -2а класс, Туча Н., 3а класс, Гусейнова Г., 3б класс, нарушение рсанки (пупочная грыжа) Топал Я., 3 а класс, Арсмурзаева П., 3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ахарный диабет, Ногаев М., 3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Бронхиальная астма. Пикалов Д., 4б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Плоскостопие, нарушение зрения Мазурик Л., 4а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жирение, дис. тазобедренного сустава, Курелов А., 4б клас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Посттравматическая церебростения, Мугудинов 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Нарушение ЦНС, нарушение зрения Бейдиев К., 4в С(К)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04920" y="5562720"/>
          <a:ext cx="6172200" cy="3149640"/>
        </p:xfrm>
        <a:graphic>
          <a:graphicData uri="http://schemas.openxmlformats.org/drawingml/2006/table">
            <a:tbl>
              <a:tblPr/>
              <a:tblGrid>
                <a:gridCol w="1763640"/>
                <a:gridCol w="2644560"/>
                <a:gridCol w="1764000"/>
              </a:tblGrid>
              <a:tr h="71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татистика по травматиз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есчастного случ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/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/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/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Line 269"/>
          <p:cNvSpPr/>
          <p:nvPr/>
        </p:nvSpPr>
        <p:spPr>
          <a:xfrm>
            <a:off x="2484360" y="-203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90"/>
          <p:cNvSpPr/>
          <p:nvPr/>
        </p:nvSpPr>
        <p:spPr>
          <a:xfrm>
            <a:off x="2484360" y="1817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171360" y="990720"/>
            <a:ext cx="6343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Здоровым быть здорово!»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авлен на укрепление здоровья и активизацию самого субъекта воспитания – ребён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ь проекта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условий, позволяющих воспитать потребность в формировании двигательной активности через спортивную деятельнос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сить интерес к спортивным мероприятиям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формировать у учащихся потребность в двигательной а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ышать физическое состояние младшего школьни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тически вести мониторинг диагностики здоровья детей и физического состоя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нципы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 каждого ребёнка свой потенциал здоровья, его необходимо учитыв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– это состояние организма. Им нужно дорожить и научиться управл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 – это результат собственного творче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 сотрудничества педагогов и родител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астники проект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щиеся 1-4 класс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, работающие в этих класс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дицинский работни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те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20304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Мотивация  обучающихся на здоровый образ жизн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охранение и укрепление здоровья младших школьников.</a:t>
            </a:r>
            <a:br>
              <a:rPr sz="1400"/>
            </a:b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и результативности проекта: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Увеличение числа детей. Занятых в спортивных секциях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нижение количества пропущенных уроков по причине простудных заболеваний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Отсутствие детей с нарушением осанки.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формировать у учащихся и их родителей необходимого уровня грамотности по вопросам здорового образа жизни </a:t>
            </a: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тестирование).</a:t>
            </a:r>
            <a:br>
              <a:rPr sz="1400"/>
            </a:b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держание проекта:</a:t>
            </a:r>
            <a:br>
              <a:rPr sz="1400"/>
            </a:b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2776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9960" y="3454560"/>
          <a:ext cx="6058080" cy="501624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  <a:gridCol w="201924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На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Задач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83763"/>
                          </a:solidFill>
                          <a:latin typeface="Constantia"/>
                        </a:rPr>
                        <a:t>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1.Оздоровительные мероприятия в режиме учебного врем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нять утомляем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обучить жизненно важным двигательным навыкам и ум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2. Внеурочные спортивные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азвивать силу, ловкость, вынослив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ормировать навыки работы в коман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ивные праздни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эстафет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иг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артаки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3. Внеклассная воспитательн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формировать необходимые знания в области физической культуры, медицин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азвивать творческую активность уча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конкурс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роектная деятельность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тематические бес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4. Работа с род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повысить образовательный уровень родителей в вопросах гигиены, физической культуры, медиц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родительские собра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спортивные праздник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индивидуальные беседы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83763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Times New Roman"/>
                        </a:rPr>
                        <a:t>тест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6240" y="-360"/>
            <a:ext cx="5981760" cy="276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лан реализации проекта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доровым – быть здорово!»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 класс</a:t>
            </a:r>
            <a:br>
              <a:rPr sz="3200"/>
            </a:b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Rectangle 264"/>
          <p:cNvSpPr/>
          <p:nvPr/>
        </p:nvSpPr>
        <p:spPr>
          <a:xfrm>
            <a:off x="0" y="717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1905120"/>
          <a:ext cx="6400800" cy="6824520"/>
        </p:xfrm>
        <a:graphic>
          <a:graphicData uri="http://schemas.openxmlformats.org/drawingml/2006/table">
            <a:tbl>
              <a:tblPr/>
              <a:tblGrid>
                <a:gridCol w="711360"/>
                <a:gridCol w="2031840"/>
                <a:gridCol w="1554120"/>
                <a:gridCol w="210348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учителя физкультуры и кл. рук. с  род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деть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Режим младшего шко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инамические пауз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: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Что мы знаем о здоровом образе жизни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эстаф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имн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Мой любимый вид спор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Сильные, смелые, умелы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ак часто ваш ребёнок играет на свежем воздухе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экскурс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2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143000"/>
          <a:ext cx="6248520" cy="7701120"/>
        </p:xfrm>
        <a:graphic>
          <a:graphicData uri="http://schemas.openxmlformats.org/drawingml/2006/table">
            <a:tbl>
              <a:tblPr/>
              <a:tblGrid>
                <a:gridCol w="797040"/>
                <a:gridCol w="1946160"/>
                <a:gridCol w="1687680"/>
                <a:gridCol w="18176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. с родит.   и детьми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Режим дня второклассн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лакса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игровой масс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трива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музыкотерап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час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накомство с видам 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Конкурс рисунков «Мой любимый вид спорт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соревн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Уроки здоровья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эстаф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ервая помощь при отравлен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дение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зимн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Психология здоровья младших школьник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Формирование здорового образа жиз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роведение спортивного праз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День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Беседа «Сегодняшние заботы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939600"/>
            <a:ext cx="6172200" cy="35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a3"/>
                </a:solidFill>
                <a:latin typeface="Times New Roman"/>
                <a:ea typeface="Times New Roman"/>
              </a:rPr>
              <a:t>3 клас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04920" y="549360"/>
          <a:ext cx="6248160" cy="8412120"/>
        </p:xfrm>
        <a:graphic>
          <a:graphicData uri="http://schemas.openxmlformats.org/drawingml/2006/table">
            <a:tbl>
              <a:tblPr/>
              <a:tblGrid>
                <a:gridCol w="796680"/>
                <a:gridCol w="1946520"/>
                <a:gridCol w="1687320"/>
                <a:gridCol w="18176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неурочные 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 учителя физкультуры и кл. рук.   с  род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 детьми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здоровительны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ень Здоровь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сенний кро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Гигиена и режим младшего школьника в семь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уроки физического восп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альчиковая 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и мимическ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ОР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физкультминутк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мена видов деятельности на урок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дыхательная гимнасти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оздание благоприятного психологического климата на уро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е соревнования «Быстрее, выше, сильне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Что может быть важнее здоровья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ч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Как правильно одеваться осенью и зимо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игры на улиц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весёлые старты «Все на санки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Режим питания и его разнообрази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малые зимние олимпийские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и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о-игровой  праздник, посвящённый Дню защитников оте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Конкурс рисун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Если хочешь быть здоров - закаляйся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движные игры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« Секреты здоровья ребёнка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спортивный праздник: «папа, мама, я – спортивная сем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Помощь в проведении праздника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3495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спортивные соревнования на свежем воздух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495c"/>
                          </a:solidFill>
                          <a:latin typeface="Times New Roman"/>
                        </a:rPr>
                        <a:t>Рекомендации «будем плавать, загора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я</cp:lastModifiedBy>
  <dcterms:modified xsi:type="dcterms:W3CDTF">2013-04-14T13:46:57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