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C2D4-4976-4B5D-8A8E-0C8924B60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552B-905B-4673-813A-BFDA175F0F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A99-38F2-4FEB-A509-5D38EDE6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2E0-4D2D-479B-A382-2D8BC9DA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D10-057F-4534-A481-8960E314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FC3-158C-49A2-A935-A167022C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ABFF-00EA-4B8D-A503-0C6D13E9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89CD-8DCD-4523-83A8-BD13CF9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2A21-30D3-4DC9-BE85-CD12992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F555-1638-4393-9A09-0C6481D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ABDB-D0E4-4E37-BD04-2992B46E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10F-30F3-482E-94A7-C096DBF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1DD9-1C68-43D7-81AA-874CA82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493-14DE-4DA2-A760-9141CFD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64B8-CEDF-4133-9402-F39970F1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977-9805-49A3-B2F9-79DF9E0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2B09-E8D7-4DE8-89A3-2BE073F7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6016-0C9A-4F2A-BF16-E97C7BAF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B295-F1A1-4595-B3C4-6F045542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1AF6-C180-4ABA-9651-749C6A35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DCC6-864B-4FDB-9CF9-C226B70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2B87-38BF-4E60-8E4D-53ACF84E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4800-57FC-408D-B6A2-A1E4D90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E6AD-95E4-47A5-8873-B433F37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B81-E970-4A84-9908-F0E7EB74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9C44-B2CC-4EDA-945D-564FC2E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7346-C7B2-49B6-9200-35DDA90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8256-416F-44FD-97DA-776360B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323E-26EF-4D80-B5A1-94DCC3C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E714-4A62-4DC3-A7AE-4172512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C7AE-1F8B-4F1E-9A17-016D27FB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DD29-280A-4DA2-934F-D4E2D8D7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34D1-1C0A-4BC1-BCB0-5AD15E6F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25D1-A8C9-4D0B-8C02-CEF57351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738F-5F0F-4576-B510-A0678F1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DDC-26C4-48A6-891C-FE0B47C0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B4F2-C2C8-4D7F-B7CB-413432EF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C612-9972-4046-9E4F-10DD7C6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00FD-9423-4A28-8ECD-3DD994F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519A-B95D-4C67-A6CB-AB30788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A7E0-50E5-4602-8A4C-C1AB691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3922-BCBF-4BDF-AE52-F6772C8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B59E-F33F-41AA-B842-F251D65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EA31-C328-410B-83D4-A4A926C5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2420-4956-42D5-A8BE-04E0D319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8661-C7C5-422D-9131-54A7029D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1B7-8294-4EA0-B350-C6D8740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20DC-6709-46F4-835A-EBF70E8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52CA-CB68-4E49-837F-3147DD1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4CE7-D03D-4895-8ACD-07EA4C1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C1D1-F827-4DC5-B742-90769D1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D4A7-98DC-4A9E-8C80-33ABFC6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1A75-9E25-43B6-8003-F9AF224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CA42-C2AF-49E1-9774-45D1CB2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1287-D4A5-4984-AA5C-7A40862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8F2D-6DCA-4890-98D5-C10592C3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1307-5123-4389-9E6D-A881088B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301-583B-46DC-BD02-9B0D826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ED1C-CBC9-4597-A17B-FE029F60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A63-03CC-42D0-9CBB-1DC32791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689-5D58-4204-8B8F-06412D6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49B-AAFE-49C6-91B5-39C835A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570-4896-4F23-9C78-51037BD7EA9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ACE0-8E17-408B-87ED-574445BA63F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7DF1-C5B4-4C8E-9733-6D214031D7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custGeom>
            <a:avLst/>
            <a:gdLst>
              <a:gd name="textAreaLeft" fmla="*/ 0 w 3943440"/>
              <a:gd name="textAreaRight" fmla="*/ 3887280 w 3943440"/>
              <a:gd name="textAreaTop" fmla="*/ 360 h 5486400"/>
              <a:gd name="textAreaBottom" fmla="*/ 5487120 h 54864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3720" y="7144560"/>
            <a:ext cx="115560" cy="208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Полилиния 16"/>
          <p:cNvGrpSpPr/>
          <p:nvPr/>
        </p:nvGrpSpPr>
        <p:grpSpPr>
          <a:xfrm>
            <a:off x="3279600" y="8326080"/>
            <a:ext cx="3584880" cy="824040"/>
            <a:chOff x="3279600" y="8326080"/>
            <a:chExt cx="3584880" cy="824040"/>
          </a:xfrm>
        </p:grpSpPr>
        <p:pic>
          <p:nvPicPr>
            <p:cNvPr id="154" name="Полилиния 16" descr=""/>
            <p:cNvPicPr/>
            <p:nvPr/>
          </p:nvPicPr>
          <p:blipFill>
            <a:blip r:embed="rId3"/>
            <a:stretch/>
          </p:blipFill>
          <p:spPr>
            <a:xfrm>
              <a:off x="3279600" y="8358480"/>
              <a:ext cx="358488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3286080" y="8326080"/>
              <a:ext cx="35719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E699-BBB7-4636-B595-73D6CE25540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5DA-9418-4BC3-AAE1-A00F8F9060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-1098720" y="147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28600" y="1551960"/>
            <a:ext cx="622944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 Марина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ов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д рожд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1 января 1977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едения об образ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 высшее,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Тобольский государственный педагогический институт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2001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год,  Новоуренгойское педагогическое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илище , 1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го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альность -  учитель начальных классов, социальный педаг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ий трудовой стаж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 лет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ОУ СОШ № 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14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имаемая должност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итель физической культ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квалификационная категор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P1030650"/>
          <p:cNvPicPr/>
          <p:nvPr/>
        </p:nvPicPr>
        <p:blipFill>
          <a:blip r:embed="rId1"/>
          <a:stretch/>
        </p:blipFill>
        <p:spPr>
          <a:xfrm>
            <a:off x="3962520" y="1143000"/>
            <a:ext cx="2171520" cy="2438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P1030650"/>
          <p:cNvPicPr/>
          <p:nvPr/>
        </p:nvPicPr>
        <p:blipFill>
          <a:blip r:embed="rId2"/>
          <a:stretch/>
        </p:blipFill>
        <p:spPr>
          <a:xfrm>
            <a:off x="3962520" y="1123920"/>
            <a:ext cx="2324160" cy="261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1600200" y="228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76a3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838080"/>
          <a:ext cx="6248160" cy="8124840"/>
        </p:xfrm>
        <a:graphic>
          <a:graphicData uri="http://schemas.openxmlformats.org/drawingml/2006/table">
            <a:tbl>
              <a:tblPr/>
              <a:tblGrid>
                <a:gridCol w="796680"/>
                <a:gridCol w="1946520"/>
                <a:gridCol w="1687320"/>
                <a:gridCol w="18176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оводителя                             с  родителями 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сенний кро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Наше здоровье. Эмоции, чувства, поступки, стрес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итьевой режи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здоровительные 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лакса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ревнования по мини-фут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омоги себе сам Волевое п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Стартуем вместе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емейная спортивная спартак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ащита проекта «Закаливание и оздоровление организ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 «Все на лыжи и санк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Физическое развитие в школе и до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ое меропри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ультура здорового образа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абав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Азбука пове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День семьи», экскур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спортивные соревнования по волей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Игра-путешествие «В страну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380880" y="612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ема-таблица необходимой двигательной активности учащихся младших класс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2280" y="1600200"/>
          <a:ext cx="6553440" cy="7291440"/>
        </p:xfrm>
        <a:graphic>
          <a:graphicData uri="http://schemas.openxmlformats.org/drawingml/2006/table">
            <a:tbl>
              <a:tblPr/>
              <a:tblGrid>
                <a:gridCol w="1506600"/>
                <a:gridCol w="1338480"/>
                <a:gridCol w="168120"/>
                <a:gridCol w="1112760"/>
                <a:gridCol w="1163880"/>
                <a:gridCol w="176040"/>
                <a:gridCol w="1087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Ежедневный  объём времени занятий (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Гимнастика    до учебных   занятий           (в домашиих условия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изкультурные                 минутки                  на уроках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одвижные     пере мены 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. час в ГП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0,5 ст.)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роки                  физической культуры (не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частие                     в соревнов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8 -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8 -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ни здоровья и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Е  ж  е  м  е  с  я  ч  н  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омашние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вижение для здоровья (оздоровительный бе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Constantia"/>
                        </a:rPr>
                        <a:t>Е  ж  е  д  н  е  в  н  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неклассные формы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не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9600" y="914400"/>
            <a:ext cx="61153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ЕКТ ЖИЗНЕДЕЯТЕЛЬНОСТИ МЛАДШИХ ШКОЛЬНИКОВ «ЗДОРОВЫМ БЫТЬ ЗДОРОВО!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71360" y="2133720"/>
            <a:ext cx="65152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– высшее творение природы. Но для того чтобы наслаждаться её сокровищами, он должен отвечать одному требованию: быть здоровы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ми доказано. что 75% болезней взрослых заработаны в детские год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роект направлен на сохранение и укрепление здоровья учащихся 1-4-х классов, а также воспитание потребности в здоровом образе жизни через игровую и соревновательную деятельность, так как только здоровый ребёнок способен успешно и в полной мере овладеть школьной програм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данного проекта: 2010/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здоровья детей приобретает глобальный характер.  Одной из важнейших задач школы в соответствии с целями современной реформы образования в России является сохранение и укрепление здоровья учащих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анализ медицинских карт и беседы с родителями детей, что не будучи ещё школьниками. Они уже имеют серьёзные проблемы, которые могут в дальнейшем усугубиться и стать причиной, вызывающем трудности в обучени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52280" y="1320840"/>
          <a:ext cx="6705720" cy="4699080"/>
        </p:xfrm>
        <a:graphic>
          <a:graphicData uri="http://schemas.openxmlformats.org/drawingml/2006/table">
            <a:tbl>
              <a:tblPr/>
              <a:tblGrid>
                <a:gridCol w="1219320"/>
                <a:gridCol w="771480"/>
                <a:gridCol w="739800"/>
                <a:gridCol w="1035000"/>
                <a:gridCol w="961920"/>
                <a:gridCol w="960480"/>
                <a:gridCol w="1017720"/>
              </a:tblGrid>
              <a:tr h="701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ведения об учащихся по группам здоровья в школе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сту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уч-ся                      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   уч-ся                        с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уч-ся             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уч-ся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61" name="TextBox 7"/>
          <p:cNvSpPr/>
          <p:nvPr/>
        </p:nvSpPr>
        <p:spPr>
          <a:xfrm>
            <a:off x="285840" y="6197760"/>
            <a:ext cx="6400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2010/2011уч.г. в начальной школе 15 учеников занимаются в специальной медицинской  группе, в 2007/2008 году –  31 чел., в 2008/2009 году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 чел.,  в 2009/2010 году -17ч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таблицы видно, что количество обучающихся по сравнению с 2007/2008г. значительно уменьши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формирования мотивации у младших школьников здорового образа жизни и профилактики детской заболеваемости необходимо развивать двигательную активность через игровые и соревновательные методы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507600"/>
            <a:ext cx="6286680" cy="806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" y="507960"/>
          <a:ext cx="6172200" cy="45086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ведения о заболеваниях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рушение осанки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(Найманова Н.) -2а класс, Туча Н., 3а класс, Гусейнова Г., 3б класс, нарушение рсанки (пупочная грыжа) Топал Я., 3 а класс, Арсмурзаева П., 3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ахарный диабет, Ногаев М., 3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ронхиальная астма. Пикалов Д., 4б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лоскостопие, нарушение зрения Мазурик Л., 4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жирение, дис. тазобедренного сустава, Курелов А., 4б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Посттравматическая церебростения, Мугудинов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Нарушение ЦНС, нарушение зрения Бейдиев К., 4в С(К)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04920" y="5562720"/>
          <a:ext cx="6172200" cy="3149640"/>
        </p:xfrm>
        <a:graphic>
          <a:graphicData uri="http://schemas.openxmlformats.org/drawingml/2006/table">
            <a:tbl>
              <a:tblPr/>
              <a:tblGrid>
                <a:gridCol w="1763640"/>
                <a:gridCol w="2644560"/>
                <a:gridCol w="1764000"/>
              </a:tblGrid>
              <a:tr h="71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атистика по травмати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есчастного случ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69"/>
          <p:cNvSpPr/>
          <p:nvPr/>
        </p:nvSpPr>
        <p:spPr>
          <a:xfrm>
            <a:off x="2484360" y="-203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90"/>
          <p:cNvSpPr/>
          <p:nvPr/>
        </p:nvSpPr>
        <p:spPr>
          <a:xfrm>
            <a:off x="2484360" y="1817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71360" y="990720"/>
            <a:ext cx="6343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Здоровым быть здорово!»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 на укрепление здоровья и активизацию самого субъекта воспитания – ребён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, позволяющих воспитать потребность в формировании двигательной активности через спортивную деятель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сить интерес к спортивным мероприятиям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отребность в двигательной а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ать физическое состояние младшего школьни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тически вести мониторинг диагностики здоровья детей и физического состоя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нципы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ждого ребёнка свой потенциал здоровья, его необходимо учитыв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– это состояние организма. Им нужно дорожить и научиться управл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– это результат собственного творче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 сотрудничества педагогов и родител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иеся 1-4 класс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, работающие в этих класс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ицинский работни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те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Мотивация  обучающихся на здоровый образ жизн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хранение и укрепление здоровья младших школьников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и результативности проекта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Увеличение числа детей. Занятых в спортивных секциях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нижение количества пропущенных уроков по причине простудных заболеваний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Отсутствие детей с нарушением осанк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формировать у учащихся и их родителей необходимого уровня грамотности по вопросам здорового образа жизни 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тестирование)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проекта:</a:t>
            </a:r>
            <a:br>
              <a:rPr sz="14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277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9960" y="3454560"/>
          <a:ext cx="6058080" cy="501624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  <a:gridCol w="201924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.Оздоровительные мероприятия в режиме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нять утомляем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бучить жизненно важным двигательным навыкам и ум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. Внеурочные спортивные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азвивать силу, ловкость, вынослив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ормировать навыки работы в коман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ивные праздни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эстафет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иг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артаки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3. Внеклассная воспита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ормировать необходимые знания в области физической культуры, медиц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азвивать творческую активность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конкурс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роектная дея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тематические бес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4. 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овысить образовательный уровень родителей в вопросах гигиены, физической культуры, медиц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одительские собр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ивные праздни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индивидуальные беседы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тест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6240" y="-360"/>
            <a:ext cx="5981760" cy="276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ан реализации проекта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доровым – быть здорово!»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класс</a:t>
            </a:r>
            <a:br>
              <a:rPr sz="3200"/>
            </a:b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Rectangle 264"/>
          <p:cNvSpPr/>
          <p:nvPr/>
        </p:nvSpPr>
        <p:spPr>
          <a:xfrm>
            <a:off x="0" y="717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1905120"/>
          <a:ext cx="6400800" cy="6824520"/>
        </p:xfrm>
        <a:graphic>
          <a:graphicData uri="http://schemas.openxmlformats.org/drawingml/2006/table">
            <a:tbl>
              <a:tblPr/>
              <a:tblGrid>
                <a:gridCol w="711360"/>
                <a:gridCol w="2031840"/>
                <a:gridCol w="1554120"/>
                <a:gridCol w="210348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учителя физкультуры и кл. рук. с  род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Режим младшего шко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: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Что мы знаем о здоровом образе жизн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эстаф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имн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Мой любимый вид спор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Сильные, смелые, умел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ак часто ваш ребёнок играет на свежем воздухе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экскурс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143000"/>
          <a:ext cx="6248520" cy="7701120"/>
        </p:xfrm>
        <a:graphic>
          <a:graphicData uri="http://schemas.openxmlformats.org/drawingml/2006/table">
            <a:tbl>
              <a:tblPr/>
              <a:tblGrid>
                <a:gridCol w="797040"/>
                <a:gridCol w="1946160"/>
                <a:gridCol w="1687680"/>
                <a:gridCol w="18176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. с родит.   и детьми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Режим дня второклассн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лакса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игровой масс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трива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музыкотерап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накомство с видам 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Конкурс рисунков «Мой любимый вид спор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соревн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Уроки здоровья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эстаф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ервая помощь при отравлен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дение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имн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сихология здоровья младших школьник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Формирование здорового образа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дение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Беседа «Сегодняшние заботы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35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04920" y="549360"/>
          <a:ext cx="6248160" cy="8412120"/>
        </p:xfrm>
        <a:graphic>
          <a:graphicData uri="http://schemas.openxmlformats.org/drawingml/2006/table">
            <a:tbl>
              <a:tblPr/>
              <a:tblGrid>
                <a:gridCol w="796680"/>
                <a:gridCol w="1946520"/>
                <a:gridCol w="1687320"/>
                <a:gridCol w="18176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.   с  род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детьми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сенний кро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Гигиена и режим младшего школьника в сем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альчиковая 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и мимическ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соревнования «Быстрее, выше, сильне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Что может быть важнее здоровья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ак правильно одеваться осенью и зим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игры на улиц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весёлые старты «Все на санк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жим питания и его разнообраз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малые зимние олимпийск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и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о-игровой  праздник, посвящённый Дню защитников оте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Если хочешь быть здоров - закаляйся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 Секреты здоровья ребёнка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: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праздника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спортивные соревнования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Рекомендации «будем плавать, загора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я</cp:lastModifiedBy>
  <dcterms:modified xsi:type="dcterms:W3CDTF">2013-04-14T13:46:5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