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52DD-5FCF-4FDB-B9C2-9CFC999121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21B5-8840-4F1C-B01C-17CE71B74A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FD6B-02E6-4CD5-8764-B273A3BA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BE06-13E4-4B04-B48A-06D46FAB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E45-B92C-496C-B478-A90AEA19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272A-F5CC-445F-BC67-7EFDDB1E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114B-8D97-44D3-B812-3D4B39B3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C771-D05F-478D-B8E8-7C93C7E1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C92-715F-4E99-8561-5C756BB5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4849-3135-446B-A44F-20A0FB04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FB54-5F87-4049-9EF1-6592CF57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D0D-D972-4A92-92A4-0739F5A5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68C-0035-4903-915A-88094947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43A9-C367-4662-AF99-1996B8F1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7243-DDF1-4381-A4CF-46D4B363AB9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Pics_0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1428840"/>
            <a:ext cx="7772400" cy="23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2500"/>
            </a:br>
            <a:br>
              <a:rPr sz="2500"/>
            </a:b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«Психологическая подготовка учащихся к ЕГЭ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Pics_0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95280" y="3068280"/>
            <a:ext cx="50403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пособии представле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Анализ психологического содержа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Г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 ГИА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Подбор и апробация диагностических методов, позволяющих оценить уровень индивидуальной готовности учащихся к сдаче экзаменов в форме ЕГЭ и ГИА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Классификация основных трудностей учащихся при сдаче ЕГЭ и ГИА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Программа психологической подготовки учащихся к экзаменационным испытани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Object 5"/>
          <p:cNvGraphicFramePr/>
          <p:nvPr/>
        </p:nvGraphicFramePr>
        <p:xfrm>
          <a:off x="971640" y="2708280"/>
          <a:ext cx="219060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708280"/>
                    <a:ext cx="21906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4"/>
          <p:cNvSpPr/>
          <p:nvPr/>
        </p:nvSpPr>
        <p:spPr>
          <a:xfrm>
            <a:off x="250920" y="260280"/>
            <a:ext cx="496872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Verdana"/>
              </a:rPr>
              <a:t>Цель экспериментальной разработ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оздание психологических технологий и средств повышения готовности учащихся к сдаче выпускных экзаме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Pics_0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280" y="1267920"/>
            <a:ext cx="61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ecff"/>
                </a:solidFill>
                <a:latin typeface="Calibri"/>
              </a:rPr>
              <a:t>Единый государственный экзамен (ЕГЭ) и итоговая государственная аттестация (ГИА), вошел в школьную практику не так давно. Он радикально отличается от привычной формы проверки знаний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2781360"/>
            <a:ext cx="91440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cc00"/>
                </a:solidFill>
                <a:latin typeface="Calibri"/>
              </a:rPr>
              <a:t>Сдача выпускных экзаменов в форме ЕГЭ  и ГИА вызывает острый стресс у учащихся по ряду причин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бота в новых непривычных условиях (незнакомые педагоги, школа, учащиеся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чатная форма неправильных ответов затрудняет выбор, так как требует дополнительных усилий для преодоления доверия к «печатному слову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еобходимость продемонстрировать свои знания по всему циклу дисциплин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бота с незнакомым пакетом блан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cc00"/>
                </a:solidFill>
                <a:latin typeface="Calibri"/>
              </a:rPr>
              <a:t>Необходима профилактика экзаменационного стресса на основе решения следующих задач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вышение сознательной саморегуляции учеб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. Учет личностных особенностей и уровня оценочной тревожности на этапе подготовке к экзамен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. Развитие навыков работы с тест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http://www.cnews.ru/reviews/free/national2006/temp_img/tm_project2.jpg"/>
          <p:cNvPicPr/>
          <p:nvPr/>
        </p:nvPicPr>
        <p:blipFill>
          <a:blip r:embed="rId2"/>
          <a:srcRect l="0" t="0" r="0" b="9524"/>
          <a:stretch/>
        </p:blipFill>
        <p:spPr>
          <a:xfrm>
            <a:off x="250920" y="260280"/>
            <a:ext cx="2354040" cy="244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2951280" y="54936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11"/>
                </a:solidFill>
                <a:latin typeface="Arial"/>
              </a:rPr>
              <a:t>АНАЛИЗ ПСИХОЛОГИЧЕСКОГО СОДЕРЖАНИЯ ЕГ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Pics_0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5"/>
          <p:cNvSpPr/>
          <p:nvPr/>
        </p:nvSpPr>
        <p:spPr>
          <a:xfrm>
            <a:off x="-456876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1287720" y="187560"/>
            <a:ext cx="68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Модель психологической готовности к ЕГ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3240" y="2027160"/>
            <a:ext cx="360" cy="36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3240" y="2027160"/>
            <a:ext cx="360" cy="36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3240" y="2027160"/>
            <a:ext cx="360" cy="36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6"/>
          <p:cNvSpPr/>
          <p:nvPr/>
        </p:nvSpPr>
        <p:spPr>
          <a:xfrm>
            <a:off x="-456876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-456876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-456876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9"/>
          <p:cNvSpPr/>
          <p:nvPr/>
        </p:nvSpPr>
        <p:spPr>
          <a:xfrm>
            <a:off x="-456876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0"/>
          <p:cNvSpPr/>
          <p:nvPr/>
        </p:nvSpPr>
        <p:spPr>
          <a:xfrm>
            <a:off x="-456876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1"/>
          <p:cNvSpPr/>
          <p:nvPr/>
        </p:nvSpPr>
        <p:spPr>
          <a:xfrm>
            <a:off x="-456876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2"/>
          <p:cNvSpPr/>
          <p:nvPr/>
        </p:nvSpPr>
        <p:spPr>
          <a:xfrm>
            <a:off x="-456876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3"/>
          <p:cNvSpPr/>
          <p:nvPr/>
        </p:nvSpPr>
        <p:spPr>
          <a:xfrm>
            <a:off x="-456876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4"/>
          <p:cNvSpPr/>
          <p:nvPr/>
        </p:nvSpPr>
        <p:spPr>
          <a:xfrm>
            <a:off x="-456876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5"/>
          <p:cNvSpPr/>
          <p:nvPr/>
        </p:nvSpPr>
        <p:spPr>
          <a:xfrm>
            <a:off x="-456876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6"/>
          <p:cNvSpPr/>
          <p:nvPr/>
        </p:nvSpPr>
        <p:spPr>
          <a:xfrm>
            <a:off x="-456876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7"/>
          <p:cNvSpPr/>
          <p:nvPr/>
        </p:nvSpPr>
        <p:spPr>
          <a:xfrm>
            <a:off x="-438948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8"/>
          <p:cNvSpPr/>
          <p:nvPr/>
        </p:nvSpPr>
        <p:spPr>
          <a:xfrm>
            <a:off x="-438948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9"/>
          <p:cNvSpPr/>
          <p:nvPr/>
        </p:nvSpPr>
        <p:spPr>
          <a:xfrm>
            <a:off x="-438948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0"/>
          <p:cNvSpPr/>
          <p:nvPr/>
        </p:nvSpPr>
        <p:spPr>
          <a:xfrm>
            <a:off x="-438948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1"/>
          <p:cNvSpPr/>
          <p:nvPr/>
        </p:nvSpPr>
        <p:spPr>
          <a:xfrm>
            <a:off x="-4159080" y="21794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2"/>
          <p:cNvSpPr/>
          <p:nvPr/>
        </p:nvSpPr>
        <p:spPr>
          <a:xfrm>
            <a:off x="179280" y="4304160"/>
            <a:ext cx="8964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Когнитивный компонент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ключает в себя определенный объем и упорядоченность знаний учащегося, а также особенности развития таких когнитивных функций как память, мышление, вним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Эмоциональный компонен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включает в себя личностные особенности выпускника, его эмоциональное отношение к экзамену и эмоциональное состояние на самом экзаме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Поведенческий компонен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включает в себя знание и понимание учащимся особенностей проведение экзамена, знакомство с процедурой ЕГЭ, навык работы с тестовыми материал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Уровень развития и индивидуальные особенности саморегуляции учебной деятельности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3"/>
          <p:cNvGrpSpPr/>
          <p:nvPr/>
        </p:nvGrpSpPr>
        <p:grpSpPr>
          <a:xfrm>
            <a:off x="2556000" y="642960"/>
            <a:ext cx="4016160" cy="3665520"/>
            <a:chOff x="2556000" y="642960"/>
            <a:chExt cx="4016160" cy="3665520"/>
          </a:xfrm>
        </p:grpSpPr>
        <p:sp>
          <p:nvSpPr>
            <p:cNvPr id="86" name="Oval 44"/>
            <p:cNvSpPr/>
            <p:nvPr/>
          </p:nvSpPr>
          <p:spPr>
            <a:xfrm>
              <a:off x="2556000" y="642960"/>
              <a:ext cx="4016160" cy="3665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45"/>
            <p:cNvSpPr/>
            <p:nvPr/>
          </p:nvSpPr>
          <p:spPr>
            <a:xfrm>
              <a:off x="3273120" y="1195200"/>
              <a:ext cx="2581560" cy="2709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6"/>
            <p:cNvSpPr/>
            <p:nvPr/>
          </p:nvSpPr>
          <p:spPr>
            <a:xfrm>
              <a:off x="4564080" y="2629800"/>
              <a:ext cx="0" cy="12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47"/>
            <p:cNvSpPr/>
            <p:nvPr/>
          </p:nvSpPr>
          <p:spPr>
            <a:xfrm>
              <a:off x="3990240" y="1489320"/>
              <a:ext cx="114732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огнитивный компонен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8"/>
            <p:cNvSpPr/>
            <p:nvPr/>
          </p:nvSpPr>
          <p:spPr>
            <a:xfrm>
              <a:off x="3416400" y="2445480"/>
              <a:ext cx="1003680" cy="63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Эмоциональный компонен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9"/>
            <p:cNvSpPr/>
            <p:nvPr/>
          </p:nvSpPr>
          <p:spPr>
            <a:xfrm>
              <a:off x="3559680" y="1673280"/>
              <a:ext cx="1004040" cy="9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50"/>
            <p:cNvSpPr/>
            <p:nvPr/>
          </p:nvSpPr>
          <p:spPr>
            <a:xfrm>
              <a:off x="4707360" y="2445480"/>
              <a:ext cx="1004040" cy="63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оведенческ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омпонен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51"/>
            <p:cNvSpPr/>
            <p:nvPr/>
          </p:nvSpPr>
          <p:spPr>
            <a:xfrm flipV="1">
              <a:off x="4564080" y="1673280"/>
              <a:ext cx="1003680" cy="9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WordArt 52"/>
            <p:cNvSpPr txBox="1"/>
            <p:nvPr/>
          </p:nvSpPr>
          <p:spPr>
            <a:xfrm rot="16764600">
              <a:off x="3396960" y="1644120"/>
              <a:ext cx="2292120" cy="2032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Circle">
                <a:avLst>
                  <a:gd name="adj" fmla="val 1083368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Уровень развития и индивидуальные особенности осознанной саморегуляции учебной деятельности  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                                                               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6" descr="Pics_0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179280" y="333360"/>
            <a:ext cx="878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основе исследовательских данных был разработан комплекс диагностических показателей развития индивидуальной саморегуляции и личностных особенностей, позволяющий оценить уровень индивидуальной готовности к выпускным испыта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4000" y="3213000"/>
            <a:ext cx="2973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мплект состоит из трех психологических методик и двух опросников компетентности (для учащегося и педагог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ремя поведения 45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CAOJEXGP"/>
          <p:cNvPicPr/>
          <p:nvPr/>
        </p:nvPicPr>
        <p:blipFill>
          <a:blip r:embed="rId2"/>
          <a:stretch/>
        </p:blipFill>
        <p:spPr>
          <a:xfrm>
            <a:off x="1042920" y="1700280"/>
            <a:ext cx="1149480" cy="14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Object 15"/>
          <p:cNvGraphicFramePr/>
          <p:nvPr/>
        </p:nvGraphicFramePr>
        <p:xfrm>
          <a:off x="3357720" y="2143080"/>
          <a:ext cx="5572080" cy="3895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2143080"/>
                    <a:ext cx="557208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4"/>
          <p:cNvSpPr/>
          <p:nvPr/>
        </p:nvSpPr>
        <p:spPr>
          <a:xfrm>
            <a:off x="5435640" y="3789360"/>
            <a:ext cx="136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казатели        готов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" descr="Pics_0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грамма психологической подготовки учащихся в ЕГЭ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987640" y="1355760"/>
            <a:ext cx="597708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Verdana"/>
              </a:rPr>
              <a:t>Задачи программ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формирование умений самостоятельно ставить перед собой цели и определять пути их достиж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азвитие самостоятельности учащихся в подготовке к экзамену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едупредить регулярно встречающиеся ошибки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формировать навыки сдачи экзаменов в тестовой форме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пособствовать осмыслению и освоению теоретического материала на более высоком уровне, пониманию его внутренней системы и логик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F:\ЛИЦЕЙ 2009\обложка111.jpg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324000" y="1341360"/>
            <a:ext cx="1877760" cy="265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6" name="Picture 5" descr="F:\ЛИЦЕЙ 2009\обложка222.jpg"/>
          <p:cNvPicPr/>
          <p:nvPr/>
        </p:nvPicPr>
        <p:blipFill>
          <a:blip r:embed="rId3">
            <a:lum bright="-30000"/>
          </a:blip>
          <a:stretch/>
        </p:blipFill>
        <p:spPr>
          <a:xfrm>
            <a:off x="900000" y="3429000"/>
            <a:ext cx="1925640" cy="272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Pics_0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826920" y="476280"/>
            <a:ext cx="822960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cc00"/>
                </a:solidFill>
                <a:latin typeface="Calibri"/>
              </a:rPr>
              <a:t>Программа психологической подготовки учащихся в ЕГ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УЛИ ПРОГРАМ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24000" y="5805360"/>
            <a:ext cx="2160360" cy="105012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одный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692360" y="4797360"/>
            <a:ext cx="2879640" cy="105012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ок «Постановка це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059280" y="3789360"/>
            <a:ext cx="3384360" cy="105012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ок «Внимание. Памя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4140360" y="2708280"/>
            <a:ext cx="4535280" cy="105012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ок «Эмоциональная саморегуля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6877080" y="1700280"/>
            <a:ext cx="2160720" cy="10501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оговый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4"/>
          <p:cNvSpPr/>
          <p:nvPr/>
        </p:nvSpPr>
        <p:spPr>
          <a:xfrm flipH="1">
            <a:off x="899640" y="1989000"/>
            <a:ext cx="863640" cy="37450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1908000" y="2060640"/>
            <a:ext cx="216000" cy="26636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2124000" y="2060640"/>
            <a:ext cx="1152720" cy="16556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2411280" y="2060640"/>
            <a:ext cx="2160720" cy="6476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700360" y="1989000"/>
            <a:ext cx="4103640" cy="36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Pics_0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-72396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2196360" y="332280"/>
            <a:ext cx="55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Содержанием программы явило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395280" y="972000"/>
            <a:ext cx="77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формирование умений самостоятельно ставить перед собой цел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делят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ути их дости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3130200" y="5804280"/>
            <a:ext cx="384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витие внимания и памя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45800" y="3140640"/>
            <a:ext cx="80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развитие самостоятельности учащихся в подготовке к экзамен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3276720" y="3932640"/>
            <a:ext cx="546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формирование навыков сдачи экзаменов в тестовой форм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3276720" y="4867920"/>
            <a:ext cx="529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предупреждение регулярно встречающихся ошибо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395280" y="198792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пособствование осмыслению и освоению теоретического материала на более высоком уровне, основанном на понимании его внутренней системы и лог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img_4391-5"/>
          <p:cNvPicPr/>
          <p:nvPr/>
        </p:nvPicPr>
        <p:blipFill>
          <a:blip r:embed="rId2"/>
          <a:srcRect l="7176" t="20798" r="6667" b="9209"/>
          <a:stretch/>
        </p:blipFill>
        <p:spPr>
          <a:xfrm>
            <a:off x="250920" y="3716280"/>
            <a:ext cx="27622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4" descr="Pics_0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Oval 6"/>
          <p:cNvSpPr/>
          <p:nvPr/>
        </p:nvSpPr>
        <p:spPr>
          <a:xfrm>
            <a:off x="250920" y="1844640"/>
            <a:ext cx="2448000" cy="237636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95280" y="2060640"/>
            <a:ext cx="2303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11"/>
                </a:solidFill>
                <a:latin typeface="Arial"/>
              </a:rPr>
              <a:t>Диагностика,  позволяющая оценить уровень индивидуальной готовности учащихся к сдаче экзаменов в форме ЕГЭ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547640" y="333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11"/>
                </a:solidFill>
                <a:latin typeface="Arial"/>
              </a:rPr>
              <a:t>МОДЕЛЬ ПСИХОЛОГИЧЕСКОЙ ПОДГОТОВКИ УЧАЩИХСЯ К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3348000" y="981000"/>
            <a:ext cx="2448000" cy="237672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3203640" y="17002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11"/>
                </a:solidFill>
                <a:latin typeface="Arial"/>
              </a:rPr>
              <a:t>Индивидуальная работа с учащими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1692360" y="4365720"/>
            <a:ext cx="2448000" cy="237636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6443640" y="1916280"/>
            <a:ext cx="2448000" cy="237636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4932360" y="4292640"/>
            <a:ext cx="2448000" cy="237636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1835280" y="5013360"/>
            <a:ext cx="230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11"/>
                </a:solidFill>
                <a:latin typeface="Arial"/>
              </a:rPr>
              <a:t>Работа с педагогическим коллектив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6300720" y="263700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11"/>
                </a:solidFill>
                <a:latin typeface="Arial"/>
              </a:rPr>
              <a:t>Групповая работа с учащими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2050920" y="4076640"/>
            <a:ext cx="433440" cy="360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 flipV="1">
            <a:off x="2484360" y="2060640"/>
            <a:ext cx="863640" cy="28872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2627280" y="3429000"/>
            <a:ext cx="3889440" cy="712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556000" y="3645000"/>
            <a:ext cx="2592360" cy="1152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H="1">
            <a:off x="3924000" y="3645000"/>
            <a:ext cx="2663640" cy="115236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3419640" y="2997000"/>
            <a:ext cx="215640" cy="143964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0"/>
          <p:cNvSpPr/>
          <p:nvPr/>
        </p:nvSpPr>
        <p:spPr>
          <a:xfrm>
            <a:off x="5796000" y="1989000"/>
            <a:ext cx="936720" cy="360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1"/>
          <p:cNvSpPr/>
          <p:nvPr/>
        </p:nvSpPr>
        <p:spPr>
          <a:xfrm>
            <a:off x="5003640" y="5013360"/>
            <a:ext cx="23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11"/>
                </a:solidFill>
                <a:latin typeface="Arial"/>
              </a:rPr>
              <a:t>Работа с родителями выпуск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4140360" y="566100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4:17:12Z</dcterms:created>
  <dc:creator>Алена</dc:creator>
  <dc:description/>
  <dc:language>en-US</dc:language>
  <cp:lastModifiedBy>u</cp:lastModifiedBy>
  <dcterms:modified xsi:type="dcterms:W3CDTF">2013-03-10T14:12:49Z</dcterms:modified>
  <cp:revision>46</cp:revision>
  <dc:subject/>
  <dc:title>Психологическая подготовка к ЕГЭ</dc:title>
</cp:coreProperties>
</file>