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6FC0-3B45-45B1-8BF6-62565397F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07E6-BC37-45CF-B644-C941AE012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C23-6B01-414F-A6EC-9DD524E7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ED6-EC71-4C70-B33C-72F19DB2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125-E0D3-4B1F-8111-D4167F33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15F-C253-496A-95C2-3FBD6013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800-EB2C-4579-BEFE-7C321A09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D55-E372-4FAC-AB77-BEB4E11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3C0-F096-4181-899D-2CF4BF12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18C-7E0E-420E-B621-5784FDF9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3DD-0DD5-46C7-869E-DE9C26E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5F2-ED83-46F6-96C4-300DC10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D5F-B0FB-4385-8035-B5A90C5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175-0CE4-4520-A528-30C06BD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D79-75CD-47BC-9D4B-77028053E8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42884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2500"/>
            </a:br>
            <a:br>
              <a:rPr sz="2500"/>
            </a:b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Психологическая подготовка учащихся к ЕГЭ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5280" y="3068280"/>
            <a:ext cx="5040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пособии представл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Анализ психологического содерж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ГИ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одбор и апробация диагностических методов, позволяющих оценить уровень индивидуальной готовности учащихся к сдаче экзаменов в форме ЕГЭ и ГИ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Классификация основных трудностей учащихся при сдаче ЕГЭ и ГИ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Программа психологической подготовки учащихся к экзаменационным испыт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971640" y="2708280"/>
          <a:ext cx="21906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708280"/>
                    <a:ext cx="2190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4"/>
          <p:cNvSpPr/>
          <p:nvPr/>
        </p:nvSpPr>
        <p:spPr>
          <a:xfrm>
            <a:off x="250920" y="260280"/>
            <a:ext cx="4968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Цель экспериментальной разрабо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здание психологических технологий и средств повышения готовности учащихся к сдаче выпускных экзаме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12679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Calibri"/>
              </a:rPr>
              <a:t>Единый государственный экзамен (ЕГЭ) и итоговая государственная аттестация (ГИА), вошел в школьную практику не так давно. Он радикально отличается от привычной формы проверки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00"/>
                </a:solidFill>
                <a:latin typeface="Calibri"/>
              </a:rPr>
              <a:t>Сдача выпускных экзаменов в форме ЕГЭ  и ГИА вызывает острый стресс у учащихся по ряду причин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а в новых непривычных условиях (незнакомые педагоги, школа, учащиес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чатная форма неправильных ответов затрудняет выбор, так как требует дополнительных усилий для преодоления доверия к «печатному сло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обходимость продемонстрировать свои знания по всему циклу дисципл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а с незнакомым пакетом блан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00"/>
                </a:solidFill>
                <a:latin typeface="Calibri"/>
              </a:rPr>
              <a:t>Необходима профилактика экзаменационного стресса на основе решения следующих задач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ышение сознательной саморегуляции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Учет личностных особенностей и уровня оценочной тревожности на этапе подготовке к экзаме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Развитие навыков работы с те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cnews.ru/reviews/free/national2006/temp_img/tm_project2.jpg"/>
          <p:cNvPicPr/>
          <p:nvPr/>
        </p:nvPicPr>
        <p:blipFill>
          <a:blip r:embed="rId2"/>
          <a:srcRect l="0" t="0" r="0" b="9524"/>
          <a:stretch/>
        </p:blipFill>
        <p:spPr>
          <a:xfrm>
            <a:off x="250920" y="260280"/>
            <a:ext cx="2354040" cy="244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2951280" y="54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11"/>
                </a:solidFill>
                <a:latin typeface="Arial"/>
              </a:rPr>
              <a:t>АНАЛИЗ ПСИХОЛОГИЧЕСКОГО СОДЕРЖАНИЯ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287720" y="18756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Модель психологической готовности к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240" y="2027160"/>
            <a:ext cx="360" cy="3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3240" y="2027160"/>
            <a:ext cx="360" cy="3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3240" y="2027160"/>
            <a:ext cx="360" cy="3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5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7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8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-4159080" y="21794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2"/>
          <p:cNvSpPr/>
          <p:nvPr/>
        </p:nvSpPr>
        <p:spPr>
          <a:xfrm>
            <a:off x="179280" y="4304160"/>
            <a:ext cx="896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Когнитивный компонен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ключает в себя определенный объем и упорядоченность знаний учащегося, а также особенности развития таких когнитивных функций как память, мышление,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й компонен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ключает в себя личностные особенности выпускника, его эмоциональное отношение к экзамену и эмоциональное состояние на самом экзаме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оведенческий компонен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ключает в себя знание и понимание учащимся особенностей проведение экзамена, знакомство с процедурой ЕГЭ, навык работы с тестовыми матери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Уровень развития и индивидуальные особенности саморегуляции учебной деятельност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3"/>
          <p:cNvGrpSpPr/>
          <p:nvPr/>
        </p:nvGrpSpPr>
        <p:grpSpPr>
          <a:xfrm>
            <a:off x="2556000" y="642960"/>
            <a:ext cx="4016160" cy="3665520"/>
            <a:chOff x="2556000" y="642960"/>
            <a:chExt cx="4016160" cy="3665520"/>
          </a:xfrm>
        </p:grpSpPr>
        <p:sp>
          <p:nvSpPr>
            <p:cNvPr id="86" name="Oval 44"/>
            <p:cNvSpPr/>
            <p:nvPr/>
          </p:nvSpPr>
          <p:spPr>
            <a:xfrm>
              <a:off x="2556000" y="642960"/>
              <a:ext cx="4016160" cy="366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5"/>
            <p:cNvSpPr/>
            <p:nvPr/>
          </p:nvSpPr>
          <p:spPr>
            <a:xfrm>
              <a:off x="3273120" y="1195200"/>
              <a:ext cx="2581560" cy="270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6"/>
            <p:cNvSpPr/>
            <p:nvPr/>
          </p:nvSpPr>
          <p:spPr>
            <a:xfrm>
              <a:off x="4564080" y="262980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990240" y="1489320"/>
              <a:ext cx="114732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гнитивный компонен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8"/>
            <p:cNvSpPr/>
            <p:nvPr/>
          </p:nvSpPr>
          <p:spPr>
            <a:xfrm>
              <a:off x="3416400" y="2445480"/>
              <a:ext cx="1003680" cy="63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Эмоциональный компонен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9"/>
            <p:cNvSpPr/>
            <p:nvPr/>
          </p:nvSpPr>
          <p:spPr>
            <a:xfrm>
              <a:off x="3559680" y="1673280"/>
              <a:ext cx="1004040" cy="9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0"/>
            <p:cNvSpPr/>
            <p:nvPr/>
          </p:nvSpPr>
          <p:spPr>
            <a:xfrm>
              <a:off x="4707360" y="2445480"/>
              <a:ext cx="1004040" cy="63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веденче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мпонен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1"/>
            <p:cNvSpPr/>
            <p:nvPr/>
          </p:nvSpPr>
          <p:spPr>
            <a:xfrm flipV="1">
              <a:off x="4564080" y="1673280"/>
              <a:ext cx="1003680" cy="9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WordArt 52"/>
            <p:cNvSpPr txBox="1"/>
            <p:nvPr/>
          </p:nvSpPr>
          <p:spPr>
            <a:xfrm rot="16764600">
              <a:off x="3396960" y="1644120"/>
              <a:ext cx="2292120" cy="2032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Circle">
                <a:avLst>
                  <a:gd name="adj" fmla="val 1083368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Уровень развития и индивидуальные особенности осознанной саморегуляции учебной деятельности  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                                                               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79280" y="33336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исследовательских данных был разработан комплекс диагностических показателей развития индивидуальной саморегуляции и личностных особенностей, позволяющий оценить уровень индивидуальной готовности к выпускным испыт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3213000"/>
            <a:ext cx="297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лект состоит из трех психологических методик и двух опросников компетентности (для учащегося и педаго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я поведения 4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OJEXGP"/>
          <p:cNvPicPr/>
          <p:nvPr/>
        </p:nvPicPr>
        <p:blipFill>
          <a:blip r:embed="rId2"/>
          <a:stretch/>
        </p:blipFill>
        <p:spPr>
          <a:xfrm>
            <a:off x="1042920" y="1700280"/>
            <a:ext cx="1149480" cy="14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Object 15"/>
          <p:cNvGraphicFramePr/>
          <p:nvPr/>
        </p:nvGraphicFramePr>
        <p:xfrm>
          <a:off x="3357720" y="2143080"/>
          <a:ext cx="5572080" cy="389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2143080"/>
                    <a:ext cx="557208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4"/>
          <p:cNvSpPr/>
          <p:nvPr/>
        </p:nvSpPr>
        <p:spPr>
          <a:xfrm>
            <a:off x="5435640" y="3789360"/>
            <a:ext cx="13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затели       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грамма психологической подготовки учащихся в ЕГ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7640" y="1355760"/>
            <a:ext cx="5977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Задачи программ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формирование умений самостоятельно ставить перед собой цели и определять пути их достиж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звитие самостоятельности учащихся в подготовке к экзамен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дупредить регулярно встречающиеся ошибки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формировать навыки сдачи экзаменов в тестовой форм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пособствовать осмыслению и освоению теоретического материала на более высоком уровне, пониманию его внутренней системы и логи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F:\ЛИЦЕЙ 2009\обложка111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324000" y="1341360"/>
            <a:ext cx="1877760" cy="265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6" name="Picture 5" descr="F:\ЛИЦЕЙ 2009\обложка222.jpg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900000" y="3429000"/>
            <a:ext cx="1925640" cy="272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82692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cc00"/>
                </a:solidFill>
                <a:latin typeface="Calibri"/>
              </a:rPr>
              <a:t>Программа психологической подготовки учащихся в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УЛИ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4000" y="5805360"/>
            <a:ext cx="216036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ны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692360" y="4797360"/>
            <a:ext cx="287964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 «Постановка це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059280" y="3789360"/>
            <a:ext cx="338436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 «Внимание. Памя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140360" y="2708280"/>
            <a:ext cx="453528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 «Эмоциональная саморегуля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6877080" y="1700280"/>
            <a:ext cx="2160720" cy="105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оговы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899640" y="1989000"/>
            <a:ext cx="863640" cy="3745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908000" y="2060640"/>
            <a:ext cx="216000" cy="2663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124000" y="2060640"/>
            <a:ext cx="1152720" cy="1655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411280" y="2060640"/>
            <a:ext cx="2160720" cy="647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00360" y="1989000"/>
            <a:ext cx="4103640" cy="36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-72396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196360" y="332280"/>
            <a:ext cx="55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одержанием программы яв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95280" y="972000"/>
            <a:ext cx="77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умений самостоятельно ставить перед собой цел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еля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ути их дости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130200" y="580428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тие внимания и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5800" y="314064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тие самостоятельности учащихся в подготовке к экзаме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276720" y="3932640"/>
            <a:ext cx="546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навыков сдачи экзаменов в тестовой фор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276720" y="4867920"/>
            <a:ext cx="529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упреждение регулярно встречающихся ошиб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95280" y="19879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собствование осмыслению и освоению теоретического материала на более высоком уровне, основанном на понимании его внутренней системы и лог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img_4391-5"/>
          <p:cNvPicPr/>
          <p:nvPr/>
        </p:nvPicPr>
        <p:blipFill>
          <a:blip r:embed="rId2"/>
          <a:srcRect l="7176" t="20798" r="6667" b="9209"/>
          <a:stretch/>
        </p:blipFill>
        <p:spPr>
          <a:xfrm>
            <a:off x="250920" y="3716280"/>
            <a:ext cx="2762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50920" y="184464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2060640"/>
            <a:ext cx="2303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1"/>
                </a:solidFill>
                <a:latin typeface="Arial"/>
              </a:rPr>
              <a:t>Диагностика,  позволяющая оценить уровень индивидуальной готовности учащихся к сдаче экзаменов в форме ЕГЭ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47640" y="333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МОДЕЛЬ ПСИХОЛОГИЧЕСКОЙ ПОДГОТОВКИ УЧАЩИХСЯ К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3348000" y="981000"/>
            <a:ext cx="2448000" cy="23767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0364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Индивидуальная работа с 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1692360" y="436572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6443640" y="191628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4932360" y="429264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835280" y="501336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1"/>
                </a:solidFill>
                <a:latin typeface="Arial"/>
              </a:rPr>
              <a:t>Работа с педагогическим коллекти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300720" y="2637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Групповая работа с 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050920" y="4076640"/>
            <a:ext cx="433440" cy="36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 flipV="1">
            <a:off x="2484360" y="2060640"/>
            <a:ext cx="863640" cy="288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627280" y="3429000"/>
            <a:ext cx="3889440" cy="71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56000" y="3645000"/>
            <a:ext cx="2592360" cy="1152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3924000" y="3645000"/>
            <a:ext cx="2663640" cy="115236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3419640" y="2997000"/>
            <a:ext cx="215640" cy="143964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5796000" y="1989000"/>
            <a:ext cx="936720" cy="36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5003640" y="50133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1"/>
                </a:solidFill>
                <a:latin typeface="Arial"/>
              </a:rPr>
              <a:t>Работа с родителями выпуск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4140360" y="566100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17:12Z</dcterms:created>
  <dc:creator>Алена</dc:creator>
  <dc:description/>
  <dc:language>en-US</dc:language>
  <cp:lastModifiedBy>u</cp:lastModifiedBy>
  <dcterms:modified xsi:type="dcterms:W3CDTF">2013-03-10T14:12:49Z</dcterms:modified>
  <cp:revision>46</cp:revision>
  <dc:subject/>
  <dc:title>Психологическая подготовка к ЕГЭ</dc:title>
</cp:coreProperties>
</file>