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AA6-B0C4-4E55-8627-8757F1FA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EC0-57AC-4673-890B-8DD58098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E49-5555-45E7-B4CD-5FB4E85B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1FE-EEC6-4335-A43A-A158E6F5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24AB-6C0F-4957-9F7E-2EC54B51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34B7-57BB-453E-B2BD-B87DFB9D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DA59-FEFA-4320-B35F-0BD8F0A8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2F1E-A8B4-4130-831F-65FAF71E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779B-D9BC-497B-9BCD-994B9620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37FF-CCE3-43EB-827F-465F72FD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241E-4489-4723-866A-E04A1DFE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B51-8890-4BEE-B8EA-939D8B3B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8A17-694B-4B69-AA66-384C0BFB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FE61-6A63-415B-A31C-4B3750C9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CE28-3608-40BF-B78E-1F60CF8A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948D-7271-45DD-8AD9-8489EEFC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75E9-202A-4B11-8C7C-A02DC678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EF18A-DDCB-47B6-9B37-42326E16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C1310-BE53-403F-8550-EDE81A8E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4C7EC-E025-4643-918D-DCDC024D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CAC9-CD60-46BA-A1A2-C6ACE5B5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E415-6B60-406F-A623-B072F47D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488-1B1E-424B-BC7A-AB15A2D6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F9D51-E7D1-465D-B9FA-D6E42949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B4EA-DB67-4AB9-9BB8-67476158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8947-B3ED-4D91-A8A3-6FA6F19D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A3BA3-E36E-4D30-8357-20DB1612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9D628-D74E-4FD9-821D-E4572D07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9D1E4-7265-4D64-9812-D5551EFC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7A03-BDB0-4855-8608-E5650496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2194C-B28C-4CBB-A552-5309786B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D6C2-FE8E-4805-B93B-08DD2FAF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402B9-9178-484C-BA2D-B14565EB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4AC-CCC9-4880-8C2B-8384F68A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7D28E-1744-4996-B7B3-3B1FAE0A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83E4F-2C90-4197-9C7A-7F7B0F16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C4AEE-6219-4C03-9ECB-B66FF81F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DDE7C-2614-4646-A5D0-131AB179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A05BE-2A0B-482E-9A68-79AFB95B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BEA0D-8CCB-47F6-BBC7-1DF1783F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3C855-9BB4-4C53-98B2-204FC7A2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666A6-E3F0-488F-8243-E1BDE6D4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55E87-A23F-46EC-9BF8-EF6FA82E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AD7-6128-462D-A4F7-C9A6E0BE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E22-DFDB-4A1F-A401-D074ED3A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153-E181-46EE-BF8C-69D4CD9A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C6D-A94E-4AAA-B622-42887F1C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C34-4FC3-4276-B63C-A5E7818A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557C-28A7-472F-8F86-5245227E3B5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BD20-108C-4FA1-B446-167F1B24436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A3DA-3B88-4041-8DF4-E3840FCE178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DB03-851E-4018-A214-60B7A342B90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852720" y="853920"/>
            <a:ext cx="4730760" cy="1797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57680"/>
            <a:ext cx="7854840" cy="2124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«Развитие творческих способностей детей старшего дошкольного возраста средствами театрализованной деятельности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Для  развития творческих способностей детей  при работе над ролью 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  проводим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этюд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nstantia"/>
              </a:rPr>
              <a:t>имитируем  образы  животных, людей, литературных персонаже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ставим спектакли по одному или нескольким произвед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C:\Documents and Settings\UserXP\Рабочий стол\Новая папка\IMGA0352.jpg"/>
          <p:cNvPicPr/>
          <p:nvPr/>
        </p:nvPicPr>
        <p:blipFill>
          <a:blip r:embed="rId1"/>
          <a:stretch/>
        </p:blipFill>
        <p:spPr>
          <a:xfrm>
            <a:off x="500040" y="2571840"/>
            <a:ext cx="4000680" cy="3214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Documents and Settings\UserXP\Рабочий стол\Новая папка\SAM_0042.JPG"/>
          <p:cNvPicPr/>
          <p:nvPr/>
        </p:nvPicPr>
        <p:blipFill>
          <a:blip r:embed="rId2"/>
          <a:stretch/>
        </p:blipFill>
        <p:spPr>
          <a:xfrm>
            <a:off x="4645080" y="2571840"/>
            <a:ext cx="40417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nstantia"/>
              </a:rPr>
              <a:t>импровизируем,    разыгрывая  сюжет без предварительной подготовк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проговариваем ролевые диалоги на основе текс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714240" y="2514600"/>
            <a:ext cx="3429000" cy="3846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42814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 процессе работы над ролью  с детьми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ставляем  словесный  портрет геро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антазируем  по поводу его дома, взаимоотношений с родителями, друзьями, придумываем  его любимые  блюда, занятия,  игр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чиняем  различные случаи из жизни героя, не предусмотренные инсценировко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ализируем  придуманные  поступк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ботаем  над сценической выразительностью:  определяем целесообразные действия, движения, жесты  персонажа, мимику,  интонацию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думываем  театральный  костю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 работе по развитию творческих способностей  придерживаемся  правил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вило индивидуальности- дети действуют от имени героя  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вило всеобщего участия -в драматизации участвуют все дети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вило помогающих вопросов - обсуждаем, «проговариваем» каждую роль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вило обратной связи -проводим  ее обсуждение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трибутика к драматизациям - помогает детям погрузиться в сказочный мир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вило мудрого руководителя - соблюдение и сопровождение педагогом всех перечисленных прави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 занятия по театрализованной деятельности включаем: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nstantia"/>
              </a:rPr>
              <a:t>просмотр кукольных спектаклей и беседы по ним, игры-драматиза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упражнения по дик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C:\Documents and Settings\UserXP\Рабочий стол\Новая папка\SAM_2375.JPG"/>
          <p:cNvPicPr/>
          <p:nvPr/>
        </p:nvPicPr>
        <p:blipFill>
          <a:blip r:embed="rId1"/>
          <a:stretch/>
        </p:blipFill>
        <p:spPr>
          <a:xfrm>
            <a:off x="457200" y="2643120"/>
            <a:ext cx="4040280" cy="3643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Documents and Settings\Admin\Рабочий стол\игрушки\SDC12448.JPG"/>
          <p:cNvPicPr/>
          <p:nvPr/>
        </p:nvPicPr>
        <p:blipFill>
          <a:blip r:embed="rId2"/>
          <a:stretch/>
        </p:blipFill>
        <p:spPr>
          <a:xfrm>
            <a:off x="5235480" y="2643120"/>
            <a:ext cx="3337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835280" y="475920"/>
            <a:ext cx="4465440" cy="115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onstantia"/>
              </a:rPr>
              <a:t>игры-превращения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4681800" cy="3917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nstantia"/>
              </a:rPr>
              <a:t>упражнения на развитие выразительной мимики, элементы искусства пантомимы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1700" spc="-1" strike="noStrike">
                <a:solidFill>
                  <a:srgbClr val="04617b"/>
                </a:solidFill>
                <a:latin typeface="Constantia"/>
              </a:rPr>
              <a:t>репетиции и разыгрывание разнообразных сказок и инсценировок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9" descr="C:\Documents and Settings\Admin\Рабочий стол\игрушки\SDC13186.JPG"/>
          <p:cNvPicPr/>
          <p:nvPr/>
        </p:nvPicPr>
        <p:blipFill>
          <a:blip r:embed="rId1"/>
          <a:stretch/>
        </p:blipFill>
        <p:spPr>
          <a:xfrm>
            <a:off x="642960" y="2714760"/>
            <a:ext cx="3216240" cy="3286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Documents and Settings\UserXP\Рабочий стол\Новая папка\IMGA0341.jpg"/>
          <p:cNvPicPr/>
          <p:nvPr/>
        </p:nvPicPr>
        <p:blipFill>
          <a:blip r:embed="rId2"/>
          <a:stretch/>
        </p:blipFill>
        <p:spPr>
          <a:xfrm>
            <a:off x="4761000" y="285768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Для поддержания интереса к  театральному творчеству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уголок ряжень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костюмер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4" descr="F:\SAM_2403.JPG"/>
          <p:cNvPicPr/>
          <p:nvPr/>
        </p:nvPicPr>
        <p:blipFill>
          <a:blip r:embed="rId1"/>
          <a:stretch/>
        </p:blipFill>
        <p:spPr>
          <a:xfrm>
            <a:off x="528480" y="2643120"/>
            <a:ext cx="3895920" cy="3222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2"/>
          <a:stretch/>
        </p:blipFill>
        <p:spPr>
          <a:xfrm>
            <a:off x="4478400" y="2637000"/>
            <a:ext cx="4278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личные  виды театра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3" descr="F:\SAM_2399.JPG"/>
          <p:cNvPicPr/>
          <p:nvPr/>
        </p:nvPicPr>
        <p:blipFill>
          <a:blip r:embed="rId1"/>
          <a:stretch/>
        </p:blipFill>
        <p:spPr>
          <a:xfrm>
            <a:off x="428760" y="2071800"/>
            <a:ext cx="3929040" cy="4041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F:\SAM_2401.JPG"/>
          <p:cNvPicPr/>
          <p:nvPr/>
        </p:nvPicPr>
        <p:blipFill>
          <a:blip r:embed="rId2"/>
          <a:stretch/>
        </p:blipFill>
        <p:spPr>
          <a:xfrm>
            <a:off x="4645080" y="2071800"/>
            <a:ext cx="4041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Творческие способности- существенная часть интеллекта современного человек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79" name="Picture 11" descr="C:\Documents and Settings\UserXP\Рабочий стол\трубарочка\SDC10989.JPG"/>
          <p:cNvPicPr/>
          <p:nvPr/>
        </p:nvPicPr>
        <p:blipFill>
          <a:blip r:embed="rId1"/>
          <a:stretch/>
        </p:blipFill>
        <p:spPr>
          <a:xfrm>
            <a:off x="571680" y="1916280"/>
            <a:ext cx="7313400" cy="4608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«Самое интересное в этом мире – творческая всесторонне развитая личность»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00" name="Picture 2" descr="C:\Documents and Settings\UserXP\Рабочий стол\материалы для сайта\Дети\IMGA0403.jpg"/>
          <p:cNvPicPr/>
          <p:nvPr/>
        </p:nvPicPr>
        <p:blipFill>
          <a:blip r:embed="rId1"/>
          <a:stretch/>
        </p:blipFill>
        <p:spPr>
          <a:xfrm>
            <a:off x="642960" y="1982880"/>
            <a:ext cx="7529400" cy="4398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Picture 6" descr="C:\Documents and Settings\Admin\Рабочий стол\игрушки\SDC13173.JPG"/>
          <p:cNvPicPr/>
          <p:nvPr/>
        </p:nvPicPr>
        <p:blipFill>
          <a:blip r:embed="rId1"/>
          <a:stretch/>
        </p:blipFill>
        <p:spPr>
          <a:xfrm>
            <a:off x="714240" y="2214720"/>
            <a:ext cx="3571920" cy="3786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C:\Documents and Settings\Admin\Рабочий стол\игрушки\SDC12452.JPG"/>
          <p:cNvPicPr/>
          <p:nvPr/>
        </p:nvPicPr>
        <p:blipFill>
          <a:blip r:embed="rId2"/>
          <a:stretch/>
        </p:blipFill>
        <p:spPr>
          <a:xfrm>
            <a:off x="4857840" y="2286000"/>
            <a:ext cx="35002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3" descr="C:\Documents and Settings\UserXP\Рабочий стол\Новая папка\SAM_0057.JPG"/>
          <p:cNvPicPr/>
          <p:nvPr/>
        </p:nvPicPr>
        <p:blipFill>
          <a:blip r:embed="rId1"/>
          <a:stretch/>
        </p:blipFill>
        <p:spPr>
          <a:xfrm>
            <a:off x="468360" y="133200"/>
            <a:ext cx="8318520" cy="6320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Picture 2" descr="C:\Documents and Settings\UserXP\Рабочий стол\материалы для сайта\Ото\SDC10543.JPG"/>
          <p:cNvPicPr/>
          <p:nvPr/>
        </p:nvPicPr>
        <p:blipFill>
          <a:blip r:embed="rId1"/>
          <a:stretch/>
        </p:blipFill>
        <p:spPr>
          <a:xfrm>
            <a:off x="357120" y="260280"/>
            <a:ext cx="8462880" cy="5883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br>
              <a:rPr sz="4300"/>
            </a:b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420840" y="1125360"/>
            <a:ext cx="82548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Театрализованная деятельность - синтез музыки, танца, живописи, риторики, актерского мастерств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05" name="Picture 2" descr="C:\Documents and Settings\UserXP\Рабочий стол\материалы для сайта\Дети\IMGA0053.jpg"/>
          <p:cNvPicPr/>
          <p:nvPr/>
        </p:nvPicPr>
        <p:blipFill>
          <a:blip r:embed="rId1"/>
          <a:stretch/>
        </p:blipFill>
        <p:spPr>
          <a:xfrm>
            <a:off x="2411280" y="2276640"/>
            <a:ext cx="3816360" cy="3855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Театрализованная деятельность –источник развития чувств, глубоких переживаний ребенка, т.е развивает эмоциональную сферу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1467000" y="1989000"/>
            <a:ext cx="5945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571680" y="2571840"/>
            <a:ext cx="3214440" cy="1714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 творчество продуктивное (сочинение собственных сюжетов или творческая интерпретация заданного сюже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3286080" y="4643280"/>
            <a:ext cx="3214800" cy="928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формительское (декорации, костюмы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5429160" y="2857680"/>
            <a:ext cx="3214800" cy="1214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сполнительское (речевое, двигательное) – 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актерские способ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7"/>
          <p:cNvSpPr/>
          <p:nvPr/>
        </p:nvSpPr>
        <p:spPr>
          <a:xfrm>
            <a:off x="928800" y="714240"/>
            <a:ext cx="7358040" cy="857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орчество детей в 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театрально-игров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развиваем в трех направле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низ 8"/>
          <p:cNvSpPr/>
          <p:nvPr/>
        </p:nvSpPr>
        <p:spPr>
          <a:xfrm rot="2928600">
            <a:off x="2730600" y="1418760"/>
            <a:ext cx="412560" cy="130824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низ 9"/>
          <p:cNvSpPr/>
          <p:nvPr/>
        </p:nvSpPr>
        <p:spPr>
          <a:xfrm flipV="1" rot="10800000">
            <a:off x="4285800" y="1643040"/>
            <a:ext cx="412920" cy="292896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низ 10"/>
          <p:cNvSpPr/>
          <p:nvPr/>
        </p:nvSpPr>
        <p:spPr>
          <a:xfrm rot="18869400">
            <a:off x="6656760" y="1405440"/>
            <a:ext cx="414360" cy="161604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1571760" y="714240"/>
            <a:ext cx="6000480" cy="857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истему работы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по развитию творческих способностей   делим  на 3 эта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1714680" y="4857840"/>
            <a:ext cx="6000480" cy="8571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амостоятельная творческ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5"/>
          <p:cNvSpPr/>
          <p:nvPr/>
        </p:nvSpPr>
        <p:spPr>
          <a:xfrm>
            <a:off x="1714680" y="3357720"/>
            <a:ext cx="6000480" cy="10713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своение специальных умений для становления основных («актер», «режиссер») и дополнительных позиций («сценарист», «оформитель», «костюмер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1643040" y="2214720"/>
            <a:ext cx="6000840" cy="8571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художественное восприятие литературных и фольклорных произве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 занятия по театрализованной деятельности включаем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смотр кукольных спектаклей и беседы по ним, игры-драматиз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пражнения по дик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дания для развития речевой интонационной вырази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гры-превращения («учим владеть своим телом»), образные упражн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пражнения на развитие детской пласти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пражнения на развитие выразительной мимики, элементы искусства пантомимы;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еатральные этюды;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дельные упражнения по этике во время драматизац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петиции и разыгрывание разнообразных сказок и инсценировок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 процессе реализации комплекса занятий по театрализованной деятельности решаются следующие задачи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тие творческих способностей и творческой самостоятельности  дошкольни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ание интереса к различным видам творческой деятель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владение импровизационными умениями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 своей работе  используем  несколько видов игр-драматизаций с детьми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2" descr="C:\Documents and Settings\UserXP\Рабочий стол\Новая папка\SAM_1244.JPG"/>
          <p:cNvPicPr/>
          <p:nvPr/>
        </p:nvPicPr>
        <p:blipFill>
          <a:blip r:embed="rId1"/>
          <a:stretch/>
        </p:blipFill>
        <p:spPr>
          <a:xfrm>
            <a:off x="1000080" y="2500200"/>
            <a:ext cx="2714760" cy="164304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137880" y="200016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гры-драматизации с пальч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2540160" cy="19051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8"/>
          <p:cNvSpPr/>
          <p:nvPr/>
        </p:nvSpPr>
        <p:spPr>
          <a:xfrm>
            <a:off x="1908000" y="5157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мпровиз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3T11:46:12Z</dcterms:modified>
  <cp:revision>63</cp:revision>
  <dc:subject/>
  <dc:title>Театр - это волшебный край, в котором ребенок радуется, играя, а в игре он познает мир! С. И. Мерзлякова  </dc:title>
</cp:coreProperties>
</file>