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6.png" ContentType="image/png"/>
  <Override PartName="/ppt/media/image7.jpeg" ContentType="image/jpeg"/>
  <Override PartName="/ppt/media/image28.jpeg" ContentType="image/jpeg"/>
  <Override PartName="/ppt/media/image12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24.jpeg" ContentType="image/jpeg"/>
  <Override PartName="/ppt/media/image3.png" ContentType="image/pn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image21.jpeg" ContentType="image/jpeg"/>
  <Override PartName="/ppt/media/image23.jpeg" ContentType="image/jpeg"/>
  <Override PartName="/ppt/media/image26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00592-2F15-423A-BD96-24F72BEF4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4EDB6-13AA-4448-BDB6-FE48F1305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A05C2-AC98-4EF4-9BBE-31974E754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DC51B-8588-4A19-A326-68E8D4D48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E9252-57E2-44BE-9614-FB5567D9B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34BC2-132D-4521-AC96-8AF3A88A4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8E862-3802-46F3-9208-EFE5CC8FA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01D2F-FCD1-4E2B-9F29-A99881DE1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0EA5D-1B04-4189-B642-34A0FA420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F49C2-5CD4-40B2-A9B0-7F3D88785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7876E-CA82-4F0A-9C94-E241A2B1D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9AF81-4881-4249-81A0-8BD8A5284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DFE01-CFCE-4488-BCDB-CAFE8DD51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A5A6F-59DD-457D-829C-D32AE36CB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59DB9-D521-4F40-AE1E-2B5334968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47C2C-75EA-4714-9935-75242B3B4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2C8C3-CF6A-409F-9783-F8020741C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90D801-14B4-4C3E-B597-94D185E2A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19913E-3065-4286-B417-A3244A177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5EC347-FBB7-430D-9938-29BFDD9B1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F8FE96-FE07-465E-8F24-E4EBAC692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6884FF-BEE0-46F2-9572-0D883D471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7508B-3674-463F-B51C-48E97E3F6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282EE8-2F8E-43C3-B34C-AEFD526B5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2A0C72-CA2E-4115-9886-87E4B2F91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04E2A5-2617-45CE-82F0-8DA65973D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03F3EC-068D-43CC-880A-90B57DD76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5960E1-2759-4093-ACF1-15A7E9B71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9814DA-5292-4CD6-A765-5A875D28E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7D5503-3D47-4873-B778-66FF35380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325277-701C-4880-8322-06E7C91CF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B51052-D955-407B-BE2D-A2329104B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06D6E8-EAA7-40FA-8652-8428DCA79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BCF8A-0352-451B-9395-53A82FAA3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5E16B9-EBDC-4DE2-AF8E-59192AB90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0A3E06-0D05-4920-B73E-02DC19E2B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D11916-3833-4B86-B47D-101324F84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D0820A-8F39-4C60-A9A6-20624B9E7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1BB37B-39F3-4393-B01B-7032E359D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F7198C-6BC7-45C8-B7AD-6BBB8AF52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4090FF-A36C-4DA5-A055-35FFB400A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6B1CFB-C520-45DD-8D78-667C537CC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429771-0430-4B3B-A93C-B960A6EE4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7D3FC-9BD1-4EC1-AE24-FF2C7FE1E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4DA96-F6EA-40A6-A54D-5FAAB36F3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7E879-544D-4510-930F-63074CBE7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677FC-58E0-45B3-B0F8-E04AE35C8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3D2C2-4474-4728-A61C-A1905C506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8A1AB-C8F8-40BB-AD96-D8B682156B4F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76DAF-46F3-4ADB-BA0D-7FA943B37117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190BA-D3DC-411A-9999-70931792A538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8C047-9CC4-403C-8A33-2E4F079EBCB5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1"/>
          <a:stretch/>
        </p:blipFill>
        <p:spPr>
          <a:xfrm>
            <a:off x="3852720" y="853920"/>
            <a:ext cx="4730760" cy="179712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2857680"/>
            <a:ext cx="7854840" cy="212400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«Развитие творческих способностей детей старшего дошкольного возраста средствами театрализованной деятельности»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4617b"/>
                </a:solidFill>
                <a:latin typeface="Calibri"/>
              </a:rPr>
              <a:t>Для  развития творческих способностей детей  при работе над ролью </a:t>
            </a:r>
            <a:r>
              <a:rPr b="0" i="1" lang="ru-RU" sz="2800" spc="-1" strike="noStrike">
                <a:solidFill>
                  <a:srgbClr val="04617b"/>
                </a:solidFill>
                <a:latin typeface="Calibri"/>
              </a:rPr>
              <a:t>  проводим</a:t>
            </a:r>
            <a:r>
              <a:rPr b="0" lang="ru-RU" sz="2800" spc="-1" strike="noStrike">
                <a:solidFill>
                  <a:srgbClr val="04617b"/>
                </a:solidFill>
                <a:latin typeface="Calibri"/>
              </a:rPr>
              <a:t> этюды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855800"/>
            <a:ext cx="4040280" cy="65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4617b"/>
                </a:solidFill>
                <a:latin typeface="Constantia"/>
              </a:rPr>
              <a:t>имитируем  образы  животных, людей, литературных персонажей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44720" y="1860120"/>
            <a:ext cx="4041720" cy="654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4617b"/>
                </a:solidFill>
                <a:latin typeface="Constantia"/>
              </a:rPr>
              <a:t>ставим спектакли по одному или нескольким произведения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9" name="Picture 2" descr="C:\Documents and Settings\UserXP\Рабочий стол\Новая папка\IMGA0352.jpg"/>
          <p:cNvPicPr/>
          <p:nvPr/>
        </p:nvPicPr>
        <p:blipFill>
          <a:blip r:embed="rId1"/>
          <a:stretch/>
        </p:blipFill>
        <p:spPr>
          <a:xfrm>
            <a:off x="500040" y="2571840"/>
            <a:ext cx="4000680" cy="321444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3" descr="C:\Documents and Settings\UserXP\Рабочий стол\Новая папка\SAM_0042.JPG"/>
          <p:cNvPicPr/>
          <p:nvPr/>
        </p:nvPicPr>
        <p:blipFill>
          <a:blip r:embed="rId2"/>
          <a:stretch/>
        </p:blipFill>
        <p:spPr>
          <a:xfrm>
            <a:off x="4645080" y="2571840"/>
            <a:ext cx="4041720" cy="32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6840" y="1855800"/>
            <a:ext cx="4040280" cy="65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 fontScale="92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4617b"/>
                </a:solidFill>
                <a:latin typeface="Constantia"/>
              </a:rPr>
              <a:t>импровизируем,    разыгрывая  сюжет без предварительной подготовки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44720" y="1860120"/>
            <a:ext cx="4041720" cy="654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4617b"/>
                </a:solidFill>
                <a:latin typeface="Constantia"/>
              </a:rPr>
              <a:t>проговариваем ролевые диалоги на основе текста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4" name="Picture 2" descr=""/>
          <p:cNvPicPr/>
          <p:nvPr/>
        </p:nvPicPr>
        <p:blipFill>
          <a:blip r:embed="rId1"/>
          <a:stretch/>
        </p:blipFill>
        <p:spPr>
          <a:xfrm>
            <a:off x="714240" y="2514600"/>
            <a:ext cx="3429000" cy="384660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7" descr=""/>
          <p:cNvPicPr/>
          <p:nvPr/>
        </p:nvPicPr>
        <p:blipFill>
          <a:blip r:embed="rId2"/>
          <a:stretch/>
        </p:blipFill>
        <p:spPr>
          <a:xfrm>
            <a:off x="4572000" y="2438280"/>
            <a:ext cx="4281480" cy="408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4617b"/>
                </a:solidFill>
                <a:latin typeface="Calibri"/>
              </a:rPr>
              <a:t>В процессе работы над ролью  с детьми:</a:t>
            </a:r>
            <a:br>
              <a:rPr sz="3200"/>
            </a:b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 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составляем  словесный  портрет героя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фантазируем  по поводу его дома, взаимоотношений с родителями, друзьями, придумываем  его любимые  блюда, занятия,  игры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сочиняем  различные случаи из жизни героя, не предусмотренные инсценировкой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анализируем  придуманные  поступки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работаем  над сценической выразительностью:  определяем целесообразные действия, движения, жесты  персонажа, мимику,  интонацию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продумываем  театральный  костюм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4617b"/>
                </a:solidFill>
                <a:latin typeface="Calibri"/>
              </a:rPr>
              <a:t>В работе по развитию творческих способностей  придерживаемся  правил:</a:t>
            </a:r>
            <a:br>
              <a:rPr sz="3200"/>
            </a:b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Правило индивидуальности- дети действуют от имени героя  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Правило всеобщего участия -в драматизации участвуют все дети. 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Правило помогающих вопросов - обсуждаем, «проговариваем» каждую роль.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Правило обратной связи -проводим  ее обсуждение. 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Атрибутика к драматизациям - помогает детям погрузиться в сказочный мир. 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Правило мудрого руководителя - соблюдение и сопровождение педагогом всех перечисленных правил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239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4617b"/>
                </a:solidFill>
                <a:latin typeface="Calibri"/>
              </a:rPr>
              <a:t>В занятия по театрализованной деятельности включаем:</a:t>
            </a:r>
            <a:br>
              <a:rPr sz="2800"/>
            </a:br>
            <a:r>
              <a:rPr b="1" lang="ru-RU" sz="2800" spc="-1" strike="noStrike">
                <a:solidFill>
                  <a:srgbClr val="04617b"/>
                </a:solidFill>
                <a:latin typeface="Calibri"/>
              </a:rPr>
              <a:t> 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6840" y="1855800"/>
            <a:ext cx="4040280" cy="65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4617b"/>
                </a:solidFill>
                <a:latin typeface="Constantia"/>
              </a:rPr>
              <a:t>просмотр кукольных спектаклей и беседы по ним, игры-драматизации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44720" y="1860120"/>
            <a:ext cx="4041720" cy="654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4617b"/>
                </a:solidFill>
                <a:latin typeface="Constantia"/>
              </a:rPr>
              <a:t>упражнения по дикции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3" name="Picture 2" descr="C:\Documents and Settings\UserXP\Рабочий стол\Новая папка\SAM_2375.JPG"/>
          <p:cNvPicPr/>
          <p:nvPr/>
        </p:nvPicPr>
        <p:blipFill>
          <a:blip r:embed="rId1"/>
          <a:stretch/>
        </p:blipFill>
        <p:spPr>
          <a:xfrm>
            <a:off x="457200" y="2643120"/>
            <a:ext cx="4040280" cy="364356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6" descr="C:\Documents and Settings\Admin\Рабочий стол\игрушки\SDC12448.JPG"/>
          <p:cNvPicPr/>
          <p:nvPr/>
        </p:nvPicPr>
        <p:blipFill>
          <a:blip r:embed="rId2"/>
          <a:stretch/>
        </p:blipFill>
        <p:spPr>
          <a:xfrm>
            <a:off x="5235480" y="2643120"/>
            <a:ext cx="3337200" cy="35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835280" y="475920"/>
            <a:ext cx="4465440" cy="1152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4617b"/>
                </a:solidFill>
                <a:latin typeface="Constantia"/>
              </a:rPr>
              <a:t>игры-превращения 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44720" y="1860120"/>
            <a:ext cx="404172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4617b"/>
              </a:solidFill>
              <a:latin typeface="Constantia"/>
            </a:endParaRPr>
          </a:p>
        </p:txBody>
      </p:sp>
      <p:pic>
        <p:nvPicPr>
          <p:cNvPr id="258" name="Picture 4" descr=""/>
          <p:cNvPicPr/>
          <p:nvPr/>
        </p:nvPicPr>
        <p:blipFill>
          <a:blip r:embed="rId1"/>
          <a:stretch/>
        </p:blipFill>
        <p:spPr>
          <a:xfrm>
            <a:off x="2050920" y="2133720"/>
            <a:ext cx="4681800" cy="391788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 txBox="1"/>
          <p:nvPr/>
        </p:nvSpPr>
        <p:spPr>
          <a:xfrm>
            <a:off x="4644720" y="2514240"/>
            <a:ext cx="4041720" cy="38466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6840" y="1855800"/>
            <a:ext cx="4040280" cy="65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 fontScale="90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4617b"/>
                </a:solidFill>
                <a:latin typeface="Constantia"/>
              </a:rPr>
              <a:t>упражнения на развитие выразительной мимики, элементы искусства пантомимы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44720" y="1860120"/>
            <a:ext cx="4041720" cy="654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4617b"/>
                </a:solidFill>
                <a:latin typeface="Constantia"/>
              </a:rPr>
              <a:t> </a:t>
            </a:r>
            <a:r>
              <a:rPr b="1" lang="ru-RU" sz="1700" spc="-1" strike="noStrike">
                <a:solidFill>
                  <a:srgbClr val="04617b"/>
                </a:solidFill>
                <a:latin typeface="Constantia"/>
              </a:rPr>
              <a:t>репетиции и разыгрывание разнообразных сказок и инсценировок  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3" name="Picture 9" descr="C:\Documents and Settings\Admin\Рабочий стол\игрушки\SDC13186.JPG"/>
          <p:cNvPicPr/>
          <p:nvPr/>
        </p:nvPicPr>
        <p:blipFill>
          <a:blip r:embed="rId1"/>
          <a:stretch/>
        </p:blipFill>
        <p:spPr>
          <a:xfrm>
            <a:off x="642960" y="2714760"/>
            <a:ext cx="3216240" cy="328608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2" descr="C:\Documents and Settings\UserXP\Рабочий стол\Новая папка\IMGA0341.jpg"/>
          <p:cNvPicPr/>
          <p:nvPr/>
        </p:nvPicPr>
        <p:blipFill>
          <a:blip r:embed="rId2"/>
          <a:stretch/>
        </p:blipFill>
        <p:spPr>
          <a:xfrm>
            <a:off x="4761000" y="2857680"/>
            <a:ext cx="380988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4617b"/>
                </a:solidFill>
                <a:latin typeface="Calibri"/>
              </a:rPr>
              <a:t>Для поддержания интереса к  театральному творчеству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6840" y="1855800"/>
            <a:ext cx="4040280" cy="65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4617b"/>
                </a:solidFill>
                <a:latin typeface="Constantia"/>
              </a:rPr>
              <a:t>уголок ряженья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44720" y="1860120"/>
            <a:ext cx="4041720" cy="654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4617b"/>
                </a:solidFill>
                <a:latin typeface="Constantia"/>
              </a:rPr>
              <a:t>костюмерная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8" name="Picture 4" descr="F:\SAM_2403.JPG"/>
          <p:cNvPicPr/>
          <p:nvPr/>
        </p:nvPicPr>
        <p:blipFill>
          <a:blip r:embed="rId1"/>
          <a:stretch/>
        </p:blipFill>
        <p:spPr>
          <a:xfrm>
            <a:off x="528480" y="2643120"/>
            <a:ext cx="3895920" cy="322272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7" descr=""/>
          <p:cNvPicPr/>
          <p:nvPr/>
        </p:nvPicPr>
        <p:blipFill>
          <a:blip r:embed="rId2"/>
          <a:stretch/>
        </p:blipFill>
        <p:spPr>
          <a:xfrm>
            <a:off x="4478400" y="2637000"/>
            <a:ext cx="427824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4617b"/>
                </a:solidFill>
                <a:latin typeface="Calibri"/>
              </a:rPr>
              <a:t>Различные  виды театра</a:t>
            </a:r>
            <a:br>
              <a:rPr sz="2800"/>
            </a:b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6840" y="1855800"/>
            <a:ext cx="40402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44720" y="1860120"/>
            <a:ext cx="404172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456840" y="2514240"/>
            <a:ext cx="4040280" cy="38466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74" name="Picture 3" descr="F:\SAM_2399.JPG"/>
          <p:cNvPicPr/>
          <p:nvPr/>
        </p:nvPicPr>
        <p:blipFill>
          <a:blip r:embed="rId1"/>
          <a:stretch/>
        </p:blipFill>
        <p:spPr>
          <a:xfrm>
            <a:off x="428760" y="2071800"/>
            <a:ext cx="3929040" cy="404172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2" descr="F:\SAM_2401.JPG"/>
          <p:cNvPicPr/>
          <p:nvPr/>
        </p:nvPicPr>
        <p:blipFill>
          <a:blip r:embed="rId2"/>
          <a:stretch/>
        </p:blipFill>
        <p:spPr>
          <a:xfrm>
            <a:off x="4645080" y="2071800"/>
            <a:ext cx="4041720" cy="40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4617b"/>
                </a:solidFill>
                <a:latin typeface="Calibri"/>
              </a:rPr>
              <a:t>Творческие способности- существенная часть интеллекта современного человека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855800"/>
            <a:ext cx="40402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44720" y="1860120"/>
            <a:ext cx="404172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4617b"/>
              </a:solidFill>
              <a:latin typeface="Constantia"/>
            </a:endParaRPr>
          </a:p>
        </p:txBody>
      </p:sp>
      <p:pic>
        <p:nvPicPr>
          <p:cNvPr id="279" name="Picture 11" descr="C:\Documents and Settings\UserXP\Рабочий стол\трубарочка\SDC10989.JPG"/>
          <p:cNvPicPr/>
          <p:nvPr/>
        </p:nvPicPr>
        <p:blipFill>
          <a:blip r:embed="rId1"/>
          <a:stretch/>
        </p:blipFill>
        <p:spPr>
          <a:xfrm>
            <a:off x="571680" y="1916280"/>
            <a:ext cx="7313400" cy="460836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 txBox="1"/>
          <p:nvPr/>
        </p:nvSpPr>
        <p:spPr>
          <a:xfrm>
            <a:off x="4644720" y="2514240"/>
            <a:ext cx="4041720" cy="38466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4617b"/>
                </a:solidFill>
                <a:latin typeface="Calibri"/>
              </a:rPr>
              <a:t>«Самое интересное в этом мире – творческая всесторонне развитая личность».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855800"/>
            <a:ext cx="40402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44720" y="1860120"/>
            <a:ext cx="404172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4617b"/>
              </a:solidFill>
              <a:latin typeface="Constantia"/>
            </a:endParaRPr>
          </a:p>
        </p:txBody>
      </p:sp>
      <p:pic>
        <p:nvPicPr>
          <p:cNvPr id="200" name="Picture 2" descr="C:\Documents and Settings\UserXP\Рабочий стол\материалы для сайта\Дети\IMGA0403.jpg"/>
          <p:cNvPicPr/>
          <p:nvPr/>
        </p:nvPicPr>
        <p:blipFill>
          <a:blip r:embed="rId1"/>
          <a:stretch/>
        </p:blipFill>
        <p:spPr>
          <a:xfrm>
            <a:off x="642960" y="1982880"/>
            <a:ext cx="7529400" cy="439884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 txBox="1"/>
          <p:nvPr/>
        </p:nvSpPr>
        <p:spPr>
          <a:xfrm>
            <a:off x="4644720" y="2514240"/>
            <a:ext cx="4041720" cy="38466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82" name="Picture 6" descr="C:\Documents and Settings\Admin\Рабочий стол\игрушки\SDC13173.JPG"/>
          <p:cNvPicPr/>
          <p:nvPr/>
        </p:nvPicPr>
        <p:blipFill>
          <a:blip r:embed="rId1"/>
          <a:stretch/>
        </p:blipFill>
        <p:spPr>
          <a:xfrm>
            <a:off x="714240" y="2214720"/>
            <a:ext cx="3571920" cy="378612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4" descr="C:\Documents and Settings\Admin\Рабочий стол\игрушки\SDC12452.JPG"/>
          <p:cNvPicPr/>
          <p:nvPr/>
        </p:nvPicPr>
        <p:blipFill>
          <a:blip r:embed="rId2"/>
          <a:stretch/>
        </p:blipFill>
        <p:spPr>
          <a:xfrm>
            <a:off x="4857840" y="2286000"/>
            <a:ext cx="3500280" cy="36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85" name="Picture 3" descr="C:\Documents and Settings\UserXP\Рабочий стол\Новая папка\SAM_0057.JPG"/>
          <p:cNvPicPr/>
          <p:nvPr/>
        </p:nvPicPr>
        <p:blipFill>
          <a:blip r:embed="rId1"/>
          <a:stretch/>
        </p:blipFill>
        <p:spPr>
          <a:xfrm>
            <a:off x="468360" y="133200"/>
            <a:ext cx="8318520" cy="6320160"/>
          </a:xfrm>
          <a:prstGeom prst="rect">
            <a:avLst/>
          </a:prstGeom>
          <a:ln w="0">
            <a:noFill/>
          </a:ln>
        </p:spPr>
      </p:pic>
      <p:sp>
        <p:nvSpPr>
          <p:cNvPr id="286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88" name="Picture 2" descr="C:\Documents and Settings\UserXP\Рабочий стол\материалы для сайта\Ото\SDC10543.JPG"/>
          <p:cNvPicPr/>
          <p:nvPr/>
        </p:nvPicPr>
        <p:blipFill>
          <a:blip r:embed="rId1"/>
          <a:stretch/>
        </p:blipFill>
        <p:spPr>
          <a:xfrm>
            <a:off x="357120" y="260280"/>
            <a:ext cx="8462880" cy="5883480"/>
          </a:xfrm>
          <a:prstGeom prst="rect">
            <a:avLst/>
          </a:prstGeom>
          <a:ln w="0">
            <a:noFill/>
          </a:ln>
        </p:spPr>
      </p:pic>
      <p:sp>
        <p:nvSpPr>
          <p:cNvPr id="289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000000"/>
                </a:solidFill>
                <a:latin typeface="Calibri"/>
              </a:rPr>
              <a:t>Спасибо за внимание!</a:t>
            </a:r>
            <a:br>
              <a:rPr sz="4300"/>
            </a:br>
            <a:endParaRPr b="0" lang="en-US" sz="43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91" name="Picture 4" descr=""/>
          <p:cNvPicPr/>
          <p:nvPr/>
        </p:nvPicPr>
        <p:blipFill>
          <a:blip r:embed="rId1"/>
          <a:stretch/>
        </p:blipFill>
        <p:spPr>
          <a:xfrm>
            <a:off x="420840" y="1125360"/>
            <a:ext cx="82548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4617b"/>
                </a:solidFill>
                <a:latin typeface="Calibri"/>
              </a:rPr>
              <a:t>Театрализованная деятельность - синтез музыки, танца, живописи, риторики, актерского мастерства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855800"/>
            <a:ext cx="40402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44720" y="1860120"/>
            <a:ext cx="404172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4617b"/>
              </a:solidFill>
              <a:latin typeface="Constantia"/>
            </a:endParaRPr>
          </a:p>
        </p:txBody>
      </p:sp>
      <p:pic>
        <p:nvPicPr>
          <p:cNvPr id="205" name="Picture 2" descr="C:\Documents and Settings\UserXP\Рабочий стол\материалы для сайта\Дети\IMGA0053.jpg"/>
          <p:cNvPicPr/>
          <p:nvPr/>
        </p:nvPicPr>
        <p:blipFill>
          <a:blip r:embed="rId1"/>
          <a:stretch/>
        </p:blipFill>
        <p:spPr>
          <a:xfrm>
            <a:off x="2411280" y="2276640"/>
            <a:ext cx="3816360" cy="385596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 txBox="1"/>
          <p:nvPr/>
        </p:nvSpPr>
        <p:spPr>
          <a:xfrm>
            <a:off x="4644720" y="2514240"/>
            <a:ext cx="4041720" cy="38466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4617b"/>
                </a:solidFill>
                <a:latin typeface="Calibri"/>
              </a:rPr>
              <a:t>Театрализованная деятельность –источник развития чувств, глубоких переживаний ребенка, т.е развивает эмоциональную сферу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855800"/>
            <a:ext cx="40402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44720" y="1860120"/>
            <a:ext cx="404172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644720" y="2514240"/>
            <a:ext cx="4041720" cy="38466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1" name="Picture 7" descr=""/>
          <p:cNvPicPr/>
          <p:nvPr/>
        </p:nvPicPr>
        <p:blipFill>
          <a:blip r:embed="rId1"/>
          <a:stretch/>
        </p:blipFill>
        <p:spPr>
          <a:xfrm>
            <a:off x="1467000" y="1989000"/>
            <a:ext cx="594504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28760" y="713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4617b"/>
                </a:solidFill>
                <a:latin typeface="Calibri"/>
              </a:rPr>
              <a:t>:</a:t>
            </a:r>
            <a:br>
              <a:rPr sz="2800"/>
            </a:b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00040" y="19285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4" name="Прямоугольник 4"/>
          <p:cNvSpPr/>
          <p:nvPr/>
        </p:nvSpPr>
        <p:spPr>
          <a:xfrm>
            <a:off x="571680" y="2571840"/>
            <a:ext cx="3214440" cy="171432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как творчество продуктивное (сочинение собственных сюжетов или творческая интерпретация заданного сюжета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Прямоугольник 5"/>
          <p:cNvSpPr/>
          <p:nvPr/>
        </p:nvSpPr>
        <p:spPr>
          <a:xfrm>
            <a:off x="3286080" y="4643280"/>
            <a:ext cx="3214800" cy="92880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оформительское (декорации, костюмы и т.д.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Прямоугольник 6"/>
          <p:cNvSpPr/>
          <p:nvPr/>
        </p:nvSpPr>
        <p:spPr>
          <a:xfrm>
            <a:off x="5429160" y="2857680"/>
            <a:ext cx="3214800" cy="121428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исполнительское (речевое, двигательное) – </a:t>
            </a:r>
            <a:r>
              <a:rPr b="1" lang="ru-RU" sz="1800" spc="-1" strike="noStrike">
                <a:solidFill>
                  <a:srgbClr val="ffffff"/>
                </a:solidFill>
                <a:latin typeface="Constantia"/>
              </a:rPr>
              <a:t>актерские способност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Прямоугольник 7"/>
          <p:cNvSpPr/>
          <p:nvPr/>
        </p:nvSpPr>
        <p:spPr>
          <a:xfrm>
            <a:off x="928800" y="714240"/>
            <a:ext cx="7358040" cy="85752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Творчество детей в </a:t>
            </a:r>
            <a:r>
              <a:rPr b="1" i="1" lang="ru-RU" sz="1800" spc="-1" strike="noStrike">
                <a:solidFill>
                  <a:srgbClr val="ffffff"/>
                </a:solidFill>
                <a:latin typeface="Constantia"/>
              </a:rPr>
              <a:t>театрально-игровой деятельности</a:t>
            </a: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 развиваем в трех направления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Стрелка вниз 8"/>
          <p:cNvSpPr/>
          <p:nvPr/>
        </p:nvSpPr>
        <p:spPr>
          <a:xfrm rot="2928600">
            <a:off x="2730600" y="1418760"/>
            <a:ext cx="412560" cy="1308240"/>
          </a:xfrm>
          <a:prstGeom prst="downArrow">
            <a:avLst>
              <a:gd name="adj1" fmla="val 50000"/>
              <a:gd name="adj2" fmla="val 50032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Стрелка вниз 9"/>
          <p:cNvSpPr/>
          <p:nvPr/>
        </p:nvSpPr>
        <p:spPr>
          <a:xfrm flipV="1" rot="10800000">
            <a:off x="4285800" y="1643040"/>
            <a:ext cx="412920" cy="2928960"/>
          </a:xfrm>
          <a:prstGeom prst="downArrow">
            <a:avLst>
              <a:gd name="adj1" fmla="val 50000"/>
              <a:gd name="adj2" fmla="val 49981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Стрелка вниз 10"/>
          <p:cNvSpPr/>
          <p:nvPr/>
        </p:nvSpPr>
        <p:spPr>
          <a:xfrm rot="18869400">
            <a:off x="6656760" y="1405440"/>
            <a:ext cx="414360" cy="1616040"/>
          </a:xfrm>
          <a:prstGeom prst="downArrow">
            <a:avLst>
              <a:gd name="adj1" fmla="val 50000"/>
              <a:gd name="adj2" fmla="val 49997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libri"/>
              </a:rPr>
              <a:t>:</a:t>
            </a:r>
            <a:br>
              <a:rPr sz="3200"/>
            </a:b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3" name="Прямоугольник 3"/>
          <p:cNvSpPr/>
          <p:nvPr/>
        </p:nvSpPr>
        <p:spPr>
          <a:xfrm>
            <a:off x="1571760" y="714240"/>
            <a:ext cx="6000480" cy="85752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onstantia"/>
              </a:rPr>
              <a:t>Систему работы</a:t>
            </a: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 по развитию творческих способностей   делим  на 3 этап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Прямоугольник 4"/>
          <p:cNvSpPr/>
          <p:nvPr/>
        </p:nvSpPr>
        <p:spPr>
          <a:xfrm>
            <a:off x="1714680" y="4857840"/>
            <a:ext cx="6000480" cy="85716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самостоятельная творческая деятельн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Прямоугольник 5"/>
          <p:cNvSpPr/>
          <p:nvPr/>
        </p:nvSpPr>
        <p:spPr>
          <a:xfrm>
            <a:off x="1714680" y="3357720"/>
            <a:ext cx="6000480" cy="107136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освоение специальных умений для становления основных («актер», «режиссер») и дополнительных позиций («сценарист», «оформитель», «костюмер»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Прямоугольник 6"/>
          <p:cNvSpPr/>
          <p:nvPr/>
        </p:nvSpPr>
        <p:spPr>
          <a:xfrm>
            <a:off x="1643040" y="2214720"/>
            <a:ext cx="6000840" cy="85716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художественное восприятие литературных и фольклорных произвед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4617b"/>
                </a:solidFill>
                <a:latin typeface="Calibri"/>
              </a:rPr>
              <a:t>В занятия по театрализованной деятельности включаем:</a:t>
            </a:r>
            <a:br>
              <a:rPr sz="3200"/>
            </a:b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просмотр кукольных спектаклей и беседы по ним, игры-драматизации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упражнения по дикции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задания для развития речевой интонационной выразительности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игры-превращения («учим владеть своим телом»), образные упражнения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упражнения на развитие детской пластики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упражнения на развитие выразительной мимики, элементы искусства пантомимы; 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театральные этюды; 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отдельные упражнения по этике во время драматизаций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репетиции и разыгрывание разнообразных сказок и инсценировок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4617b"/>
                </a:solidFill>
                <a:latin typeface="Calibri"/>
              </a:rPr>
              <a:t>В процессе реализации комплекса занятий по театрализованной деятельности решаются следующие задачи: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развитие творческих способностей и творческой самостоятельности  дошкольника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оспитание интереса к различным видам творческой деятельности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овладение импровизационными умениями;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4617b"/>
                </a:solidFill>
                <a:latin typeface="Calibri"/>
              </a:rPr>
              <a:t>В своей работе  используем  несколько видов игр-драматизаций с детьми: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32" name="Picture 2" descr="C:\Documents and Settings\UserXP\Рабочий стол\Новая папка\SAM_1244.JPG"/>
          <p:cNvPicPr/>
          <p:nvPr/>
        </p:nvPicPr>
        <p:blipFill>
          <a:blip r:embed="rId1"/>
          <a:stretch/>
        </p:blipFill>
        <p:spPr>
          <a:xfrm>
            <a:off x="1000080" y="2500200"/>
            <a:ext cx="2714760" cy="1643040"/>
          </a:xfrm>
          <a:prstGeom prst="rect">
            <a:avLst/>
          </a:prstGeom>
          <a:ln w="0">
            <a:noFill/>
          </a:ln>
        </p:spPr>
      </p:pic>
      <p:sp>
        <p:nvSpPr>
          <p:cNvPr id="233" name="Прямоугольник 4"/>
          <p:cNvSpPr/>
          <p:nvPr/>
        </p:nvSpPr>
        <p:spPr>
          <a:xfrm>
            <a:off x="137880" y="2000160"/>
            <a:ext cx="426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Игры-драматизации с пальчик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4" descr=""/>
          <p:cNvPicPr/>
          <p:nvPr/>
        </p:nvPicPr>
        <p:blipFill>
          <a:blip r:embed="rId2"/>
          <a:stretch/>
        </p:blipFill>
        <p:spPr>
          <a:xfrm>
            <a:off x="5003640" y="3933720"/>
            <a:ext cx="2540160" cy="1905120"/>
          </a:xfrm>
          <a:prstGeom prst="rect">
            <a:avLst/>
          </a:prstGeom>
          <a:ln w="0">
            <a:noFill/>
          </a:ln>
        </p:spPr>
      </p:pic>
      <p:sp>
        <p:nvSpPr>
          <p:cNvPr id="235" name="Прямоугольник 8"/>
          <p:cNvSpPr/>
          <p:nvPr/>
        </p:nvSpPr>
        <p:spPr>
          <a:xfrm>
            <a:off x="1908000" y="515772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Импровизац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3-04-13T11:46:12Z</dcterms:modified>
  <cp:revision>63</cp:revision>
  <dc:subject/>
  <dc:title>Театр - это волшебный край, в котором ребенок радуется, играя, а в игре он познает мир! С. И. Мерзлякова  </dc:title>
</cp:coreProperties>
</file>