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7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4CDE-31B3-406E-A7CF-3C91E77A05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C426-061F-4FBD-A3BE-1469D3C7E3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161B-2217-4A5B-9733-5630818902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80AA-28CA-4166-A3A0-DFBA0FA9D6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6A44-7F69-4E84-80C4-593BEB1528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520E-718F-4CBC-B3CF-6DA323B8BC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47FC-6735-4EDC-9780-C29EFD9C04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4FF4-3D8E-46CD-B211-792660FF1D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0DB7-52DE-451F-9B4C-011AE909AF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6DFB-4B48-4D74-85FD-1FFF5B1E04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00DA-EA38-42C8-AF07-C0B56C555B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6F66-A32F-4680-A44E-F36F4D8294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CCF9-CF4D-49E2-94E9-9AC0567240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8C95-F841-4B15-96C9-6BA3109E60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9F95-B7ED-4087-A9AF-ADBC732F3F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9CFF-2B8B-48AB-83CC-87EEA5932E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9153-B6F4-46F3-9149-1771BC87E6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E434-3ABE-4F7B-8F02-50228CD167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CA34-CEB2-468D-8B18-71F9058BE3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249F-1BD6-4AB1-BC8A-5FD5FCB346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9257-5C88-4002-A1B6-75857BEDAC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7D4D-1034-4C17-A6F2-3D6C40B177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8257-D67C-4D46-8417-F483EC7006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F34A-98CC-4B30-9E37-D98869DE39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019D-D5FD-423C-B784-1066DB3195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53B-5516-4ECA-9856-C03A3768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6DB-BBF6-457D-A9C2-8BA7B337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7C2-4F83-471F-9F2E-0E4B8854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CC1-A229-4597-A7A6-F3B73FAA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96A-7BF3-4FA5-82C3-70CB9EF8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5C5-73DD-4828-A05A-97134554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0B7-77B9-44D2-95D3-59E977ED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5ED-426B-41C1-9BE8-74DD6F5A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B7B-5A9C-40ED-B405-8F64D476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9BE-AB16-4F0C-837D-791D3815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1E9-C00A-42E4-9C6F-B1FE6A37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EDC-7A81-4900-829A-791FDCBA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893A-3513-48EC-A525-1CE405FEA5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САНКТ-ПЕТЕРБУРГ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ждение города. (1703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: Никандрова А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атель ГБДОУ №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6"/>
          <p:cNvPicPr/>
          <p:nvPr/>
        </p:nvPicPr>
        <p:blipFill>
          <a:blip r:embed="rId1"/>
          <a:stretch/>
        </p:blipFill>
        <p:spPr>
          <a:xfrm>
            <a:off x="2362320" y="152280"/>
            <a:ext cx="43434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етропавловская креп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6" descr="Изображение 107"/>
          <p:cNvPicPr/>
          <p:nvPr/>
        </p:nvPicPr>
        <p:blipFill>
          <a:blip r:embed="rId1"/>
          <a:stretch/>
        </p:blipFill>
        <p:spPr>
          <a:xfrm>
            <a:off x="762120" y="1676520"/>
            <a:ext cx="72388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асильевский остров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6" descr="10"/>
          <p:cNvPicPr/>
          <p:nvPr/>
        </p:nvPicPr>
        <p:blipFill>
          <a:blip r:embed="rId1"/>
          <a:stretch/>
        </p:blipFill>
        <p:spPr>
          <a:xfrm>
            <a:off x="762120" y="1441440"/>
            <a:ext cx="75438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рюков канал. Собор Николая  чудотворц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6" descr="1"/>
          <p:cNvPicPr/>
          <p:nvPr/>
        </p:nvPicPr>
        <p:blipFill>
          <a:blip r:embed="rId1"/>
          <a:stretch/>
        </p:blipFill>
        <p:spPr>
          <a:xfrm>
            <a:off x="1219320" y="1751040"/>
            <a:ext cx="65530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аакиевский собор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6" descr="2"/>
          <p:cNvPicPr/>
          <p:nvPr/>
        </p:nvPicPr>
        <p:blipFill>
          <a:blip r:embed="rId1"/>
          <a:stretch/>
        </p:blipFill>
        <p:spPr>
          <a:xfrm>
            <a:off x="685800" y="1928880"/>
            <a:ext cx="754380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обор Воскресения Христов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8" descr="3"/>
          <p:cNvPicPr/>
          <p:nvPr/>
        </p:nvPicPr>
        <p:blipFill>
          <a:blip r:embed="rId1"/>
          <a:stretch/>
        </p:blipFill>
        <p:spPr>
          <a:xfrm>
            <a:off x="2743200" y="1447920"/>
            <a:ext cx="361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ихайловский замок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6" descr="5"/>
          <p:cNvPicPr/>
          <p:nvPr/>
        </p:nvPicPr>
        <p:blipFill>
          <a:blip r:embed="rId1"/>
          <a:stretch/>
        </p:blipFill>
        <p:spPr>
          <a:xfrm>
            <a:off x="990720" y="1490760"/>
            <a:ext cx="72388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рмитаж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7" descr="4"/>
          <p:cNvPicPr/>
          <p:nvPr/>
        </p:nvPicPr>
        <p:blipFill>
          <a:blip r:embed="rId1"/>
          <a:stretch/>
        </p:blipFill>
        <p:spPr>
          <a:xfrm>
            <a:off x="609480" y="1641600"/>
            <a:ext cx="76964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узей Эрмитаж ночью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7"/>
          <p:cNvPicPr/>
          <p:nvPr/>
        </p:nvPicPr>
        <p:blipFill>
          <a:blip r:embed="rId1"/>
          <a:stretch/>
        </p:blipFill>
        <p:spPr>
          <a:xfrm>
            <a:off x="914400" y="1905120"/>
            <a:ext cx="7772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рмитаж внутр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9" descr="s_510i"/>
          <p:cNvPicPr/>
          <p:nvPr/>
        </p:nvPicPr>
        <p:blipFill>
          <a:blip r:embed="rId1"/>
          <a:stretch/>
        </p:blipFill>
        <p:spPr>
          <a:xfrm>
            <a:off x="2971800" y="3200400"/>
            <a:ext cx="273852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06m0959i"/>
          <p:cNvPicPr/>
          <p:nvPr/>
        </p:nvPicPr>
        <p:blipFill>
          <a:blip r:embed="rId2"/>
          <a:stretch/>
        </p:blipFill>
        <p:spPr>
          <a:xfrm>
            <a:off x="304920" y="1752480"/>
            <a:ext cx="3124080" cy="233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ie01003i"/>
          <p:cNvPicPr/>
          <p:nvPr/>
        </p:nvPicPr>
        <p:blipFill>
          <a:blip r:embed="rId3"/>
          <a:stretch/>
        </p:blipFill>
        <p:spPr>
          <a:xfrm>
            <a:off x="5410080" y="1600200"/>
            <a:ext cx="34340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06m0963i"/>
          <p:cNvPicPr/>
          <p:nvPr/>
        </p:nvPicPr>
        <p:blipFill>
          <a:blip r:embed="rId1"/>
          <a:stretch/>
        </p:blipFill>
        <p:spPr>
          <a:xfrm>
            <a:off x="152280" y="3429000"/>
            <a:ext cx="3962520" cy="295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06m0960i"/>
          <p:cNvPicPr/>
          <p:nvPr/>
        </p:nvPicPr>
        <p:blipFill>
          <a:blip r:embed="rId2"/>
          <a:stretch/>
        </p:blipFill>
        <p:spPr>
          <a:xfrm>
            <a:off x="4800600" y="3505320"/>
            <a:ext cx="3962520" cy="29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06m0962i"/>
          <p:cNvPicPr/>
          <p:nvPr/>
        </p:nvPicPr>
        <p:blipFill>
          <a:blip r:embed="rId3"/>
          <a:stretch/>
        </p:blipFill>
        <p:spPr>
          <a:xfrm>
            <a:off x="2666880" y="304920"/>
            <a:ext cx="37004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амятник Петру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I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. Скульптор Фальконе Морис Этьен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782 году  был открыт памятник Петр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снователю го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9" descr="6"/>
          <p:cNvPicPr/>
          <p:nvPr/>
        </p:nvPicPr>
        <p:blipFill>
          <a:blip r:embed="rId1"/>
          <a:stretch/>
        </p:blipFill>
        <p:spPr>
          <a:xfrm>
            <a:off x="0" y="1992240"/>
            <a:ext cx="4876920" cy="415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etr1i"/>
          <p:cNvPicPr/>
          <p:nvPr/>
        </p:nvPicPr>
        <p:blipFill>
          <a:blip r:embed="rId2"/>
          <a:stretch/>
        </p:blipFill>
        <p:spPr>
          <a:xfrm>
            <a:off x="6134040" y="3809880"/>
            <a:ext cx="2533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ворцовая площад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9"/>
          <p:cNvPicPr/>
          <p:nvPr/>
        </p:nvPicPr>
        <p:blipFill>
          <a:blip r:embed="rId1"/>
          <a:stretch/>
        </p:blipFill>
        <p:spPr>
          <a:xfrm>
            <a:off x="838080" y="1987560"/>
            <a:ext cx="7467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дмиралтейство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Picture 5" descr="Изображение 104"/>
          <p:cNvPicPr/>
          <p:nvPr/>
        </p:nvPicPr>
        <p:blipFill>
          <a:blip r:embed="rId1"/>
          <a:stretch/>
        </p:blipFill>
        <p:spPr>
          <a:xfrm>
            <a:off x="2666880" y="1066680"/>
            <a:ext cx="37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ворцовый мо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5" descr="Изображение 106"/>
          <p:cNvPicPr/>
          <p:nvPr/>
        </p:nvPicPr>
        <p:blipFill>
          <a:blip r:embed="rId1"/>
          <a:stretch/>
        </p:blipFill>
        <p:spPr>
          <a:xfrm>
            <a:off x="990720" y="1655640"/>
            <a:ext cx="72388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УНСТКАМЕРА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НСТКАМЕРА - название естественно-научной  коллекции редкостей и место их хран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кунт"/>
          <p:cNvPicPr/>
          <p:nvPr/>
        </p:nvPicPr>
        <p:blipFill>
          <a:blip r:embed="rId1"/>
          <a:stretch/>
        </p:blipFill>
        <p:spPr>
          <a:xfrm>
            <a:off x="380880" y="2209680"/>
            <a:ext cx="45720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остиница «Прибалтийск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Picture 6" descr="приб"/>
          <p:cNvPicPr/>
          <p:nvPr/>
        </p:nvPicPr>
        <p:blipFill>
          <a:blip r:embed="rId1"/>
          <a:stretch/>
        </p:blipFill>
        <p:spPr>
          <a:xfrm>
            <a:off x="1447920" y="1535040"/>
            <a:ext cx="64767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амятник Чижику-Пыжику. 1994.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Picture 6" descr="чиж"/>
          <p:cNvPicPr/>
          <p:nvPr/>
        </p:nvPicPr>
        <p:blipFill>
          <a:blip r:embed="rId1"/>
          <a:stretch/>
        </p:blipFill>
        <p:spPr>
          <a:xfrm>
            <a:off x="0" y="1523880"/>
            <a:ext cx="4495680" cy="3357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191120" y="685800"/>
            <a:ext cx="4952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 из самых маленьких памятников мира, высота 11 сантиметров. Находится на Фонтанке недалеко от бывшего Императорского училища правоведения, основанного в 1835. Воспитанники училища одевались в мундиры желто-зеленого цвета, зимой носили «пыжиковые» шапки, за что были прозваны «чижиками-пыжиками». Считается, что брошенная на постамент скульптурки монета приносит счастье и исполнение жел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ень основания город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 I, одержав победу над шведами в 1702, решил заложить в дельте Невы новую крепость. День, когда приступили к сооружению бастионов новой крепости, — 13 мая 1703 года — принято считать днем основания Петербурга, хотя первые значительные сооружения появились только спустя три-четыре г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ерб горо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а разных якоря (морской и речной) означают , что город – не только речной ,но и морской порт. А скипетр в центре герба указывает , что город является столицей Государства Российск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Безымянный"/>
          <p:cNvPicPr/>
          <p:nvPr/>
        </p:nvPicPr>
        <p:blipFill>
          <a:blip r:embed="rId1"/>
          <a:stretch/>
        </p:blipFill>
        <p:spPr>
          <a:xfrm>
            <a:off x="304920" y="1676520"/>
            <a:ext cx="5638680" cy="4755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06S1750i"/>
          <p:cNvPicPr/>
          <p:nvPr/>
        </p:nvPicPr>
        <p:blipFill>
          <a:blip r:embed="rId2"/>
          <a:stretch/>
        </p:blipFill>
        <p:spPr>
          <a:xfrm>
            <a:off x="6130800" y="0"/>
            <a:ext cx="301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обенности градостроительства. Первые постройки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ербург — первый город России, который чуть ли не с основания стал развиваться по заранее разработанному плану . Это определило высокий градостроительный уровень и способствовало формированию городских ансамблей, характерных для конца 18 — начала 19 в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етропавловская креп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ложенная с учетом стратегического положения на Заячьем острове крепость, названная Петропавловской, должна была огнем артиллерии контролировать протоки Не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лане крепость представляет собой вытянутый с запада на восток неправильный шестиугольник, на углах которого расположено шесть бастионов. Их названия (Государев, Нарышкин, Трубецкой, Зотов, Головкин, Меншиков) связаны с Петром I и его ближайшими сподвижниками, надзиравшими за строительством крепости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крепост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7" descr="петр"/>
          <p:cNvPicPr/>
          <p:nvPr/>
        </p:nvPicPr>
        <p:blipFill>
          <a:blip r:embed="rId1"/>
          <a:stretch/>
        </p:blipFill>
        <p:spPr>
          <a:xfrm>
            <a:off x="558720" y="1905120"/>
            <a:ext cx="383544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пк"/>
          <p:cNvPicPr/>
          <p:nvPr/>
        </p:nvPicPr>
        <p:blipFill>
          <a:blip r:embed="rId2"/>
          <a:stretch/>
        </p:blipFill>
        <p:spPr>
          <a:xfrm>
            <a:off x="4818240" y="1905120"/>
            <a:ext cx="3767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нутренний вид собора креп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7" descr="пд"/>
          <p:cNvPicPr/>
          <p:nvPr/>
        </p:nvPicPr>
        <p:blipFill>
          <a:blip r:embed="rId1"/>
          <a:stretch/>
        </p:blipFill>
        <p:spPr>
          <a:xfrm>
            <a:off x="380880" y="1752480"/>
            <a:ext cx="4343400" cy="324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пм"/>
          <p:cNvPicPr/>
          <p:nvPr/>
        </p:nvPicPr>
        <p:blipFill>
          <a:blip r:embed="rId2"/>
          <a:stretch/>
        </p:blipFill>
        <p:spPr>
          <a:xfrm>
            <a:off x="4800600" y="1371600"/>
            <a:ext cx="3971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09T18:04:55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