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7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D180-0A54-4865-90FA-F54094E68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6A60-32A6-42F0-A0CC-E006EE4342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A08B-0FD5-4947-ACBE-88AB37465C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634B-ABDE-4BB1-ACC5-6CD8848A11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A865-DEDB-4552-8192-85086DA7DC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6465-8F46-4FA9-9860-F1F9451756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0CF7-5C91-4DB9-95F2-8BFB26A796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729-42E0-4FBA-BB57-051A45F9B6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9F70-C891-48F9-A211-164593F2AF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938-4C9C-49AE-8B46-2784CE2786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7495-D2F2-47C2-A558-6C5E44FACE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0AD2-4D00-4E9F-AF99-578C62BF2E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5701-CD70-4E08-A754-8165FDEF64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633-9FD3-4CCD-82EA-CF468BB349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92C3-1AFE-45AB-B1E4-A73D91BF23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F77A-637E-47E4-ADA9-E84F6D8D58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3AE4-E3B6-4EA6-B633-27019ECB5C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D27-3C34-475B-9C9D-59BF8479B2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116F-9057-4D47-B030-012D38FFBC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FBD2-8E6F-4605-9AAA-7C4D37474B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7590-2915-492E-9D40-940BBA3DE3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E3FC-B7E9-4166-8B1D-0392ED39E7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9C86-BB83-4615-BFB9-B532E723C2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669-8EFC-4901-85B7-55DFDF6DFC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01B4-9D5C-42A1-A089-5AB9BF5DE7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4C2-7309-41A1-8D59-BA17C562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093-CC90-4208-A255-3D272C0E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03AC-DF84-4A5B-AA6D-8F1AD043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C4B-5CC6-4269-BE42-F882FE99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59C1-99AF-4AF6-9F77-EDC0E228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9C7-E1C2-4D77-8DC8-63B20B05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F66C-CBBF-4419-B4AF-F738AAD0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7B8-ED60-45ED-A7C4-C3546292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31B-7BDA-4293-AA2D-E77A80DC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469-06E4-4400-898C-19315999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1FC-A193-4504-9D75-E5691830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832-1657-4E06-B36B-4F68E23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649-7A4A-4DB4-B1B9-7C0B5F807C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САНКТ-ПЕТЕРБУРГ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ждение города. (1703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: Никандрова А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питатель ГБДОУ №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6"/>
          <p:cNvPicPr/>
          <p:nvPr/>
        </p:nvPicPr>
        <p:blipFill>
          <a:blip r:embed="rId1"/>
          <a:stretch/>
        </p:blipFill>
        <p:spPr>
          <a:xfrm>
            <a:off x="2362320" y="152280"/>
            <a:ext cx="43434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етропавловская креп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6" descr="Изображение 107"/>
          <p:cNvPicPr/>
          <p:nvPr/>
        </p:nvPicPr>
        <p:blipFill>
          <a:blip r:embed="rId1"/>
          <a:stretch/>
        </p:blipFill>
        <p:spPr>
          <a:xfrm>
            <a:off x="762120" y="1676520"/>
            <a:ext cx="72388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асильевский остр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6" descr="10"/>
          <p:cNvPicPr/>
          <p:nvPr/>
        </p:nvPicPr>
        <p:blipFill>
          <a:blip r:embed="rId1"/>
          <a:stretch/>
        </p:blipFill>
        <p:spPr>
          <a:xfrm>
            <a:off x="762120" y="1441440"/>
            <a:ext cx="75438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рюков канал. Собор Николая  чудотворц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1"/>
          <p:cNvPicPr/>
          <p:nvPr/>
        </p:nvPicPr>
        <p:blipFill>
          <a:blip r:embed="rId1"/>
          <a:stretch/>
        </p:blipFill>
        <p:spPr>
          <a:xfrm>
            <a:off x="1219320" y="1751040"/>
            <a:ext cx="6553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аакиевский собо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6" descr="2"/>
          <p:cNvPicPr/>
          <p:nvPr/>
        </p:nvPicPr>
        <p:blipFill>
          <a:blip r:embed="rId1"/>
          <a:stretch/>
        </p:blipFill>
        <p:spPr>
          <a:xfrm>
            <a:off x="685800" y="1928880"/>
            <a:ext cx="754380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бор Воскресения Христов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8" descr="3"/>
          <p:cNvPicPr/>
          <p:nvPr/>
        </p:nvPicPr>
        <p:blipFill>
          <a:blip r:embed="rId1"/>
          <a:stretch/>
        </p:blipFill>
        <p:spPr>
          <a:xfrm>
            <a:off x="2743200" y="1447920"/>
            <a:ext cx="361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ихайловский зам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6" descr="5"/>
          <p:cNvPicPr/>
          <p:nvPr/>
        </p:nvPicPr>
        <p:blipFill>
          <a:blip r:embed="rId1"/>
          <a:stretch/>
        </p:blipFill>
        <p:spPr>
          <a:xfrm>
            <a:off x="990720" y="1490760"/>
            <a:ext cx="72388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рмитаж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7" descr="4"/>
          <p:cNvPicPr/>
          <p:nvPr/>
        </p:nvPicPr>
        <p:blipFill>
          <a:blip r:embed="rId1"/>
          <a:stretch/>
        </p:blipFill>
        <p:spPr>
          <a:xfrm>
            <a:off x="609480" y="1641600"/>
            <a:ext cx="76964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узей Эрмитаж ночью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7"/>
          <p:cNvPicPr/>
          <p:nvPr/>
        </p:nvPicPr>
        <p:blipFill>
          <a:blip r:embed="rId1"/>
          <a:stretch/>
        </p:blipFill>
        <p:spPr>
          <a:xfrm>
            <a:off x="914400" y="1905120"/>
            <a:ext cx="7772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рмитаж внутр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9" descr="s_510i"/>
          <p:cNvPicPr/>
          <p:nvPr/>
        </p:nvPicPr>
        <p:blipFill>
          <a:blip r:embed="rId1"/>
          <a:stretch/>
        </p:blipFill>
        <p:spPr>
          <a:xfrm>
            <a:off x="2971800" y="3200400"/>
            <a:ext cx="2738520" cy="304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06m0959i"/>
          <p:cNvPicPr/>
          <p:nvPr/>
        </p:nvPicPr>
        <p:blipFill>
          <a:blip r:embed="rId2"/>
          <a:stretch/>
        </p:blipFill>
        <p:spPr>
          <a:xfrm>
            <a:off x="304920" y="1752480"/>
            <a:ext cx="3124080" cy="2332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ie01003i"/>
          <p:cNvPicPr/>
          <p:nvPr/>
        </p:nvPicPr>
        <p:blipFill>
          <a:blip r:embed="rId3"/>
          <a:stretch/>
        </p:blipFill>
        <p:spPr>
          <a:xfrm>
            <a:off x="5410080" y="1600200"/>
            <a:ext cx="34340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06m0963i"/>
          <p:cNvPicPr/>
          <p:nvPr/>
        </p:nvPicPr>
        <p:blipFill>
          <a:blip r:embed="rId1"/>
          <a:stretch/>
        </p:blipFill>
        <p:spPr>
          <a:xfrm>
            <a:off x="152280" y="3429000"/>
            <a:ext cx="3962520" cy="29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06m0960i"/>
          <p:cNvPicPr/>
          <p:nvPr/>
        </p:nvPicPr>
        <p:blipFill>
          <a:blip r:embed="rId2"/>
          <a:stretch/>
        </p:blipFill>
        <p:spPr>
          <a:xfrm>
            <a:off x="4800600" y="3505320"/>
            <a:ext cx="3962520" cy="29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06m0962i"/>
          <p:cNvPicPr/>
          <p:nvPr/>
        </p:nvPicPr>
        <p:blipFill>
          <a:blip r:embed="rId3"/>
          <a:stretch/>
        </p:blipFill>
        <p:spPr>
          <a:xfrm>
            <a:off x="2666880" y="304920"/>
            <a:ext cx="37004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мятник Петр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 Скульптор Фальконе Морис Этье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82 году  был открыт памятник Петр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нователю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6"/>
          <p:cNvPicPr/>
          <p:nvPr/>
        </p:nvPicPr>
        <p:blipFill>
          <a:blip r:embed="rId1"/>
          <a:stretch/>
        </p:blipFill>
        <p:spPr>
          <a:xfrm>
            <a:off x="0" y="1992240"/>
            <a:ext cx="4876920" cy="415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tr1i"/>
          <p:cNvPicPr/>
          <p:nvPr/>
        </p:nvPicPr>
        <p:blipFill>
          <a:blip r:embed="rId2"/>
          <a:stretch/>
        </p:blipFill>
        <p:spPr>
          <a:xfrm>
            <a:off x="6134040" y="3809880"/>
            <a:ext cx="2533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ворцовая площад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9"/>
          <p:cNvPicPr/>
          <p:nvPr/>
        </p:nvPicPr>
        <p:blipFill>
          <a:blip r:embed="rId1"/>
          <a:stretch/>
        </p:blipFill>
        <p:spPr>
          <a:xfrm>
            <a:off x="838080" y="1987560"/>
            <a:ext cx="7467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дмиралтейств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Picture 5" descr="Изображение 104"/>
          <p:cNvPicPr/>
          <p:nvPr/>
        </p:nvPicPr>
        <p:blipFill>
          <a:blip r:embed="rId1"/>
          <a:stretch/>
        </p:blipFill>
        <p:spPr>
          <a:xfrm>
            <a:off x="2666880" y="1066680"/>
            <a:ext cx="37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ворцовый мо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5" descr="Изображение 106"/>
          <p:cNvPicPr/>
          <p:nvPr/>
        </p:nvPicPr>
        <p:blipFill>
          <a:blip r:embed="rId1"/>
          <a:stretch/>
        </p:blipFill>
        <p:spPr>
          <a:xfrm>
            <a:off x="990720" y="1655640"/>
            <a:ext cx="72388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УНСТКАМЕРА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НСТКАМЕРА - название естественно-научной  коллекции редкостей и место их хра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кунт"/>
          <p:cNvPicPr/>
          <p:nvPr/>
        </p:nvPicPr>
        <p:blipFill>
          <a:blip r:embed="rId1"/>
          <a:stretch/>
        </p:blipFill>
        <p:spPr>
          <a:xfrm>
            <a:off x="380880" y="2209680"/>
            <a:ext cx="45720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остиница «Прибалтийск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6" descr="приб"/>
          <p:cNvPicPr/>
          <p:nvPr/>
        </p:nvPicPr>
        <p:blipFill>
          <a:blip r:embed="rId1"/>
          <a:stretch/>
        </p:blipFill>
        <p:spPr>
          <a:xfrm>
            <a:off x="1447920" y="1535040"/>
            <a:ext cx="64767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мятник Чижику-Пыжику. 1994.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Picture 6" descr="чиж"/>
          <p:cNvPicPr/>
          <p:nvPr/>
        </p:nvPicPr>
        <p:blipFill>
          <a:blip r:embed="rId1"/>
          <a:stretch/>
        </p:blipFill>
        <p:spPr>
          <a:xfrm>
            <a:off x="0" y="1523880"/>
            <a:ext cx="449568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191120" y="6858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из самых маленьких памятников мира, высота 11 сантиметров. Находится на Фонтанке недалеко от бывшего Императорского училища правоведения, основанного в 1835. Воспитанники училища одевались в мундиры желто-зеленого цвета, зимой носили «пыжиковые» шапки, за что были прозваны «чижиками-пыжиками». Считается, что брошенная на постамент скульптурки монета приносит счастье и исполнение жел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ень основания город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 I, одержав победу над шведами в 1702, решил заложить в дельте Невы новую крепость. День, когда приступили к сооружению бастионов новой крепости, — 13 мая 1703 года — принято считать днем основания Петербурга, хотя первые значительные сооружения появились только спустя три-четыре г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ерб горо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а разных якоря (морской и речной) означают , что город – не только речной ,но и морской порт. А скипетр в центре герба указывает , что город является столицей Государства Российско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Безымянный"/>
          <p:cNvPicPr/>
          <p:nvPr/>
        </p:nvPicPr>
        <p:blipFill>
          <a:blip r:embed="rId1"/>
          <a:stretch/>
        </p:blipFill>
        <p:spPr>
          <a:xfrm>
            <a:off x="304920" y="1676520"/>
            <a:ext cx="5638680" cy="475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06S1750i"/>
          <p:cNvPicPr/>
          <p:nvPr/>
        </p:nvPicPr>
        <p:blipFill>
          <a:blip r:embed="rId2"/>
          <a:stretch/>
        </p:blipFill>
        <p:spPr>
          <a:xfrm>
            <a:off x="6130800" y="0"/>
            <a:ext cx="301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обенности градостроительства. Первые постройки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ербург — первый город России, который чуть ли не с основания стал развиваться по заранее разработанному плану . Это определило высокий градостроительный уровень и способствовало формированию городских ансамблей, характерных для конца 18 — начала 19 в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етропавловская креп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ложенная с учетом стратегического положения на Заячьем острове крепость, названная Петропавловской, должна была огнем артиллерии контролировать протоки Не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плане крепость представляет собой вытянутый с запада на восток неправильный шестиугольник, на углах которого расположено шесть бастионов. Их названия (Государев, Нарышкин, Трубецкой, Зотов, Головкин, Меншиков) связаны с Петром I и его ближайшими сподвижниками, надзиравшими за строительством крепости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крепост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7" descr="петр"/>
          <p:cNvPicPr/>
          <p:nvPr/>
        </p:nvPicPr>
        <p:blipFill>
          <a:blip r:embed="rId1"/>
          <a:stretch/>
        </p:blipFill>
        <p:spPr>
          <a:xfrm>
            <a:off x="558720" y="1905120"/>
            <a:ext cx="3835440" cy="4267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пк"/>
          <p:cNvPicPr/>
          <p:nvPr/>
        </p:nvPicPr>
        <p:blipFill>
          <a:blip r:embed="rId2"/>
          <a:stretch/>
        </p:blipFill>
        <p:spPr>
          <a:xfrm>
            <a:off x="4818240" y="1905120"/>
            <a:ext cx="3767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нутренний вид собора креп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7" descr="пд"/>
          <p:cNvPicPr/>
          <p:nvPr/>
        </p:nvPicPr>
        <p:blipFill>
          <a:blip r:embed="rId1"/>
          <a:stretch/>
        </p:blipFill>
        <p:spPr>
          <a:xfrm>
            <a:off x="380880" y="1752480"/>
            <a:ext cx="4343400" cy="3241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пм"/>
          <p:cNvPicPr/>
          <p:nvPr/>
        </p:nvPicPr>
        <p:blipFill>
          <a:blip r:embed="rId2"/>
          <a:stretch/>
        </p:blipFill>
        <p:spPr>
          <a:xfrm>
            <a:off x="4800600" y="1371600"/>
            <a:ext cx="397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09T18:04:5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