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80C9-D7CC-4202-BD86-C71F58EFFA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EEEE-71B2-496B-84B7-D31C4EBBD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EF8-76F7-432F-A440-E139F742E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577-B1E9-44B8-852C-FCB90BA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1C0-DA00-4AB3-9D2F-A090B87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052-66A3-4718-B639-281C1AFC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7C1-CE74-4146-930C-7FC321AA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511F-054F-43EF-B713-41B30E8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0273-F13E-4A7B-89FD-DA0FB23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6B5F-081B-408C-B954-1FE4D2AD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2FB9-3837-4811-A8A5-84D7A0D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ED6E-59F3-4A6B-80BA-44B44C49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9E19-66B9-4463-A9F0-5CADA240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F534-1D9A-406A-A76C-6224833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D84-9922-4756-ACF3-CA10EECD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A21-F48F-4BED-A424-3064599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8075-E9EB-437F-AB8B-DB0D154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4C2-D65C-4613-A09D-7129AB21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93C9-7C71-43DD-9037-C205FF72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8FB-4488-4AD8-88EA-E141507F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BCA3-F708-4349-A5DF-E04A8889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546A-F133-487A-B24D-BE9C6E1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46B1-6FC1-4E4F-AD3F-80B2152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AD46-25EF-4FF8-AC93-1D6F75B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1568-BDDB-49C1-B7C9-4DB1F4F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04D-31DE-4A91-86F2-A3FDF6B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D870-F05E-44CB-9B19-C7B2978B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A55C7-25FF-42F5-BFFF-74E71F7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BC61-B92E-49DA-B8B8-B3924F8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C9F4-8230-4FFA-8F2A-5A48410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8634-837A-45A5-B041-DD0FFFE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BF8A-E4E4-43C3-AF8F-D5AF9C08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FF0B-6CE9-422A-90D3-10494D80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DA98-A900-4010-B3ED-F739BA3B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B991-3424-4FEE-86D9-999CA278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A094-D4FF-479B-A889-C58CF86A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042-4064-436D-BA25-13D0B34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0B7E-E8FD-4DAA-A265-3CE2D02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89F3-679C-4755-B565-3D5C0F0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C3E9-D9C4-4501-B571-2A47F7D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3631-A7F7-4BE2-BEB3-2ADFC55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3B09-2B64-45F9-BDAA-E4759B1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4CB2-BF0F-4ECA-96B6-1AD7A6C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168A-47BF-4E71-9E7E-334C2A03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596D-A52D-41F6-B0BA-49139038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DB53-547C-417C-A6D5-51388F84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8375-ADE5-4D0B-9238-5866E965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BB6-52CB-4D75-A6D5-AF2DA474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DD7C-F08B-4EF2-8F2B-5229577C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FFB3-2080-4BA3-86C8-B4AE611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D6A9-7FE1-496C-AEB4-459EFE7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D093-76B0-4653-BF45-381C7D6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E486-DA7E-487D-9FF6-BE237FC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1343-B422-4998-8612-0025276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09FB-B248-4214-8B87-3C97D337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50FB-6B74-457D-8674-FFF48014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AC3E-EA69-4729-86A0-7D7F75A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3B8A-F842-4286-9D64-705278CC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F60-8C9D-4A67-96DC-94D2ED04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EF5C-3954-40D1-A5F8-1DF72C2F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16B-BC30-44C7-A8AD-6738325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6AE-54ED-4B75-A0AF-B384308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67A-1311-4581-8A2D-522B5EF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BC96-18AF-4A9F-BA5A-AF8E0FC39A4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5FB7-9EE3-406B-9053-082E645C597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94A2-5DA1-466F-A354-5DA7B50C060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F150-98F5-48B9-AD85-905554EAB87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9C0-8FF1-446C-BEE6-AFC868A5C6E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359160" y="42840"/>
            <a:ext cx="5419800" cy="224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2707920"/>
            <a:ext cx="5114880" cy="30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того, что я могу помочь: маме,  другу, учител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того, что достиг успехов в учёб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общения с друзья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общения с родны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760" y="356760"/>
            <a:ext cx="7572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то такое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государственный бюдже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(план доходов и расходов государства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то означает денежная сумка на рисунке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деньги, которые в неё кладу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деньги, которые тратя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платежи, которые граждане и организации обязаны вносить в бюджет государства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(налоги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2000160" y="2214720"/>
            <a:ext cx="3878280" cy="20001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5" descr=""/>
          <p:cNvPicPr/>
          <p:nvPr/>
        </p:nvPicPr>
        <p:blipFill>
          <a:blip r:embed="rId2"/>
          <a:stretch/>
        </p:blipFill>
        <p:spPr>
          <a:xfrm>
            <a:off x="1792440" y="1231920"/>
            <a:ext cx="2146320" cy="12002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" descr=""/>
          <p:cNvPicPr/>
          <p:nvPr/>
        </p:nvPicPr>
        <p:blipFill>
          <a:blip r:embed="rId3"/>
          <a:stretch/>
        </p:blipFill>
        <p:spPr>
          <a:xfrm>
            <a:off x="3902040" y="1255680"/>
            <a:ext cx="2266920" cy="142704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7" descr=""/>
          <p:cNvPicPr/>
          <p:nvPr/>
        </p:nvPicPr>
        <p:blipFill>
          <a:blip r:embed="rId4"/>
          <a:stretch/>
        </p:blipFill>
        <p:spPr>
          <a:xfrm>
            <a:off x="2779560" y="3352680"/>
            <a:ext cx="1944720" cy="63360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право 8"/>
          <p:cNvSpPr/>
          <p:nvPr/>
        </p:nvSpPr>
        <p:spPr>
          <a:xfrm rot="2938800">
            <a:off x="3602520" y="2284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право 9"/>
          <p:cNvSpPr/>
          <p:nvPr/>
        </p:nvSpPr>
        <p:spPr>
          <a:xfrm rot="19083000">
            <a:off x="3963960" y="235404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59600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84360" y="1397160"/>
          <a:ext cx="6935760" cy="736560"/>
        </p:xfrm>
        <a:graphic>
          <a:graphicData uri="http://schemas.openxmlformats.org/drawingml/2006/table">
            <a:tbl>
              <a:tblPr/>
              <a:tblGrid>
                <a:gridCol w="3468600"/>
                <a:gridCol w="3467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84360" y="2205000"/>
          <a:ext cx="6984720" cy="3801960"/>
        </p:xfrm>
        <a:graphic>
          <a:graphicData uri="http://schemas.openxmlformats.org/drawingml/2006/table">
            <a:tbl>
              <a:tblPr/>
              <a:tblGrid>
                <a:gridCol w="3492360"/>
                <a:gridCol w="3492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л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730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часть денег заработ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ажданам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 организац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дравоох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держание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 мил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ка и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лата пенсий и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ипен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3262320" y="549360"/>
            <a:ext cx="5881680" cy="2878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725508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457200" y="1609560"/>
          <a:ext cx="7238880" cy="8226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ход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ход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5" descr="Безимени-6"/>
          <p:cNvPicPr/>
          <p:nvPr/>
        </p:nvPicPr>
        <p:blipFill>
          <a:blip r:embed="rId2"/>
          <a:stretch/>
        </p:blipFill>
        <p:spPr>
          <a:xfrm>
            <a:off x="324000" y="2637000"/>
            <a:ext cx="3816360" cy="39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4" name="Picture 13" descr="семья"/>
          <p:cNvPicPr/>
          <p:nvPr/>
        </p:nvPicPr>
        <p:blipFill>
          <a:blip r:embed="rId3"/>
          <a:stretch/>
        </p:blipFill>
        <p:spPr>
          <a:xfrm>
            <a:off x="4427640" y="2637000"/>
            <a:ext cx="3600360" cy="3960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2276640"/>
            <a:ext cx="72388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, заработанная членами семьи за месяц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2" descr=""/>
          <p:cNvPicPr/>
          <p:nvPr/>
        </p:nvPicPr>
        <p:blipFill>
          <a:blip r:embed="rId1"/>
          <a:stretch/>
        </p:blipFill>
        <p:spPr>
          <a:xfrm>
            <a:off x="281160" y="884160"/>
            <a:ext cx="76136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988640"/>
            <a:ext cx="7238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– не выловишь и рыбку из пруд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 труд, того люди чту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255080" cy="121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девочка"/>
          <p:cNvPicPr/>
          <p:nvPr/>
        </p:nvPicPr>
        <p:blipFill>
          <a:blip r:embed="rId2"/>
          <a:stretch/>
        </p:blipFill>
        <p:spPr>
          <a:xfrm>
            <a:off x="539640" y="1268280"/>
            <a:ext cx="3240360" cy="2448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2" name="Picture 12" descr="лыжник"/>
          <p:cNvPicPr/>
          <p:nvPr/>
        </p:nvPicPr>
        <p:blipFill>
          <a:blip r:embed="rId3"/>
          <a:stretch/>
        </p:blipFill>
        <p:spPr>
          <a:xfrm>
            <a:off x="4643280" y="1268280"/>
            <a:ext cx="3168720" cy="2448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3" name="Picture 11" descr="музыкант"/>
          <p:cNvPicPr/>
          <p:nvPr/>
        </p:nvPicPr>
        <p:blipFill>
          <a:blip r:embed="rId4"/>
          <a:stretch/>
        </p:blipFill>
        <p:spPr>
          <a:xfrm>
            <a:off x="5003640" y="3933720"/>
            <a:ext cx="2376720" cy="2735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4" name="Picture 10" descr="ветеренар"/>
          <p:cNvPicPr/>
          <p:nvPr/>
        </p:nvPicPr>
        <p:blipFill>
          <a:blip r:embed="rId5"/>
          <a:stretch/>
        </p:blipFill>
        <p:spPr>
          <a:xfrm>
            <a:off x="900000" y="3951360"/>
            <a:ext cx="2519640" cy="2717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46:58Z</dcterms:created>
  <dc:creator>Рысь</dc:creator>
  <dc:description/>
  <dc:language>en-US</dc:language>
  <cp:lastModifiedBy>а</cp:lastModifiedBy>
  <dcterms:modified xsi:type="dcterms:W3CDTF">2013-02-19T15:31:06Z</dcterms:modified>
  <cp:revision>35</cp:revision>
  <dc:subject/>
  <dc:title>Семейный бюджет</dc:title>
</cp:coreProperties>
</file>