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CF74-F94F-4792-B757-DC563A10FE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DA41-6307-4AC1-9C63-1BB6DCBC93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8298-336D-41AF-8015-D94BCA2497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014-B4CE-4CB7-AC6C-FA1EDD70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2EC1-F033-48BE-82B7-022CE7E2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ADB-AB64-44E5-AAE8-E8C92BD6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C24-EF6C-4CDD-B7C2-2BEC45F1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4A13-282B-4FD4-AEAE-98BACEEB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C2EA-544D-45A2-84E6-29A5286F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EA62-45C2-42E6-861E-6B10E0D8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4F65-8204-455E-9345-C1232947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D92D-588A-4868-A1B8-C75CC3D6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2030-5B8B-4F3C-9DB6-B9586819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B430-2546-45C7-BF10-0B042002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C0C-1698-466C-8D1E-A967EDC4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6213-CEB3-4674-A5F7-C3BC17AB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0B5B-1622-4D70-B671-C113AD90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A3E1-B242-40DA-BE41-BC7FD228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8D9A-F893-4C8C-9CE7-3781592A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943E-C7DE-4CBE-83CF-30784118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9FCA-6B6A-4358-85D9-EDAC7401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DFD98-33A8-41F2-A2DE-3838F163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03A6-9D99-4A82-A92F-7B94EED8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92F4B-FE1B-4DC4-A44D-B53B26D4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CB9C9-2C4A-475B-B79B-D18844A7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1FC-E59B-405F-9CDE-2CD698D3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99B1F-7425-4142-B20D-A234341C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E63E6-3798-4873-A269-BD94FB4A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8C1B-2136-46DF-B6E7-1CDDC1B6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5A57F-E54A-4D4A-AC02-7BBF51DF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43FB2-5589-4AC2-A64D-5EFC0E64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241B-FF3A-4D01-B434-AF19FF18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28BD7-B94F-49F2-B831-7A7F7D36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90E12-5EDA-4BBC-835F-D305DA3C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65106-6008-4F15-B6F1-7F05EDE8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361FA-F896-4340-B8F2-081A222D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56D-0394-4BE4-98ED-F6C0631B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44092-4214-4FEF-983C-D3C22D8A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6E41F-8311-41CA-A13C-3BD8EEBF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334C1-3F02-42EE-9DBD-225C6454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B8EC2-DE48-48C7-A240-6057657E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AFB2F-D122-491F-BDE8-04BA23FC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6C29E-D4D8-4F26-9DDD-C9F4BA7C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DF87B-A786-4826-AFB1-BC392D4D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FCAD6-7B91-4BA4-8C0A-C7EF5F45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5E175-A549-4710-AA9B-661345E8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07E61-8152-4E12-8B3C-2332EB04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207-84D3-47AA-8B37-71111E18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74F4E-D86D-48C0-85DC-0EC7863D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9F38F-B7A6-4F89-B071-8067CFCE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CC087-4D64-4E04-A821-F536745B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97BDC-F633-4809-B20C-A1744C50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E8652-4619-4381-B485-FE96A9D6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2372B-13FD-4F9F-999A-CC894424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142C6-A721-4219-B3C8-55775B4F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E5708-347A-489E-BDED-15BF5D27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4ECFE-3C55-42EF-B59F-C23891CE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867E1-04F7-498E-B963-6969095E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138-0954-486E-A3DD-173B0F7E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5533F-5896-4894-B8D5-6AD69A86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ED4-EFD4-4221-9D7A-984F0D02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E89B-D803-47BC-96DE-A7468502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992-1479-4852-9607-7C77BBBA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0F0F-D7CE-41F1-9F20-953D18C2A79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11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73AA-6CE1-4889-A7D2-53D3C67B6A18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A5AB-E013-491D-A85D-2535F3212D0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B39C-C48B-459F-93CE-76762803B412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50AF-936C-4602-9CCE-64280A5DC82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3359160" y="42840"/>
            <a:ext cx="5419800" cy="22431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2707920"/>
            <a:ext cx="5114880" cy="302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От того, что я могу помочь: маме,  другу, учителю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От того, что достиг успехов в учёб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От общения с друзьям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От общения с родным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28760" y="356760"/>
            <a:ext cx="757224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Что такое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государственный бюджет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0070c0"/>
                </a:solidFill>
                <a:latin typeface="Trebuchet MS"/>
              </a:rPr>
              <a:t>(план доходов и расходов государства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Что означает денежная сумка на рисунке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Как называются деньги, которые в неё кладут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Как называются деньги, которые тратят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Как называются платежи, которые граждане и организации обязаны вносить в бюджет государства?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0070c0"/>
                </a:solidFill>
                <a:latin typeface="Trebuchet MS"/>
              </a:rPr>
              <a:t>(налоги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4" descr="Безымянный.jpg"/>
          <p:cNvPicPr/>
          <p:nvPr/>
        </p:nvPicPr>
        <p:blipFill>
          <a:blip r:embed="rId1"/>
          <a:stretch/>
        </p:blipFill>
        <p:spPr>
          <a:xfrm>
            <a:off x="2000160" y="2214720"/>
            <a:ext cx="3878280" cy="200016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5" descr=""/>
          <p:cNvPicPr/>
          <p:nvPr/>
        </p:nvPicPr>
        <p:blipFill>
          <a:blip r:embed="rId2"/>
          <a:stretch/>
        </p:blipFill>
        <p:spPr>
          <a:xfrm>
            <a:off x="1792440" y="1231920"/>
            <a:ext cx="2146320" cy="120024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6" descr=""/>
          <p:cNvPicPr/>
          <p:nvPr/>
        </p:nvPicPr>
        <p:blipFill>
          <a:blip r:embed="rId3"/>
          <a:stretch/>
        </p:blipFill>
        <p:spPr>
          <a:xfrm>
            <a:off x="3902040" y="1255680"/>
            <a:ext cx="2266920" cy="142704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7" descr=""/>
          <p:cNvPicPr/>
          <p:nvPr/>
        </p:nvPicPr>
        <p:blipFill>
          <a:blip r:embed="rId4"/>
          <a:stretch/>
        </p:blipFill>
        <p:spPr>
          <a:xfrm>
            <a:off x="2779560" y="3352680"/>
            <a:ext cx="1944720" cy="633600"/>
          </a:xfrm>
          <a:prstGeom prst="rect">
            <a:avLst/>
          </a:prstGeom>
          <a:ln w="0">
            <a:noFill/>
          </a:ln>
        </p:spPr>
      </p:pic>
      <p:sp>
        <p:nvSpPr>
          <p:cNvPr id="234" name="Стрелка вправо 8"/>
          <p:cNvSpPr/>
          <p:nvPr/>
        </p:nvSpPr>
        <p:spPr>
          <a:xfrm rot="2938800">
            <a:off x="3602520" y="228492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трелка вправо 9"/>
          <p:cNvSpPr/>
          <p:nvPr/>
        </p:nvSpPr>
        <p:spPr>
          <a:xfrm rot="19083000">
            <a:off x="3963960" y="235404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212760" y="182520"/>
            <a:ext cx="7596000" cy="80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84360" y="1397160"/>
          <a:ext cx="6935760" cy="736560"/>
        </p:xfrm>
        <a:graphic>
          <a:graphicData uri="http://schemas.openxmlformats.org/drawingml/2006/table">
            <a:tbl>
              <a:tblPr/>
              <a:tblGrid>
                <a:gridCol w="3468600"/>
                <a:gridCol w="3467160"/>
              </a:tblGrid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84360" y="2205000"/>
          <a:ext cx="6984720" cy="3801960"/>
        </p:xfrm>
        <a:graphic>
          <a:graphicData uri="http://schemas.openxmlformats.org/drawingml/2006/table">
            <a:tbl>
              <a:tblPr/>
              <a:tblGrid>
                <a:gridCol w="3492360"/>
                <a:gridCol w="34923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лог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e7e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e7ed"/>
                    </a:solidFill>
                  </a:tcPr>
                </a:tc>
              </a:tr>
              <a:tr h="730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часть денег заработ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ражданами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 организац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дравоохра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18960" indent="-318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8960" indent="-318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держание ар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8960" indent="-318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 мил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18960" indent="-318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7ed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ука и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плата пенсий и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ипен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3262320" y="549360"/>
            <a:ext cx="5881680" cy="28782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7255080" cy="8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457200" y="1609560"/>
          <a:ext cx="7238880" cy="82260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оход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сходы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</a:tbl>
          </a:graphicData>
        </a:graphic>
      </p:graphicFrame>
      <p:pic>
        <p:nvPicPr>
          <p:cNvPr id="243" name="Picture 5" descr="Безимени-6"/>
          <p:cNvPicPr/>
          <p:nvPr/>
        </p:nvPicPr>
        <p:blipFill>
          <a:blip r:embed="rId2"/>
          <a:stretch/>
        </p:blipFill>
        <p:spPr>
          <a:xfrm>
            <a:off x="324000" y="2637000"/>
            <a:ext cx="3816360" cy="39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44" name="Picture 13" descr="семья"/>
          <p:cNvPicPr/>
          <p:nvPr/>
        </p:nvPicPr>
        <p:blipFill>
          <a:blip r:embed="rId3"/>
          <a:stretch/>
        </p:blipFill>
        <p:spPr>
          <a:xfrm>
            <a:off x="4427640" y="2637000"/>
            <a:ext cx="3600360" cy="39607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2276640"/>
            <a:ext cx="72388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, заработанная членами семьи за месяц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Содержимое 2" descr=""/>
          <p:cNvPicPr/>
          <p:nvPr/>
        </p:nvPicPr>
        <p:blipFill>
          <a:blip r:embed="rId1"/>
          <a:stretch/>
        </p:blipFill>
        <p:spPr>
          <a:xfrm>
            <a:off x="281160" y="884160"/>
            <a:ext cx="761364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988640"/>
            <a:ext cx="7238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труда – не выловишь и рыбку из пруд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любит труд, того люди чтут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человека кормит, а лень портит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7255080" cy="1212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девочка"/>
          <p:cNvPicPr/>
          <p:nvPr/>
        </p:nvPicPr>
        <p:blipFill>
          <a:blip r:embed="rId2"/>
          <a:stretch/>
        </p:blipFill>
        <p:spPr>
          <a:xfrm>
            <a:off x="539640" y="1268280"/>
            <a:ext cx="3240360" cy="24480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252" name="Picture 12" descr="лыжник"/>
          <p:cNvPicPr/>
          <p:nvPr/>
        </p:nvPicPr>
        <p:blipFill>
          <a:blip r:embed="rId3"/>
          <a:stretch/>
        </p:blipFill>
        <p:spPr>
          <a:xfrm>
            <a:off x="4643280" y="1268280"/>
            <a:ext cx="3168720" cy="24480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253" name="Picture 11" descr="музыкант"/>
          <p:cNvPicPr/>
          <p:nvPr/>
        </p:nvPicPr>
        <p:blipFill>
          <a:blip r:embed="rId4"/>
          <a:stretch/>
        </p:blipFill>
        <p:spPr>
          <a:xfrm>
            <a:off x="5003640" y="3933720"/>
            <a:ext cx="2376720" cy="27352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254" name="Picture 10" descr="ветеренар"/>
          <p:cNvPicPr/>
          <p:nvPr/>
        </p:nvPicPr>
        <p:blipFill>
          <a:blip r:embed="rId5"/>
          <a:stretch/>
        </p:blipFill>
        <p:spPr>
          <a:xfrm>
            <a:off x="900000" y="3951360"/>
            <a:ext cx="2519640" cy="27176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6:46:58Z</dcterms:created>
  <dc:creator>Рысь</dc:creator>
  <dc:description/>
  <dc:language>en-US</dc:language>
  <cp:lastModifiedBy>а</cp:lastModifiedBy>
  <dcterms:modified xsi:type="dcterms:W3CDTF">2013-02-19T15:31:06Z</dcterms:modified>
  <cp:revision>35</cp:revision>
  <dc:subject/>
  <dc:title>Семейный бюджет</dc:title>
</cp:coreProperties>
</file>