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8E4-3C5A-48CC-B3AD-83475E8B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898-326C-4DFA-B79C-A2A0D17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250-1EA7-49F0-85DE-2E2D2693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EE9-2ACC-4758-AEBC-522B7E50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E1B1-C2C1-4070-97C5-B762673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9DAD-3DF7-427B-A847-A63B853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61A3-49EF-45FD-87D8-9EF3AB2A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9C11-52AE-4F4B-BF74-F61140D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F4C0-903B-4382-A0B1-F4D3BD58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FF03-6DD1-425B-8743-CAB427C7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1DA4-2138-4B54-91A5-B63BEB85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89AA-5738-48B9-A101-B010310C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71CC-F263-4B77-B51F-8AB826C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0858-B72C-4F23-A9B3-83021FA8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4286-6AA3-40EC-AEF6-217434E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E23-E9EF-4BF6-9A39-931532C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50E-8793-4E52-8C5A-0F30BE87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155-B3C1-484B-982E-17F1BD0B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EBC-31CB-4E1A-B469-F8FF3EF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C994-D927-41AB-AD97-41487770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64E-CCF3-4B58-9D22-343BD91B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B85-CFFF-4F2C-A80C-80B7C1A9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39E-85DF-4AFB-B316-48161FC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9C3-8FCC-4FE8-8709-6AC915B6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8AB7-2993-4F11-892B-87578319E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614-1AE1-4AF0-A049-6984FAA03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0620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4220640"/>
            <a:ext cx="7921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eec94"/>
                </a:solidFill>
                <a:latin typeface="Times New Roman"/>
              </a:rPr>
              <a:t>Sights of LONDON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hen a man is tired of London he is tired of life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6948360" cy="521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105520" y="9810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London is one of the biggest cities in the world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87640" cy="4106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84920" y="7050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330800" cy="410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It is situated on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the river Thames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5213520" cy="6165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CITY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109440"/>
            <a:ext cx="2987640" cy="2382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04000" y="5326200"/>
            <a:ext cx="2340000" cy="1531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13752360" cy="6313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5905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e West E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73240"/>
            <a:ext cx="8281800" cy="55148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East End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Westminster is the political centre of London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29600" y="5967360"/>
            <a:ext cx="46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ckingham Palac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42920" y="417600"/>
            <a:ext cx="6481800" cy="644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Westminster Abbe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6:18:33Z</dcterms:created>
  <dc:creator>1</dc:creator>
  <dc:description/>
  <dc:language>en-US</dc:language>
  <cp:lastModifiedBy>Loner-XP</cp:lastModifiedBy>
  <dcterms:modified xsi:type="dcterms:W3CDTF">2013-04-14T14:29:08Z</dcterms:modified>
  <cp:revision>30</cp:revision>
  <dc:subject/>
  <dc:title>LONDON</dc:title>
</cp:coreProperties>
</file>