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1C1-CA43-4A6D-A404-EB1AEAEE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BB9-0CAD-49D2-B665-CB3DAD1C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7BB-1DC9-4897-8029-09021997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3B9-A179-42BC-BC0F-7FCDA8DB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5E2F-EC97-47EB-B467-E409DE52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6C67-C15D-48AA-9B90-BC11BED7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DD6B-4B70-420E-97C7-6102F1A5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4B28-385E-4CCF-B796-255A084E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FB0A-8D8B-4899-83E6-ED4806AF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FC7E-CAAE-40A2-A9AE-23FFAB7D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CEE7-E4CC-4CAD-BE82-6FF3F8C2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D22-7758-460A-B83C-0FDF6CEB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1BE6-D5C5-4A1F-8DAE-FE399003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9EBB-CFAA-4E30-B52A-6A40D14E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468B-FF04-4288-9B00-BF372280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C2F6-EA3C-4795-A952-18381B01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5C54-9A04-4DAB-835A-7F35AE71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C38-BBC5-4B0C-A932-E7FE2597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C54-6F46-47E6-9A4A-A356E93C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896-5815-48BE-BE01-7BC1ED9D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D80-FFBA-4759-BF2E-02EF6D63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BEA-9E58-45C1-8872-B5689FF5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B24-A61C-4FC2-9A43-B360F29C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BBC-3717-4E7E-A503-5DA8C691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3015-58AA-4BDC-909B-76DBE5C4B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7B3D-396D-405A-8711-CA5F83367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06200"/>
            <a:ext cx="8964720" cy="672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220640"/>
            <a:ext cx="79218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Times New Roman"/>
              </a:rPr>
              <a:t>Sights of LONDON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68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hen a man is tired of London he is tired of life”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647720"/>
            <a:ext cx="6948360" cy="5210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105520" y="9810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ndon is one of the biggest cities in the world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887640" cy="4106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84920" y="7050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330800" cy="410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t is situated 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the river Thames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5213520" cy="6165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CITY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09440"/>
            <a:ext cx="2987640" cy="2382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04000" y="5326200"/>
            <a:ext cx="2340000" cy="153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13752360" cy="6313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5905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West En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73240"/>
            <a:ext cx="8281800" cy="55148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East End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estminster is the political centre of Londo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29600" y="5967360"/>
            <a:ext cx="46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ckingham Pala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417600"/>
            <a:ext cx="6481800" cy="6440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minster Abbe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6:18:33Z</dcterms:created>
  <dc:creator>1</dc:creator>
  <dc:description/>
  <dc:language>en-US</dc:language>
  <cp:lastModifiedBy>Loner-XP</cp:lastModifiedBy>
  <dcterms:modified xsi:type="dcterms:W3CDTF">2013-04-14T14:29:08Z</dcterms:modified>
  <cp:revision>30</cp:revision>
  <dc:subject/>
  <dc:title>LONDON</dc:title>
</cp:coreProperties>
</file>