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FDF57-8A02-46C1-B17C-36F1089F7C8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CCB0E-85DC-4FDA-8477-F2F07067FAF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56DB-D8A0-43AE-B4C8-2EA2E0B7F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4C10-ABB2-4BC4-B638-0048BB10B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3094-1EA6-41EC-B7A3-77FDD5362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8895-DDDF-4819-AAB6-4771825AE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9D174-5FE0-471B-B186-049483238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0A677-2164-4525-86D7-1065D1C34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89217-95EC-4381-B5A2-588F0D7B8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BCABB-CDD7-4066-A7C5-3FA99640E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B2813-F132-4443-A1A8-BCEF4D343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4F76B-08C8-4CC0-A2BA-3B9FB4F22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69CAA-A0F9-4BA6-A847-71491E18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B183-E399-422B-89D1-ECD3567B5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E6EB8-CCEE-4C1D-A56A-FB36E546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48B3E-216E-496E-B765-B6F05F36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8036A-9687-40C1-945A-E679F6B25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0E5A7-A655-4C4D-89BE-28FF302BF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815DA-5389-4433-8298-20AE635DB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17F2-299B-4EA8-82EF-384F15471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501A-B071-4ED2-AD92-B72876D5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B00F-8139-45CC-8919-E30F36966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4906-4915-4CCD-AA2B-A186618FA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ECF6-1746-476F-9C63-A9B59093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A177-E15C-4F32-B751-4AA6F66F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F6DC-EBEA-443F-A384-2D837CB0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2E1FF-2A6A-4917-ACDB-4D6E5A1BD721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5451E-DFE4-4EBB-AFF2-30D6601F9ACC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-146160" y="1420920"/>
            <a:ext cx="854100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Критичность мышления, её показател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ценка (Где ошибка?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иагноз (В чём причина?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амоконтроль (Каковы недостатки?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ритика (Согласны ли вы? Опровергните. Приведите контраргументы.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гноз (Постройте прогноз.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 Подготовка специального содержания текст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Невысокий уровень сформированности у школьников умений самостоятельной работ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357120" y="428760"/>
          <a:ext cx="8329680" cy="6492600"/>
        </p:xfrm>
        <a:graphic>
          <a:graphicData uri="http://schemas.openxmlformats.org/drawingml/2006/table">
            <a:tbl>
              <a:tblPr/>
              <a:tblGrid>
                <a:gridCol w="2776680"/>
                <a:gridCol w="2776320"/>
                <a:gridCol w="2776680"/>
              </a:tblGrid>
              <a:tr h="80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тап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йствия преподавател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йствия учащих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16185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Вызов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актуализация субъектного опыта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Нарисуйте в тетрадях познавательный объект так, как вы его себе представляет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Каждый в тетради рисует познавательный объект так, как его себе представляет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184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Посмотрите на свой рисунок и вспомните всё, что вы знаете о познавательном объект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Вспоминают всё, что связано с рассматриваемым познавательным объектом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222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В тетради нарисуйте таблицу («маркировочную таблицу») с тремя одинаковыми колонками. Рисует на доске таблицу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Рисуют маркировочную таблицу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214200" y="214200"/>
          <a:ext cx="8715600" cy="6431040"/>
        </p:xfrm>
        <a:graphic>
          <a:graphicData uri="http://schemas.openxmlformats.org/drawingml/2006/table">
            <a:tbl>
              <a:tblPr/>
              <a:tblGrid>
                <a:gridCol w="2905200"/>
                <a:gridCol w="2905200"/>
                <a:gridCol w="2905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йствия преподавател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йствия учащих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16185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В левой колонке таблицы запишите всё, что вы знаете о познавательном объект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Записывают в левую колонку всё то, что вспомнили о познавательном объект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100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Обменяйтесь своими мнениями в пар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Обмениваются друг с другом своими знаниям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3448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Давайте обсудим то, что у нас получилось (Что же мы знаем о познавательном объекте?) Записывает на доске в левой колонке таблицы всё, что говорят учащиеся. Первая колонка таблицы маркируется словом «Знаю»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Каждый по очереди информирует класс о том, что он знает о рассматриваемом объекте. Левая колонка таблицы маркируется словом «Знаю». Дополняют записи в левой колонке таблицы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357120" y="285840"/>
          <a:ext cx="8329680" cy="6215040"/>
        </p:xfrm>
        <a:graphic>
          <a:graphicData uri="http://schemas.openxmlformats.org/drawingml/2006/table">
            <a:tbl>
              <a:tblPr/>
              <a:tblGrid>
                <a:gridCol w="2776680"/>
                <a:gridCol w="2776320"/>
                <a:gridCol w="2776680"/>
              </a:tblGrid>
              <a:tr h="87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тап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йствия преподава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йствия учащихс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2025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Осмысление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Предлагает учащимся классифицировать записанные на доске знания по каким-либо основаниям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Предполагают основания для классификации полученных об объекте сведений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31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На доске оформляется структурно-логическая схема (в соответствии с проведённой классификацией)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Записывают структурно-логическую схему, обсуждая вопрос о распределении по предложенным основаниям полученных на предыдущем этапе сведений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285840" y="214200"/>
          <a:ext cx="8572320" cy="6357960"/>
        </p:xfrm>
        <a:graphic>
          <a:graphicData uri="http://schemas.openxmlformats.org/drawingml/2006/table">
            <a:tbl>
              <a:tblPr/>
              <a:tblGrid>
                <a:gridCol w="2857320"/>
                <a:gridCol w="2857680"/>
                <a:gridCol w="2857320"/>
              </a:tblGrid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тап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йствия преподава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йствия учащихс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984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Чтение с пометками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Предлагает каждому ученику текст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Получают распечатку текст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4573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Даёт задание учащимся: читаем и делаем в тексте пометки (не более 10 минут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метки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v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»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-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знаю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-» - «противоречит моим первоначальным представлениям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?» - «хочу узнать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+» - «это для меня новое»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Читают текст и на полях делают предложенные учителем пометк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285840" y="285840"/>
          <a:ext cx="8572320" cy="6410160"/>
        </p:xfrm>
        <a:graphic>
          <a:graphicData uri="http://schemas.openxmlformats.org/drawingml/2006/table">
            <a:tbl>
              <a:tblPr/>
              <a:tblGrid>
                <a:gridCol w="2857320"/>
                <a:gridCol w="2857680"/>
                <a:gridCol w="2857320"/>
              </a:tblGrid>
              <a:tr h="71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йствия преподава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йствия учащихс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2838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Предлагает учащимся продолжить работу с маркировочной таблицей индивидуально. Маркирует две оставшиеся колонки таблицы: «Хочу узнать» и «Узнал новое»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Самостоятельно в тетрадях заполняют маркировочную таблицу в соответствии со сделанными в тексте пометками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285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Предлагает учащимся обсудить данные, записанные во второй колонке в ходе самостоятельной работы. Заполняет вместе с учащимися вторую колонку таблицы «Узнал новое»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Участвуют в обсуждени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285840" y="214200"/>
          <a:ext cx="8501040" cy="6370920"/>
        </p:xfrm>
        <a:graphic>
          <a:graphicData uri="http://schemas.openxmlformats.org/drawingml/2006/table">
            <a:tbl>
              <a:tblPr/>
              <a:tblGrid>
                <a:gridCol w="2833560"/>
                <a:gridCol w="2833560"/>
                <a:gridCol w="2833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йствия преподава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йствия учащихс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3143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Предлагает учащимся обсудить данные, записанные ими самостоятельно в третью колонку таблицы «Хочу узнать». Заполняет в ходе обсуждения третью  колонку таблицы на доск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Участвуют в обсуждени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25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Задаёт по ходу обсуждения вопросы учащимся: «Как вы думаете, из каких источников мы  можем об этом узнать?»,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У кого есть энциклопедия?» и др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Отвечают на вопросы учителя. Предлагают свои варианты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357120" y="428760"/>
          <a:ext cx="8329680" cy="6072120"/>
        </p:xfrm>
        <a:graphic>
          <a:graphicData uri="http://schemas.openxmlformats.org/drawingml/2006/table">
            <a:tbl>
              <a:tblPr/>
              <a:tblGrid>
                <a:gridCol w="2776680"/>
                <a:gridCol w="2776320"/>
                <a:gridCol w="2776680"/>
              </a:tblGrid>
              <a:tr h="120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йствия преподава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йствия учащихс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48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Даёт установку на домашнее задание: «К следующему уроку необходимо ответить на возникшие вопросы по поводу новой информации. Если возникнут затруднения, попробуем разобраться вместе»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Выбирают тему для сообщения в соответствии возникшими вопросами. Записывают домашнее задани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285840" y="285840"/>
          <a:ext cx="8572320" cy="6286320"/>
        </p:xfrm>
        <a:graphic>
          <a:graphicData uri="http://schemas.openxmlformats.org/drawingml/2006/table">
            <a:tbl>
              <a:tblPr/>
              <a:tblGrid>
                <a:gridCol w="2857320"/>
                <a:gridCol w="2857680"/>
                <a:gridCol w="2857320"/>
              </a:tblGrid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тап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йствия преподавате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йствия учащихс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191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Рефлексия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лагает учащимся разные способы инициирования рефлексии учащихс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одят рефлексию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2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Домашнее задание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лагает домашнее задание: напишите сказку (эссе и т.п.) (по выбору); составьте структурно-логическую схему с учётом новых знаний (по выбору учащихся)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бирают домашнее задани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2T11:42:17Z</dcterms:created>
  <dc:creator>я</dc:creator>
  <dc:description/>
  <dc:language>en-US</dc:language>
  <cp:lastModifiedBy>я</cp:lastModifiedBy>
  <dcterms:modified xsi:type="dcterms:W3CDTF">2009-01-10T11:33:42Z</dcterms:modified>
  <cp:revision>5</cp:revision>
  <dc:subject/>
  <dc:title>Системы действий учителя и учащихся</dc:title>
</cp:coreProperties>
</file>