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6B5F-46E3-441D-A441-D4CD15FE3E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8C72-C70E-4004-AC02-C1E2A03172B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2968-59DB-453F-85EA-5C345ED37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A34C-A8B3-4A7B-B188-0E0E98A7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6E77-CF63-4760-B1D6-DEE268B45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B3FB-81B6-4052-A7F6-02589B56D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72C3-3EFF-4915-8B9B-F7AC536FA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8CDE-3CB8-44C6-98D9-F471A40D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D0A7-2149-409C-89C9-8F42A9DF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9A8E-35AA-47DE-A91F-592747C2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B0C3-5FD6-4C43-A4B4-DA8509D0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1437-4364-4FC0-8342-A375DCD8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46DA-E58F-47BD-AA9E-41D34396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3D9A-EE82-43C4-A1C6-A519ECD4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5172-080F-46E2-95ED-C5786E77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5F35-0D0B-4A22-BEBF-30AFFEB3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6466-ED64-4F24-B7B0-DDF2AAF1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5D97-8FCE-4135-8DAE-06C688FFE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C447-BBA9-4ACB-9507-8587D257B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2CC4-8D59-42E0-B576-85E55AEB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4C6A-92F7-4E67-B6DF-6383F804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E0A5-6526-4234-A161-EC0C2120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A949-AAA1-4C23-A003-94E480AE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B721-699E-4D9F-BC4B-B46B6746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7571-E45A-4354-9650-2D7BDC87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9760-972E-4D2A-90C1-1320C566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3159-C750-41F5-950A-22D4283E7BA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1BD5-F7D4-40E4-9DC1-5588B44DB7C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-146160" y="1420920"/>
            <a:ext cx="854100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Критичность мышления, её показател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ценка (Где ошибка?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агноз (В чём причина?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амоконтроль (Каковы недостатки?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ритика (Согласны ли вы? Опровергните. Приведите контраргументы.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гноз (Постройте прогноз.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Подготовка специального содержания текст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Невысокий уровень сформированности у школьников умений самостоятельной рабо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357120" y="428760"/>
          <a:ext cx="8329680" cy="6492600"/>
        </p:xfrm>
        <a:graphic>
          <a:graphicData uri="http://schemas.openxmlformats.org/drawingml/2006/table">
            <a:tbl>
              <a:tblPr/>
              <a:tblGrid>
                <a:gridCol w="2776680"/>
                <a:gridCol w="2776320"/>
                <a:gridCol w="2776680"/>
              </a:tblGrid>
              <a:tr h="80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ап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ствия преподавател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ствия учащих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1618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Вызов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актуализация субъектного опыт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Нарисуйте в тетрадях познавательный объект так, как вы его себе представляет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Каждый в тетради рисует познавательный объект так, как его себе представляе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84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Посмотрите на свой рисунок и вспомните всё, что вы знаете о познавательном объект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Вспоминают всё, что связано с рассматриваемым познавательным объектом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2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В тетради нарисуйте таблицу («маркировочную таблицу») с тремя одинаковыми колонками. Рисует на доске таблицу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Рисуют маркировочную таблицу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214200" y="214200"/>
          <a:ext cx="8715600" cy="6431040"/>
        </p:xfrm>
        <a:graphic>
          <a:graphicData uri="http://schemas.openxmlformats.org/drawingml/2006/table">
            <a:tbl>
              <a:tblPr/>
              <a:tblGrid>
                <a:gridCol w="2905200"/>
                <a:gridCol w="2905200"/>
                <a:gridCol w="2905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ствия преподавател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ствия учащих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1618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В левой колонке таблицы запишите всё, что вы знаете о познавательном объект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Записывают в левую колонку всё то, что вспомнили о познавательном объект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Обменяйтесь своими мнениями в пар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Обмениваются друг с другом своими знаниям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44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Давайте обсудим то, что у нас получилось (Что же мы знаем о познавательном объекте?) Записывает на доске в левой колонке таблицы всё, что говорят учащиеся. Первая колонка таблицы маркируется словом «Знаю»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Каждый по очереди информирует класс о том, что он знает о рассматриваемом объекте. Левая колонка таблицы маркируется словом «Знаю». Дополняют записи в левой колонке таблиц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57120" y="285840"/>
          <a:ext cx="8329680" cy="6215040"/>
        </p:xfrm>
        <a:graphic>
          <a:graphicData uri="http://schemas.openxmlformats.org/drawingml/2006/table">
            <a:tbl>
              <a:tblPr/>
              <a:tblGrid>
                <a:gridCol w="2776680"/>
                <a:gridCol w="2776320"/>
                <a:gridCol w="2776680"/>
              </a:tblGrid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ап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ствия преподав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ствия учащих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2025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Осмысление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Предлагает учащимся классифицировать записанные на доске знания по каким-либо основаниям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Предполагают основания для классификации полученных об объекте сведений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31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На доске оформляется структурно-логическая схема (в соответствии с проведённой классификацией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Записывают структурно-логическую схему, обсуждая вопрос о распределении по предложенным основаниям полученных на предыдущем этапе сведений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85840" y="214200"/>
          <a:ext cx="8572320" cy="6357960"/>
        </p:xfrm>
        <a:graphic>
          <a:graphicData uri="http://schemas.openxmlformats.org/drawingml/2006/table">
            <a:tbl>
              <a:tblPr/>
              <a:tblGrid>
                <a:gridCol w="2857320"/>
                <a:gridCol w="2857680"/>
                <a:gridCol w="2857320"/>
              </a:tblGrid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ап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ствия преподав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ствия учащих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984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Чтение с пометками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Предлагает каждому ученику текс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Получают распечатку текст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457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Даёт задание учащимся: читаем и делаем в тексте пометки (не более 10 минут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метки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v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»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знаю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-» - «противоречит моим первоначальным представлениям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?» - «хочу узнать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+» - «это для меня новое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Читают текст и на полях делают предложенные учителем пометк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285840" y="285840"/>
          <a:ext cx="8572320" cy="6410160"/>
        </p:xfrm>
        <a:graphic>
          <a:graphicData uri="http://schemas.openxmlformats.org/drawingml/2006/table">
            <a:tbl>
              <a:tblPr/>
              <a:tblGrid>
                <a:gridCol w="2857320"/>
                <a:gridCol w="2857680"/>
                <a:gridCol w="2857320"/>
              </a:tblGrid>
              <a:tr h="71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ствия преподав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ствия учащих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2838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Предлагает учащимся продолжить работу с маркировочной таблицей индивидуально. Маркирует две оставшиеся колонки таблицы: «Хочу узнать» и «Узнал новое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Самостоятельно в тетрадях заполняют маркировочную таблицу в соответствии со сделанными в тексте пометками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85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Предлагает учащимся обсудить данные, записанные во второй колонке в ходе самостоятельной работы. Заполняет вместе с учащимися вторую колонку таблицы «Узнал новое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Участвуют в обсуждени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285840" y="214200"/>
          <a:ext cx="8501040" cy="6370920"/>
        </p:xfrm>
        <a:graphic>
          <a:graphicData uri="http://schemas.openxmlformats.org/drawingml/2006/table">
            <a:tbl>
              <a:tblPr/>
              <a:tblGrid>
                <a:gridCol w="2833560"/>
                <a:gridCol w="2833560"/>
                <a:gridCol w="283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ствия преподав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ствия учащих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14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Предлагает учащимся обсудить данные, записанные ими самостоятельно в третью колонку таблицы «Хочу узнать». Заполняет в ходе обсуждения третью  колонку таблицы на доск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Участвуют в обсуждени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5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Задаёт по ходу обсуждения вопросы учащимся: «Как вы думаете, из каких источников мы  можем об этом узнать?»,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У кого есть энциклопедия?» и др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Отвечают на вопросы учителя. Предлагают свои вариант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357120" y="428760"/>
          <a:ext cx="8329680" cy="6072120"/>
        </p:xfrm>
        <a:graphic>
          <a:graphicData uri="http://schemas.openxmlformats.org/drawingml/2006/table">
            <a:tbl>
              <a:tblPr/>
              <a:tblGrid>
                <a:gridCol w="2776680"/>
                <a:gridCol w="2776320"/>
                <a:gridCol w="2776680"/>
              </a:tblGrid>
              <a:tr h="120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ствия преподав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ствия учащих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48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Даёт установку на домашнее задание: «К следующему уроку необходимо ответить на возникшие вопросы по поводу новой информации. Если возникнут затруднения, попробуем разобраться вместе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Выбирают тему для сообщения в соответствии возникшими вопросами. Записывают домашнее задани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85840" y="285840"/>
          <a:ext cx="8572320" cy="6286320"/>
        </p:xfrm>
        <a:graphic>
          <a:graphicData uri="http://schemas.openxmlformats.org/drawingml/2006/table">
            <a:tbl>
              <a:tblPr/>
              <a:tblGrid>
                <a:gridCol w="2857320"/>
                <a:gridCol w="2857680"/>
                <a:gridCol w="285732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ап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ствия преподав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ствия учащих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191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Рефлексия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лагает учащимся разные способы инициирования рефлексии учащих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одят рефлекси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2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Домашнее задание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лагает домашнее задание: напишите сказку (эссе и т.п.) (по выбору); составьте структурно-логическую схему с учётом новых знаний (по выбору учащихся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ирают домашнее задани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2T11:42:17Z</dcterms:created>
  <dc:creator>я</dc:creator>
  <dc:description/>
  <dc:language>en-US</dc:language>
  <cp:lastModifiedBy>я</cp:lastModifiedBy>
  <dcterms:modified xsi:type="dcterms:W3CDTF">2009-01-10T11:33:42Z</dcterms:modified>
  <cp:revision>5</cp:revision>
  <dc:subject/>
  <dc:title>Системы действий учителя и учащихся</dc:title>
</cp:coreProperties>
</file>