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70736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707360"/>
            <a:ext cx="2771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70736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707360"/>
            <a:ext cx="8607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90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41240" y="2495520"/>
            <a:ext cx="4200480" cy="420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своих правах мы все равны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 взрослые и дети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се расы, веры, языки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се люди на план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90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5040360" cy="3600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80000" y="216072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В 2010 году в Кургане создан Центр дистанционного образования для детей с ограниченными возможностями здоровья, с 2011 года центр получил статус Государственное казенное общеобразовательное учреждение «Курганская областная средняя общеобразовательная школа дистанционного обучения детей-инвалид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Адрес: 640008, город Курган, улица Техническая,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айт: http://85.233.137.10/moodle18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090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1240" y="2101680"/>
            <a:ext cx="4200480" cy="4989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0000" y="2787120"/>
            <a:ext cx="456876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очему вам нравится здес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Здесь проходит много праздников для нас, а раньше в школу меня не пригла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У меня появились 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Я не боюсь ошиб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С учителем по скайпу можно пообщаться в люб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Здесь со мной общаются на ра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900000" y="2940120"/>
            <a:ext cx="375948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Учителя нашей школы — учителя дистанционной школы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219640" y="4500720"/>
            <a:ext cx="4200480" cy="2879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5580000"/>
            <a:ext cx="42004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акие учителя — дар бо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йснер Татья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39640" y="1979640"/>
            <a:ext cx="4200480" cy="3186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111640" y="2065320"/>
            <a:ext cx="46436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 marL="431640" indent="-323640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нникова Марина Юрь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питонова Елена Александр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митриева Елена Николаев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оицких Ольга Владимир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хипова Светлана Анатоль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рисова Наталья Михайл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90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редства для реализации проект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 спонсоры — наши роди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ни поддержали наш проект и обещали материальную поддерж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библиотеки учащихся наше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 заработок (решили провести ярмарку «Рисуем и читаем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Ожидаемые результат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е — учащиеся нашей  школы  узнают  о  областной дистанционной школе для детей — инвали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е — мы можнм стать друзьями. Наше внимание и участие помогут детям с инвалидностью   преодолевать препятствия общения, а нам самим стать более толерантными к людям, не таким как вс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е — обучающиеся дистанционной школы получать позитив,  хорошее настроение и новых др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ок реализации прое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1 июня 201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1680"/>
            <a:ext cx="860760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Дела могут быть любыми. 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Главное сказать «Нет!» равнодушию.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Содержимое 4" descr="103_0979.JPG"/>
          <p:cNvPicPr/>
          <p:nvPr/>
        </p:nvPicPr>
        <p:blipFill>
          <a:blip r:embed="rId1"/>
          <a:stretch/>
        </p:blipFill>
        <p:spPr>
          <a:xfrm>
            <a:off x="2611440" y="1922400"/>
            <a:ext cx="4821120" cy="3616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5851080"/>
            <a:ext cx="8107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пасибо за 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ОЦИАЛЬНЫЙ ПРОЕКТ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82920" y="2065320"/>
            <a:ext cx="4568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А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АВА 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АВНЫЕ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41240" y="2916360"/>
            <a:ext cx="4200480" cy="33606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469200" y="5565600"/>
            <a:ext cx="275256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 проекта: обучающиеся 3 А класса  МБ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ргана «СОШ 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301680"/>
            <a:ext cx="817884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 проекта – обратить внимание на проблемы людей с ограниченными возможностями здоровья и внести свой вклад в решение данной проблемы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Содержимое 7" descr="231.jpg"/>
          <p:cNvPicPr/>
          <p:nvPr/>
        </p:nvPicPr>
        <p:blipFill>
          <a:blip r:embed="rId1"/>
          <a:stretch/>
        </p:blipFill>
        <p:spPr>
          <a:xfrm>
            <a:off x="4057560" y="2255760"/>
            <a:ext cx="5126040" cy="3757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922040"/>
            <a:ext cx="3316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алидность — одна из человеческих особенностей̆, и чем больше мы будем о ней̆ знать, тем лучше мы сможем понимать людей̆, чьи возмож- ности  огранич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Задач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 узнать окружающих нас людей и их особенности для того, чтобы понимать друг друга, общаться, учиться вместе, д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документы, направленные на решение данной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сти посильный вклад в решение проблемы замкнутости детей с ограниченн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лан мероприятий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документы о правах детей, в частности о правах детей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опрос учителей, работающих в дистанционной школе и через них опросить реб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ть для обучающихся дистанционной школы подарки своими ру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кцию среди учащихся начальной школы «Моя книга — твоя книг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 силами обучающихся  3А и 7А классов концерт к Дню защиты детей и выступить перед  обучающимися дистанционно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ные подарки «Лучшим из вас от лучших из на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90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2400" y="5136840"/>
            <a:ext cx="488484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68360" y="636480"/>
            <a:ext cx="920916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90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58800" y="1800360"/>
            <a:ext cx="4200480" cy="27590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5040360"/>
            <a:ext cx="665964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— 194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итуция РФ — 199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о правах ребёнка — 1989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о правах инвалидов — 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468680" y="1851120"/>
            <a:ext cx="2340000" cy="32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80360" y="3959280"/>
            <a:ext cx="2405160" cy="325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968400" y="708120"/>
            <a:ext cx="25606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Региональная программа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«Разные дети ― равные возможности»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360" y="4859280"/>
            <a:ext cx="9360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годня в Зауралье зарегистрирован 2 тысячи 921 ребенок-инвалид. Их реабилитацию осуществляет семь специализированных учре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Проект "Равные права – равные возможности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Целевая программа для детей-инвалидов "Смогу жить самостоятельно" на 2011-2013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540160" y="1351080"/>
            <a:ext cx="435744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Инклюзивное образование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40880" y="2101680"/>
            <a:ext cx="4227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Курганской области будет открыто 10 базовых учреждений общего образования для совместного обучения детей с ограниченными физическими возможностями и здоровых детей.  - Инклюзивн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6" descr="обр.jpg"/>
          <p:cNvPicPr/>
          <p:nvPr/>
        </p:nvPicPr>
        <p:blipFill>
          <a:blip r:embed="rId1"/>
          <a:stretch/>
        </p:blipFill>
        <p:spPr>
          <a:xfrm>
            <a:off x="4908600" y="28512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7:35:56Z</dcterms:created>
  <dc:creator>Капитонвы</dc:creator>
  <dc:description/>
  <dc:language>en-US</dc:language>
  <cp:lastModifiedBy>Капитонвы</cp:lastModifiedBy>
  <dcterms:modified xsi:type="dcterms:W3CDTF">2013-04-14T18:30:23Z</dcterms:modified>
  <cp:revision>10</cp:revision>
  <dc:subject/>
  <dc:title>Слайд 1</dc:title>
</cp:coreProperties>
</file>