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A2B1D-7EAE-405A-AD45-D879C7DE3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F1539-7F77-443C-8147-D93472943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4303A-5CA7-4041-BD85-81F9FC396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D0D68-C80B-44F3-8912-5C0A06D8B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7868B-2B1C-4919-A139-7AB99BE00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0C0E1-41DE-4425-9389-182E3658E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CB4BF-A6BE-4701-831C-BE5D09764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E3070-D070-45A2-8B08-9E93841AE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3734C-F72B-4660-9959-42DD30970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DFF40-515F-4839-9C01-35A8799BA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70CA9-1E2D-492A-B172-80886AB47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EDB2E-5C1B-4014-A369-A24CBC021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B0E43-25C5-4149-A928-6C902A978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0C647-F36F-457C-B9DD-A5F349DDF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20A72-3782-4E0C-A730-759FBF6BB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5D706-0FF1-4214-AAEE-D777EE498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24333-A98F-4ED5-9A2F-19A8292D8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BA137C-BEB5-442A-B875-613C04380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04A67-2803-4849-9DA2-E132F7779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B2865-EDAB-4DE5-AE14-55B812135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89621-BBF2-46BB-B543-9273490BA3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868671-2665-49FD-A3F2-89981A38F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8D03-CDDE-4F84-A8B1-9FA7219D9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F1D39A-AEFD-46CC-92CB-4751667F7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D364D-CADE-4822-9E4F-722B886C5D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43F21-D16A-4909-957D-D6EEE0D5B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863663-BDFC-4B2B-AE10-C074505DE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26071-81C4-480E-8A8E-C9FE7908A9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CFB294-7844-46E8-A292-6045EA7298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C7CCD-4AEE-482B-ACF7-FBD248ECC2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0F000B-CB02-4F5A-8A42-A931DA145C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098E2-D55C-4B72-A8FA-29FE7A5C63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09CBD5-34AF-4700-B108-78505F19EC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4BF41-C59F-40D4-BC0F-3E154E126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7914C-87EC-45EB-A7B2-6708735CE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9D58A-A7B0-4CD9-B758-E76515AD5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5F82D-41BB-45B0-B944-798F9173E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A6DEE-BA32-4937-87F8-9B66F0B53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CC1818-44A6-47A6-875B-147E6E0A7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5231B-70CC-440B-8AC8-2893ECC6C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59E46-31D0-43CD-B89E-DEA448337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5C46A-B2DC-4FB3-8F4D-6E2C99501B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AB6E9A-8EA7-463B-8CC1-9DB7B0525F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6C7E37-38A6-4B32-813F-D081E06B14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D2588-A029-4876-9956-1BE12141F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548D8-3EDF-4C63-A3F5-E0E60FB63E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77C7C9-9BD5-4B93-984E-D0F938D433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B6597E-0119-4B0B-AF22-2A92B22B9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53A9BC-672F-41C6-85F8-8F2AA1A94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4F29AB-25BC-4ECD-B5CC-16F9A30F4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E72CA-17E0-41C1-8852-AD94DCA013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A9AD0-3552-436B-9D8C-A30F8AB75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29B21-88E7-4988-9B47-27049A50B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71413-4D18-4C68-9BFE-4673922C2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1500C5-A1D3-433F-B63E-15B79CB97E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31095-231A-429A-89DA-943BA4A7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AB2DF0-0823-46D7-BB73-812EDE9D41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CFE251-1183-44E3-90C9-1F4DE302AC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8A49DB-7AEF-4D09-8C1C-8CA3C93DB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9A190-A6A8-4F56-B69F-EC11D9758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0433F4-0524-4A19-B586-4B69D2783F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90FCAD-1621-4C39-8B57-B2695B2A1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F8850D-06DF-442C-AAF2-9A102315E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1B0BB-B985-40AA-963D-7A2F50331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D8074-5E7C-4A07-8F76-ABEE77DE9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0D1FF-87F1-4C23-878B-D08042AD8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DEA24-2458-478C-85C6-18F9D62A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60669-68C2-4236-B081-9A460FEC36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3802DF-18A7-46B7-9BDC-B2096D7262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56D4F9-3E6B-427F-895C-FA34FCC5D7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C7DE8E-BA14-423F-8896-D554BB0983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9AE7A-8671-4A14-BA2C-8DAED1918B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1CFD10-314D-41E3-A983-E58BD8E8F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FA5D9-580E-4E2B-8B27-370D6A0990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76D57-7233-4918-B4B6-C913CDC08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E1D2A3-9720-4AAA-81C1-3B030B783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ADB642-B20B-477A-9361-5D011299DE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56A0-AE2A-4AA7-9A9C-26553E24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1FEEF-7C7F-4637-AAAF-60C9777D86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0E49FB-4436-4403-BCFC-5F53C75AC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C299FC-34BE-4AF1-8DED-8EE3398434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14A36E-AE33-45F3-BC4F-2620A4389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CFF3DC-7A14-4A29-9EEE-8BA4604517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78AEF4-4AA1-4BE8-A9AA-3C5638392C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6A07B3-354B-499D-89E8-AEDC41DE13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160533-BE8F-4C0A-AEF1-363716FC9C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55B3E2-33B5-4313-87A6-C8A8B0F466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6503E-D068-4091-9AAB-ED371A3898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64B8E-F0AF-4086-A681-4365BAE8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6854B-FEC8-4BB0-AD10-7EECD5377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70474-05E0-431A-A3F7-081107F0A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9B5600-7A3F-48EB-B247-43340DAE8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9C3CB-D896-40AD-926B-87D20BFE5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E85E9-8E1D-4392-863E-37D4B7A12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F4DD9A-9E21-47CA-8ACC-CBB4DE4429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BB7C80-7740-4A7E-AADC-A2053D7C3D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Прямоугольный треугольник 13"/>
          <p:cNvGrpSpPr/>
          <p:nvPr/>
        </p:nvGrpSpPr>
        <p:grpSpPr>
          <a:xfrm>
            <a:off x="-6480" y="5791320"/>
            <a:ext cx="3402000" cy="1079280"/>
            <a:chOff x="-6480" y="5791320"/>
            <a:chExt cx="3402000" cy="1079280"/>
          </a:xfrm>
        </p:grpSpPr>
        <p:pic>
          <p:nvPicPr>
            <p:cNvPr id="3" name="Прямоугольный треугольник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Прямая соединительная линия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8F31-5FD6-482F-B5EA-F1F90BFF41C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Полилиния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Полилиния 19"/>
            <p:cNvGrpSpPr/>
            <p:nvPr/>
          </p:nvGrpSpPr>
          <p:grpSpPr>
            <a:xfrm>
              <a:off x="8640" y="4998600"/>
              <a:ext cx="9135360" cy="1865880"/>
              <a:chOff x="8640" y="4998600"/>
              <a:chExt cx="9135360" cy="1865880"/>
            </a:xfrm>
          </p:grpSpPr>
          <p:pic>
            <p:nvPicPr>
              <p:cNvPr id="52" name="Полилиния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Прямая соединительная линия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9743-D063-4484-8B5F-A239FB29D6FF}"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Прямоугольный треугольник 13"/>
          <p:cNvGrpSpPr/>
          <p:nvPr/>
        </p:nvGrpSpPr>
        <p:grpSpPr>
          <a:xfrm>
            <a:off x="-6480" y="5791320"/>
            <a:ext cx="3402000" cy="1079280"/>
            <a:chOff x="-6480" y="5791320"/>
            <a:chExt cx="3402000" cy="1079280"/>
          </a:xfrm>
        </p:grpSpPr>
        <p:pic>
          <p:nvPicPr>
            <p:cNvPr id="99"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133E-8D96-4E1C-99E1-60AB5B212E4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Прямоугольный треугольник 13"/>
          <p:cNvGrpSpPr/>
          <p:nvPr/>
        </p:nvGrpSpPr>
        <p:grpSpPr>
          <a:xfrm>
            <a:off x="-6480" y="5791320"/>
            <a:ext cx="3402000" cy="1079280"/>
            <a:chOff x="-6480" y="5791320"/>
            <a:chExt cx="3402000" cy="1079280"/>
          </a:xfrm>
        </p:grpSpPr>
        <p:pic>
          <p:nvPicPr>
            <p:cNvPr id="148"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9E6F-0ACF-48D1-9870-70A671FD101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EC82-4F9A-4684-B03E-5FE552F6031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Прямоугольный треугольник 13"/>
          <p:cNvGrpSpPr/>
          <p:nvPr/>
        </p:nvGrpSpPr>
        <p:grpSpPr>
          <a:xfrm>
            <a:off x="-6480" y="5791320"/>
            <a:ext cx="3402000" cy="1079280"/>
            <a:chOff x="-6480" y="5791320"/>
            <a:chExt cx="3402000" cy="1079280"/>
          </a:xfrm>
        </p:grpSpPr>
        <p:pic>
          <p:nvPicPr>
            <p:cNvPr id="236" name="Прямоугольный треугольник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Прямая соединительная линия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F662-8D48-4E37-A51F-A2BB3F8F3A5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EB4C-7335-4441-9576-12592FC5261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Прямоугольный треугольник 16"/>
          <p:cNvGrpSpPr/>
          <p:nvPr/>
        </p:nvGrpSpPr>
        <p:grpSpPr>
          <a:xfrm>
            <a:off x="-6480" y="5791320"/>
            <a:ext cx="3402000" cy="1079280"/>
            <a:chOff x="-6480" y="5791320"/>
            <a:chExt cx="3402000" cy="1079280"/>
          </a:xfrm>
        </p:grpSpPr>
        <p:pic>
          <p:nvPicPr>
            <p:cNvPr id="324" name="Прямоугольный треугольник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Прямая соединительная линия 18" descr=""/>
          <p:cNvPicPr/>
          <p:nvPr/>
        </p:nvPicPr>
        <p:blipFill>
          <a:blip r:embed="rId4"/>
          <a:stretch/>
        </p:blipFill>
        <p:spPr>
          <a:xfrm>
            <a:off x="-19080" y="5778360"/>
            <a:ext cx="3414600" cy="10987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55B7-93E6-4D99-A346-CDF839B3E89A}"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689040" y="1755720"/>
            <a:ext cx="825336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докладчики: </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ТРОШИНА Юлия Александровна</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64646"/>
                </a:solidFill>
                <a:latin typeface="Lucida Sans Unicode"/>
              </a:rPr>
              <a:t>ЕРМАКОВА Анастасия Андреевна</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00040" y="357120"/>
            <a:ext cx="8229600" cy="3571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4. Терроризм в Интернете</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По данным Национального антитеррористического комитета РФ, в настоящее время в мире действует около 5 тысяч интернет-сайтов, активно используемых террористами. Число порталов, обслуживающих террористов и их сторонников, постоянно растет.</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Рисунок 3" descr="Терроризм в интернете.jpg"/>
          <p:cNvPicPr/>
          <p:nvPr/>
        </p:nvPicPr>
        <p:blipFill>
          <a:blip r:embed="rId1"/>
          <a:stretch/>
        </p:blipFill>
        <p:spPr>
          <a:xfrm>
            <a:off x="1000080" y="3786120"/>
            <a:ext cx="3502080" cy="233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642960"/>
            <a:ext cx="8229600" cy="5364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5. Телефонны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Телефонный террорист преследует различные цели: отвлечение спецслужб от реальных заданий, срыв работы предприятий или организаций.</a:t>
            </a:r>
            <a:endParaRPr b="0" lang="en-US" sz="2700" spc="-1" strike="noStrike">
              <a:solidFill>
                <a:srgbClr val="000000"/>
              </a:solidFill>
              <a:latin typeface="Lucida Sans Unicode"/>
            </a:endParaRPr>
          </a:p>
        </p:txBody>
      </p:sp>
      <p:pic>
        <p:nvPicPr>
          <p:cNvPr id="387" name="Рисунок 3" descr="Телефонный терроризм.jpg"/>
          <p:cNvPicPr/>
          <p:nvPr/>
        </p:nvPicPr>
        <p:blipFill>
          <a:blip r:embed="rId1"/>
          <a:stretch/>
        </p:blipFill>
        <p:spPr>
          <a:xfrm>
            <a:off x="5143680" y="3000240"/>
            <a:ext cx="3468600" cy="269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714240"/>
            <a:ext cx="8229600" cy="52927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Терроризм - глобальная проблема:</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а) Касается всего человечества, затрагивая интересы и судьбы всех стран, народов и социальных слоев;</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б) Приводит к значительным экономическим и социальным проблемам, а в случаях обострения может угрожать всему существованию человеческой цивилизации;</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в) Требует для своего решения сотрудничества в общепланетном масштабе, совместных действий всех стран и народов.</a:t>
            </a:r>
            <a:r>
              <a:rPr b="0" lang="ru-RU"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Объект 3" descr=""/>
          <p:cNvPicPr/>
          <p:nvPr/>
        </p:nvPicPr>
        <p:blipFill>
          <a:blip r:embed="rId1"/>
          <a:stretch/>
        </p:blipFill>
        <p:spPr>
          <a:xfrm>
            <a:off x="1476360" y="836640"/>
            <a:ext cx="6413400" cy="48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Объект 3" descr=""/>
          <p:cNvPicPr/>
          <p:nvPr/>
        </p:nvPicPr>
        <p:blipFill>
          <a:blip r:embed="rId1"/>
          <a:stretch/>
        </p:blipFill>
        <p:spPr>
          <a:xfrm>
            <a:off x="1187280" y="620640"/>
            <a:ext cx="6989760" cy="5241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Объект 5" descr=""/>
          <p:cNvPicPr/>
          <p:nvPr/>
        </p:nvPicPr>
        <p:blipFill>
          <a:blip r:embed="rId1"/>
          <a:stretch/>
        </p:blipFill>
        <p:spPr>
          <a:xfrm>
            <a:off x="900000" y="1125360"/>
            <a:ext cx="762336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Объект 3" descr=""/>
          <p:cNvPicPr/>
          <p:nvPr/>
        </p:nvPicPr>
        <p:blipFill>
          <a:blip r:embed="rId1"/>
          <a:stretch/>
        </p:blipFill>
        <p:spPr>
          <a:xfrm>
            <a:off x="1187280" y="981000"/>
            <a:ext cx="68821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Объект 3" descr=""/>
          <p:cNvPicPr/>
          <p:nvPr/>
        </p:nvPicPr>
        <p:blipFill>
          <a:blip r:embed="rId1"/>
          <a:stretch/>
        </p:blipFill>
        <p:spPr>
          <a:xfrm>
            <a:off x="1042920" y="836640"/>
            <a:ext cx="725508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Объект 3" descr=""/>
          <p:cNvPicPr/>
          <p:nvPr/>
        </p:nvPicPr>
        <p:blipFill>
          <a:blip r:embed="rId1"/>
          <a:stretch/>
        </p:blipFill>
        <p:spPr>
          <a:xfrm>
            <a:off x="1403280" y="692280"/>
            <a:ext cx="6797880" cy="5099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Объект 3" descr=""/>
          <p:cNvPicPr/>
          <p:nvPr/>
        </p:nvPicPr>
        <p:blipFill>
          <a:blip r:embed="rId1"/>
          <a:stretch/>
        </p:blipFill>
        <p:spPr>
          <a:xfrm>
            <a:off x="1403280" y="765000"/>
            <a:ext cx="653256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539640" y="69228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Терроризм - </a:t>
            </a:r>
            <a:r>
              <a:rPr b="0" lang="ru-RU" sz="2500" spc="-1" strike="noStrike">
                <a:solidFill>
                  <a:srgbClr val="000000"/>
                </a:solidFill>
                <a:latin typeface="Lucida Sans Unicode"/>
              </a:rPr>
              <a:t>политика, основанная на систематическом применении террора.</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Суть терроризма - </a:t>
            </a:r>
            <a:r>
              <a:rPr b="0" lang="ru-RU" sz="2500" spc="-1" strike="noStrike">
                <a:solidFill>
                  <a:srgbClr val="000000"/>
                </a:solidFill>
                <a:latin typeface="Lucida Sans Unicode"/>
              </a:rPr>
              <a:t>насилие с целью устрашения.</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Субъект террористического насилия</a:t>
            </a:r>
            <a:r>
              <a:rPr b="0" lang="ru-RU" sz="2500" spc="-1" strike="noStrike">
                <a:solidFill>
                  <a:srgbClr val="000000"/>
                </a:solidFill>
                <a:latin typeface="Lucida Sans Unicode"/>
              </a:rPr>
              <a:t> — являются отдельные лица или неправительственные организации.</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Lucida Sans Unicode"/>
              </a:rPr>
              <a:t>  </a:t>
            </a:r>
            <a:r>
              <a:rPr b="1" lang="ru-RU" sz="2500" spc="-1" strike="noStrike">
                <a:solidFill>
                  <a:srgbClr val="000000"/>
                </a:solidFill>
                <a:latin typeface="Lucida Sans Unicode"/>
              </a:rPr>
              <a:t>Объект насилия</a:t>
            </a:r>
            <a:r>
              <a:rPr b="0" lang="ru-RU" sz="2500" spc="-1" strike="noStrike">
                <a:solidFill>
                  <a:srgbClr val="000000"/>
                </a:solidFill>
                <a:latin typeface="Lucida Sans Unicode"/>
              </a:rPr>
              <a:t> - власть в лице отдельных государственных служащих или общество в лице отдельных граждан (в том числе иностранцев, или госслужащих иных государств), кроме того - частное и государственное имущество, инфраструктуры, системы жизнеобеспечения.</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Объект 3" descr=""/>
          <p:cNvPicPr/>
          <p:nvPr/>
        </p:nvPicPr>
        <p:blipFill>
          <a:blip r:embed="rId1"/>
          <a:stretch/>
        </p:blipFill>
        <p:spPr>
          <a:xfrm>
            <a:off x="1835280" y="404640"/>
            <a:ext cx="5905440" cy="59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500040" y="78588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Цель террористического насилия</a:t>
            </a:r>
            <a:r>
              <a:rPr b="0" lang="ru-RU" sz="2700" spc="-1" strike="noStrike">
                <a:solidFill>
                  <a:srgbClr val="000000"/>
                </a:solidFill>
                <a:latin typeface="Lucida Sans Unicode"/>
              </a:rPr>
              <a:t> - добиться желательного для террористов развития событий - революции, дестабилизации общества, развязывания войны с иностранным государством, обретения независимости некоторой территорией, падения престижа власти, политических уступок со стороны власти, оказание воздействия на принятие решений органами власти для достижений политических или корыстных требований.</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Социально-экономические причины</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1) заметное снижение жизненного уровня, в сочетании с возросшим социальным неравенством;</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2) экономический и энергетический кризис, рост цен, инфляция;</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3) кризисное положение ряда социальных и профессиональных групп;</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4) рост безработицы;</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5) широкое распространение среди населения оружия, военной подготовки и специфических военных умонастроений;</a:t>
            </a:r>
            <a:r>
              <a:rPr b="0" lang="ru-RU" sz="1900" spc="-1" strike="noStrike">
                <a:solidFill>
                  <a:srgbClr val="000000"/>
                </a:solidFill>
                <a:latin typeface="Lucida Sans Unicode"/>
              </a:rPr>
              <a:t>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6) национальное самоутверждение;</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7) распространение средствами массовой информации идей и взглядов, ведущих к росту насилия, неравенства и нетерпимости, внушение населению всесильности и вседозволенности террористов и др.</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75" name="Заголовок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28760" y="356760"/>
            <a:ext cx="8229600" cy="60008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Политические причины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Lucida Sans Unicode"/>
              </a:rPr>
              <a:t>    </a:t>
            </a:r>
            <a:r>
              <a:rPr b="0" lang="ru-RU" sz="1800" spc="-1" strike="noStrike">
                <a:solidFill>
                  <a:srgbClr val="000000"/>
                </a:solidFill>
                <a:latin typeface="Lucida Sans Unicode"/>
              </a:rPr>
              <a:t>1) репрессии со стороны правящей элиты по отношению к оппозиционным политическим партиям;</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2) навязывание правящей элитой нетрадиционных для данного общества социально-политических нововведений;</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3) обострение внутриполитических конфликтов внутри самого государства;</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4) столкновение политических интересов двух государств в каком-либо регионе;</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5) ошибки в национальной политике, допускаемые правительством;</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6) целенаправленное разжигание национальной розни отдельными людьми, группами, партиями (к примеру, движение ваххабитов);</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7) агрессия в отношении другого государства и его оккупация в большинстве случаев влечет за собой вооруженное сопротивление мирного населения (партизан), использующего террористические методы (взрывы важных объектов, поджоги и т.д.);</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8) поощрение терроризма на уровне государственной политики, как это делают Ливия, Иран, Ирак, Афганистан;</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    </a:t>
            </a:r>
            <a:r>
              <a:rPr b="0" lang="ru-RU" sz="1800" spc="-1" strike="noStrike">
                <a:solidFill>
                  <a:srgbClr val="000000"/>
                </a:solidFill>
                <a:latin typeface="Lucida Sans Unicode"/>
              </a:rPr>
              <a:t>9) недовольство деятельностью правительства иностранных государств, в связи с чем, совершаются террористические акты против его представителей и учреждений.</a:t>
            </a:r>
            <a:r>
              <a:rPr b="1" lang="ru-RU"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571680"/>
            <a:ext cx="8229600" cy="5435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Lucida Sans Unicode"/>
              </a:rPr>
              <a:t>   </a:t>
            </a:r>
            <a:r>
              <a:rPr b="1" lang="ru-RU" sz="1900" spc="-1" strike="noStrike">
                <a:solidFill>
                  <a:srgbClr val="000000"/>
                </a:solidFill>
                <a:latin typeface="Lucida Sans Unicode"/>
              </a:rPr>
              <a:t>Религиозные причины.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Lucida Sans Unicode"/>
              </a:rPr>
              <a:t>   </a:t>
            </a:r>
            <a:r>
              <a:rPr b="0" lang="ru-RU" sz="1900" spc="-1" strike="noStrike">
                <a:solidFill>
                  <a:srgbClr val="000000"/>
                </a:solidFill>
                <a:latin typeface="Lucida Sans Unicode"/>
              </a:rPr>
              <a:t>В настоящее время существуют </a:t>
            </a:r>
            <a:br>
              <a:rPr sz="1900"/>
            </a:br>
            <a:r>
              <a:rPr b="0" lang="ru-RU" sz="1900" spc="-1" strike="noStrike">
                <a:solidFill>
                  <a:srgbClr val="000000"/>
                </a:solidFill>
                <a:latin typeface="Lucida Sans Unicode"/>
              </a:rPr>
              <a:t>религиозные течения, пропагандирующие насилие.</a:t>
            </a:r>
            <a:br>
              <a:rPr sz="1900"/>
            </a:br>
            <a:r>
              <a:rPr b="0" lang="ru-RU" sz="1900" spc="-1" strike="noStrike">
                <a:solidFill>
                  <a:srgbClr val="000000"/>
                </a:solidFill>
                <a:latin typeface="Lucida Sans Unicode"/>
              </a:rPr>
              <a:t>Самым распространенным из них является ваххабизм (радикальное течение ислама. </a:t>
            </a:r>
            <a:br>
              <a:rPr sz="1900"/>
            </a:br>
            <a:r>
              <a:rPr b="0" lang="ru-RU" sz="1900" spc="-1" strike="noStrike">
                <a:solidFill>
                  <a:srgbClr val="000000"/>
                </a:solidFill>
                <a:latin typeface="Lucida Sans Unicode"/>
              </a:rPr>
              <a:t>Берет свое начало в 18 веке в Саудовской Аравии. Основателем является Ибн Абдаль Вахаб.</a:t>
            </a:r>
            <a:br>
              <a:rPr sz="1900"/>
            </a:br>
            <a:br>
              <a:rPr sz="1900"/>
            </a:br>
            <a:r>
              <a:rPr b="0" lang="ru-RU" sz="1900" spc="-1" strike="noStrike">
                <a:solidFill>
                  <a:srgbClr val="000000"/>
                </a:solidFill>
                <a:latin typeface="Lucida Sans Unicode"/>
              </a:rPr>
              <a:t>Именно он определил главных врагов настоящих мусульман - это иудеи и христиане. </a:t>
            </a:r>
            <a:br>
              <a:rPr sz="1900"/>
            </a:br>
            <a:r>
              <a:rPr b="0" lang="ru-RU" sz="1900" spc="-1" strike="noStrike">
                <a:solidFill>
                  <a:srgbClr val="000000"/>
                </a:solidFill>
                <a:latin typeface="Lucida Sans Unicode"/>
              </a:rPr>
              <a:t>С ними следует вести войну - джихад. Все, кто не следуют шариату, заслуживают смерти. </a:t>
            </a:r>
            <a:br>
              <a:rPr sz="1900"/>
            </a:br>
            <a:r>
              <a:rPr b="0" lang="ru-RU" sz="1900" spc="-1" strike="noStrike">
                <a:solidFill>
                  <a:srgbClr val="000000"/>
                </a:solidFill>
                <a:latin typeface="Lucida Sans Unicode"/>
              </a:rPr>
              <a:t>Также есть ещё одна интересная мысль: ислам моложе христианства на 8 веков.</a:t>
            </a:r>
            <a:br>
              <a:rPr sz="1900"/>
            </a:br>
            <a:r>
              <a:rPr b="0" lang="ru-RU" sz="1900" spc="-1" strike="noStrike">
                <a:solidFill>
                  <a:srgbClr val="000000"/>
                </a:solidFill>
                <a:latin typeface="Lucida Sans Unicode"/>
              </a:rPr>
              <a:t>Значит, у мусульман сейчас идет приблизительно 13 век.</a:t>
            </a:r>
            <a:br>
              <a:rPr sz="1900"/>
            </a:br>
            <a:br>
              <a:rPr sz="1900"/>
            </a:br>
            <a:r>
              <a:rPr b="0" lang="ru-RU" sz="1900" spc="-1" strike="noStrike">
                <a:solidFill>
                  <a:srgbClr val="000000"/>
                </a:solidFill>
                <a:latin typeface="Lucida Sans Unicode"/>
              </a:rPr>
              <a:t>Если провести параллель с Европой, то в 13 веке там царили</a:t>
            </a:r>
            <a:br>
              <a:rPr sz="1900"/>
            </a:br>
            <a:r>
              <a:rPr b="0" lang="ru-RU" sz="1900" spc="-1" strike="noStrike">
                <a:solidFill>
                  <a:srgbClr val="000000"/>
                </a:solidFill>
                <a:latin typeface="Lucida Sans Unicode"/>
              </a:rPr>
              <a:t>инквизиция, а по сути это та же борьба с неверными.</a:t>
            </a:r>
            <a:br>
              <a:rPr sz="1900"/>
            </a:br>
            <a:r>
              <a:rPr b="0" lang="ru-RU" sz="1900" spc="-1" strike="noStrike">
                <a:solidFill>
                  <a:srgbClr val="000000"/>
                </a:solidFill>
                <a:latin typeface="Lucida Sans Unicode"/>
              </a:rPr>
              <a:t>Коран отрицает насилие. Заповедь "не убий" есть и в исламе.</a:t>
            </a:r>
            <a:br>
              <a:rPr sz="1900"/>
            </a:br>
            <a:r>
              <a:rPr b="0" lang="ru-RU" sz="1900" spc="-1" strike="noStrike">
                <a:solidFill>
                  <a:srgbClr val="000000"/>
                </a:solidFill>
                <a:latin typeface="Lucida Sans Unicode"/>
              </a:rPr>
              <a:t>В большинстве случаев террористы лишь прикрывают </a:t>
            </a:r>
            <a:br>
              <a:rPr sz="1900"/>
            </a:br>
            <a:r>
              <a:rPr b="0" lang="ru-RU" sz="1900" spc="-1" strike="noStrike">
                <a:solidFill>
                  <a:srgbClr val="000000"/>
                </a:solidFill>
                <a:latin typeface="Lucida Sans Unicode"/>
              </a:rPr>
              <a:t>свои истинные намерения религиозными лозунгами.</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1. Националистически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Террористы этого вида обычно ставят своей целью формирование отдельного государства для своей этнической группы. Они называют это "национальным освобождением", про которое, по их мнению весь остальной мир забыл. Этот вид террористов часто завоевывает симпатии на международной арене.</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Заголовок 2" descr=""/>
          <p:cNvPicPr/>
          <p:nvPr/>
        </p:nvPicPr>
        <p:blipFill>
          <a:blip r:embed="rId1"/>
          <a:stretch/>
        </p:blipFill>
        <p:spPr>
          <a:xfrm>
            <a:off x="231840" y="128520"/>
            <a:ext cx="8454960" cy="129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Рисунок 3" descr="терроризм анархистов.jpeg"/>
          <p:cNvPicPr/>
          <p:nvPr/>
        </p:nvPicPr>
        <p:blipFill>
          <a:blip r:embed="rId1">
            <a:lum bright="22000"/>
          </a:blip>
          <a:stretch/>
        </p:blipFill>
        <p:spPr>
          <a:xfrm>
            <a:off x="6286680" y="214200"/>
            <a:ext cx="2579400" cy="1935360"/>
          </a:xfrm>
          <a:prstGeom prst="rect">
            <a:avLst/>
          </a:prstGeom>
          <a:ln w="0">
            <a:noFill/>
          </a:ln>
        </p:spPr>
      </p:pic>
      <p:sp>
        <p:nvSpPr>
          <p:cNvPr id="381" name=""/>
          <p:cNvSpPr txBox="1"/>
          <p:nvPr/>
        </p:nvSpPr>
        <p:spPr>
          <a:xfrm>
            <a:off x="457200" y="1856880"/>
            <a:ext cx="6757920" cy="41497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Lucida Sans Unicode"/>
              </a:rPr>
              <a:t>  </a:t>
            </a:r>
            <a:r>
              <a:rPr b="1" lang="ru-RU" sz="2300" spc="-1" strike="noStrike">
                <a:solidFill>
                  <a:srgbClr val="000000"/>
                </a:solidFill>
                <a:latin typeface="Lucida Sans Unicode"/>
              </a:rPr>
              <a:t>2. Терроризм анархистов</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Lucida Sans Unicode"/>
              </a:rPr>
              <a:t>	</a:t>
            </a:r>
            <a:r>
              <a:rPr b="0" lang="ru-RU" sz="2300" spc="-1" strike="noStrike">
                <a:solidFill>
                  <a:srgbClr val="000000"/>
                </a:solidFill>
                <a:latin typeface="Lucida Sans Unicode"/>
              </a:rPr>
              <a:t>Террористы-анархисты были глобальным феноменом с 1870-х по 1920-е годы. Один из президентов США Вильям Макинли был убит анархистом в 1901 году. Наличие социальных групп, отличающихся от своих ближних и дальних соседей высоким уровнем материального благосостояния и культуры, а также, в силу своей политической, экономической и военной мощи либо иных возможностей диктующих свою волю другим странам и социальным труппам. </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00240"/>
            <a:ext cx="8229600" cy="30067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Lucida Sans Unicode"/>
              </a:rPr>
              <a:t>  </a:t>
            </a:r>
            <a:r>
              <a:rPr b="1" lang="ru-RU" sz="2700" spc="-1" strike="noStrike">
                <a:solidFill>
                  <a:srgbClr val="000000"/>
                </a:solidFill>
                <a:latin typeface="Lucida Sans Unicode"/>
              </a:rPr>
              <a:t>3. Социальный терроризм</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  </a:t>
            </a:r>
            <a:r>
              <a:rPr b="0" lang="ru-RU" sz="2700" spc="-1" strike="noStrike">
                <a:solidFill>
                  <a:srgbClr val="000000"/>
                </a:solidFill>
                <a:latin typeface="Lucida Sans Unicode"/>
              </a:rPr>
              <a:t>Социальный терроризм формируется на основе более глубоких внутренних социально-политических конфликтов и проявляется в двух основных формах: левого и правого терроризма.</a:t>
            </a:r>
            <a:endParaRPr b="0" lang="en-US" sz="2700" spc="-1" strike="noStrike">
              <a:solidFill>
                <a:srgbClr val="000000"/>
              </a:solidFill>
              <a:latin typeface="Lucida Sans Unicode"/>
            </a:endParaRPr>
          </a:p>
        </p:txBody>
      </p:sp>
      <p:pic>
        <p:nvPicPr>
          <p:cNvPr id="383" name="Рисунок 3" descr="социальный терроризм.jpg"/>
          <p:cNvPicPr/>
          <p:nvPr/>
        </p:nvPicPr>
        <p:blipFill>
          <a:blip r:embed="rId1"/>
          <a:stretch/>
        </p:blipFill>
        <p:spPr>
          <a:xfrm>
            <a:off x="5357880" y="428760"/>
            <a:ext cx="3286080" cy="24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09:28:54Z</dcterms:created>
  <dc:creator>СиницинОА</dc:creator>
  <dc:description/>
  <dc:language>en-US</dc:language>
  <cp:lastModifiedBy>Андрей</cp:lastModifiedBy>
  <dcterms:modified xsi:type="dcterms:W3CDTF">2012-12-04T17:46:08Z</dcterms:modified>
  <cp:revision>13</cp:revision>
  <dc:subject/>
  <dc:title>Терроризм – угроза человечеству XXI века</dc:title>
</cp:coreProperties>
</file>