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8A55-F4ED-449A-9708-9B039954C5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C9E9-1695-4F0B-AD78-727A5FCB88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BB7-5D6F-4161-B04C-5EA7D307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A22-502E-4C9C-811A-6A58292C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BC4DF-063A-49D7-B35A-6A2F8B2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CBC2E-00C9-4EC1-A2D6-CEECAEC9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B61D5-04A0-4B41-A381-13C30C3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1345-9DC2-4A99-B1AD-A8A2E3EE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3E243-8CD4-4667-B853-36F631A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32D8E-BC9A-4943-BD31-154B6191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F8E34-D829-4047-BC38-50369FCC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7DFFF-0161-46ED-8415-678D9EA1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97183-1857-4D3B-998D-D04C4BD1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AD7-249B-4E3B-B72B-6968660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5E6-CA73-4852-9A20-1C9C8341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03C6-096B-496C-9792-B9C7D6FC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741B-726A-40A3-93AD-66BB9B8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0908-E28E-48E1-9D88-8E46892A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8AB-932C-4B87-BAA7-008FB9C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F7C-4F43-4CA9-8A6D-662A3D1D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051-F99A-47B3-8A95-942EE9F0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F6AB-A26F-44B4-9940-21D45FA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F22-7277-460B-B283-91CF461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5FEA-BBD0-4367-9C9D-157C35B9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E113-F1BD-427C-949A-CB1D35D3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A9E2-CC8F-477D-9E11-1054651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5995-AB39-40B8-8DD1-B7E968CD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4BD-3D59-4178-A09E-3AC25690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8B68E-656E-4824-9104-EEAD6E39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8B54-1C20-4D66-8CDA-6AB699D8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ACEC-6B90-424D-BD32-2D8A549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EE34-A9EF-4973-9742-38628802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32D9-D0A5-427A-919A-2D636203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EC2-E8D4-47A5-B2EF-50AD323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C179-1194-46CA-8999-D78818A0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F570-A97D-4BC9-AC25-45E4D18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BCEB-9D7F-4F0E-84C0-7D01B010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C24F6-3097-484B-B55B-CF6555DD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DA9A3-E575-48AC-A47B-ADC24095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4C99-E547-4479-87F7-8BEAB4A5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773D-B9B0-40C7-AE03-423F143E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9F4D1-AE4C-4BDA-AB0F-59C34838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63BE6-DF1D-4342-AC8F-9661E38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5BE1-26A2-4CA8-9687-64FCA85E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DD0-1AB9-4AE0-95CC-D6841079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DC206-D62B-4597-BA27-DD4ED87F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F3B10-4463-4D01-B461-C37E9A0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4A15-06AF-41B0-9CE3-E133F74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33303-5CB3-46A6-AE1E-74FA4B0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BD2D-9235-4D1E-8BE3-3FADD75A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C586-D494-4784-B06B-F20731D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8F7F-AD08-4ED1-8335-CEC4B8DF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56D8-C48C-40B3-8F85-867A5A24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99561-34C8-4562-9516-338703B2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6671E-8CAD-414D-AF66-82EEDA75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FDD-39B1-4C12-96DB-7D16677D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1D3D-9ECD-4CDA-AE4B-59BD4E1E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255A-6EF4-4525-AEC4-3D2234DA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AF48-9827-4A98-9C17-1E205AA0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105B2-8E8F-4C4D-93E2-5EEB2FFD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F13D-9B37-4529-9916-35F77420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086F8-E0D0-4836-AD0F-809490E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9308-425D-4737-A740-7F1EC16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80417-9811-4776-8B62-2FA84354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6C6B-A5D8-42CA-AA4C-496E6E43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E7245-DF60-46DA-B4B2-B509D542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CE5-40D4-4A8F-B550-DA926A56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FEFF-2BB4-47DD-9436-C1ED087E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C0A8F-D603-4358-BC15-DFA9E60E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681F-3180-4381-BD68-4778179C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06CE2-541D-49C1-8FA3-3E1251C5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25FB-4049-4038-88D0-6E5FE1F3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63706-BF40-4CC9-BF5C-B4A662AA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AFB5-558E-4F2A-B333-BD0230B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41F1-834B-4AAE-9427-5BF9BB67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A069E-C1EF-4878-827E-35D880C8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F314-3053-45C6-B33A-4B1BF93D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A5E-F53C-471E-9323-C25CB7A3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297F4-91D3-4D4F-832B-47EE061A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B3615-F3AA-4932-8242-7A35B811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0B82-C1EC-46DE-A7B1-53645DE8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4FAE6-D85F-4B44-8A6D-2EE68071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4241B-3C2F-4E6D-897C-6EC86563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DD049-8638-451E-B20A-BFDCC3E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4FED-0FB8-4D27-8645-AF6181F1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5FBF-B364-4E11-931A-67F9AEB0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1878-8005-4C9D-855C-E2C0F8D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83DE-27AC-4676-B477-3F8121D2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CF9-DC0C-4101-91EE-68481E90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52888-A0EE-421D-8D0B-EE7E7C4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D412-7DB2-4502-9946-88EC6FD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B468-0854-4ED4-88EC-8AE81AC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CAEF-BB2C-4734-8E5E-CD1E550C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09120-EDD5-4C1B-8B21-33414AE1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FCB3E-A857-49D8-AE2C-C0CD7D0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21916-9E05-43A7-AFDD-9F525A07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16DE-926A-4154-BDC9-4CBF2C61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AEFA-FE7A-4CA1-838D-50D106EA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F114-EFA5-4A96-B207-1543BBD6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1BE-7B44-4304-AF7B-26F7D040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3F9A5-43E1-4A18-B3A1-709148EF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0CF6A-9D04-4CB6-9DB1-B4380900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B8CD5-91D5-4E64-A413-41663223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F4306-945D-4053-A6F7-CB433B7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8FDF8-06D7-440E-B81A-9CAA434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792FE-A7C6-4529-AB5C-3DE8D47C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1733A-F2CA-4B31-8BFF-361E28F8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83E1F-282D-41E1-82DA-D0C8CD59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E8272-839B-46F7-89C8-4BAEFBE1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4A8D0-D99C-40C2-91F6-02DB73EF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D5B4-B4B9-473D-85F2-02FD7FA0022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5FB7-B0D1-4D22-8134-53879A20D3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2270-C6B5-427A-AA55-7D97D5AAB6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BAE-EBB9-4660-B477-2857313D65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879-0596-422A-9786-35AF1894DD8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BBD0-37A8-48B5-BF0C-2FDB79E164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111-AE06-4EE8-9A7E-1FDB02AFA7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7F3-9BCB-4DB1-BAE6-3DFD2718F7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79D-BB4C-4E18-891A-2704A75491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128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204.jpg"/>
          <p:cNvPicPr/>
          <p:nvPr/>
        </p:nvPicPr>
        <p:blipFill>
          <a:blip r:embed="rId2"/>
          <a:stretch/>
        </p:blipFill>
        <p:spPr>
          <a:xfrm>
            <a:off x="324000" y="1197000"/>
            <a:ext cx="4608360" cy="336852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4" descr="costa_magica.jpg"/>
          <p:cNvPicPr/>
          <p:nvPr/>
        </p:nvPicPr>
        <p:blipFill>
          <a:blip r:embed="rId3"/>
          <a:stretch/>
        </p:blipFill>
        <p:spPr>
          <a:xfrm>
            <a:off x="3851280" y="3429000"/>
            <a:ext cx="49500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pic>
        <p:nvPicPr>
          <p:cNvPr id="410" name="We All Go Traveling By (US).mp4" descr=""/>
          <p:cNvPicPr/>
          <p:nvPr/>
        </p:nvPicPr>
        <p:blipFill>
          <a:blip r:embed="rId2"/>
          <a:stretch/>
        </p:blipFill>
        <p:spPr>
          <a:xfrm>
            <a:off x="468360" y="1125360"/>
            <a:ext cx="8246880" cy="51120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4004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Placeholder 4" descr=""/>
          <p:cNvPicPr/>
          <p:nvPr/>
        </p:nvPicPr>
        <p:blipFill>
          <a:blip r:embed="rId1"/>
          <a:stretch/>
        </p:blipFill>
        <p:spPr>
          <a:xfrm>
            <a:off x="3492360" y="609480"/>
            <a:ext cx="5061240" cy="6980400"/>
          </a:xfrm>
          <a:prstGeom prst="rect">
            <a:avLst/>
          </a:prstGeom>
          <a:ln w="0">
            <a:noFill/>
          </a:ln>
        </p:spPr>
      </p:pic>
      <p:pic>
        <p:nvPicPr>
          <p:cNvPr id="412" name="Title 3" descr=""/>
          <p:cNvPicPr/>
          <p:nvPr/>
        </p:nvPicPr>
        <p:blipFill>
          <a:blip r:embed="rId2"/>
          <a:stretch/>
        </p:blipFill>
        <p:spPr>
          <a:xfrm>
            <a:off x="122400" y="4748040"/>
            <a:ext cx="6132240" cy="13906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80520" y="4723920"/>
            <a:ext cx="5867640" cy="15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Tanya\Pictures\imagesCANVYQ79.jpg"/>
          <p:cNvPicPr/>
          <p:nvPr/>
        </p:nvPicPr>
        <p:blipFill>
          <a:blip r:embed="rId3"/>
          <a:stretch/>
        </p:blipFill>
        <p:spPr>
          <a:xfrm>
            <a:off x="3492360" y="260280"/>
            <a:ext cx="5085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79280" y="836640"/>
            <a:ext cx="862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Franklin Gothic Book"/>
              </a:rPr>
              <a:t>Guess the word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1. It’s a special place  for train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Railway Statio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2. It’s a long trip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Journe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3. It’s a trip  by sea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Voyag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4. It’s a ticket for one way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Single ticket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5. It’s a place near the sea or ocea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Seasid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6. It’s a train without changes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Franklin Gothic Book"/>
              </a:rPr>
              <a:t>A through trai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8467920" cy="1384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Franklin Gothic Book"/>
              </a:rPr>
              <a:t>Explain the words given below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Sea  Port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Ship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Return ticket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Luggage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Hotel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7030a0"/>
                </a:solidFill>
                <a:latin typeface="Franklin Gothic Book"/>
              </a:rPr>
              <a:t>Fantastic</a:t>
            </a:r>
            <a:endParaRPr b="0" lang="en-US" sz="3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7:14:01Z</dcterms:created>
  <dc:creator>Admin</dc:creator>
  <dc:description/>
  <dc:language>en-US</dc:language>
  <cp:lastModifiedBy>Tanya</cp:lastModifiedBy>
  <dcterms:modified xsi:type="dcterms:W3CDTF">2013-04-13T20:40:19Z</dcterms:modified>
  <cp:revision>31</cp:revision>
  <dc:subject/>
  <dc:title>The Pleasure Of Travelling</dc:title>
</cp:coreProperties>
</file>