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6B0E-3D08-4C49-A546-DEB02F157D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50B0-C71B-46CB-B3FA-92DE22E9CA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834E-BE2E-4ECA-A348-86E4F594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9C0A-63F5-4FD9-8146-5D185A94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2EE68-C10F-4BB4-B9A9-44E7A09A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0D940-FCC7-4875-B05D-8B4AE775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87CFA-0455-4EDE-896D-C510D2E8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6EC0C-0052-4158-B24D-66580B80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C9E63-6B21-4C2F-9D40-15D37CCC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2BD8A-0BFB-4D92-AE7C-093BC26C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E70E6-50B1-4301-9D0C-4F601019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97CFD-DC84-49A8-9396-8E9F04B3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E7753-5E93-4149-BE4A-B57B0A59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BFCE-DA8A-4A6B-85D9-1CE68E30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2307-6B38-41BC-9050-CA8A72A8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A303-4DA0-4937-8740-19ABBBEB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ED5A-F02B-4A00-A58B-806951CF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4693-5792-4E8C-A80C-E427E02A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7A0E-E4BE-4A47-B29D-7AD787DB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6B21-39EF-4B57-842A-FD6E1786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64BB-D4B8-4D44-A39F-9BD14286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BAD9-37CE-4ADC-BC56-50857379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F94C-821A-4A33-B758-C6A78932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02AC-338B-4D3D-A53E-7637A1B1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4E06-0E1A-4866-891C-F51B6166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CEA6-C184-4EFE-B59E-A98E72F9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63D3-93D7-48C6-ADEC-96801552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F5FD-CBDB-43AD-8280-3E33814E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31356-33D3-488A-9FD8-FC4EDD25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6F962-FE90-4FC0-B497-9B54D461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32C47-0EB1-4E42-8747-6F33009B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C0C81-35DF-4E04-AC28-F7E0A090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7666B-7814-4E5D-A19F-95288F3E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0663-9C04-4869-A0D5-EFDFAAD6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65566-4BF2-40C5-91F2-BF123355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899BC-E6DE-4206-BCA5-BE5D3551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979BC-DC6A-489E-BB6C-B058EFE8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0C6DF-0686-4F8E-BCAE-76D3E502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05C39-6B49-460F-91D4-9E00DFA5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B5077-64C8-4E35-A524-B76EF38C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682E2-1AE2-4AE3-B473-E4AB5356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E591F-E81D-4C37-B8BA-EF92CF82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45732-2A3C-4CF1-93A9-AFC28BF3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89F81-0728-405F-A3DE-11074008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896E-CBC5-4CF9-91C1-65F6A368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E2942-3B9A-45EF-8C79-1E7C5787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25AFC-2631-4B96-A90F-95D64E5A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EE3BA-C37E-4F8C-AFC9-8DDA0A11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246A0-4E59-49DD-B319-16C64C12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D438B-27DB-4ABF-BC56-F51A7988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A87C7-AB40-4B87-BF6C-AB5872FF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937B3-44FE-47B1-BB0F-D546906F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2F4BE-A947-4596-B73A-252E421D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F3122-F849-47EC-9C65-F677E639D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BA24C-559B-4326-9FE3-F7649974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F45B-1E3D-4F2F-BE2E-BD0AD0AB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9A0E1-AA50-402E-8F81-BA34CC3F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D974C-D909-4EEB-B9E4-754024B7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33B1D-12D8-4877-B7DD-1ABEBEE6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F708A-82B4-4801-8E8B-A00CD49D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E3784-4F9A-45E0-B069-702499D5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1DC59-0549-463B-BD00-A9B2DA30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BF0C5-E6B7-43B0-AFF9-A430BD8C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C40DC-5EA5-40B4-9841-B40792DD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671FB-F56B-49A1-90DA-0470602F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DE3E6-8D3F-4832-950F-D84FDBD3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F2A5-2A98-4929-8499-DF39DB96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11A97-0568-49E3-BF35-6D736E924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1AAA6-F77E-446B-A08B-7EA5D70A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AE685-D1AA-4400-BC12-A491C7E3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33D1F-37A9-44B0-9176-7BD598A7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C663C-F3B4-462A-9951-2059674A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AEAAD-B48A-49E3-96CF-40569D1E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63F32-DB0F-4263-9BD0-E980AB3E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CB828-DDB5-4CE3-B4D0-E41289FB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D55D3-5A09-4B4B-BBE4-2C5B1211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97048-D609-4097-8964-D8A35D4A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2B09-BDD2-459A-AF1E-B3F22CC7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DA69C-4890-48EE-813D-85CE2605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1736A-8D0A-47B2-9EE7-4E199DB3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F15C1-C7F5-43E4-83AB-D4F16BFB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34843-FFC0-4F9A-BD03-5977740E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DDFD0-2568-440C-ABC8-7F620F13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2AC9C-2149-49E4-B604-363EA135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596D4-3C15-4762-9071-4A256CF4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52AE7-6E1A-4C51-A9FB-3557EF55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85615-784B-4A7C-A292-B280B044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2C0A2-1E59-4BFB-A182-1625A5DD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FAF5-883F-41CE-B3AB-D7C5D463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B6EFC-518D-4B39-96D3-6B4BCEEB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ED00C-DD6E-47D0-9C74-3204C092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3085F-9F0A-401E-AD39-75161D03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CCC0C-6532-40E1-8B24-4DADFCEB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C5112-AB86-486E-9940-E35EA869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AA193-EF18-4920-B54B-B619EB4E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0FFB5-04D5-4C8F-AFE2-0C662E0E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4DF49-A28B-4224-9ADA-69ABA17D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BAFC4-86C6-477D-98CA-BF03741B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E33C8-447E-4CE8-97E7-0A439EB7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7472-6DF6-4DBF-A4FE-3F1EAEAC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E019B-D0FD-4C3F-B69C-3EC13928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8866A-33A1-4AB7-B98C-62E94160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13896-F7EA-46A9-8EF0-0272083F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1910C-D91A-4BC9-B655-5546AC3E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E47DD-E4A0-4FDC-9E5A-8B0419CA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49029-F225-443D-B27D-2E4383DF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76031-8B0F-4070-9C90-565B8ABE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EA8DF-5A83-42CC-A1B7-9B1129C8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F1790-EAD8-40E1-AB63-C575CD4F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7CAA4-0857-4781-9F7C-26C8981C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CB60-0BF6-4BD0-B59C-F4EE08F0891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166C-ACCB-4530-9DD8-A8B1F15AE74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81FB-9D5E-4CE5-8B44-9ADE3623A30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D43E-921C-4B92-8753-6ACCD83C67F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D99C-3CA0-4492-9FB6-37ED7B1FBCE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089A-95DE-4113-8C1F-6150B970C47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D729-7DDC-4855-AA4B-6B0D459C04C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0C5C-0B4E-49FF-91B2-0AB987CF898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DF55-455E-488B-84FD-7F0B6094556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2600" y="324000"/>
            <a:ext cx="8985240" cy="151128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4" descr="204.jpg"/>
          <p:cNvPicPr/>
          <p:nvPr/>
        </p:nvPicPr>
        <p:blipFill>
          <a:blip r:embed="rId2"/>
          <a:stretch/>
        </p:blipFill>
        <p:spPr>
          <a:xfrm>
            <a:off x="324000" y="1197000"/>
            <a:ext cx="4608360" cy="336852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4" descr="costa_magica.jpg"/>
          <p:cNvPicPr/>
          <p:nvPr/>
        </p:nvPicPr>
        <p:blipFill>
          <a:blip r:embed="rId3"/>
          <a:stretch/>
        </p:blipFill>
        <p:spPr>
          <a:xfrm>
            <a:off x="3851280" y="3429000"/>
            <a:ext cx="49500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298440" y="371520"/>
            <a:ext cx="8699400" cy="1384200"/>
          </a:xfrm>
          <a:prstGeom prst="rect">
            <a:avLst/>
          </a:prstGeom>
          <a:ln w="0">
            <a:noFill/>
          </a:ln>
        </p:spPr>
      </p:pic>
      <p:pic>
        <p:nvPicPr>
          <p:cNvPr id="410" name="We All Go Traveling By (US).mp4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8246880" cy="51120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4004" fill="hold"/>
                                        <p:tgtEl>
                                          <p:spTgt spid="4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Placeholder 4" descr=""/>
          <p:cNvPicPr/>
          <p:nvPr/>
        </p:nvPicPr>
        <p:blipFill>
          <a:blip r:embed="rId1"/>
          <a:stretch/>
        </p:blipFill>
        <p:spPr>
          <a:xfrm>
            <a:off x="3492360" y="609480"/>
            <a:ext cx="5061240" cy="6980400"/>
          </a:xfrm>
          <a:prstGeom prst="rect">
            <a:avLst/>
          </a:prstGeom>
          <a:ln w="0">
            <a:noFill/>
          </a:ln>
        </p:spPr>
      </p:pic>
      <p:pic>
        <p:nvPicPr>
          <p:cNvPr id="412" name="Title 3" descr=""/>
          <p:cNvPicPr/>
          <p:nvPr/>
        </p:nvPicPr>
        <p:blipFill>
          <a:blip r:embed="rId2"/>
          <a:stretch/>
        </p:blipFill>
        <p:spPr>
          <a:xfrm>
            <a:off x="122400" y="4748040"/>
            <a:ext cx="6132240" cy="139068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80520" y="4723920"/>
            <a:ext cx="5867640" cy="15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Picture 2" descr="C:\Users\Tanya\Pictures\imagesCANVYQ79.jpg"/>
          <p:cNvPicPr/>
          <p:nvPr/>
        </p:nvPicPr>
        <p:blipFill>
          <a:blip r:embed="rId3"/>
          <a:stretch/>
        </p:blipFill>
        <p:spPr>
          <a:xfrm>
            <a:off x="3492360" y="260280"/>
            <a:ext cx="50850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437680" cy="11588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179280" y="836640"/>
            <a:ext cx="862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Franklin Gothic Book"/>
              </a:rPr>
              <a:t>Guess the words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Franklin Gothic Book"/>
              </a:rPr>
              <a:t>1. It’s a special place  for trains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Franklin Gothic Book"/>
              </a:rPr>
              <a:t>Railway Station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Franklin Gothic Book"/>
              </a:rPr>
              <a:t>2. It’s a long trip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Franklin Gothic Book"/>
              </a:rPr>
              <a:t>Journey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Franklin Gothic Book"/>
              </a:rPr>
              <a:t>3. It’s a trip  by sea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Franklin Gothic Book"/>
              </a:rPr>
              <a:t>Voyage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Franklin Gothic Book"/>
              </a:rPr>
              <a:t>4. It’s a ticket for one way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Franklin Gothic Book"/>
              </a:rPr>
              <a:t>Single ticket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Franklin Gothic Book"/>
              </a:rPr>
              <a:t>5. It’s a place near the sea or ocean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Franklin Gothic Book"/>
              </a:rPr>
              <a:t>Seaside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Franklin Gothic Book"/>
              </a:rPr>
              <a:t>6. It’s a train without changes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Franklin Gothic Book"/>
              </a:rPr>
              <a:t>A through train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195120" y="-6480"/>
            <a:ext cx="8467920" cy="13845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2876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Franklin Gothic Book"/>
              </a:rPr>
              <a:t>Explain the words given below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7030a0"/>
                </a:solidFill>
                <a:latin typeface="Franklin Gothic Book"/>
              </a:rPr>
              <a:t>Sea  Port</a:t>
            </a: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7030a0"/>
                </a:solidFill>
                <a:latin typeface="Franklin Gothic Book"/>
              </a:rPr>
              <a:t>Ship</a:t>
            </a: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7030a0"/>
                </a:solidFill>
                <a:latin typeface="Franklin Gothic Book"/>
              </a:rPr>
              <a:t>Return ticket</a:t>
            </a: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7030a0"/>
                </a:solidFill>
                <a:latin typeface="Franklin Gothic Book"/>
              </a:rPr>
              <a:t>Luggage</a:t>
            </a: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7030a0"/>
                </a:solidFill>
                <a:latin typeface="Franklin Gothic Book"/>
              </a:rPr>
              <a:t>Hotel</a:t>
            </a: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7030a0"/>
                </a:solidFill>
                <a:latin typeface="Franklin Gothic Book"/>
              </a:rPr>
              <a:t>Fantastic</a:t>
            </a: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07:14:01Z</dcterms:created>
  <dc:creator>Admin</dc:creator>
  <dc:description/>
  <dc:language>en-US</dc:language>
  <cp:lastModifiedBy>Tanya</cp:lastModifiedBy>
  <dcterms:modified xsi:type="dcterms:W3CDTF">2013-04-13T20:40:19Z</dcterms:modified>
  <cp:revision>31</cp:revision>
  <dc:subject/>
  <dc:title>The Pleasure Of Travelling</dc:title>
</cp:coreProperties>
</file>