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416D-119B-4C19-96D3-3543003A2B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81DC-6166-40D0-9DE0-823E4B711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E59-825D-4BCD-8B2E-A6F12397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DD0-98DC-479E-9AC1-A7A85641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9732F-B9DF-4E9D-A4CC-CF4EB0F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90B13-020F-4801-9BB6-833B8915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F1B93-845A-4F57-B1A5-9F82E0B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8A1F5-043B-4454-8B60-586C3C6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CA7AA-37BF-4546-8AD5-0E62C6A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0AF3F-EC14-4A32-89FC-7AEEF4E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485B7-BD6F-46F9-8735-39E0EBC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1DB1E-C6AE-4A88-96B9-BCB8E10C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CEFCC-3423-44B6-BF83-12F37ECC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423-E7AD-486A-9C1F-AA32EE5A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B1B-B5B1-4079-AEEF-9AA8736F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1573-5454-4C9E-82FF-206007E9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9E67-4BBB-4A18-AF7F-0357D32C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D45E-D0A3-444E-AC01-C2F7867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EC38-40FD-4456-A7C4-DDC4B819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67A0-9F57-448B-BE7C-88058772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A9D7-33C0-495A-8F27-3A499FE3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7C2-2007-4398-8485-311189DF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E87-9685-49DC-8B41-CCB76EB3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617-D1F7-4B6F-8A96-641AD1C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86B2-F9A6-4EC3-9873-8D98B60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643-D468-42BD-B1B6-7CF86FA0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5AA9-95C4-4591-835D-E0C7ED41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6620-E48A-4429-8DCD-F1E74A2B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F81E-2559-4D64-8675-725253A9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668B-320F-4696-AEC2-2836DF35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8757-08DD-49A3-A955-5467FC3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E03E-26D3-46A4-9187-C975C88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35E4-CCAA-4A0C-8671-2CCEE3AD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29D-A7BC-46DA-99EC-4F2F895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299C-1CC2-47E2-AAAA-BCFC49BB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FE0C-E91C-4C21-A9CE-6F0213A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BFA2-FF09-47B0-9A22-CCACBBC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A0D6-9FBC-48CC-91DC-B970E3BB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7329-707F-4F1A-8B6E-90089B56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B997-F1FB-4B41-83B8-68DFE358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ED49-2DF4-4BB4-AF16-6D51FD12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25CE-6A80-4F1B-B84B-5940895F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444C-1D73-4865-8E1B-6E4F6681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6C85-9B92-4BD4-AD20-8A7250B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1D8-1454-404E-B54B-B593FD7C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DFED-C9DC-4E7D-A65C-728E5DB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3C8C-24B5-4454-B95C-6AA47B1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EFAD-1381-4DF7-AB88-52A4E6F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FDCF-B859-4257-A6F0-A7ADB84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6B7E-A419-49CF-A46F-B5B5458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CB74-907D-4BB5-A355-D775E47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C0B1-5E8F-4B16-A5D8-578AF37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431B-AA94-4CD3-BDCD-24FA856E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A254-55D5-45A3-A2F7-0223280E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1FD49-1576-4E17-BD04-65BCC815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0D1-5904-47DA-B4E7-D153257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A205-C0D2-4F16-9CD0-BFAC409F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D0BAA-C0C6-4161-BD00-ADCBD0A9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65B2-E989-4C65-BF74-ED25D42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3A9B-FBDC-46B6-B47B-A82C464D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7E1C-2C9D-46BC-8FFC-2F749CA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E36F-8FBD-45EE-B60A-41AB985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8622-F90D-4AA1-B1DA-E97EB151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479B-BFF8-44AB-842B-AE88851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7CE1-6082-40D1-B9FD-0B121C3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8B5E-8FF0-4C7F-90A2-AC90647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ADE-7462-4C84-8030-FC90E08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DB09-05D7-4750-BA1F-50BD67B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1CD43-3005-4570-B507-65DCB14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FB7F-EEA2-426D-B1C5-514DA45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8264-23D7-4C65-A84B-DBB1B6C9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12BB6-6991-4FE7-A732-E4436CF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87A4-21D2-45F4-9E3C-115C2F8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011C-A654-4B60-B56F-FC372146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5BF1F-B307-4302-81F0-C9D8798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6F75-3A08-46AC-B293-EBAF100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EA8B-3588-4F9B-9DD9-F433830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99F-555E-43E0-BBF3-E7EE5FAC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4E2C5-DE0C-44D2-8C34-3E408D6E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197B6-A158-4459-954F-FCCB8EAA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DFD99-BB5E-4FCA-A95D-2859E9BF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A33D-4E7E-43D6-B50B-81DF7442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0636B-EE1B-40D7-A4C4-E786E75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474AA-DDF8-4940-875A-4BFFE886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24A1-9722-4415-884D-E6F160F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EFE9-B8A5-4BDA-B595-95A30ED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2E8B-E33D-45D1-9356-779180D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81501-3C5A-41DC-B62E-6A20B15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07A-260B-4C24-8552-E690B39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32BD-26B1-4145-9F92-6861A83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E28A-B912-4582-BF80-DC5A181F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B363F-A886-4AEF-8EB7-4487785E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9805-F93A-44EC-8BBD-A84FC3A6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09A1-C09D-4B34-8ACE-F8F92505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3BB8-AD03-493D-9AE1-7D07670D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147CD-10EC-4DC6-9F72-5B328539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D382-B3AA-4B39-A6BB-1E29E61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D7AEB-A828-46EF-9340-CB6CEC6E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DE22A-1202-4F73-A327-D4F6D35D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8AF-41F8-4BA6-83D6-952873D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7E885-C358-49A7-BAF8-1D0EFC5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9474E-C96B-4826-85DD-F7A7137C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0457-45D7-421E-A779-BE858578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B261-A52A-47AD-AFE9-FED2E2E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4BD09-0CE2-4568-BB09-A00A3FA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2CDD-B0A3-4FA4-8A2E-FC1ACF5A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1934-74A7-4011-AB81-C62E951A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DE522-392D-441F-A233-5001DA8C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312A8-EE89-448B-AA17-4BFCA69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B6134-9FC0-4E2A-B7F4-3370281E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834-4CF2-415C-B5ED-CC6E2E52C2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6B0-A76A-4400-AD69-74BBBA8ED8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78B-7CB3-47D0-854B-1A42DD2259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1DE4-14E8-4F14-8C26-36140AF935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697-F7C5-4A5E-8774-3A0DA7EEEB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156-89DB-4178-B855-AE3A2D4350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71E2-5969-4FD4-9D1B-CCA7FBC57C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427-646A-49FC-BB01-29F2EA1C08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2DD9-A39A-4556-BC56-61C6281FB0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0.jpe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1.jpeg"/><Relationship Id="rId14" Type="http://schemas.openxmlformats.org/officeDocument/2006/relationships/image" Target="../media/image13.png"/><Relationship Id="rId15" Type="http://schemas.openxmlformats.org/officeDocument/2006/relationships/image" Target="../media/image10.jpeg"/><Relationship Id="rId16" Type="http://schemas.openxmlformats.org/officeDocument/2006/relationships/image" Target="../media/image12.png"/><Relationship Id="rId17" Type="http://schemas.openxmlformats.org/officeDocument/2006/relationships/image" Target="../media/image11.jpeg"/><Relationship Id="rId18" Type="http://schemas.openxmlformats.org/officeDocument/2006/relationships/image" Target="../media/image10.jpeg"/><Relationship Id="rId19" Type="http://schemas.openxmlformats.org/officeDocument/2006/relationships/image" Target="../media/image12.pn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12.png"/><Relationship Id="rId24" Type="http://schemas.openxmlformats.org/officeDocument/2006/relationships/image" Target="../media/image11.jpeg"/><Relationship Id="rId25" Type="http://schemas.openxmlformats.org/officeDocument/2006/relationships/image" Target="../media/image10.jpeg"/><Relationship Id="rId26" Type="http://schemas.openxmlformats.org/officeDocument/2006/relationships/image" Target="../media/image14.jpe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1.jpeg"/><Relationship Id="rId30" Type="http://schemas.openxmlformats.org/officeDocument/2006/relationships/image" Target="../media/image10.jpeg"/><Relationship Id="rId3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1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204.jpg"/>
          <p:cNvPicPr/>
          <p:nvPr/>
        </p:nvPicPr>
        <p:blipFill>
          <a:blip r:embed="rId2"/>
          <a:stretch/>
        </p:blipFill>
        <p:spPr>
          <a:xfrm>
            <a:off x="324000" y="1197000"/>
            <a:ext cx="4608360" cy="33685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costa_magica.jpg"/>
          <p:cNvPicPr/>
          <p:nvPr/>
        </p:nvPicPr>
        <p:blipFill>
          <a:blip r:embed="rId3"/>
          <a:stretch/>
        </p:blipFill>
        <p:spPr>
          <a:xfrm>
            <a:off x="3851280" y="3429000"/>
            <a:ext cx="49500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187812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3" descr="143830m.jpg"/>
          <p:cNvPicPr/>
          <p:nvPr/>
        </p:nvPicPr>
        <p:blipFill>
          <a:blip r:embed="rId2"/>
          <a:stretch/>
        </p:blipFill>
        <p:spPr>
          <a:xfrm>
            <a:off x="2085840" y="1554120"/>
            <a:ext cx="512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79280" y="260280"/>
          <a:ext cx="8209080" cy="6337440"/>
        </p:xfrm>
        <a:graphic>
          <a:graphicData uri="http://schemas.openxmlformats.org/drawingml/2006/table">
            <a:tbl>
              <a:tblPr/>
              <a:tblGrid>
                <a:gridCol w="1162080"/>
                <a:gridCol w="1598760"/>
                <a:gridCol w="1525680"/>
                <a:gridCol w="1598400"/>
                <a:gridCol w="1525680"/>
                <a:gridCol w="652320"/>
                <a:gridCol w="146160"/>
              </a:tblGrid>
              <a:tr h="1440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2" name="Picture 30" descr="cb782da2e1ba"/>
          <p:cNvPicPr/>
          <p:nvPr/>
        </p:nvPicPr>
        <p:blipFill>
          <a:blip r:embed="rId1"/>
          <a:stretch/>
        </p:blipFill>
        <p:spPr>
          <a:xfrm>
            <a:off x="7667640" y="285264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3" name="Picture 29" descr="i (1)"/>
          <p:cNvPicPr/>
          <p:nvPr/>
        </p:nvPicPr>
        <p:blipFill>
          <a:blip r:embed="rId2"/>
          <a:stretch/>
        </p:blipFill>
        <p:spPr>
          <a:xfrm>
            <a:off x="7308720" y="544500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4" name="Picture 28" descr=""/>
          <p:cNvPicPr/>
          <p:nvPr/>
        </p:nvPicPr>
        <p:blipFill>
          <a:blip r:embed="rId3"/>
          <a:stretch/>
        </p:blipFill>
        <p:spPr>
          <a:xfrm>
            <a:off x="7524720" y="4292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5" name="Picture 27" descr=""/>
          <p:cNvPicPr/>
          <p:nvPr/>
        </p:nvPicPr>
        <p:blipFill>
          <a:blip r:embed="rId4"/>
          <a:stretch/>
        </p:blipFill>
        <p:spPr>
          <a:xfrm>
            <a:off x="7740720" y="177336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6" name="Picture 26" descr="i (1)"/>
          <p:cNvPicPr/>
          <p:nvPr/>
        </p:nvPicPr>
        <p:blipFill>
          <a:blip r:embed="rId5"/>
          <a:stretch/>
        </p:blipFill>
        <p:spPr>
          <a:xfrm>
            <a:off x="7380360" y="476280"/>
            <a:ext cx="14288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7" name="Picture 25" descr="cb782da2e1ba"/>
          <p:cNvPicPr/>
          <p:nvPr/>
        </p:nvPicPr>
        <p:blipFill>
          <a:blip r:embed="rId6"/>
          <a:stretch/>
        </p:blipFill>
        <p:spPr>
          <a:xfrm>
            <a:off x="6227640" y="5300640"/>
            <a:ext cx="87660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8" name="Picture 24" descr="i (1)"/>
          <p:cNvPicPr/>
          <p:nvPr/>
        </p:nvPicPr>
        <p:blipFill>
          <a:blip r:embed="rId7"/>
          <a:stretch/>
        </p:blipFill>
        <p:spPr>
          <a:xfrm>
            <a:off x="4643280" y="2997360"/>
            <a:ext cx="14288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9" name="Picture 23" descr="cb782da2e1ba"/>
          <p:cNvPicPr/>
          <p:nvPr/>
        </p:nvPicPr>
        <p:blipFill>
          <a:blip r:embed="rId8"/>
          <a:stretch/>
        </p:blipFill>
        <p:spPr>
          <a:xfrm>
            <a:off x="324000" y="33336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0" name="Picture 22" descr="i (1)"/>
          <p:cNvPicPr/>
          <p:nvPr/>
        </p:nvPicPr>
        <p:blipFill>
          <a:blip r:embed="rId9"/>
          <a:stretch/>
        </p:blipFill>
        <p:spPr>
          <a:xfrm>
            <a:off x="1476360" y="544500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1" name="Picture 21" descr="cb782da2e1ba"/>
          <p:cNvPicPr/>
          <p:nvPr/>
        </p:nvPicPr>
        <p:blipFill>
          <a:blip r:embed="rId10"/>
          <a:stretch/>
        </p:blipFill>
        <p:spPr>
          <a:xfrm>
            <a:off x="6300720" y="407664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2" name="Picture 20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3" name="Picture 19" descr=""/>
          <p:cNvPicPr/>
          <p:nvPr/>
        </p:nvPicPr>
        <p:blipFill>
          <a:blip r:embed="rId12"/>
          <a:stretch/>
        </p:blipFill>
        <p:spPr>
          <a:xfrm>
            <a:off x="250920" y="55897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8" descr="i (1)"/>
          <p:cNvPicPr/>
          <p:nvPr/>
        </p:nvPicPr>
        <p:blipFill>
          <a:blip r:embed="rId13"/>
          <a:stretch/>
        </p:blipFill>
        <p:spPr>
          <a:xfrm>
            <a:off x="4500720" y="5516640"/>
            <a:ext cx="142848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5" name="Picture 17" descr=""/>
          <p:cNvPicPr/>
          <p:nvPr/>
        </p:nvPicPr>
        <p:blipFill>
          <a:blip r:embed="rId14"/>
          <a:stretch/>
        </p:blipFill>
        <p:spPr>
          <a:xfrm>
            <a:off x="2987640" y="5661000"/>
            <a:ext cx="1333440" cy="7812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6" name="Picture 16" descr="cb782da2e1ba"/>
          <p:cNvPicPr/>
          <p:nvPr/>
        </p:nvPicPr>
        <p:blipFill>
          <a:blip r:embed="rId15"/>
          <a:stretch/>
        </p:blipFill>
        <p:spPr>
          <a:xfrm>
            <a:off x="4859280" y="414972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7" name="Picture 15" descr=""/>
          <p:cNvPicPr/>
          <p:nvPr/>
        </p:nvPicPr>
        <p:blipFill>
          <a:blip r:embed="rId16"/>
          <a:stretch/>
        </p:blipFill>
        <p:spPr>
          <a:xfrm>
            <a:off x="1619280" y="4292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8" name="Picture 14" descr="i (1)"/>
          <p:cNvPicPr/>
          <p:nvPr/>
        </p:nvPicPr>
        <p:blipFill>
          <a:blip r:embed="rId17"/>
          <a:stretch/>
        </p:blipFill>
        <p:spPr>
          <a:xfrm>
            <a:off x="2987640" y="422100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9" name="Picture 13" descr="cb782da2e1ba"/>
          <p:cNvPicPr/>
          <p:nvPr/>
        </p:nvPicPr>
        <p:blipFill>
          <a:blip r:embed="rId18"/>
          <a:stretch/>
        </p:blipFill>
        <p:spPr>
          <a:xfrm>
            <a:off x="324000" y="414972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0" name="Picture 12" descr=""/>
          <p:cNvPicPr/>
          <p:nvPr/>
        </p:nvPicPr>
        <p:blipFill>
          <a:blip r:embed="rId19"/>
          <a:stretch/>
        </p:blipFill>
        <p:spPr>
          <a:xfrm>
            <a:off x="1619280" y="299736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1" name="Picture 11" descr="cb782da2e1ba"/>
          <p:cNvPicPr/>
          <p:nvPr/>
        </p:nvPicPr>
        <p:blipFill>
          <a:blip r:embed="rId20"/>
          <a:stretch/>
        </p:blipFill>
        <p:spPr>
          <a:xfrm>
            <a:off x="324000" y="285264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2" name="Picture 10" descr="cb782da2e1ba"/>
          <p:cNvPicPr/>
          <p:nvPr/>
        </p:nvPicPr>
        <p:blipFill>
          <a:blip r:embed="rId21"/>
          <a:stretch/>
        </p:blipFill>
        <p:spPr>
          <a:xfrm>
            <a:off x="6300720" y="47628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3" name="Picture 9" descr="i (1)"/>
          <p:cNvPicPr/>
          <p:nvPr/>
        </p:nvPicPr>
        <p:blipFill>
          <a:blip r:embed="rId22"/>
          <a:stretch/>
        </p:blipFill>
        <p:spPr>
          <a:xfrm>
            <a:off x="6156360" y="1773360"/>
            <a:ext cx="14288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4" name="Picture 8" descr=""/>
          <p:cNvPicPr/>
          <p:nvPr/>
        </p:nvPicPr>
        <p:blipFill>
          <a:blip r:embed="rId23"/>
          <a:stretch/>
        </p:blipFill>
        <p:spPr>
          <a:xfrm>
            <a:off x="4643280" y="1844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5" name="Picture 7" descr="i (1)"/>
          <p:cNvPicPr/>
          <p:nvPr/>
        </p:nvPicPr>
        <p:blipFill>
          <a:blip r:embed="rId24"/>
          <a:stretch/>
        </p:blipFill>
        <p:spPr>
          <a:xfrm>
            <a:off x="4500720" y="404640"/>
            <a:ext cx="142848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6" name="Picture 6" descr="cb782da2e1ba"/>
          <p:cNvPicPr/>
          <p:nvPr/>
        </p:nvPicPr>
        <p:blipFill>
          <a:blip r:embed="rId25"/>
          <a:stretch/>
        </p:blipFill>
        <p:spPr>
          <a:xfrm>
            <a:off x="1763640" y="177336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7" name="Picture 5" descr="i (1)"/>
          <p:cNvPicPr/>
          <p:nvPr/>
        </p:nvPicPr>
        <p:blipFill>
          <a:blip r:embed="rId26"/>
          <a:stretch/>
        </p:blipFill>
        <p:spPr>
          <a:xfrm>
            <a:off x="3132000" y="1844640"/>
            <a:ext cx="12956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8" name="Picture 4" descr=""/>
          <p:cNvPicPr/>
          <p:nvPr/>
        </p:nvPicPr>
        <p:blipFill>
          <a:blip r:embed="rId27"/>
          <a:stretch/>
        </p:blipFill>
        <p:spPr>
          <a:xfrm>
            <a:off x="179280" y="1844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9" name="Рисунок 48" descr=""/>
          <p:cNvPicPr/>
          <p:nvPr/>
        </p:nvPicPr>
        <p:blipFill>
          <a:blip r:embed="rId28"/>
          <a:stretch/>
        </p:blipFill>
        <p:spPr>
          <a:xfrm>
            <a:off x="3059280" y="47628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40" name="Рисунок 53" descr="i (1)"/>
          <p:cNvPicPr/>
          <p:nvPr/>
        </p:nvPicPr>
        <p:blipFill>
          <a:blip r:embed="rId29"/>
          <a:stretch/>
        </p:blipFill>
        <p:spPr>
          <a:xfrm>
            <a:off x="1476360" y="40464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41" name="Рисунок 11" descr="cb782da2e1ba"/>
          <p:cNvPicPr/>
          <p:nvPr/>
        </p:nvPicPr>
        <p:blipFill>
          <a:blip r:embed="rId30"/>
          <a:stretch/>
        </p:blipFill>
        <p:spPr>
          <a:xfrm>
            <a:off x="3276720" y="292428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We take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2495520" cy="1527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6" descr="C:\Users\User\Desktop\1325011385_2-photo.jpg"/>
          <p:cNvPicPr/>
          <p:nvPr/>
        </p:nvPicPr>
        <p:blipFill>
          <a:blip r:embed="rId3"/>
          <a:stretch/>
        </p:blipFill>
        <p:spPr>
          <a:xfrm>
            <a:off x="4716360" y="1628640"/>
            <a:ext cx="1535040" cy="1135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1730160" cy="1231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C:\Users\User\Desktop\Attachments_anna27006@yandex.ru_2013-03-24_12-30-56\passport.jpg"/>
          <p:cNvPicPr/>
          <p:nvPr/>
        </p:nvPicPr>
        <p:blipFill>
          <a:blip r:embed="rId5"/>
          <a:stretch/>
        </p:blipFill>
        <p:spPr>
          <a:xfrm>
            <a:off x="6443640" y="1844640"/>
            <a:ext cx="1812960" cy="1203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" descr=""/>
          <p:cNvPicPr/>
          <p:nvPr/>
        </p:nvPicPr>
        <p:blipFill>
          <a:blip r:embed="rId6"/>
          <a:stretch/>
        </p:blipFill>
        <p:spPr>
          <a:xfrm>
            <a:off x="179280" y="4986360"/>
            <a:ext cx="2494080" cy="1871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"/>
          <p:cNvPicPr/>
          <p:nvPr/>
        </p:nvPicPr>
        <p:blipFill>
          <a:blip r:embed="rId7"/>
          <a:stretch/>
        </p:blipFill>
        <p:spPr>
          <a:xfrm>
            <a:off x="2627280" y="1125360"/>
            <a:ext cx="169560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"/>
          <p:cNvPicPr/>
          <p:nvPr/>
        </p:nvPicPr>
        <p:blipFill>
          <a:blip r:embed="rId8"/>
          <a:stretch/>
        </p:blipFill>
        <p:spPr>
          <a:xfrm>
            <a:off x="2916360" y="3141720"/>
            <a:ext cx="2087280" cy="1944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Users\Tanya\Pictures\bilet.jpg"/>
          <p:cNvPicPr/>
          <p:nvPr/>
        </p:nvPicPr>
        <p:blipFill>
          <a:blip r:embed="rId9"/>
          <a:stretch/>
        </p:blipFill>
        <p:spPr>
          <a:xfrm>
            <a:off x="2484360" y="5335560"/>
            <a:ext cx="3405240" cy="1522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C:\Users\Tanya\Pictures\jeanes.jpg"/>
          <p:cNvPicPr/>
          <p:nvPr/>
        </p:nvPicPr>
        <p:blipFill>
          <a:blip r:embed="rId10"/>
          <a:stretch/>
        </p:blipFill>
        <p:spPr>
          <a:xfrm>
            <a:off x="7093080" y="3068640"/>
            <a:ext cx="2050920" cy="2052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C:\Users\Tanya\Pictures\blouse.jpg"/>
          <p:cNvPicPr/>
          <p:nvPr/>
        </p:nvPicPr>
        <p:blipFill>
          <a:blip r:embed="rId11"/>
          <a:stretch/>
        </p:blipFill>
        <p:spPr>
          <a:xfrm>
            <a:off x="7380360" y="0"/>
            <a:ext cx="1411200" cy="1886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Users\Tanya\Pictures\cap.png"/>
          <p:cNvPicPr/>
          <p:nvPr/>
        </p:nvPicPr>
        <p:blipFill>
          <a:blip r:embed="rId12"/>
          <a:stretch/>
        </p:blipFill>
        <p:spPr>
          <a:xfrm>
            <a:off x="5364000" y="189000"/>
            <a:ext cx="2006640" cy="1658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C:\Users\Tanya\Pictures\hat.jpg"/>
          <p:cNvPicPr/>
          <p:nvPr/>
        </p:nvPicPr>
        <p:blipFill>
          <a:blip r:embed="rId13"/>
          <a:stretch/>
        </p:blipFill>
        <p:spPr>
          <a:xfrm>
            <a:off x="5292720" y="4149720"/>
            <a:ext cx="2040120" cy="1528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C:\Users\Tanya\Pictures\dbdee13c60c9204fee7ec8d256b5f9fa.gif"/>
          <p:cNvPicPr/>
          <p:nvPr/>
        </p:nvPicPr>
        <p:blipFill>
          <a:blip r:embed="rId14"/>
          <a:stretch/>
        </p:blipFill>
        <p:spPr>
          <a:xfrm>
            <a:off x="7763040" y="4941720"/>
            <a:ext cx="1380960" cy="1667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15"/>
          <a:stretch/>
        </p:blipFill>
        <p:spPr>
          <a:xfrm>
            <a:off x="1476360" y="3933720"/>
            <a:ext cx="1639800" cy="935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16"/>
          <a:stretch/>
        </p:blipFill>
        <p:spPr>
          <a:xfrm>
            <a:off x="0" y="3933720"/>
            <a:ext cx="1727280" cy="795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"/>
          <p:cNvPicPr/>
          <p:nvPr/>
        </p:nvPicPr>
        <p:blipFill>
          <a:blip r:embed="rId17"/>
          <a:stretch/>
        </p:blipFill>
        <p:spPr>
          <a:xfrm>
            <a:off x="5724360" y="5649840"/>
            <a:ext cx="20275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7:14:01Z</dcterms:created>
  <dc:creator>Admin</dc:creator>
  <dc:description/>
  <dc:language>en-US</dc:language>
  <cp:lastModifiedBy>Tanya</cp:lastModifiedBy>
  <dcterms:modified xsi:type="dcterms:W3CDTF">2013-04-13T20:44:20Z</dcterms:modified>
  <cp:revision>33</cp:revision>
  <dc:subject/>
  <dc:title>The Pleasure Of Travelling</dc:title>
</cp:coreProperties>
</file>