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gif" ContentType="image/gif"/>
  <Override PartName="/ppt/media/image5.jpeg" ContentType="image/jpeg"/>
  <Override PartName="/ppt/media/image6.jpeg" ContentType="image/jpeg"/>
  <Override PartName="/ppt/media/image27.jpeg" ContentType="image/jpeg"/>
  <Override PartName="/ppt/media/image11.gif" ContentType="image/gif"/>
  <Override PartName="/ppt/media/image10.jpeg" ContentType="image/jpeg"/>
  <Override PartName="/ppt/media/image8.jpeg" ContentType="image/jpe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5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95B-3D27-4E71-A155-0A4D278F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7D2-BADA-48A8-9DE1-5607403D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F50B2D-FCE9-4725-95A4-15BC058F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2D6159-EC81-4808-9A3E-FFDC0643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529EE1-E480-407F-B878-3075E830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FA11A3-5202-4A92-AB93-491BBC4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1EA426-8D3F-42DE-AA59-5F8D79AB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3B5890-65CD-430A-A0D6-AEB879A0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53E5D1-CC3B-486B-8D98-D51F1D0C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E761B7-2CF6-4A77-95D1-632C7C13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5C060C-830B-4271-A409-2DE61169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41A-4097-47B7-A3D2-3550C3AA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F11-6229-48CB-B5D2-90C80A61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329F1-3D48-4A57-9A1E-C90C1913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CD419-6248-4EC3-9535-3471F9C5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7E86F-4E24-4BDB-AD0F-CBB47EB3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B54D3-D83E-4ABE-9501-8327F5D4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4117C-02A4-4863-88B1-696184CA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76C34-DE8F-4D1B-97F1-4BD7278E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6F636-DCC5-4712-931C-FCD133B1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D9E-4631-47A0-B9FF-54E9117A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9D263-6E94-4E5A-9E9E-E758327C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4658D-F047-41BB-8ADA-32E52E1D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AAB6D-219A-461A-8891-3DA2DE5D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323C0-4A33-4868-A847-E2F5047A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1A195-66D8-4935-A419-0D092C75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8CAA0-A0BA-40D1-BA33-15BC9D6B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FC14-AAAF-45F1-A02F-E2B1EB3B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0707-A4A1-4E3D-AC41-AA1C4DFA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9D80-E0EC-4D01-B758-F4D57502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D03A-DF39-4B12-AFF7-8839BE8D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FE4-46EC-4B7D-9596-9478229E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79AF5-3AC5-48A2-9CA6-93AABFBD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3BF0-A842-48B0-8F59-3B4371CE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65E04-F408-4F9A-99F7-238DB788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6B9BA-3F9A-47C7-B6FB-5156E7A6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6901-E381-44DA-8CC3-0F699C4C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9C20-7C09-4E32-8395-D5595F60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0D7E-2670-46AA-82A3-0710D51B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C6FED-2F57-49F7-9D52-A22B52E2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CB43D-EB86-437D-9E64-279449B5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B247D-625A-45D3-9F34-8B1718F2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1DC-8B4F-4436-9CC2-2F0CA7B0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80F3E-C312-4093-B81B-5B720386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C5C7B-37D8-47CC-A39F-8555E79F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0F228-15FC-47F3-A42B-9D263107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96A0F6-6BE0-4C4A-ADDA-887D97E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5E64D-B90E-4DC8-AA6F-6DFE6273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E28DD7-A8A0-4AF5-BAB7-8CB75EEA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A0ED9A-939D-4AA2-AB2D-E4A0B4BF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C8D33-FB0D-40AC-A944-919C2E1E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71875-3A59-4BBC-94FD-216DF4CB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281FE-E452-42D3-8309-9733A2F8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3B7-513A-4E2F-AC96-5B900DB4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13A03-3CE4-41BE-BEE5-0A844B9E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1F49-EAE0-41ED-ACD4-83E657BE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A2E78-E60B-4946-8CE4-FD397F7D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98682-E574-4B09-AE30-72455FC3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31AD4-142B-43B7-BA80-7FC5F251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9D7E1-ABAE-4D8A-88E1-EF261E16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AE2EE-B7C4-4F0A-AAC9-FBDA7E35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64EF3-5705-4707-BB2F-85C8A26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93B5B-56F1-4949-A632-AB03F634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0B662-EE2A-42C9-9A83-78DBE534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B7D-E60D-4D5B-8EE4-495AA4F7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52837-C965-468E-AD39-27C55AC7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8EFF-C3F0-4892-BA77-F048EAC8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7E67-9640-4693-8253-A5ED5F2A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F9593-406D-4BD0-BA79-EB35C5ED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648A3-1A1B-4A3E-8217-2F3BAC54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8C48B-5EF5-4BD4-9BE6-39BB5466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19FC4-0FAA-4F09-9DBF-59BE751D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578A1-C64A-404A-B4A5-309C39ED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4C006-E4DD-4B98-8B98-260E65EF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7CCDA-271E-4048-9B05-3782DA9A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F49-EF4F-4EED-B264-518C63C3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A2E09-B8D4-4519-A1A9-880C3CE8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49AD4-A6F9-412E-B19E-91B29A05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09EEB-5E65-4F28-8ACA-1ECF35AC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E5959-C126-4088-85BB-DD6B6FF0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DA655-3EF5-48E8-9F69-7586411A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A5B75-A88C-4529-9056-AEFE455F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6AE44-C34B-44D1-ADB1-6429F2F6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71183-2A99-4259-9E15-2E278899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81DD0-E242-4B81-A589-0D920549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288F-C735-495D-B374-9118C75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854-E78C-4C3F-B972-58B2D24B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83D8A-FE3D-43DE-8B78-F8578B3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4FA1-640B-4A27-BD27-921E349C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96F46-6550-4E2A-8A57-2FC607A2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BFB49-439A-459A-9C58-AE0047A1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8B8F7-FDED-48EA-8CCE-20CFD014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DD5E98-F256-4F70-A1C1-93EB29C5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7DFB57-DD9E-42D5-9844-FA5CB7B4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C551C0-4556-4C98-9CA3-1004FD9F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26E42A-26AB-4709-9EDF-28E5CCB8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38BC2-8D50-48FB-AFEC-0B81E51F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478-AC95-4891-9F76-7C2FAEF9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ECCA46-A737-403E-9B3E-3CC99EEE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F27723-C3C1-49D7-A218-4E7DDBC3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D028F0-309C-4C9D-A8CD-D0727F22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034342-FEA4-4C3A-BA87-E0ACFD1C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45E701-DD0D-49B7-932B-0F3B181D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BC6920-B7F9-4E79-94D2-67E30B60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D573E7-70E5-4040-AE77-5EC90587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644C72-7841-4DB2-9190-05A503D8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EEB0A7-CEBA-40B4-84B5-1B6D9DC2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8F293E-93C7-451E-A626-21AE8D48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F99F-F0E8-44BB-82EC-976531A5BC1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C396-7E52-46AF-9179-7790C8982AB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637F-8D5E-4E2E-9FB1-8C83E6F43EF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D2F2-DC4C-4BE4-B68A-79EAB8888FB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7B11-C51D-474F-81A0-B0BC54658FC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D9E2-D701-4BF7-96DD-E587B38B1BA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B272-9C24-451D-825E-4B82B83CF4A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B24-BCFC-4CB3-8E68-719ED8E2046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CE81-621E-446E-9DAD-78F2C5D11F6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12760" y="1805040"/>
            <a:ext cx="6840360" cy="2297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3708000" y="4554000"/>
            <a:ext cx="54356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entury"/>
              </a:rPr>
              <a:t>     </a:t>
            </a:r>
            <a:r>
              <a:rPr b="1" i="1" lang="ru-RU" sz="2000" spc="-1" strike="noStrike" u="sng">
                <a:solidFill>
                  <a:srgbClr val="1f0a0a"/>
                </a:solidFill>
                <a:uFillTx/>
                <a:latin typeface="Century"/>
              </a:rPr>
              <a:t>Работу выполняла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</a:t>
            </a: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Тихонова Алина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          </a:t>
            </a: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ученица 6а класс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</a:t>
            </a:r>
            <a:r>
              <a:rPr b="1" i="1" lang="ru-RU" sz="2000" spc="-1" strike="noStrike" u="sng">
                <a:solidFill>
                  <a:srgbClr val="1f0a0a"/>
                </a:solidFill>
                <a:uFillTx/>
                <a:latin typeface="Century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</a:t>
            </a: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Учительница английского язык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</a:t>
            </a: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Мищерякова Татьяна Анатольевн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0a0a"/>
                </a:solidFill>
                <a:latin typeface="Century"/>
              </a:rPr>
              <a:t>                                   </a:t>
            </a:r>
            <a:r>
              <a:rPr b="1" i="1" lang="ru-RU" sz="2000" spc="-1" strike="noStrike">
                <a:solidFill>
                  <a:srgbClr val="1f0a0a"/>
                </a:solidFill>
                <a:latin typeface="Century"/>
              </a:rPr>
              <a:t>Г.Кемерово 2013г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2" descr="C:\пр\яяяяяя\15be7fadf9d7dd59993a74b84165a0f5.jpg"/>
          <p:cNvPicPr/>
          <p:nvPr/>
        </p:nvPicPr>
        <p:blipFill>
          <a:blip r:embed="rId2"/>
          <a:stretch/>
        </p:blipFill>
        <p:spPr>
          <a:xfrm>
            <a:off x="5262480" y="189000"/>
            <a:ext cx="368784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676440" y="622440"/>
            <a:ext cx="8259480" cy="15904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Британцы гордятся тем, что заметно отличаются от любой другой нации мира. Они до сих пор придерживаются таких обычаев как левостороннее движение или игра в крикет. Они весьма неохотно перешли на десятичную систему мер, поменяв свои обожаемые пинты на литры, а дюймы на сантиметры. В своей приверженности традициям британцы не всегда руководствуются логик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53600" cy="1165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179280" y="1645920"/>
            <a:ext cx="878544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Несмотря на постоянные перемены в обществе, британцы сохраняют множество особых традиций. В летнее время на поле у деревни можно увидеть игру в крикет. Это очень медленная и статичная игра, которая может показаться скучной наблюдателю, но на самом деле она полна разнообразных хитростей и особенностей. В деревенских пабах жители часто играют в дартс, реже - в шашки или шахматы. 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63680" y="-152280"/>
            <a:ext cx="8242200" cy="10238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178920" y="764640"/>
            <a:ext cx="87138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По праву считается не только столицей Соединенного Королевства, но и одной из столиц мира — политической, экономической, культурной. В I веке до нашей эры на месте кельтского поселения римляне создали город, названный Лондиниум. В 884 году Альфред Великий сделал Лондон столицей своего государства, с 976 года — времени англосаксонского господства — город становится местом пребывания королевской власти. Сейчас в Лондоне проживает 6,8 млн. человек. Ежегодно к их числу прибавляются миллионы туристов, которых привлекают достопримечательности города. Самая старая часть Лондона — так называемый внутренний город, или Сити (City of London). Смешение старого и нового не только контрастирует, но и подчеркивает, что Сити — и поныне живущий активной жизнью деловой центр мира.</a:t>
            </a: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0" name="Picture 2" descr="C:\пр\яяяяяя\1-big.jpg"/>
          <p:cNvPicPr/>
          <p:nvPr/>
        </p:nvPicPr>
        <p:blipFill>
          <a:blip r:embed="rId2"/>
          <a:stretch/>
        </p:blipFill>
        <p:spPr>
          <a:xfrm>
            <a:off x="5487840" y="5013360"/>
            <a:ext cx="3656160" cy="1844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718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0" y="1413000"/>
            <a:ext cx="91440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Сердце и древняя столица Шотландии с почти полумиллионным населением. По праву считается одним из красивейших и самых колоритных городов Соединенного Королевства. Город известен с VI века, до завоевания Шотландии англичанами был важнейшим центром этого государства, некоторое время - резиденцией королей. В Эдинбургском замке до сих пор хранятся королевские регалии Шотландии, теперь уже - атрибуты британской короны. Неизгладимое впечатление оставляет Эдинбургский замок, возвышающийся на 133-метровой скале (остаток давно потухшего вулкана). Согласно историческим свидетельствам, замок существует с XI века. Самые древние постройки из сохранившихся до наших дней возведены в XII веке (например, Часовня Св. Маргариты)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3" name="Picture 2" descr="C:\пр\яяяяяя\1.jpg"/>
          <p:cNvPicPr/>
          <p:nvPr/>
        </p:nvPicPr>
        <p:blipFill>
          <a:blip r:embed="rId2"/>
          <a:stretch/>
        </p:blipFill>
        <p:spPr>
          <a:xfrm>
            <a:off x="6372360" y="4863960"/>
            <a:ext cx="2771640" cy="1994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242560" cy="1360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179280" y="1646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</a:rPr>
              <a:t>Великобритания очень большая и красивая, в ней хочется побывать, посетить разные города и побродить по их улицам. Я очень рада что изучила Великобританию и узнала очень много нового, надеюсь также как и вы!</a:t>
            </a:r>
            <a:endParaRPr b="0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95280" y="907560"/>
            <a:ext cx="4176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1f0a0a"/>
                </a:solidFill>
                <a:uFillTx/>
                <a:latin typeface="Century"/>
                <a:ea typeface="Aparajita"/>
              </a:rPr>
              <a:t>Цели 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0a0a"/>
                </a:solidFill>
                <a:latin typeface="Cambria"/>
              </a:rPr>
              <a:t>Расширить знания об Англии как одной из составных частей Великобритании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0" y="907560"/>
            <a:ext cx="40384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1f0a0a"/>
                </a:solidFill>
                <a:uFillTx/>
                <a:latin typeface="Century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0a0a"/>
                </a:solidFill>
                <a:latin typeface="Cambria"/>
              </a:rPr>
              <a:t>    </a:t>
            </a:r>
            <a:r>
              <a:rPr b="1" lang="ru-RU" sz="2800" spc="-1" strike="noStrike">
                <a:solidFill>
                  <a:srgbClr val="1f0a0a"/>
                </a:solidFill>
                <a:latin typeface="Cambria"/>
              </a:rPr>
              <a:t>Воспитать интернациональное чувство и интерес к этой стране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9" name="Picture 2" descr="C:\пр\яяяяяя\21081-1280x800.jpg"/>
          <p:cNvPicPr/>
          <p:nvPr/>
        </p:nvPicPr>
        <p:blipFill>
          <a:blip r:embed="rId1"/>
          <a:stretch/>
        </p:blipFill>
        <p:spPr>
          <a:xfrm>
            <a:off x="1332000" y="3284640"/>
            <a:ext cx="648000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-380520"/>
            <a:ext cx="529272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ff"/>
                </a:solidFill>
                <a:uFillTx/>
                <a:latin typeface="Adventure"/>
              </a:rPr>
              <a:t>Англия </a:t>
            </a:r>
            <a:r>
              <a:rPr b="1" i="1" lang="ru-RU" sz="5400" spc="-1" strike="noStrike">
                <a:solidFill>
                  <a:srgbClr val="0000ff"/>
                </a:solidFill>
                <a:latin typeface="Adventure"/>
              </a:rPr>
              <a:t>– это традиция</a:t>
            </a:r>
            <a:r>
              <a:rPr b="1" i="1" lang="ru-RU" sz="5400" spc="-1" strike="noStrike">
                <a:solidFill>
                  <a:srgbClr val="000000"/>
                </a:solidFill>
                <a:latin typeface="Adventure"/>
              </a:rPr>
              <a:t>.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Adventure"/>
              </a:rPr>
              <a:t>Традиция </a:t>
            </a:r>
            <a:r>
              <a:rPr b="1" i="1" lang="ru-RU" sz="5400" spc="-1" strike="noStrike">
                <a:solidFill>
                  <a:srgbClr val="ffffff"/>
                </a:solidFill>
                <a:latin typeface="Adventure"/>
              </a:rPr>
              <a:t>– это культура.             </a:t>
            </a:r>
            <a:r>
              <a:rPr b="1" i="1" lang="en-US" sz="5400" spc="-1" strike="noStrike">
                <a:solidFill>
                  <a:srgbClr val="ffffff"/>
                </a:solidFill>
                <a:latin typeface="Adventure"/>
              </a:rPr>
              <a:t>  </a:t>
            </a:r>
            <a:r>
              <a:rPr b="1" i="1" lang="ru-RU" sz="5400" spc="-1" strike="noStrike" u="sng">
                <a:solidFill>
                  <a:srgbClr val="fa1616"/>
                </a:solidFill>
                <a:uFillTx/>
                <a:latin typeface="Adventure"/>
              </a:rPr>
              <a:t>Культура </a:t>
            </a:r>
            <a:r>
              <a:rPr b="1" i="1" lang="ru-RU" sz="5400" spc="-1" strike="noStrike">
                <a:solidFill>
                  <a:srgbClr val="fa1616"/>
                </a:solidFill>
                <a:latin typeface="Adventure"/>
              </a:rPr>
              <a:t>– это красота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dventure"/>
              </a:rPr>
              <a:t>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Picture 4" descr="C:\пр\яяяяяя\117704x8lflpdcpy.gif"/>
          <p:cNvPicPr/>
          <p:nvPr/>
        </p:nvPicPr>
        <p:blipFill>
          <a:blip r:embed="rId1"/>
          <a:stretch/>
        </p:blipFill>
        <p:spPr>
          <a:xfrm>
            <a:off x="5364000" y="3149640"/>
            <a:ext cx="3780000" cy="3708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C:\пр\яяяяяя\15be7fadf9d7dd59993a74b84165a0f5.jpg"/>
          <p:cNvPicPr/>
          <p:nvPr/>
        </p:nvPicPr>
        <p:blipFill>
          <a:blip r:embed="rId2"/>
          <a:stretch/>
        </p:blipFill>
        <p:spPr>
          <a:xfrm>
            <a:off x="5361120" y="0"/>
            <a:ext cx="378288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Рисунок2"/>
          <p:cNvPicPr/>
          <p:nvPr/>
        </p:nvPicPr>
        <p:blipFill>
          <a:blip r:embed="rId2"/>
          <a:stretch/>
        </p:blipFill>
        <p:spPr>
          <a:xfrm>
            <a:off x="179280" y="1557360"/>
            <a:ext cx="4824360" cy="51656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101920" y="1773360"/>
            <a:ext cx="4041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лощадь 244,1 тыс. кв. км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отяженность сухопутной границы -360 км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Протяженность морской границы – 12 429км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Население 59,4млн чел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фициальный язык: английский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Форма правления -конституционная монархия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Форма  территориального устройства: Федерац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Столица: Лондон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6" name="Picture 9" descr="AG00595_"/>
          <p:cNvPicPr/>
          <p:nvPr/>
        </p:nvPicPr>
        <p:blipFill>
          <a:blip r:embed="rId3"/>
          <a:stretch/>
        </p:blipFill>
        <p:spPr>
          <a:xfrm>
            <a:off x="179280" y="2060640"/>
            <a:ext cx="12463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В рельефе преобладают равнины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Климат теплый, мягкий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ного рек и озёр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иродная зона- лиственные леса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Животный мир разнообразен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 algn="ctr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Основное богатство- прибрежные воды с морской флорой и фауной.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59560" indent="-259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859280" y="33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Королева Великобритании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Елизавета </a:t>
            </a: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Правит с 1952 г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mbria"/>
              </a:rPr>
              <a:t>Ее семья живет в Букингемском Дворце в Лондоне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0" name="Picture 4" descr="{9CCFA397-6852-438F-9186-A7D656A7FEDE}"/>
          <p:cNvPicPr/>
          <p:nvPr/>
        </p:nvPicPr>
        <p:blipFill>
          <a:blip r:embed="rId1"/>
          <a:stretch/>
        </p:blipFill>
        <p:spPr>
          <a:xfrm>
            <a:off x="0" y="1278000"/>
            <a:ext cx="4102200" cy="5580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C:\пр\яяяяяя\Букингемский-дворец-3.jpg"/>
          <p:cNvPicPr/>
          <p:nvPr/>
        </p:nvPicPr>
        <p:blipFill>
          <a:blip r:embed="rId2"/>
          <a:stretch/>
        </p:blipFill>
        <p:spPr>
          <a:xfrm>
            <a:off x="4140360" y="3860640"/>
            <a:ext cx="5003640" cy="2997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8604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mbria"/>
              </a:rPr>
              <a:t>История флага</a:t>
            </a:r>
            <a:endParaRPr b="0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4" name="Picture 5" descr="C:\пр\яяяяяя\image001.jpg"/>
          <p:cNvPicPr/>
          <p:nvPr/>
        </p:nvPicPr>
        <p:blipFill>
          <a:blip r:embed="rId2"/>
          <a:stretch/>
        </p:blipFill>
        <p:spPr>
          <a:xfrm>
            <a:off x="0" y="1484280"/>
            <a:ext cx="3851280" cy="2679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C:\пр\яяяяяя\0_71818_3b989658_XL.png"/>
          <p:cNvPicPr/>
          <p:nvPr/>
        </p:nvPicPr>
        <p:blipFill>
          <a:blip r:embed="rId3"/>
          <a:stretch/>
        </p:blipFill>
        <p:spPr>
          <a:xfrm>
            <a:off x="5651640" y="4367160"/>
            <a:ext cx="3492360" cy="2490840"/>
          </a:xfrm>
          <a:prstGeom prst="rect">
            <a:avLst/>
          </a:prstGeom>
          <a:ln w="0">
            <a:noFill/>
          </a:ln>
        </p:spPr>
      </p:pic>
      <p:sp>
        <p:nvSpPr>
          <p:cNvPr id="416" name="Плюс 6"/>
          <p:cNvSpPr/>
          <p:nvPr/>
        </p:nvSpPr>
        <p:spPr>
          <a:xfrm>
            <a:off x="3924360" y="3429000"/>
            <a:ext cx="1655640" cy="1584360"/>
          </a:xfrm>
          <a:custGeom>
            <a:avLst/>
            <a:gdLst>
              <a:gd name="textAreaLeft" fmla="*/ 219240 w 1655640"/>
              <a:gd name="textAreaRight" fmla="*/ 1436400 w 1655640"/>
              <a:gd name="textAreaTop" fmla="*/ 605880 h 1584360"/>
              <a:gd name="textAreaBottom" fmla="*/ 978480 h 1584360"/>
            </a:gdLst>
            <a:ahLst/>
            <a:rect l="textAreaLeft" t="textAreaTop" r="textAreaRight" b="textAreaBottom"/>
            <a:pathLst>
              <a:path w="1655763" h="1584325">
                <a:moveTo>
                  <a:pt x="219471" y="605846"/>
                </a:moveTo>
                <a:lnTo>
                  <a:pt x="641565" y="605846"/>
                </a:lnTo>
                <a:lnTo>
                  <a:pt x="641565" y="210002"/>
                </a:lnTo>
                <a:lnTo>
                  <a:pt x="1014198" y="210002"/>
                </a:lnTo>
                <a:lnTo>
                  <a:pt x="1014198" y="605846"/>
                </a:lnTo>
                <a:lnTo>
                  <a:pt x="1436292" y="605846"/>
                </a:lnTo>
                <a:lnTo>
                  <a:pt x="1436292" y="978479"/>
                </a:lnTo>
                <a:lnTo>
                  <a:pt x="1014198" y="978479"/>
                </a:lnTo>
                <a:lnTo>
                  <a:pt x="1014198" y="1374323"/>
                </a:lnTo>
                <a:lnTo>
                  <a:pt x="641565" y="1374323"/>
                </a:lnTo>
                <a:lnTo>
                  <a:pt x="641565" y="978479"/>
                </a:lnTo>
                <a:lnTo>
                  <a:pt x="219471" y="978479"/>
                </a:lnTo>
                <a:close/>
              </a:path>
            </a:pathLst>
          </a:custGeom>
          <a:solidFill>
            <a:srgbClr val="fa1616"/>
          </a:solidFill>
          <a:ln w="255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:\пр\яяяяяя\2013-02-01_204630.jpg"/>
          <p:cNvPicPr/>
          <p:nvPr/>
        </p:nvPicPr>
        <p:blipFill>
          <a:blip r:embed="rId1"/>
          <a:stretch/>
        </p:blipFill>
        <p:spPr>
          <a:xfrm>
            <a:off x="0" y="2924280"/>
            <a:ext cx="4102200" cy="2089080"/>
          </a:xfrm>
          <a:prstGeom prst="rect">
            <a:avLst/>
          </a:prstGeom>
          <a:ln w="0">
            <a:noFill/>
          </a:ln>
        </p:spPr>
      </p:pic>
      <p:sp>
        <p:nvSpPr>
          <p:cNvPr id="418" name="Стрелка вниз 8"/>
          <p:cNvSpPr/>
          <p:nvPr/>
        </p:nvSpPr>
        <p:spPr>
          <a:xfrm>
            <a:off x="1835280" y="1413000"/>
            <a:ext cx="865080" cy="151128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Плюс 9"/>
          <p:cNvSpPr/>
          <p:nvPr/>
        </p:nvSpPr>
        <p:spPr>
          <a:xfrm>
            <a:off x="3995640" y="4005360"/>
            <a:ext cx="1656000" cy="1439640"/>
          </a:xfrm>
          <a:custGeom>
            <a:avLst/>
            <a:gdLst>
              <a:gd name="textAreaLeft" fmla="*/ 219240 w 1656000"/>
              <a:gd name="textAreaRight" fmla="*/ 1436760 w 1656000"/>
              <a:gd name="textAreaTop" fmla="*/ 550440 h 1439640"/>
              <a:gd name="textAreaBottom" fmla="*/ 889200 h 1439640"/>
            </a:gdLst>
            <a:ahLst/>
            <a:rect l="textAreaLeft" t="textAreaTop" r="textAreaRight" b="textAreaBottom"/>
            <a:pathLst>
              <a:path w="1655762" h="1439862">
                <a:moveTo>
                  <a:pt x="219471" y="550603"/>
                </a:moveTo>
                <a:lnTo>
                  <a:pt x="658553" y="550603"/>
                </a:lnTo>
                <a:lnTo>
                  <a:pt x="658553" y="190854"/>
                </a:lnTo>
                <a:lnTo>
                  <a:pt x="997209" y="190854"/>
                </a:lnTo>
                <a:lnTo>
                  <a:pt x="997209" y="550603"/>
                </a:lnTo>
                <a:lnTo>
                  <a:pt x="1436291" y="550603"/>
                </a:lnTo>
                <a:lnTo>
                  <a:pt x="1436291" y="889259"/>
                </a:lnTo>
                <a:lnTo>
                  <a:pt x="997209" y="889259"/>
                </a:lnTo>
                <a:lnTo>
                  <a:pt x="997209" y="1249008"/>
                </a:lnTo>
                <a:lnTo>
                  <a:pt x="658553" y="1249008"/>
                </a:lnTo>
                <a:lnTo>
                  <a:pt x="658553" y="889259"/>
                </a:lnTo>
                <a:lnTo>
                  <a:pt x="219471" y="88925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3" descr="C:\пр\яяяяяя\patrick_flag.jpg"/>
          <p:cNvPicPr/>
          <p:nvPr/>
        </p:nvPicPr>
        <p:blipFill>
          <a:blip r:embed="rId2"/>
          <a:stretch/>
        </p:blipFill>
        <p:spPr>
          <a:xfrm>
            <a:off x="5651640" y="4762440"/>
            <a:ext cx="3492360" cy="2095560"/>
          </a:xfrm>
          <a:prstGeom prst="rect">
            <a:avLst/>
          </a:prstGeom>
          <a:ln w="0">
            <a:noFill/>
          </a:ln>
        </p:spPr>
      </p:pic>
      <p:pic>
        <p:nvPicPr>
          <p:cNvPr id="421" name="Заголовок 11" descr=""/>
          <p:cNvPicPr/>
          <p:nvPr/>
        </p:nvPicPr>
        <p:blipFill>
          <a:blip r:embed="rId3"/>
          <a:stretch/>
        </p:blipFill>
        <p:spPr>
          <a:xfrm>
            <a:off x="244440" y="-55440"/>
            <a:ext cx="8240760" cy="2554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8560" indent="-268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Самое любимое чаепитие – именно пятичасовое. В это время обычно у кого-нибудь дома собираются старые друзья и приятели.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Из общественных мест чаепитие постепенно переместилось в дома, в семьи и стало излюбленным времяпрепровождением. 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ambria"/>
              </a:rPr>
              <a:t>Имея 59 миллионов человек населения, англичане ежедневно выпивают 165 миллионов кружек чая. 86% кружек чая выпивается именно дома.</a:t>
            </a:r>
            <a:br>
              <a:rPr sz="2800"/>
            </a:br>
            <a:r>
              <a:rPr b="0" i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1:30:30Z</dcterms:created>
  <dc:creator>Караблина</dc:creator>
  <dc:description/>
  <dc:language>en-US</dc:language>
  <cp:lastModifiedBy>User</cp:lastModifiedBy>
  <dcterms:modified xsi:type="dcterms:W3CDTF">2013-04-14T09:09:43Z</dcterms:modified>
  <cp:revision>46</cp:revision>
  <dc:subject/>
  <dc:title>Слайд 1</dc:title>
</cp:coreProperties>
</file>