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7.gif" ContentType="image/gif"/>
  <Override PartName="/ppt/media/image5.jpeg" ContentType="image/jpeg"/>
  <Override PartName="/ppt/media/image6.jpeg" ContentType="image/jpeg"/>
  <Override PartName="/ppt/media/image27.jpeg" ContentType="image/jpeg"/>
  <Override PartName="/ppt/media/image11.gif" ContentType="image/gif"/>
  <Override PartName="/ppt/media/image10.jpeg" ContentType="image/jpeg"/>
  <Override PartName="/ppt/media/image8.jpeg" ContentType="image/jpeg"/>
  <Override PartName="/ppt/media/image28.png" ContentType="image/png"/>
  <Override PartName="/ppt/media/image13.jpeg" ContentType="image/jpeg"/>
  <Override PartName="/ppt/media/image23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4.png" ContentType="image/png"/>
  <Override PartName="/ppt/media/image18.jpeg" ContentType="image/jpeg"/>
  <Override PartName="/ppt/media/image22.png" ContentType="image/png"/>
  <Override PartName="/ppt/media/image19.jpeg" ContentType="image/jpeg"/>
  <Override PartName="/ppt/media/image1.jpeg" ContentType="image/jpeg"/>
  <Override PartName="/ppt/media/image21.png" ContentType="image/png"/>
  <Override PartName="/ppt/media/image20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14.jpeg" ContentType="image/jpeg"/>
  <Override PartName="/ppt/media/image25.jpeg" ContentType="image/jpeg"/>
  <Override PartName="/ppt/media/image2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494DA-2877-4C71-9A16-5E0C81B54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F047D-CF9C-4904-88E4-B1470EEE6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BB9CD82-7459-43F3-ACC7-EE49DDD04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35E6CC1-A8A9-4FE4-804F-A21BC89F6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1958B51-F4F6-4815-8BB3-95D97051F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14E7352-9023-43FC-BAB9-2A5B88CEE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6431D6C-266B-42ED-B359-3E6CFAF4F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EB4F458-D9B2-4F42-8FB8-9783C874B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85AA8D6-D208-4358-B09C-DC2A65CBA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C8A8211-4C40-44C2-AE06-A183847A6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99AB3CA-82C1-4943-8412-607A9B993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B1657-43F7-4033-A17B-62755238D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AFA32-DFAC-4E07-8A70-7B97C65CF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FC2EFA-12F4-4201-91C1-E5F9BD5B9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8C02C4-63A9-43F1-9D07-61FA4D9D8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0FB3AB-1D6E-41BC-8F83-89C82C59E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879718-9DCD-4EE0-9A3B-B578B2060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AAA149-AF7A-4BEA-A50F-0F2F4A2E2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61645A-7BEC-495B-AB8A-BCB11DAC9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484936-A6F4-4C3E-B084-C968D146D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49024-BAE1-4C31-B5B9-3B7336CF4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5E4BB3-8154-4549-B1F5-CDAD71B91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C32157-C4FE-4A0A-BE4C-81254E00C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AD093B-0F65-4655-B1F0-CFD39B6A5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51396D-6026-403F-BC12-D99885368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C02135-2A7D-409F-BF73-5A8E8E23F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7A7E94-9452-45A2-9AED-B78D8E22E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78A5A5-AEBB-4E01-AC33-82D34294E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B8EC3A-E12A-43E3-B7F2-D931EB180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65F1F9-0E88-4860-B1C5-CA0EBE7BD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8CA846-8141-4D4C-9AE4-611FF03A9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B2BF0-90E6-47E3-9AE7-2F54B77DF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B4DAED-B332-4894-99B2-940BBD0E6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BAF38B-A012-414D-BCAB-C183B3919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73AEC4-D4BB-4FBE-969D-111DBA913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485BD5-5DE0-40CF-86AA-C92738681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C2D2CA-A6A6-4D65-AF21-F88474E8F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65E962-A1A4-4FD2-9FEE-7ABDB3A46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41FF68-C06C-4667-897B-371FDE5AF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1966E5A-F1A0-444A-BEF0-81F6B61F2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A1C45F1-344B-4C84-B169-CF4046B6C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DE20077-828B-4758-A8DD-D575726E7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EE662-2DEE-4E97-A2D7-4AF974785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FDE00F9-A766-487A-9734-7A3FAD0D8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2FD74FA-1FF7-44AE-B106-41A8DE1C1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8913DD4-1AD2-4F6B-9F98-832860121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9ACBE19-64CE-4A5C-9680-58C4C8B2F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0DF21E9-B88D-4716-B710-E89C42F6F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DDBCFF4-315F-440B-B2F2-CA00237EC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4C7BB1B-457E-424D-8890-9823CF735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22918EC-3E6E-4888-8E11-275A83E18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C8EEF97-45D5-41D7-A84E-581AD0E2A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D01243-CB53-47F1-86D7-E9FCF3729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2E039-622A-4F97-9940-3F5967023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A847F5-B3C7-4BEC-9FFF-9E98D7028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987F46-BCEC-41A1-A18B-2EDB60C53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B9B206-0EBE-482D-93C0-1EAA4B533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87A254-D3BA-44F7-9E27-017FACD95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C42319-7B9B-4039-93E3-9A9AE813E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56D769-2440-4D7C-9E19-04F0452C9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7997D6-7C6E-4C4F-A086-E64B5BC98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3A18C6-10FC-4ADA-99D2-B1D15FFF8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AAEF87-D743-4FF4-8DE5-EA4AC669C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20D319-CB69-404E-8969-CD232FB8D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960A7-7ABC-44D0-9EA5-79CAB5C26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D9BB58-FBF4-467A-A3DC-E123AACEB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46437F-811C-46D3-A81F-4479D8470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322994-98EB-42A1-80FC-B26E227DC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93E465-8DCC-4F97-9CF4-F44B385BD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FE938E-1411-4C13-B420-0F298819C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3B80DD-BD4A-4099-82A6-6DFEA66F1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24378F-E35D-4DDA-8876-032C044E7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62F723-79A7-436B-86AB-159A74B92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CD0BDB-8C2A-4BC8-8445-DA7C6CC2C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622F95-4124-4C5F-B071-8A12B2002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618A9-2F54-4711-A304-EDF643D2A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FADC77-C675-4FC8-8456-1E6BDC1F0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C41E6C-F30C-4B07-B964-44F755828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A6B3CD-8F28-4DE1-A4D7-59AD138B3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F6CA93-F4CB-48FA-8AAA-EDC5C071B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B9EB93-68D1-47E6-8961-92A6D6670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5EA12F-81A7-4D5E-BA95-259A68599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63BAC9-A907-44CC-8C8E-92E82F0DC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AE25E9-ABA7-4CEC-8C52-C488F99E8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BDC09E-1509-4971-923E-310C33423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B1843C-6F9E-470E-8987-E12584745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33A5F-2AC3-4C9E-B1B6-DD6C12873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7892BA-1694-47C7-A348-FE2379129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C5A7DE-1CA5-4D54-9EFE-2E43659F9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89857E-C30A-4271-94DC-7A7E6362B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6ADDB7-E8E8-47DF-998E-61565FD11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9D80A3-DDC6-4A8B-A7A6-4ED4FFE1A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0C2B73B-11F8-4F74-9B92-E63157FFE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43E7756-CC1B-45F6-8CC2-284133F5F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49F507D-2E47-4323-9966-7397ABB43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4CF7A70-ECA9-4889-9ECC-A09B9546D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378E05A-7186-4AA2-8799-E682069EF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7871B-281A-4F33-A982-9196C728E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AA43C10-D6D1-4872-A5B6-1372A7B0B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E5A4C12-C034-4063-939B-3BA4EB462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3F67F9A-E5E0-49CA-ACD8-AEFB46083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B3E08E6-2320-4918-A2BC-59D4CE494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B132F43-E876-4C31-9BD0-166CC7D1F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063C190-E0E0-47A1-A7A6-E6F6082CB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A08A3AE-D50E-4867-A7EC-AB38F82D2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99CE52B-A60C-46DB-86DE-BDD6E55D5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C307472-31FF-4252-9A1A-26896350D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585F052-A7CF-4F56-913F-36DFCE57B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25248-8263-4102-B1B0-35D789D81B9D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с двумя скругленными противолежащими углами 7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45" name="Прямоугольник с двумя скругленными противолежащими углами 7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59C77-B85E-40B1-8B61-084EFDFEBCA7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89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91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8ED98-17EF-4D2D-B597-02322DA1C6B3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6C42F-8F68-4AFB-83CA-166673B39708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76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78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4BA4A-C669-468B-86E3-7E5EF02E7138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21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23" name="Прямоугольник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Прямоугольник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6047F-C3E3-470D-9DAE-BA9F661F4F12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67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69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C5251-8911-46B6-AB59-3CF2278FC788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Прямоугольник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BA340-984B-4848-B78A-243C79594876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F7F62-F335-4B42-8DD3-D770CCAF0863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gif"/><Relationship Id="rId4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Заголовок 1" descr=""/>
          <p:cNvPicPr/>
          <p:nvPr/>
        </p:nvPicPr>
        <p:blipFill>
          <a:blip r:embed="rId1"/>
          <a:stretch/>
        </p:blipFill>
        <p:spPr>
          <a:xfrm>
            <a:off x="212760" y="1805040"/>
            <a:ext cx="6840360" cy="2297160"/>
          </a:xfrm>
          <a:prstGeom prst="rect">
            <a:avLst/>
          </a:prstGeom>
          <a:ln w="0">
            <a:noFill/>
          </a:ln>
        </p:spPr>
      </p:pic>
      <p:sp>
        <p:nvSpPr>
          <p:cNvPr id="395" name=""/>
          <p:cNvSpPr txBox="1"/>
          <p:nvPr/>
        </p:nvSpPr>
        <p:spPr>
          <a:xfrm>
            <a:off x="3708000" y="4554000"/>
            <a:ext cx="5435640" cy="23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Century"/>
              </a:rPr>
              <a:t>     </a:t>
            </a:r>
            <a:r>
              <a:rPr b="1" i="1" lang="ru-RU" sz="2000" spc="-1" strike="noStrike" u="sng">
                <a:solidFill>
                  <a:srgbClr val="1f0a0a"/>
                </a:solidFill>
                <a:uFillTx/>
                <a:latin typeface="Century"/>
              </a:rPr>
              <a:t>Работу выполняла: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1f0a0a"/>
                </a:solidFill>
                <a:latin typeface="Century"/>
              </a:rPr>
              <a:t>     </a:t>
            </a:r>
            <a:r>
              <a:rPr b="0" i="1" lang="ru-RU" sz="2000" spc="-1" strike="noStrike">
                <a:solidFill>
                  <a:srgbClr val="1f0a0a"/>
                </a:solidFill>
                <a:latin typeface="Century"/>
              </a:rPr>
              <a:t>Тихонова Алина 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1f0a0a"/>
                </a:solidFill>
                <a:latin typeface="Century"/>
              </a:rPr>
              <a:t>               </a:t>
            </a:r>
            <a:r>
              <a:rPr b="0" i="1" lang="ru-RU" sz="2000" spc="-1" strike="noStrike">
                <a:solidFill>
                  <a:srgbClr val="1f0a0a"/>
                </a:solidFill>
                <a:latin typeface="Century"/>
              </a:rPr>
              <a:t>ученица 6а класса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1f0a0a"/>
                </a:solidFill>
                <a:latin typeface="Century"/>
              </a:rPr>
              <a:t>     </a:t>
            </a:r>
            <a:r>
              <a:rPr b="1" i="1" lang="ru-RU" sz="2000" spc="-1" strike="noStrike" u="sng">
                <a:solidFill>
                  <a:srgbClr val="1f0a0a"/>
                </a:solidFill>
                <a:uFillTx/>
                <a:latin typeface="Century"/>
              </a:rPr>
              <a:t>Руководитель: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1f0a0a"/>
                </a:solidFill>
                <a:latin typeface="Century"/>
              </a:rPr>
              <a:t>     </a:t>
            </a:r>
            <a:r>
              <a:rPr b="0" i="1" lang="ru-RU" sz="2000" spc="-1" strike="noStrike">
                <a:solidFill>
                  <a:srgbClr val="1f0a0a"/>
                </a:solidFill>
                <a:latin typeface="Century"/>
              </a:rPr>
              <a:t>Учительница английского языка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1f0a0a"/>
                </a:solidFill>
                <a:latin typeface="Century"/>
              </a:rPr>
              <a:t>     </a:t>
            </a:r>
            <a:r>
              <a:rPr b="0" i="1" lang="ru-RU" sz="2000" spc="-1" strike="noStrike">
                <a:solidFill>
                  <a:srgbClr val="1f0a0a"/>
                </a:solidFill>
                <a:latin typeface="Century"/>
              </a:rPr>
              <a:t>Мищерякова Татьяна Анатольевна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1f0a0a"/>
                </a:solidFill>
                <a:latin typeface="Century"/>
              </a:rPr>
              <a:t>                                   </a:t>
            </a:r>
            <a:r>
              <a:rPr b="1" i="1" lang="ru-RU" sz="2000" spc="-1" strike="noStrike">
                <a:solidFill>
                  <a:srgbClr val="1f0a0a"/>
                </a:solidFill>
                <a:latin typeface="Century"/>
              </a:rPr>
              <a:t>Г.Кемерово 2013г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396" name="Picture 2" descr="C:\пр\яяяяяя\15be7fadf9d7dd59993a74b84165a0f5.jpg"/>
          <p:cNvPicPr/>
          <p:nvPr/>
        </p:nvPicPr>
        <p:blipFill>
          <a:blip r:embed="rId2"/>
          <a:stretch/>
        </p:blipFill>
        <p:spPr>
          <a:xfrm>
            <a:off x="5262480" y="189000"/>
            <a:ext cx="3687840" cy="23032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Заголовок 1" descr=""/>
          <p:cNvPicPr/>
          <p:nvPr/>
        </p:nvPicPr>
        <p:blipFill>
          <a:blip r:embed="rId1"/>
          <a:stretch/>
        </p:blipFill>
        <p:spPr>
          <a:xfrm>
            <a:off x="676440" y="622440"/>
            <a:ext cx="8259480" cy="1590480"/>
          </a:xfrm>
          <a:prstGeom prst="rect">
            <a:avLst/>
          </a:prstGeom>
          <a:ln w="0">
            <a:noFill/>
          </a:ln>
        </p:spPr>
      </p:pic>
      <p:sp>
        <p:nvSpPr>
          <p:cNvPr id="425" name=""/>
          <p:cNvSpPr txBox="1"/>
          <p:nvPr/>
        </p:nvSpPr>
        <p:spPr>
          <a:xfrm>
            <a:off x="179280" y="1557000"/>
            <a:ext cx="878544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omic Sans MS"/>
              </a:rPr>
              <a:t>Британцы гордятся тем, что заметно отличаются от любой другой нации мира. Они до сих пор придерживаются таких обычаев как левостороннее движение или игра в крикет. Они весьма неохотно перешли на десятичную систему мер, поменяв свои обожаемые пинты на литры, а дюймы на сантиметры. В своей приверженности традициям британцы не всегда руководствуются логикой.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Comic Sans MS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mbria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transition spd="slow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Заголовок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53600" cy="1165320"/>
          </a:xfrm>
          <a:prstGeom prst="rect">
            <a:avLst/>
          </a:prstGeom>
          <a:ln w="0">
            <a:noFill/>
          </a:ln>
        </p:spPr>
      </p:pic>
      <p:sp>
        <p:nvSpPr>
          <p:cNvPr id="427" name=""/>
          <p:cNvSpPr txBox="1"/>
          <p:nvPr/>
        </p:nvSpPr>
        <p:spPr>
          <a:xfrm>
            <a:off x="179280" y="1645920"/>
            <a:ext cx="8785440" cy="50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omic Sans MS"/>
              </a:rPr>
              <a:t>Несмотря на постоянные перемены в обществе, британцы сохраняют множество особых традиций. В летнее время на поле у деревни можно увидеть игру в крикет. Это очень медленная и статичная игра, которая может показаться скучной наблюдателю, но на самом деле она полна разнообразных хитростей и особенностей. В деревенских пабах жители часто играют в дартс, реже - в шашки или шахматы. 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transition spd="slow"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Заголовок 1" descr=""/>
          <p:cNvPicPr/>
          <p:nvPr/>
        </p:nvPicPr>
        <p:blipFill>
          <a:blip r:embed="rId1"/>
          <a:stretch/>
        </p:blipFill>
        <p:spPr>
          <a:xfrm>
            <a:off x="463680" y="-152280"/>
            <a:ext cx="8242200" cy="1023840"/>
          </a:xfrm>
          <a:prstGeom prst="rect">
            <a:avLst/>
          </a:prstGeom>
          <a:ln w="0">
            <a:noFill/>
          </a:ln>
        </p:spPr>
      </p:pic>
      <p:sp>
        <p:nvSpPr>
          <p:cNvPr id="429" name=""/>
          <p:cNvSpPr txBox="1"/>
          <p:nvPr/>
        </p:nvSpPr>
        <p:spPr>
          <a:xfrm>
            <a:off x="178920" y="764640"/>
            <a:ext cx="8713800" cy="49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Cambria"/>
              </a:rPr>
              <a:t>    </a:t>
            </a:r>
            <a:r>
              <a:rPr b="0" lang="ru-RU" sz="2100" spc="-1" strike="noStrike">
                <a:solidFill>
                  <a:srgbClr val="000000"/>
                </a:solidFill>
                <a:latin typeface="Cambria"/>
              </a:rPr>
              <a:t> </a:t>
            </a:r>
            <a:r>
              <a:rPr b="0" lang="ru-RU" sz="2100" spc="-1" strike="noStrike">
                <a:solidFill>
                  <a:srgbClr val="000000"/>
                </a:solidFill>
                <a:latin typeface="Cambria"/>
              </a:rPr>
              <a:t>По праву считается не только столицей Соединенного Королевства, но и одной из столиц мира — политической, экономической, культурной. В I веке до нашей эры на месте кельтского поселения римляне создали город, названный Лондиниум. В 884 году Альфред Великий сделал Лондон столицей своего государства, с 976 года — времени англосаксонского господства — город становится местом пребывания королевской власти. Сейчас в Лондоне проживает 6,8 млн. человек. Ежегодно к их числу прибавляются миллионы туристов, которых привлекают достопримечательности города. Самая старая часть Лондона — так называемый внутренний город, или Сити (City of London). Смешение старого и нового не только контрастирует, но и подчеркивает, что Сити — и поныне живущий активной жизнью деловой центр мира.</a:t>
            </a:r>
            <a:endParaRPr b="0" lang="en-US" sz="21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30" name="Picture 2" descr="C:\пр\яяяяяя\1-big.jpg"/>
          <p:cNvPicPr/>
          <p:nvPr/>
        </p:nvPicPr>
        <p:blipFill>
          <a:blip r:embed="rId2"/>
          <a:stretch/>
        </p:blipFill>
        <p:spPr>
          <a:xfrm>
            <a:off x="5487840" y="5013360"/>
            <a:ext cx="3656160" cy="18446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1" name="Заголовок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242560" cy="1171800"/>
          </a:xfrm>
          <a:prstGeom prst="rect">
            <a:avLst/>
          </a:prstGeom>
          <a:ln w="0">
            <a:noFill/>
          </a:ln>
        </p:spPr>
      </p:pic>
      <p:sp>
        <p:nvSpPr>
          <p:cNvPr id="432" name=""/>
          <p:cNvSpPr txBox="1"/>
          <p:nvPr/>
        </p:nvSpPr>
        <p:spPr>
          <a:xfrm>
            <a:off x="0" y="1413000"/>
            <a:ext cx="9144000" cy="47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mbria"/>
              </a:rPr>
              <a:t>     </a:t>
            </a:r>
            <a:r>
              <a:rPr b="0" i="1" lang="ru-RU" sz="2000" spc="-1" strike="noStrike">
                <a:solidFill>
                  <a:srgbClr val="000000"/>
                </a:solidFill>
                <a:latin typeface="Cambria"/>
              </a:rPr>
              <a:t>Сердце и древняя столица Шотландии с почти полумиллионным населением. По праву считается одним из красивейших и самых колоритных городов Соединенного Королевства. Город известен с VI века, до завоевания Шотландии англичанами был важнейшим центром этого государства, некоторое время - резиденцией королей. В Эдинбургском замке до сих пор хранятся королевские регалии Шотландии, теперь уже - атрибуты британской короны. Неизгладимое впечатление оставляет Эдинбургский замок, возвышающийся на 133-метровой скале (остаток давно потухшего вулкана). Согласно историческим свидетельствам, замок существует с XI века. Самые древние постройки из сохранившихся до наших дней возведены в XII веке (например, Часовня Св. Маргариты).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33" name="Picture 2" descr="C:\пр\яяяяяя\1.jpg"/>
          <p:cNvPicPr/>
          <p:nvPr/>
        </p:nvPicPr>
        <p:blipFill>
          <a:blip r:embed="rId2"/>
          <a:stretch/>
        </p:blipFill>
        <p:spPr>
          <a:xfrm>
            <a:off x="6372360" y="4863960"/>
            <a:ext cx="2771640" cy="19940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4" name="Заголовок 1" descr=""/>
          <p:cNvPicPr/>
          <p:nvPr/>
        </p:nvPicPr>
        <p:blipFill>
          <a:blip r:embed="rId1"/>
          <a:stretch/>
        </p:blipFill>
        <p:spPr>
          <a:xfrm>
            <a:off x="450720" y="66600"/>
            <a:ext cx="8242560" cy="1360440"/>
          </a:xfrm>
          <a:prstGeom prst="rect">
            <a:avLst/>
          </a:prstGeom>
          <a:ln w="0">
            <a:noFill/>
          </a:ln>
        </p:spPr>
      </p:pic>
      <p:sp>
        <p:nvSpPr>
          <p:cNvPr id="435" name=""/>
          <p:cNvSpPr txBox="1"/>
          <p:nvPr/>
        </p:nvSpPr>
        <p:spPr>
          <a:xfrm>
            <a:off x="179280" y="1646280"/>
            <a:ext cx="8785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65680" indent="-26568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mbria"/>
              </a:rPr>
              <a:t>Великобритания очень большая и красивая, в ней хочется побывать, посетить разные города и побродить по их улицам. Я очень рада что изучила Великобританию и узнала очень много нового, надеюсь также как и вы!</a:t>
            </a:r>
            <a:endParaRPr b="0" lang="en-US" sz="40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transition spd="slow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 txBox="1"/>
          <p:nvPr/>
        </p:nvSpPr>
        <p:spPr>
          <a:xfrm>
            <a:off x="395280" y="907560"/>
            <a:ext cx="417672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1f0a0a"/>
                </a:solidFill>
                <a:uFillTx/>
                <a:latin typeface="Century"/>
                <a:ea typeface="Aparajita"/>
              </a:rPr>
              <a:t>Цели :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0a0a"/>
                </a:solidFill>
                <a:latin typeface="Cambria"/>
              </a:rPr>
              <a:t>Расширить знания об Англии как одной из составных частей Великобритании.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4572000" y="907560"/>
            <a:ext cx="4038480" cy="452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1f0a0a"/>
                </a:solidFill>
                <a:uFillTx/>
                <a:latin typeface="Century"/>
              </a:rPr>
              <a:t>Задачи: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0a0a"/>
                </a:solidFill>
                <a:latin typeface="Cambria"/>
              </a:rPr>
              <a:t>    </a:t>
            </a:r>
            <a:r>
              <a:rPr b="1" lang="ru-RU" sz="2800" spc="-1" strike="noStrike">
                <a:solidFill>
                  <a:srgbClr val="1f0a0a"/>
                </a:solidFill>
                <a:latin typeface="Cambria"/>
              </a:rPr>
              <a:t>Воспитать интернациональное чувство и интерес к этой стране.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399" name="Picture 2" descr="C:\пр\яяяяяя\21081-1280x800.jpg"/>
          <p:cNvPicPr/>
          <p:nvPr/>
        </p:nvPicPr>
        <p:blipFill>
          <a:blip r:embed="rId1"/>
          <a:stretch/>
        </p:blipFill>
        <p:spPr>
          <a:xfrm>
            <a:off x="1332000" y="3284640"/>
            <a:ext cx="6480000" cy="357336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2"/>
          <p:cNvSpPr/>
          <p:nvPr/>
        </p:nvSpPr>
        <p:spPr>
          <a:xfrm>
            <a:off x="0" y="-380520"/>
            <a:ext cx="5292720" cy="65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 u="sng">
                <a:solidFill>
                  <a:srgbClr val="0000ff"/>
                </a:solidFill>
                <a:uFillTx/>
                <a:latin typeface="Adventure"/>
              </a:rPr>
              <a:t>Англия </a:t>
            </a:r>
            <a:r>
              <a:rPr b="1" i="1" lang="ru-RU" sz="5400" spc="-1" strike="noStrike">
                <a:solidFill>
                  <a:srgbClr val="0000ff"/>
                </a:solidFill>
                <a:latin typeface="Adventure"/>
              </a:rPr>
              <a:t>– это традиция</a:t>
            </a:r>
            <a:r>
              <a:rPr b="1" i="1" lang="ru-RU" sz="5400" spc="-1" strike="noStrike">
                <a:solidFill>
                  <a:srgbClr val="000000"/>
                </a:solidFill>
                <a:latin typeface="Adventure"/>
              </a:rPr>
              <a:t>. 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 u="sng">
                <a:solidFill>
                  <a:srgbClr val="ffffff"/>
                </a:solidFill>
                <a:uFillTx/>
                <a:latin typeface="Adventure"/>
              </a:rPr>
              <a:t>Традиция </a:t>
            </a:r>
            <a:r>
              <a:rPr b="1" i="1" lang="ru-RU" sz="5400" spc="-1" strike="noStrike">
                <a:solidFill>
                  <a:srgbClr val="ffffff"/>
                </a:solidFill>
                <a:latin typeface="Adventure"/>
              </a:rPr>
              <a:t>– это культура.             </a:t>
            </a:r>
            <a:r>
              <a:rPr b="1" i="1" lang="en-US" sz="5400" spc="-1" strike="noStrike">
                <a:solidFill>
                  <a:srgbClr val="ffffff"/>
                </a:solidFill>
                <a:latin typeface="Adventure"/>
              </a:rPr>
              <a:t>  </a:t>
            </a:r>
            <a:r>
              <a:rPr b="1" i="1" lang="ru-RU" sz="5400" spc="-1" strike="noStrike" u="sng">
                <a:solidFill>
                  <a:srgbClr val="fa1616"/>
                </a:solidFill>
                <a:uFillTx/>
                <a:latin typeface="Adventure"/>
              </a:rPr>
              <a:t>Культура </a:t>
            </a:r>
            <a:r>
              <a:rPr b="1" i="1" lang="ru-RU" sz="5400" spc="-1" strike="noStrike">
                <a:solidFill>
                  <a:srgbClr val="fa1616"/>
                </a:solidFill>
                <a:latin typeface="Adventure"/>
              </a:rPr>
              <a:t>– это красота.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dventure"/>
              </a:rPr>
              <a:t>               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1" name="Picture 4" descr="C:\пр\яяяяяя\117704x8lflpdcpy.gif"/>
          <p:cNvPicPr/>
          <p:nvPr/>
        </p:nvPicPr>
        <p:blipFill>
          <a:blip r:embed="rId1"/>
          <a:stretch/>
        </p:blipFill>
        <p:spPr>
          <a:xfrm>
            <a:off x="5364000" y="3149640"/>
            <a:ext cx="3780000" cy="370836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5" descr="C:\пр\яяяяяя\15be7fadf9d7dd59993a74b84165a0f5.jpg"/>
          <p:cNvPicPr/>
          <p:nvPr/>
        </p:nvPicPr>
        <p:blipFill>
          <a:blip r:embed="rId2"/>
          <a:stretch/>
        </p:blipFill>
        <p:spPr>
          <a:xfrm>
            <a:off x="5361120" y="0"/>
            <a:ext cx="3782880" cy="31417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Заголовок 1" descr=""/>
          <p:cNvPicPr/>
          <p:nvPr/>
        </p:nvPicPr>
        <p:blipFill>
          <a:blip r:embed="rId1"/>
          <a:stretch/>
        </p:blipFill>
        <p:spPr>
          <a:xfrm>
            <a:off x="450720" y="-79200"/>
            <a:ext cx="8242560" cy="148104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8" descr="Рисунок2"/>
          <p:cNvPicPr/>
          <p:nvPr/>
        </p:nvPicPr>
        <p:blipFill>
          <a:blip r:embed="rId2"/>
          <a:stretch/>
        </p:blipFill>
        <p:spPr>
          <a:xfrm>
            <a:off x="179280" y="1557360"/>
            <a:ext cx="4824360" cy="5165640"/>
          </a:xfrm>
          <a:prstGeom prst="rect">
            <a:avLst/>
          </a:prstGeom>
          <a:ln w="0">
            <a:noFill/>
          </a:ln>
        </p:spPr>
      </p:pic>
      <p:sp>
        <p:nvSpPr>
          <p:cNvPr id="405" name=""/>
          <p:cNvSpPr txBox="1"/>
          <p:nvPr/>
        </p:nvSpPr>
        <p:spPr>
          <a:xfrm>
            <a:off x="5101920" y="1773360"/>
            <a:ext cx="404172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85840" indent="-28584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mbria"/>
              </a:rPr>
              <a:t>Площадь 244,1 тыс. кв. км.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marL="285840" indent="-28584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mbria"/>
              </a:rPr>
              <a:t>Протяженность сухопутной границы -360 км.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marL="285840" indent="-28584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mbria"/>
              </a:rPr>
              <a:t>Протяженность морской границы – 12 429км.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marL="285840" indent="-28584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mbria"/>
              </a:rPr>
              <a:t>Население 59,4млн чел.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marL="285840" indent="-28584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mbria"/>
              </a:rPr>
              <a:t>Официальный язык: английский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marL="285840" indent="-28584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mbria"/>
              </a:rPr>
              <a:t>Форма правления -конституционная монархия 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marL="285840" indent="-28584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mbria"/>
              </a:rPr>
              <a:t>Форма  территориального устройства: Федерация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marL="285840" indent="-28584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mbria"/>
              </a:rPr>
              <a:t>Столица: Лондон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marL="285840" indent="-28584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06" name="Picture 9" descr="AG00595_"/>
          <p:cNvPicPr/>
          <p:nvPr/>
        </p:nvPicPr>
        <p:blipFill>
          <a:blip r:embed="rId3"/>
          <a:stretch/>
        </p:blipFill>
        <p:spPr>
          <a:xfrm>
            <a:off x="179280" y="2060640"/>
            <a:ext cx="1246320" cy="12952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Заголовок 1" descr=""/>
          <p:cNvPicPr/>
          <p:nvPr/>
        </p:nvPicPr>
        <p:blipFill>
          <a:blip r:embed="rId1"/>
          <a:stretch/>
        </p:blipFill>
        <p:spPr>
          <a:xfrm>
            <a:off x="450720" y="-73080"/>
            <a:ext cx="8242560" cy="148104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59560" indent="-259560" algn="ctr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В рельефе преобладают равнины.</a:t>
            </a: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  <a:p>
            <a:pPr marL="259560" indent="-259560" algn="ctr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Климат теплый, мягкий.</a:t>
            </a: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  <a:p>
            <a:pPr marL="259560" indent="-259560" algn="ctr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Много рек и озёр.</a:t>
            </a: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  <a:p>
            <a:pPr marL="259560" indent="-259560" algn="ctr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Природная зона- лиственные леса.</a:t>
            </a: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  <a:p>
            <a:pPr marL="259560" indent="-259560" algn="ctr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Животный мир разнообразен.</a:t>
            </a: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  <a:p>
            <a:pPr marL="259560" indent="-259560" algn="ctr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Основное богатство- прибрежные воды с морской флорой и фауной.</a:t>
            </a: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  <a:p>
            <a:pPr marL="259560" indent="-2595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59560" indent="-2595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59560" indent="-2595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transition spd="slow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 txBox="1"/>
          <p:nvPr/>
        </p:nvSpPr>
        <p:spPr>
          <a:xfrm>
            <a:off x="4859280" y="3333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mbria"/>
              </a:rPr>
              <a:t>Королева Великобритании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mbria"/>
              </a:rPr>
              <a:t>   </a:t>
            </a:r>
            <a:r>
              <a:rPr b="0" lang="ru-RU" sz="3200" spc="-1" strike="noStrike">
                <a:solidFill>
                  <a:srgbClr val="ff0000"/>
                </a:solidFill>
                <a:latin typeface="Cambria"/>
              </a:rPr>
              <a:t>Елизавета </a:t>
            </a:r>
            <a:r>
              <a:rPr b="0" lang="en-US" sz="3200" spc="-1" strike="noStrike">
                <a:solidFill>
                  <a:srgbClr val="ff0000"/>
                </a:solidFill>
                <a:latin typeface="Rockwell"/>
              </a:rPr>
              <a:t>II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mbria"/>
              </a:rPr>
              <a:t>Правит с 1952 г.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mbria"/>
              </a:rPr>
              <a:t>Ее семья живет в Букингемском Дворце в Лондоне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10" name="Picture 4" descr="{9CCFA397-6852-438F-9186-A7D656A7FEDE}"/>
          <p:cNvPicPr/>
          <p:nvPr/>
        </p:nvPicPr>
        <p:blipFill>
          <a:blip r:embed="rId1"/>
          <a:stretch/>
        </p:blipFill>
        <p:spPr>
          <a:xfrm>
            <a:off x="0" y="1278000"/>
            <a:ext cx="4102200" cy="558000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2" descr="C:\пр\яяяяяя\Букингемский-дворец-3.jpg"/>
          <p:cNvPicPr/>
          <p:nvPr/>
        </p:nvPicPr>
        <p:blipFill>
          <a:blip r:embed="rId2"/>
          <a:stretch/>
        </p:blipFill>
        <p:spPr>
          <a:xfrm>
            <a:off x="4140360" y="3860640"/>
            <a:ext cx="5003640" cy="299736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Заголовок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242560" cy="1152720"/>
          </a:xfrm>
          <a:prstGeom prst="rect">
            <a:avLst/>
          </a:prstGeom>
          <a:ln w="0">
            <a:noFill/>
          </a:ln>
        </p:spPr>
      </p:pic>
      <p:sp>
        <p:nvSpPr>
          <p:cNvPr id="413" name="PlaceHolder 1"/>
          <p:cNvSpPr>
            <a:spLocks noGrp="1"/>
          </p:cNvSpPr>
          <p:nvPr>
            <p:ph type="subTitle"/>
          </p:nvPr>
        </p:nvSpPr>
        <p:spPr>
          <a:xfrm>
            <a:off x="539280" y="259920"/>
            <a:ext cx="860436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91960" indent="-291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0000"/>
                </a:solidFill>
                <a:latin typeface="Cambria"/>
              </a:rPr>
              <a:t>История флага</a:t>
            </a:r>
            <a:endParaRPr b="0" lang="en-US" sz="72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14" name="Picture 5" descr="C:\пр\яяяяяя\image001.jpg"/>
          <p:cNvPicPr/>
          <p:nvPr/>
        </p:nvPicPr>
        <p:blipFill>
          <a:blip r:embed="rId2"/>
          <a:stretch/>
        </p:blipFill>
        <p:spPr>
          <a:xfrm>
            <a:off x="0" y="1484280"/>
            <a:ext cx="3851280" cy="267984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6" descr="C:\пр\яяяяяя\0_71818_3b989658_XL.png"/>
          <p:cNvPicPr/>
          <p:nvPr/>
        </p:nvPicPr>
        <p:blipFill>
          <a:blip r:embed="rId3"/>
          <a:stretch/>
        </p:blipFill>
        <p:spPr>
          <a:xfrm>
            <a:off x="5651640" y="4367160"/>
            <a:ext cx="3492360" cy="2490840"/>
          </a:xfrm>
          <a:prstGeom prst="rect">
            <a:avLst/>
          </a:prstGeom>
          <a:ln w="0">
            <a:noFill/>
          </a:ln>
        </p:spPr>
      </p:pic>
      <p:sp>
        <p:nvSpPr>
          <p:cNvPr id="416" name="Плюс 6"/>
          <p:cNvSpPr/>
          <p:nvPr/>
        </p:nvSpPr>
        <p:spPr>
          <a:xfrm>
            <a:off x="3924360" y="3429000"/>
            <a:ext cx="1655640" cy="1584360"/>
          </a:xfrm>
          <a:custGeom>
            <a:avLst/>
            <a:gdLst>
              <a:gd name="textAreaLeft" fmla="*/ 219240 w 1655640"/>
              <a:gd name="textAreaRight" fmla="*/ 1436400 w 1655640"/>
              <a:gd name="textAreaTop" fmla="*/ 605880 h 1584360"/>
              <a:gd name="textAreaBottom" fmla="*/ 978480 h 1584360"/>
            </a:gdLst>
            <a:ahLst/>
            <a:rect l="textAreaLeft" t="textAreaTop" r="textAreaRight" b="textAreaBottom"/>
            <a:pathLst>
              <a:path w="1655763" h="1584325">
                <a:moveTo>
                  <a:pt x="219471" y="605846"/>
                </a:moveTo>
                <a:lnTo>
                  <a:pt x="641565" y="605846"/>
                </a:lnTo>
                <a:lnTo>
                  <a:pt x="641565" y="210002"/>
                </a:lnTo>
                <a:lnTo>
                  <a:pt x="1014198" y="210002"/>
                </a:lnTo>
                <a:lnTo>
                  <a:pt x="1014198" y="605846"/>
                </a:lnTo>
                <a:lnTo>
                  <a:pt x="1436292" y="605846"/>
                </a:lnTo>
                <a:lnTo>
                  <a:pt x="1436292" y="978479"/>
                </a:lnTo>
                <a:lnTo>
                  <a:pt x="1014198" y="978479"/>
                </a:lnTo>
                <a:lnTo>
                  <a:pt x="1014198" y="1374323"/>
                </a:lnTo>
                <a:lnTo>
                  <a:pt x="641565" y="1374323"/>
                </a:lnTo>
                <a:lnTo>
                  <a:pt x="641565" y="978479"/>
                </a:lnTo>
                <a:lnTo>
                  <a:pt x="219471" y="978479"/>
                </a:lnTo>
                <a:close/>
              </a:path>
            </a:pathLst>
          </a:custGeom>
          <a:solidFill>
            <a:srgbClr val="fa1616"/>
          </a:solidFill>
          <a:ln w="25560">
            <a:solidFill>
              <a:srgbClr val="52775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Picture 2" descr="C:\пр\яяяяяя\2013-02-01_204630.jpg"/>
          <p:cNvPicPr/>
          <p:nvPr/>
        </p:nvPicPr>
        <p:blipFill>
          <a:blip r:embed="rId1"/>
          <a:stretch/>
        </p:blipFill>
        <p:spPr>
          <a:xfrm>
            <a:off x="0" y="2924280"/>
            <a:ext cx="4102200" cy="2089080"/>
          </a:xfrm>
          <a:prstGeom prst="rect">
            <a:avLst/>
          </a:prstGeom>
          <a:ln w="0">
            <a:noFill/>
          </a:ln>
        </p:spPr>
      </p:pic>
      <p:sp>
        <p:nvSpPr>
          <p:cNvPr id="418" name="Стрелка вниз 8"/>
          <p:cNvSpPr/>
          <p:nvPr/>
        </p:nvSpPr>
        <p:spPr>
          <a:xfrm>
            <a:off x="1835280" y="1413000"/>
            <a:ext cx="865080" cy="1511280"/>
          </a:xfrm>
          <a:prstGeom prst="downArrow">
            <a:avLst>
              <a:gd name="adj1" fmla="val 50000"/>
              <a:gd name="adj2" fmla="val 50007"/>
            </a:avLst>
          </a:prstGeom>
          <a:solidFill>
            <a:srgbClr val="ff0000"/>
          </a:solidFill>
          <a:ln w="255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9" name="Плюс 9"/>
          <p:cNvSpPr/>
          <p:nvPr/>
        </p:nvSpPr>
        <p:spPr>
          <a:xfrm>
            <a:off x="3995640" y="4005360"/>
            <a:ext cx="1656000" cy="1439640"/>
          </a:xfrm>
          <a:custGeom>
            <a:avLst/>
            <a:gdLst>
              <a:gd name="textAreaLeft" fmla="*/ 219240 w 1656000"/>
              <a:gd name="textAreaRight" fmla="*/ 1436760 w 1656000"/>
              <a:gd name="textAreaTop" fmla="*/ 550440 h 1439640"/>
              <a:gd name="textAreaBottom" fmla="*/ 889200 h 1439640"/>
            </a:gdLst>
            <a:ahLst/>
            <a:rect l="textAreaLeft" t="textAreaTop" r="textAreaRight" b="textAreaBottom"/>
            <a:pathLst>
              <a:path w="1655762" h="1439862">
                <a:moveTo>
                  <a:pt x="219471" y="550603"/>
                </a:moveTo>
                <a:lnTo>
                  <a:pt x="658553" y="550603"/>
                </a:lnTo>
                <a:lnTo>
                  <a:pt x="658553" y="190854"/>
                </a:lnTo>
                <a:lnTo>
                  <a:pt x="997209" y="190854"/>
                </a:lnTo>
                <a:lnTo>
                  <a:pt x="997209" y="550603"/>
                </a:lnTo>
                <a:lnTo>
                  <a:pt x="1436291" y="550603"/>
                </a:lnTo>
                <a:lnTo>
                  <a:pt x="1436291" y="889259"/>
                </a:lnTo>
                <a:lnTo>
                  <a:pt x="997209" y="889259"/>
                </a:lnTo>
                <a:lnTo>
                  <a:pt x="997209" y="1249008"/>
                </a:lnTo>
                <a:lnTo>
                  <a:pt x="658553" y="1249008"/>
                </a:lnTo>
                <a:lnTo>
                  <a:pt x="658553" y="889259"/>
                </a:lnTo>
                <a:lnTo>
                  <a:pt x="219471" y="889259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52775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20" name="Picture 3" descr="C:\пр\яяяяяя\patrick_flag.jpg"/>
          <p:cNvPicPr/>
          <p:nvPr/>
        </p:nvPicPr>
        <p:blipFill>
          <a:blip r:embed="rId2"/>
          <a:stretch/>
        </p:blipFill>
        <p:spPr>
          <a:xfrm>
            <a:off x="5651640" y="4762440"/>
            <a:ext cx="3492360" cy="2095560"/>
          </a:xfrm>
          <a:prstGeom prst="rect">
            <a:avLst/>
          </a:prstGeom>
          <a:ln w="0">
            <a:noFill/>
          </a:ln>
        </p:spPr>
      </p:pic>
      <p:pic>
        <p:nvPicPr>
          <p:cNvPr id="421" name="Заголовок 11" descr=""/>
          <p:cNvPicPr/>
          <p:nvPr/>
        </p:nvPicPr>
        <p:blipFill>
          <a:blip r:embed="rId3"/>
          <a:stretch/>
        </p:blipFill>
        <p:spPr>
          <a:xfrm>
            <a:off x="244440" y="-55440"/>
            <a:ext cx="8240760" cy="25542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Заголовок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242560" cy="1165320"/>
          </a:xfrm>
          <a:prstGeom prst="rect">
            <a:avLst/>
          </a:prstGeom>
          <a:ln w="0">
            <a:noFill/>
          </a:ln>
        </p:spPr>
      </p:pic>
      <p:sp>
        <p:nvSpPr>
          <p:cNvPr id="423" name=""/>
          <p:cNvSpPr txBox="1"/>
          <p:nvPr/>
        </p:nvSpPr>
        <p:spPr>
          <a:xfrm>
            <a:off x="457200" y="1646280"/>
            <a:ext cx="8291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68560" indent="-2685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mbria"/>
              </a:rPr>
              <a:t>Самое любимое чаепитие – именно пятичасовое. В это время обычно у кого-нибудь дома собираются старые друзья и приятели. </a:t>
            </a:r>
            <a:br>
              <a:rPr sz="2800"/>
            </a:br>
            <a:r>
              <a:rPr b="0" i="1" lang="ru-RU" sz="2800" spc="-1" strike="noStrike">
                <a:solidFill>
                  <a:srgbClr val="000000"/>
                </a:solidFill>
                <a:latin typeface="Cambria"/>
              </a:rPr>
              <a:t>Из общественных мест чаепитие постепенно переместилось в дома, в семьи и стало излюбленным времяпрепровождением. </a:t>
            </a:r>
            <a:br>
              <a:rPr sz="2800"/>
            </a:br>
            <a:r>
              <a:rPr b="0" i="1" lang="ru-RU" sz="2800" spc="-1" strike="noStrike">
                <a:solidFill>
                  <a:srgbClr val="000000"/>
                </a:solidFill>
                <a:latin typeface="Cambria"/>
              </a:rPr>
              <a:t>Имея 59 миллионов человек населения, англичане ежедневно выпивают 165 миллионов кружек чая. 86% кружек чая выпивается именно дома.</a:t>
            </a:r>
            <a:br>
              <a:rPr sz="2800"/>
            </a:br>
            <a:r>
              <a:rPr b="0" i="1" lang="ru-RU" sz="2800" spc="-1" strike="noStrike">
                <a:solidFill>
                  <a:srgbClr val="ffffff"/>
                </a:solidFill>
                <a:latin typeface="Cambri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marL="268560" indent="-2685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transition spd="slow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6T11:30:30Z</dcterms:created>
  <dc:creator>Караблина</dc:creator>
  <dc:description/>
  <dc:language>en-US</dc:language>
  <cp:lastModifiedBy>User</cp:lastModifiedBy>
  <dcterms:modified xsi:type="dcterms:W3CDTF">2013-04-14T09:09:43Z</dcterms:modified>
  <cp:revision>46</cp:revision>
  <dc:subject/>
  <dc:title>Слайд 1</dc:title>
</cp:coreProperties>
</file>