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01D0D-A029-4CB2-BEE2-416D8AF10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92F98-BD8B-4E19-BAC8-47644D0D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0B7DA-230F-47B3-9972-73C3BACC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308C0-D221-4C6D-89D6-5DD91F52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643F-77C9-402B-A5A1-04A73A53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BF32-B24A-4FD6-8694-4D30F866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69A3-AFDA-4441-8A19-E2079D6A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40D9-7BAE-45A6-821F-9C2EC19A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58BC-B200-495B-8C45-4E32D34F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AD75-636A-4A55-ADD9-555E7F05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1BF1-102A-45D9-8334-240E1117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26A00-65D2-48DD-BB09-A891A74B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E625-653C-41E3-B7F0-BFCF3E49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F0B2-82CD-4607-90AA-EEE93BA6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1272-0E1A-4AAA-95F1-2A1D1B65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E463-45A9-42DA-A4A4-503C920E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21FC-D9BE-4D87-BFD2-D1BDC4C1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10A3C-D8B0-48FE-9099-EB11B542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E25D8-F280-4144-A878-41F6D6A0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0AB6B-72C3-4ED9-832B-441AACE3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E8C5B-7412-4267-BB06-897FA291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7CD39-3C3F-48FF-8CE2-2526D2D7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2E40D-616D-41F9-AFBD-A14D820E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8D6E-F009-43CD-85AA-0457317A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85B3-9255-4C95-B872-02295765687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EAEE-547B-4663-821E-065D4AEDC47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9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7;&#1081;&#1088;&#1086;&#1092;&#1080;&#1079;&#1080;&#1086;&#1083;&#1086;&#1075;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etstolica.ru:8080/index.php/&#1044;&#1080;&#1087;&#1083;&#1086;&#1084;&#1072;&#1090;" TargetMode="External"/><Relationship Id="rId2" Type="http://schemas.openxmlformats.org/officeDocument/2006/relationships/hyperlink" Target="http://setstolica.ru:8080/index.php/&#1053;&#1077;&#1074;&#1086;&#1079;&#1074;&#1088;&#1072;&#1097;&#1077;&#1085;&#1094;&#1099;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f25a"/>
                </a:solidFill>
                <a:latin typeface="Tahoma"/>
              </a:rPr>
              <a:t>Урок-РЕКВИЕМ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5640" y="2276640"/>
            <a:ext cx="77040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"ЦЕНА СВОБОДЫ".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О.Э. Мандельшта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1933 г. Мандельштам пишет (и читает в небольшом кругу) стихотворение-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памфле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о Сталине – «Мы живем, под собою не чуя страны…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30160" y="1600200"/>
            <a:ext cx="32925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358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Анна Баркова. </a:t>
            </a:r>
            <a:br>
              <a:rPr sz="3800"/>
            </a:b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…Вечно не та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на Баркова - человек трагической судьбы. Она трижды была заключенной советских лагерей, дважды при Сталине и один раз при Хрущеве. Но ничто не сломило ее поэтической воли и поразительного по силе духа. Стихи ее – страшны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Вечно не та.jpg"/>
          <p:cNvPicPr/>
          <p:nvPr/>
        </p:nvPicPr>
        <p:blipFill>
          <a:blip r:embed="rId1"/>
          <a:stretch/>
        </p:blipFill>
        <p:spPr>
          <a:xfrm>
            <a:off x="1116000" y="1628640"/>
            <a:ext cx="28814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628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 u="sng">
                <a:solidFill>
                  <a:srgbClr val="ffffcc"/>
                </a:solidFill>
                <a:uFillTx/>
                <a:latin typeface="Tahoma"/>
              </a:rPr>
              <a:t> </a:t>
            </a:r>
            <a:br>
              <a:rPr sz="3800"/>
            </a:br>
            <a:r>
              <a:rPr b="0" i="1" lang="en-US" sz="3800" spc="-1" strike="noStrike" u="sng">
                <a:solidFill>
                  <a:srgbClr val="ebf25a"/>
                </a:solidFill>
                <a:uFillTx/>
                <a:latin typeface="Tahoma"/>
              </a:rPr>
              <a:t>«Справедливости </a:t>
            </a:r>
            <a:br>
              <a:rPr sz="3800"/>
            </a:br>
            <a:r>
              <a:rPr b="0" i="1" lang="en-US" sz="3800" spc="-1" strike="noStrike" u="sng">
                <a:solidFill>
                  <a:srgbClr val="ebf25a"/>
                </a:solidFill>
                <a:uFillTx/>
                <a:latin typeface="Tahoma"/>
              </a:rPr>
              <a:t>окровавленные уста..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" descr="Портрет"/>
          <p:cNvPicPr/>
          <p:nvPr/>
        </p:nvPicPr>
        <p:blipFill>
          <a:blip r:embed="rId1"/>
          <a:stretch/>
        </p:blipFill>
        <p:spPr>
          <a:xfrm>
            <a:off x="539640" y="1844640"/>
            <a:ext cx="1519200" cy="1943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1398600" cy="1657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Картинка 12 из 713"/>
          <p:cNvPicPr/>
          <p:nvPr/>
        </p:nvPicPr>
        <p:blipFill>
          <a:blip r:embed="rId3"/>
          <a:stretch/>
        </p:blipFill>
        <p:spPr>
          <a:xfrm>
            <a:off x="2268360" y="2349360"/>
            <a:ext cx="1489320" cy="1943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203640" y="4221000"/>
            <a:ext cx="1271520" cy="1800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356000" y="2492280"/>
            <a:ext cx="1347840" cy="1860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Pilnjak.jpg"/>
          <p:cNvPicPr/>
          <p:nvPr/>
        </p:nvPicPr>
        <p:blipFill>
          <a:blip r:embed="rId6"/>
          <a:stretch/>
        </p:blipFill>
        <p:spPr>
          <a:xfrm>
            <a:off x="5076720" y="4292640"/>
            <a:ext cx="1378080" cy="1720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5867280" y="2276640"/>
            <a:ext cx="1344600" cy="1800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Pilnjak.jpg"/>
          <p:cNvPicPr/>
          <p:nvPr/>
        </p:nvPicPr>
        <p:blipFill>
          <a:blip r:embed="rId8"/>
          <a:stretch/>
        </p:blipFill>
        <p:spPr>
          <a:xfrm>
            <a:off x="7020000" y="4437000"/>
            <a:ext cx="1377720" cy="1720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7308720" y="3141720"/>
            <a:ext cx="13017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60-е гг.</a:t>
            </a:r>
            <a:br>
              <a:rPr sz="3800"/>
            </a:br>
            <a:r>
              <a:rPr b="0" lang="ru-RU" sz="3800" spc="-1" strike="noStrike">
                <a:solidFill>
                  <a:srgbClr val="ebf25a"/>
                </a:solidFill>
                <a:latin typeface="Tahoma"/>
              </a:rPr>
              <a:t>Диссиденство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«До Движения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ы были обреченными.. Но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Движение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зорвало мир, перевернуло его с ног на голову, вдохнуло в нас жизн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Ю. Галанс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f25a"/>
                </a:solidFill>
                <a:latin typeface="Tahoma"/>
              </a:rPr>
              <a:t>Проект группы №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07552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Tahoma"/>
              </a:rPr>
              <a:t>Ю. Галансков «Человеческий манифест»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764640"/>
            <a:ext cx="4896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НИФЕСТ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бо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 знаю, что делаю..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не бы карающий нож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идишь, как кто-то на белое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плеснул черную ложь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идишь, как вечера тьма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жует окровавленный стяг..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жизнь страшна, как тюрьма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здвигнутая на костях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адаю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адаю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адаю!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ам оставляю лысеть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 стану питаться падалью -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 вс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 стану кишкам на потребу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лоды на могилах срезать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 нужно мне вашего хлеба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мешенного на слезах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падаю, и взлетаю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полубреду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 полусне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чувствую, как расцветает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еловеческое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 м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508720" y="1484280"/>
            <a:ext cx="29401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В. Буковск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исатель, политический и общественный деятель, учёный-</a:t>
            </a:r>
            <a:r>
              <a:rPr b="0" lang="en-US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нейрофизиолог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дин из основателей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иссидентского движения в ССС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826920" y="1916280"/>
            <a:ext cx="32878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ebf25a"/>
                </a:solidFill>
                <a:latin typeface="Tahoma"/>
              </a:rPr>
              <a:t>А. И. Солженицы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«Жить не по лжи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— эссе Александра Солженицына, обращённое к советской интеллигенц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3313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bf25a"/>
                </a:solidFill>
                <a:latin typeface="Tahoma"/>
              </a:rPr>
              <a:t>Солженицын предлагал наиболее доступный, по его мнению, способ борьбы с режимом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781360"/>
            <a:ext cx="793116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i="1" lang="en-US" sz="3200" spc="-1" strike="noStrike" u="sng">
                <a:solidFill>
                  <a:srgbClr val="ebf25a"/>
                </a:solidFill>
                <a:uFillTx/>
                <a:latin typeface="Tahoma"/>
              </a:rPr>
              <a:t>Самый доступный ключ к нашему освобождению: личное неучастие во лжи! Пусть ложь всё покрыла, всем владеет, но в самом малом упрёмся: пусть владеет не через меня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А. Афиногенов «Страх»1931г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фиша к спектаклю по пьесе Афиногенова «Страх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19640" y="2997360"/>
            <a:ext cx="2710080" cy="3528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Фотография Александр Афиногенов (photo Alexandr Afinogenov)"/>
          <p:cNvPicPr/>
          <p:nvPr/>
        </p:nvPicPr>
        <p:blipFill>
          <a:blip r:embed="rId2"/>
          <a:stretch/>
        </p:blipFill>
        <p:spPr>
          <a:xfrm>
            <a:off x="539640" y="1844640"/>
            <a:ext cx="3384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814716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Б о р о д и н.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Страх...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Восемьдесят процентов всех обследованных живут под вечным страхом окрика или потери социальной опоры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тальные двадцать процентов обследуемых – это рабочие-выдвиженцы, им нечего бояться, они хозяева стра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14716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</a:rPr>
              <a:t>Уничтожьте страх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, и вы увидите, какой богатой жизнью расцветёт страна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Пьеса и спектакль в целом дали картину взрыва сложившейся системы общественной и частной жизни, в ней пульсировало время тридцатых годов – завершающий этап революции – </a:t>
            </a:r>
            <a:r>
              <a:rPr b="1" lang="en-US" sz="3200" spc="-1" strike="noStrike" u="sng">
                <a:solidFill>
                  <a:srgbClr val="ebf25a"/>
                </a:solidFill>
                <a:uFillTx/>
                <a:latin typeface="Tahoma"/>
              </a:rPr>
              <a:t>тоталитариз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ebf25a"/>
                </a:solidFill>
                <a:uFillTx/>
                <a:latin typeface="Tahoma"/>
              </a:rPr>
              <a:t>тоталитаризм..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Контроль власти над всеми сферами жизни…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иоритет гос интересов над частными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днопартийная система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Единая идеология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сутствие демократических институтов (парламента..)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Фактическая ликвидация прав и свобод граждан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епрессии и террор в отношении оппозиции и инакомыслящих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36316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i="1" lang="en-US" sz="3800" spc="-1" strike="noStrike" u="sng">
                <a:solidFill>
                  <a:srgbClr val="ebf25a"/>
                </a:solidFill>
                <a:uFillTx/>
                <a:latin typeface="Tahoma"/>
              </a:rPr>
              <a:t>«Кровавая азбука свободомыслия»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ebf25a"/>
                </a:solidFill>
                <a:uFillTx/>
                <a:latin typeface="Tahoma"/>
              </a:rPr>
              <a:t>Эпиграф: Справедливости окровавленные уста..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Портрет"/>
          <p:cNvPicPr/>
          <p:nvPr/>
        </p:nvPicPr>
        <p:blipFill>
          <a:blip r:embed="rId1"/>
          <a:stretch/>
        </p:blipFill>
        <p:spPr>
          <a:xfrm>
            <a:off x="539640" y="1844640"/>
            <a:ext cx="1519200" cy="194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1398600" cy="1657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Картинка 12 из 713"/>
          <p:cNvPicPr/>
          <p:nvPr/>
        </p:nvPicPr>
        <p:blipFill>
          <a:blip r:embed="rId3"/>
          <a:stretch/>
        </p:blipFill>
        <p:spPr>
          <a:xfrm>
            <a:off x="2268360" y="2349360"/>
            <a:ext cx="1489320" cy="1943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203640" y="4221000"/>
            <a:ext cx="1271520" cy="180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211640" y="2781360"/>
            <a:ext cx="1347840" cy="1860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Pilnjak.jpg"/>
          <p:cNvPicPr/>
          <p:nvPr/>
        </p:nvPicPr>
        <p:blipFill>
          <a:blip r:embed="rId6"/>
          <a:stretch/>
        </p:blipFill>
        <p:spPr>
          <a:xfrm>
            <a:off x="5076720" y="4292640"/>
            <a:ext cx="1378080" cy="1720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6156360" y="2708280"/>
            <a:ext cx="1344600" cy="1800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Pilnjak.jpg"/>
          <p:cNvPicPr/>
          <p:nvPr/>
        </p:nvPicPr>
        <p:blipFill>
          <a:blip r:embed="rId8"/>
          <a:stretch/>
        </p:blipFill>
        <p:spPr>
          <a:xfrm>
            <a:off x="7020000" y="4437000"/>
            <a:ext cx="13777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Ф. Ф. Раскольнико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ёдор Фёдорович Раско́льников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етский военный и государственный деятель,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дипломат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, писатель и журналист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Невозвращенец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Портрет"/>
          <p:cNvPicPr/>
          <p:nvPr/>
        </p:nvPicPr>
        <p:blipFill>
          <a:blip r:embed="rId3"/>
          <a:stretch/>
        </p:blipFill>
        <p:spPr>
          <a:xfrm>
            <a:off x="735120" y="1700280"/>
            <a:ext cx="3435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«Открытое письмо Сталину» от </a:t>
            </a:r>
            <a:br>
              <a:rPr sz="3800"/>
            </a:br>
            <a:r>
              <a:rPr b="0" lang="en-US" sz="3800" spc="-1" strike="noStrike">
                <a:solidFill>
                  <a:srgbClr val="ebf25a"/>
                </a:solidFill>
                <a:latin typeface="Tahoma"/>
              </a:rPr>
              <a:t> 26 июля 1938г.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bf25a"/>
                </a:solidFill>
                <a:latin typeface="Tahoma"/>
              </a:rPr>
              <a:t>Иван Павлов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f25a"/>
                </a:solidFill>
                <a:latin typeface="Tahoma"/>
              </a:rPr>
              <a:t>Прообразом академика Бородина из пьесы Афиногенова стал профессор И Павлов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Академик Павлов писал в 1928 году: Мы жили и живём под неослабевающим режимом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террора и насилия.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«Мы живём […] только во всеобщей обязанности беспрекословно, под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страхом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разнообразных и тяжёлых лишений повиноваться. […] Образованные люди превращены в безмолвных зрителей и исполнителей. Они видят, как беспощадно и большей частью неудачно перекраивается вся жизнь до дна»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Павлов писал в Совнарком о беспрерывных и бесчисленных арестах: «Аресты делают нашу жизнь совершенно исключительн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Мужество академика Павлова, учёного и граж­данина, помогало другим представителям интел­лигенции в трудное время сохранять чувство собственного достоинства и долг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6450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05:26:40Z</dcterms:created>
  <dc:creator>lancaster</dc:creator>
  <dc:description/>
  <dc:language>en-US</dc:language>
  <cp:lastModifiedBy>lancaster</cp:lastModifiedBy>
  <dcterms:modified xsi:type="dcterms:W3CDTF">2012-02-19T06:22:19Z</dcterms:modified>
  <cp:revision>3</cp:revision>
  <dc:subject/>
  <dc:title>Пьеса А. Афиногенова «Страх»1931г.</dc:title>
</cp:coreProperties>
</file>