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DFCD-3C97-4872-9E25-F4BEA73F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FE1F-CEF1-4A7D-A3BA-852F5846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9C29-9204-47D8-AE09-DE4A64C0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2BE7-5971-422A-8C9F-2E666FA6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FAED-17B2-4215-9EB6-1A06B772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7A05-1A91-4374-950F-C814C742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AA7A-54FB-4AC0-B8EC-DA8B7481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D360-DF33-4244-A55C-3399FD6F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D55C-A122-4686-84F3-A02BAD9A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7514-BE23-4250-9A06-60DF844D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7527-6D21-46A7-8DC7-26BD2FD9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6936-308D-4E37-AB44-9163481C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8E3A-68E1-44A8-AC95-98B97802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6D71-A5DD-433D-9A1C-81E7ACA7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47D3-E8F5-4A74-BF08-79E2789F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9913-2DFC-453F-97AD-4B150CB8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8BCD-8E36-4CEA-BBBF-7582BDA2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81BE-3861-42EB-9985-CC3C2844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2C9A7-77D8-46DF-B5DA-56D7DBA9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4709-550B-4209-A51B-C1AC2C4F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BDAD-A518-4F3B-B8E0-19EF36D2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FBAB-80B9-40DB-BC82-A0C87DEC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E2A7-5F6A-4842-8D00-6D57969C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826F-484B-4E54-8927-072CD4C4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A8A4-A50A-4C00-A09A-42CE30652C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6FE7-EC3F-4CD4-BD33-F9BFB24D2F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9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7;&#1081;&#1088;&#1086;&#1092;&#1080;&#1079;&#1080;&#1086;&#1083;&#1086;&#1075;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etstolica.ru:8080/index.php/&#1044;&#1080;&#1087;&#1083;&#1086;&#1084;&#1072;&#1090;" TargetMode="External"/><Relationship Id="rId2" Type="http://schemas.openxmlformats.org/officeDocument/2006/relationships/hyperlink" Target="http://setstolica.ru:8080/index.php/&#1053;&#1077;&#1074;&#1086;&#1079;&#1074;&#1088;&#1072;&#1097;&#1077;&#1085;&#1094;&#1099;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25a"/>
                </a:solidFill>
                <a:latin typeface="Tahoma"/>
              </a:rPr>
              <a:t>Урок-РЕКВИЕМ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2276640"/>
            <a:ext cx="7704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ЦЕНА СВОБОДЫ".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О.Э. Мандельшта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33 г. Мандельштам пишет (и читает в небольшом кругу) стихотворение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памфле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 Сталине – «Мы живем, под собою не чуя страны…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30160" y="1600200"/>
            <a:ext cx="3292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358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Анна Баркова. </a:t>
            </a: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…Вечно не т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на Баркова - человек трагической судьбы. Она трижды была заключенной советских лагерей, дважды при Сталине и один раз при Хрущеве. Но ничто не сломило ее поэтической воли и поразительного по силе духа. Стихи ее – страшны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Вечно не та.jpg"/>
          <p:cNvPicPr/>
          <p:nvPr/>
        </p:nvPicPr>
        <p:blipFill>
          <a:blip r:embed="rId1"/>
          <a:stretch/>
        </p:blipFill>
        <p:spPr>
          <a:xfrm>
            <a:off x="1116000" y="1628640"/>
            <a:ext cx="28814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br>
              <a:rPr sz="3800"/>
            </a:br>
            <a:r>
              <a:rPr b="0" i="1" lang="en-US" sz="3800" spc="-1" strike="noStrike" u="sng">
                <a:solidFill>
                  <a:srgbClr val="ebf25a"/>
                </a:solidFill>
                <a:uFillTx/>
                <a:latin typeface="Tahoma"/>
              </a:rPr>
              <a:t>«Справедливости </a:t>
            </a:r>
            <a:br>
              <a:rPr sz="3800"/>
            </a:br>
            <a:r>
              <a:rPr b="0" i="1" lang="en-US" sz="3800" spc="-1" strike="noStrike" u="sng">
                <a:solidFill>
                  <a:srgbClr val="ebf25a"/>
                </a:solidFill>
                <a:uFillTx/>
                <a:latin typeface="Tahoma"/>
              </a:rPr>
              <a:t>окровавленные уста..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" descr="Портрет"/>
          <p:cNvPicPr/>
          <p:nvPr/>
        </p:nvPicPr>
        <p:blipFill>
          <a:blip r:embed="rId1"/>
          <a:stretch/>
        </p:blipFill>
        <p:spPr>
          <a:xfrm>
            <a:off x="539640" y="1844640"/>
            <a:ext cx="1519200" cy="1943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1398600" cy="1657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Картинка 12 из 713"/>
          <p:cNvPicPr/>
          <p:nvPr/>
        </p:nvPicPr>
        <p:blipFill>
          <a:blip r:embed="rId3"/>
          <a:stretch/>
        </p:blipFill>
        <p:spPr>
          <a:xfrm>
            <a:off x="2268360" y="2349360"/>
            <a:ext cx="1489320" cy="1943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03640" y="4221000"/>
            <a:ext cx="127152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356000" y="2492280"/>
            <a:ext cx="1347840" cy="1860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Pilnjak.jpg"/>
          <p:cNvPicPr/>
          <p:nvPr/>
        </p:nvPicPr>
        <p:blipFill>
          <a:blip r:embed="rId6"/>
          <a:stretch/>
        </p:blipFill>
        <p:spPr>
          <a:xfrm>
            <a:off x="5076720" y="4292640"/>
            <a:ext cx="1378080" cy="1720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5867280" y="2276640"/>
            <a:ext cx="1344600" cy="1800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Pilnjak.jpg"/>
          <p:cNvPicPr/>
          <p:nvPr/>
        </p:nvPicPr>
        <p:blipFill>
          <a:blip r:embed="rId8"/>
          <a:stretch/>
        </p:blipFill>
        <p:spPr>
          <a:xfrm>
            <a:off x="7020000" y="4437000"/>
            <a:ext cx="1377720" cy="1720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7308720" y="3141720"/>
            <a:ext cx="13017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60-е гг.</a:t>
            </a: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Диссиденств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«До Движения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ы были обреченными.. Но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виже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зорвало мир, перевернуло его с ног на голову, вдохнуло в нас жизн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. Галанс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Проект группы №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Ю. Галансков «Человеческий манифест»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764640"/>
            <a:ext cx="4896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НИФЕСТ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бо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знаю, что делаю..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бы карающий нож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идишь, как кто-то на бело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плеснул черную ложь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идишь, как вечера тьм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ует окровавленный стяг..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жизнь страшна, как тюрьма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двигнутая на костях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даю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даю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даю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ам оставляю лысеть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стану питаться падалью -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вс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стану кишкам на потребу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лоды на могилах срезать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нужно мне вашего хлеба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мешенного на слезах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падаю, и взлетаю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полубреду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полусн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чувствую, как расцветает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еловеческо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 м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29401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В. Буковск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исатель, политический и общественный деятель, учёный-</a:t>
            </a:r>
            <a:r>
              <a:rPr b="0" lang="en-US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нейрофизиолог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дин из основателей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ссидентского движения в ССС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32878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bf25a"/>
                </a:solidFill>
                <a:latin typeface="Tahoma"/>
              </a:rPr>
              <a:t>А. И. Солженицы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Жить не по лжи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 эссе Александра Солженицына, обращённое к советской интеллиген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31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bf25a"/>
                </a:solidFill>
                <a:latin typeface="Tahoma"/>
              </a:rPr>
              <a:t>Солженицын предлагал наиболее доступный, по его мнению, способ борьбы с режимом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781360"/>
            <a:ext cx="793116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i="1" lang="en-US" sz="3200" spc="-1" strike="noStrike" u="sng">
                <a:solidFill>
                  <a:srgbClr val="ebf25a"/>
                </a:solidFill>
                <a:uFillTx/>
                <a:latin typeface="Tahoma"/>
              </a:rPr>
              <a:t>Самый доступный ключ к нашему освобождению: личное неучастие во лжи! Пусть ложь всё покрыла, всем владеет, но в самом малом упрёмся: пусть владеет не через меня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А. Афиногенов «Страх»1931г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фиша к спектаклю по пьесе Афиногенова «Страх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19640" y="2997360"/>
            <a:ext cx="2710080" cy="352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Фотография Александр Афиногенов (photo Alexandr Afinogenov)"/>
          <p:cNvPicPr/>
          <p:nvPr/>
        </p:nvPicPr>
        <p:blipFill>
          <a:blip r:embed="rId2"/>
          <a:stretch/>
        </p:blipFill>
        <p:spPr>
          <a:xfrm>
            <a:off x="539640" y="1844640"/>
            <a:ext cx="338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14716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 о р о д и н.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трах...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Восемьдесят процентов всех обследованных живут под вечным страхом окрика или потери социальной опор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тальные двадцать процентов обследуемых – это рабочие-выдвиженцы, им нечего бояться, они хозяева стра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14716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</a:rPr>
              <a:t>Уничтожьте страх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и вы увидите, какой богатой жизнью расцветёт страна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ьеса и спектакль в целом дали картину взрыва сложившейся системы общественной и частной жизни, в ней пульсировало время тридцатых годов – завершающий этап революции – </a:t>
            </a:r>
            <a:r>
              <a:rPr b="1" lang="en-US" sz="3200" spc="-1" strike="noStrike" u="sng">
                <a:solidFill>
                  <a:srgbClr val="ebf25a"/>
                </a:solidFill>
                <a:uFillTx/>
                <a:latin typeface="Tahoma"/>
              </a:rPr>
              <a:t>тоталитариз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ebf25a"/>
                </a:solidFill>
                <a:uFillTx/>
                <a:latin typeface="Tahoma"/>
              </a:rPr>
              <a:t>тоталитаризм..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троль власти над всеми сферами жизни…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иоритет гос интересов над частными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днопартийная систем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Единая идеология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сутствие демократических институтов (парламента..)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актическая ликвидация прав и свобод граждан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прессии и террор в отношении оппозиции и инакомыслящих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36316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i="1" lang="en-US" sz="3800" spc="-1" strike="noStrike" u="sng">
                <a:solidFill>
                  <a:srgbClr val="ebf25a"/>
                </a:solidFill>
                <a:uFillTx/>
                <a:latin typeface="Tahoma"/>
              </a:rPr>
              <a:t>«Кровавая азбука свободомыслия»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ebf25a"/>
                </a:solidFill>
                <a:uFillTx/>
                <a:latin typeface="Tahoma"/>
              </a:rPr>
              <a:t>Эпиграф: Справедливости окровавленные уста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Портрет"/>
          <p:cNvPicPr/>
          <p:nvPr/>
        </p:nvPicPr>
        <p:blipFill>
          <a:blip r:embed="rId1"/>
          <a:stretch/>
        </p:blipFill>
        <p:spPr>
          <a:xfrm>
            <a:off x="539640" y="1844640"/>
            <a:ext cx="151920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139860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Картинка 12 из 713"/>
          <p:cNvPicPr/>
          <p:nvPr/>
        </p:nvPicPr>
        <p:blipFill>
          <a:blip r:embed="rId3"/>
          <a:stretch/>
        </p:blipFill>
        <p:spPr>
          <a:xfrm>
            <a:off x="2268360" y="2349360"/>
            <a:ext cx="148932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203640" y="4221000"/>
            <a:ext cx="1271520" cy="180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211640" y="2781360"/>
            <a:ext cx="1347840" cy="1860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Pilnjak.jpg"/>
          <p:cNvPicPr/>
          <p:nvPr/>
        </p:nvPicPr>
        <p:blipFill>
          <a:blip r:embed="rId6"/>
          <a:stretch/>
        </p:blipFill>
        <p:spPr>
          <a:xfrm>
            <a:off x="5076720" y="4292640"/>
            <a:ext cx="1378080" cy="172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156360" y="2708280"/>
            <a:ext cx="1344600" cy="180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Pilnjak.jpg"/>
          <p:cNvPicPr/>
          <p:nvPr/>
        </p:nvPicPr>
        <p:blipFill>
          <a:blip r:embed="rId8"/>
          <a:stretch/>
        </p:blipFill>
        <p:spPr>
          <a:xfrm>
            <a:off x="7020000" y="4437000"/>
            <a:ext cx="1377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Ф. Ф. Раскольник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ёдор Фёдорович Раско́льников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ский военный и государственный деятель,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дипломат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писатель и журналист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Невозвращенец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Портрет"/>
          <p:cNvPicPr/>
          <p:nvPr/>
        </p:nvPicPr>
        <p:blipFill>
          <a:blip r:embed="rId3"/>
          <a:stretch/>
        </p:blipFill>
        <p:spPr>
          <a:xfrm>
            <a:off x="735120" y="1700280"/>
            <a:ext cx="3435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«Открытое письмо Сталину» от </a:t>
            </a:r>
            <a:br>
              <a:rPr sz="3800"/>
            </a:b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 26 июля 1938г.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Иван Павл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Прообразом академика Бородина из пьесы Афиногенова стал профессор И Павл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кадемик Павлов писал в 1928 году: Мы жили и живём под неослабевающим режимом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террора и насилия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«Мы живём […] только во всеобщей обязанности беспрекословно, под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страхом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разнообразных и тяжёлых лишений повиноваться. […] Образованные люди превращены в безмолвных зрителей и исполнителей. Они видят, как беспощадно и большей частью неудачно перекраивается вся жизнь до дна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авлов писал в Совнарком о беспрерывных и бесчисленных арестах: «Аресты делают нашу жизнь совершенно исключитель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Мужество академика Павлова, учёного и граж­данина, помогало другим представителям интел­лигенции в трудное время сохранять чувство собственного достоинства и дол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645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05:26:40Z</dcterms:created>
  <dc:creator>lancaster</dc:creator>
  <dc:description/>
  <dc:language>en-US</dc:language>
  <cp:lastModifiedBy>lancaster</cp:lastModifiedBy>
  <dcterms:modified xsi:type="dcterms:W3CDTF">2012-02-19T06:22:19Z</dcterms:modified>
  <cp:revision>3</cp:revision>
  <dc:subject/>
  <dc:title>Пьеса А. Афиногенова «Страх»1931г.</dc:title>
</cp:coreProperties>
</file>