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7.png" ContentType="image/png"/>
  <Override PartName="/ppt/media/image26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33.gif" ContentType="image/gif"/>
  <Override PartName="/ppt/media/image18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0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791-30F9-4DE4-9A33-B15B16E6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3B7-502B-42B5-8A9D-D5EF5D77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31EEE-364F-4494-9CA7-46416DB5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EC30D-8D9B-4DA4-8965-9B5C9241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56E39-AA03-4938-8F06-B5BF3186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19FC1-F6AB-42CF-9F81-DA9D5DBB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935A1-E06F-4922-AF70-CB4C4127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F1410-203B-4394-ADC7-0E0FDAA6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DFF81-C8BB-4506-A990-D6780154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52DCE-CDC4-4F41-BB20-DF2DF2FF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9E507-92B9-4DB9-B359-AF107866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728-9F66-447A-A578-DC9C5210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018-F48E-4B98-9655-CDF2783F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ADE4-452F-4D50-B2B1-143EAA81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E3A8-DEF7-4F3D-8A95-145E4ED7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2CF5-A81A-408D-B092-13E0F253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8012-8CF2-435B-ABC2-69C29183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32E-5BED-4D59-A6A4-D6DBA71A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6432-19D2-436B-A8D3-DA4D1226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6AD9-7594-40D2-B1BA-75AF43DA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DE0-8390-46DC-A61E-6FBB51E7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44AC-73ED-4522-A098-64E39C10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A755-5057-40BE-BDD6-2E88F420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6125-9A5C-46C4-A368-2F17849B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D596-BDEF-4B7E-8E76-EE636007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9BF8-2C65-4E1B-9A5C-E339B21C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C736-959D-4FC6-BFEB-623E3EB8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9013-38D6-40A1-9731-2AFF9D5F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BFCB8-DD55-4CCF-B5D3-13303677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C0ED-4EA5-4891-B809-7FF57A47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5D8A-58C8-4D3B-8CE9-5CBABCBC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3FF-A329-4644-9453-2E164FCF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D3AE-64C1-4CA1-B373-E5661B52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5E434-70B1-4719-A4B2-C7FC2268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3B9FD-6EEB-4B95-8B32-7695A6FE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CB6C-48C6-41B3-B85E-0F5754C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E7ED-AEED-4EA4-B917-055E655C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14CB-83F4-4971-9F7E-2AA1EB3D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624C6-E776-4228-8C75-36309664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1522E-69B2-48EF-9D98-576D194F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7348D-A734-40A1-9C91-4D587D54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06283-86A1-4C86-B494-E3CE4124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9F7-496D-4591-9275-69D46CE3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90569-F2E2-4F60-BBA1-1BE2B66C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DACE3-6296-4E73-91FF-0A36B77C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F7F86-0941-48DE-99E8-7596B24D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D4F5A-7AB3-4DC9-8A1B-E50325E7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444CA-BEEA-405C-A633-6C7A1C6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5D10C-B237-4B68-95E8-119D7D6E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D5519-4926-435E-A2A5-D306DE58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95EA-D351-4D47-B0B1-71FA6D95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7DFE7-4E35-4594-8028-F5DDAFC1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A62DD-C318-47AF-98E6-008D07DB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14C-3358-4365-AAAF-39DF9A3D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2D3D8-BF66-43FF-B3F8-F7C177A2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D0C2F-B0C3-45EE-A594-2D157257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309E1-4CA6-48F6-A462-C000D236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37E5B-2A77-4DF2-8458-3EF85CC3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E91D2-124F-462C-8227-8815928F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DDF6A-C500-476B-8545-152B494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3775B-529B-476A-9652-C9A85257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635A8-4713-4311-8ED0-55005B7D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62B91-D5FE-4DAE-911B-68D90AD1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36561-0206-4025-81FC-30B52994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83E-A2ED-45BD-9AC2-16ED2C70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1B5E9-D735-481E-958E-86ECBB14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BE25E-B55D-45D5-A01E-E29663F9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1EC0D-FCCE-40AB-8B74-D123F3E5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853DD-9F48-4774-9AD7-15F7B143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C2B1F-238B-488E-BAF4-F5D0638E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2D48D-8ABF-4373-8C92-028DEEBE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18C98-4F05-407A-AD5E-B8BDF013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B7E33-65DB-431B-9F0E-A3D4FD9F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547F4-048E-48DA-997F-E193BAD2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A76A0-C768-4FC1-AA2E-24C42FC2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7D6-B4F2-4E30-8B3A-17D7CD91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D3109-B5E7-4E21-B84C-16DEACF8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6081F-D85C-4831-B354-61A978DF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C5AE1-472C-4BE1-94FB-4492EECA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591AA-FC26-4431-83E4-4F8D473A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88E7A-9AA8-4CA4-9A87-6EA3C9C8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31A41-F15C-4000-B31F-5B1D3CB4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BB368-D920-4E2D-914B-2796E81C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782E1-CED6-401B-8F7D-45832AFB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93765-E464-4C6F-AF2A-1C3CD252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F3C30-DC34-4148-B464-70605D09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125-6CDD-4458-9EC5-9D02747F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CEAEB-B1E6-4AE1-80A5-B0579540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FAB61-F2B7-4281-B51A-0058D46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5CF2E-78B7-4DFD-B9D0-C9DCF27C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E374C-F7C2-49FE-A9FF-336DA265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EA805-8C87-4252-A48F-90BC7D46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C0318-1D6D-4C4E-BDDF-35CA0492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14AF7-6657-4105-B4AD-6771D1F3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D7D83-A176-432B-9781-E833CB2A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8593A-2CBD-4E95-987B-B8CB4A9B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17E44-4E40-4E39-BDE2-8C83A394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620-7609-48EB-996B-0560376B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D246D-6D3D-43DD-9EC1-3A955A1C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D3836-C2D0-46AA-874C-750425D1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EE60A-9816-415B-B3C7-BD0546C9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5B544-7EBC-4D84-AE4E-959B69C1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3336B-4BC2-4AEE-88A9-4DD7C7FD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C6157-35C2-45D6-89CE-0A42ADED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961AD-2146-4651-BFEB-09EF77B1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1F259-8A7A-410D-A442-22A8A924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07BD3-D09E-4B99-82A9-2F0DFC1A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A4209-FCAA-4062-99A3-50DC5ED1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E764-7FFB-4C7D-B56C-5CADAE4EAA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28F6-29E5-4E29-8C85-DB3976F036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1F7D-DB10-4DEE-A6B6-FE8D2976300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A28A-B67A-407E-A758-6471164A253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0B36-4DAC-4B92-89F8-F558176DDB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6AE5-A30E-4518-BA4F-BCBD9D03A3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6E9A-7F1A-493F-9459-295A56C81D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159A-47C9-444A-8338-0C536E0AD5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73A4-1C62-4B28-B6EF-8E9B0B3E8DF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82560" y="738360"/>
            <a:ext cx="7785000" cy="1699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shykshin"/>
          <p:cNvPicPr/>
          <p:nvPr/>
        </p:nvPicPr>
        <p:blipFill>
          <a:blip r:embed="rId2"/>
          <a:stretch/>
        </p:blipFill>
        <p:spPr>
          <a:xfrm>
            <a:off x="609480" y="22096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4"/>
          <p:cNvSpPr/>
          <p:nvPr/>
        </p:nvSpPr>
        <p:spPr>
          <a:xfrm>
            <a:off x="4191120" y="25509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веруй, что все было не зря: наши песни, наши сказки, наши неимоверной тяжести победы, наши страдания - не отдавай всего этого за понюх таба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умели жить. Помни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человеком 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33200" y="274680"/>
            <a:ext cx="8944200" cy="15303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«РАСКАС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Экспозиция рассказа (зачин)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 групп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вращение Ивана из дальнего путешеств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крытие некой тайн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хищение красавицы-жен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оревание. Ду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33200" y="255600"/>
            <a:ext cx="8944200" cy="15177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Действие героя. Рассказ Ивана Пети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2 групп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ействия героя после узнавания тайн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ван идет со своим рассказом в редакцию/анализирует эпизод 3 группа/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уть и препятствия на пу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133200" y="255600"/>
            <a:ext cx="8944200" cy="15177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Финал рассказа/анализирует эпизод 4 группа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ир. Горькое застоль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165240" y="128520"/>
            <a:ext cx="8832600" cy="13096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Возвращение Ивана из дальнего путешеств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Открытие некой тай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Похищение красавицы-же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Горевание. Дум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Действия героя после узнавания тай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 Путь и препятствия на пути.                                           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. Пир. Горькое застоль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914400" y="380880"/>
            <a:ext cx="754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конкретизировать и искать дальше истоки того творческого пути, которым иду, то они, конечно, лежат в искусстве устного рассказа… Всегда в таких рассказах была цель, какая-то пряма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ая необходимост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зывали так, чтобы слушатели решительно все поняли. Н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я и доступная фор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значит унылая и серая. Тут… всегда был свой неожиданный прием,  свой особы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читать один из рассказов В.М.Шукшин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писать сочинение на одну из тем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Пенек в школе, семье, обществе» (эссе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Шукшин. Каким я увидел его сегодня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ой любимый рассказ В.М.Шукшина»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Какие чувства вызывает Иван Петин?»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Рисунок 172" descr="http://woweb.ucoz.ru/flist/gif/502/164.gif"/>
          <p:cNvPicPr/>
          <p:nvPr/>
        </p:nvPicPr>
        <p:blipFill>
          <a:blip r:embed="rId2"/>
          <a:stretch/>
        </p:blipFill>
        <p:spPr>
          <a:xfrm>
            <a:off x="285840" y="0"/>
            <a:ext cx="142884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2286000" y="310500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стречи 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м уроке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609480" y="22096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Козлова С.М. Поэтика рассказов В.М.Шукшина. Барнаул. Издательство Алтайского государственного университета.1992 го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Коробов В.И. Василий Шукшин «Современник».1984 го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В.М.Шукшин. Точка зрения. Алтайское книжное издательство.1979 год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81160" y="426960"/>
            <a:ext cx="8729640" cy="1152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Users\Галина\Desktop\сростки.jpg"/>
          <p:cNvPicPr/>
          <p:nvPr/>
        </p:nvPicPr>
        <p:blipFill>
          <a:blip r:embed="rId2"/>
          <a:stretch/>
        </p:blipFill>
        <p:spPr>
          <a:xfrm>
            <a:off x="5257800" y="3048120"/>
            <a:ext cx="3733920" cy="365760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4"/>
          <p:cNvSpPr/>
          <p:nvPr/>
        </p:nvSpPr>
        <p:spPr>
          <a:xfrm>
            <a:off x="304920" y="1676520"/>
            <a:ext cx="601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 сибирский. Пейзаж неброский. Бьет о берег Катуни вол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 каждый в России, что Срост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одина Шук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C:\Users\Галина\Desktop\biy3b(1).jpg"/>
          <p:cNvPicPr/>
          <p:nvPr/>
        </p:nvPicPr>
        <p:blipFill>
          <a:blip r:embed="rId3"/>
          <a:stretch/>
        </p:blipFill>
        <p:spPr>
          <a:xfrm>
            <a:off x="228600" y="342900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Галина\Desktop\shukshin_vasiliy_401.jpg"/>
          <p:cNvPicPr/>
          <p:nvPr/>
        </p:nvPicPr>
        <p:blipFill>
          <a:blip r:embed="rId2"/>
          <a:stretch/>
        </p:blipFill>
        <p:spPr>
          <a:xfrm>
            <a:off x="3352680" y="1523880"/>
            <a:ext cx="2667240" cy="3581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im4-tub-ru.yandex.net/i?id=548456782-07-72&amp;n=21"/>
          <p:cNvPicPr/>
          <p:nvPr/>
        </p:nvPicPr>
        <p:blipFill>
          <a:blip r:embed="rId3"/>
          <a:stretch/>
        </p:blipFill>
        <p:spPr>
          <a:xfrm rot="487200">
            <a:off x="5921280" y="2552400"/>
            <a:ext cx="2971800" cy="37576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5"/>
          <p:cNvSpPr/>
          <p:nvPr/>
        </p:nvSpPr>
        <p:spPr>
          <a:xfrm rot="520800">
            <a:off x="6401160" y="1980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ды учебы во ВГ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4114800" y="5257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http://telegrafua.com/photos/bank_9762_40329.jpg"/>
          <p:cNvPicPr/>
          <p:nvPr/>
        </p:nvPicPr>
        <p:blipFill>
          <a:blip r:embed="rId4"/>
          <a:stretch/>
        </p:blipFill>
        <p:spPr>
          <a:xfrm rot="21036600">
            <a:off x="228600" y="1600200"/>
            <a:ext cx="3200400" cy="39434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8"/>
          <p:cNvSpPr/>
          <p:nvPr/>
        </p:nvSpPr>
        <p:spPr>
          <a:xfrm rot="20902800">
            <a:off x="1817640" y="56973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90c148f46fb5"/>
          <p:cNvPicPr/>
          <p:nvPr/>
        </p:nvPicPr>
        <p:blipFill>
          <a:blip r:embed="rId2"/>
          <a:stretch/>
        </p:blipFill>
        <p:spPr>
          <a:xfrm>
            <a:off x="1523880" y="1600200"/>
            <a:ext cx="5943600" cy="35481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5"/>
          <p:cNvSpPr/>
          <p:nvPr/>
        </p:nvSpPr>
        <p:spPr>
          <a:xfrm>
            <a:off x="1371600" y="5257800"/>
            <a:ext cx="685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не был бражником и не был главар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не был хулиганом и повес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водится в России, и о 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ала разное язвительная пре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69541bc6b40a"/>
          <p:cNvPicPr/>
          <p:nvPr/>
        </p:nvPicPr>
        <p:blipFill>
          <a:blip r:embed="rId2"/>
          <a:stretch/>
        </p:blipFill>
        <p:spPr>
          <a:xfrm>
            <a:off x="0" y="1295280"/>
            <a:ext cx="2362320" cy="2352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1000061695"/>
          <p:cNvPicPr/>
          <p:nvPr/>
        </p:nvPicPr>
        <p:blipFill>
          <a:blip r:embed="rId3"/>
          <a:stretch/>
        </p:blipFill>
        <p:spPr>
          <a:xfrm>
            <a:off x="1676520" y="2590920"/>
            <a:ext cx="1904760" cy="3009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1163396259_kalina_krasnaya"/>
          <p:cNvPicPr/>
          <p:nvPr/>
        </p:nvPicPr>
        <p:blipFill>
          <a:blip r:embed="rId4"/>
          <a:stretch/>
        </p:blipFill>
        <p:spPr>
          <a:xfrm>
            <a:off x="6286680" y="1523880"/>
            <a:ext cx="2857320" cy="40197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big"/>
          <p:cNvPicPr/>
          <p:nvPr/>
        </p:nvPicPr>
        <p:blipFill>
          <a:blip r:embed="rId5"/>
          <a:stretch/>
        </p:blipFill>
        <p:spPr>
          <a:xfrm>
            <a:off x="2971800" y="304812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big1"/>
          <p:cNvPicPr/>
          <p:nvPr/>
        </p:nvPicPr>
        <p:blipFill>
          <a:blip r:embed="rId6"/>
          <a:stretch/>
        </p:blipFill>
        <p:spPr>
          <a:xfrm>
            <a:off x="4800600" y="3619440"/>
            <a:ext cx="2095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2793960" y="2471760"/>
            <a:ext cx="370836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6840" y="3886200"/>
            <a:ext cx="84582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равственность - есть правда для наро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том стоял Макара крепкий сы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м завещал духовную свобод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исатель, режиссер, актер  Шукш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4" descr="shukshin_klykov"/>
          <p:cNvPicPr/>
          <p:nvPr/>
        </p:nvPicPr>
        <p:blipFill>
          <a:blip r:embed="rId1"/>
          <a:stretch/>
        </p:blipFill>
        <p:spPr>
          <a:xfrm>
            <a:off x="914400" y="228600"/>
            <a:ext cx="2724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04560" y="3580920"/>
            <a:ext cx="8839080" cy="30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– над Катунью яркие рассветы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десь, в Сростках, их встречал Шукш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сем цветы любви простых людей плане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 ногам твоим, Великий Гражданин!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Picture 4" descr="shukshin-12042007101918dEu"/>
          <p:cNvPicPr/>
          <p:nvPr/>
        </p:nvPicPr>
        <p:blipFill>
          <a:blip r:embed="rId1"/>
          <a:stretch/>
        </p:blipFill>
        <p:spPr>
          <a:xfrm>
            <a:off x="380880" y="228600"/>
            <a:ext cx="2573280" cy="3429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Рябина"/>
          <p:cNvPicPr/>
          <p:nvPr/>
        </p:nvPicPr>
        <p:blipFill>
          <a:blip r:embed="rId2"/>
          <a:stretch/>
        </p:blipFill>
        <p:spPr>
          <a:xfrm>
            <a:off x="5791320" y="228600"/>
            <a:ext cx="29480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886200" y="15541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i="1" lang="ru-RU" sz="3000" spc="-1" strike="noStrike">
                <a:solidFill>
                  <a:srgbClr val="4e3b30"/>
                </a:solidFill>
                <a:latin typeface="Franklin Gothic Book"/>
              </a:rPr>
              <a:t>«Русский народ за свою историю отобрал, сохранил, возвел в степень уважения такие человеческие качества, которые не подлежат пересмотру: честность,  трудолюбие, совестливость доброту.»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e3b30"/>
                </a:solidFill>
                <a:latin typeface="Franklin Gothic Book"/>
              </a:rPr>
              <a:t>В.М.Шукшин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1" name="Picture 2" descr="http://static.ozone.ru/multimedia/books_covers/1000048740.jpg"/>
          <p:cNvPicPr/>
          <p:nvPr/>
        </p:nvPicPr>
        <p:blipFill>
          <a:blip r:embed="rId2"/>
          <a:stretch/>
        </p:blipFill>
        <p:spPr>
          <a:xfrm>
            <a:off x="533520" y="1752480"/>
            <a:ext cx="2743200" cy="3791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ина</dc:creator>
  <dc:description/>
  <dc:language>en-US</dc:language>
  <cp:lastModifiedBy>Галина</cp:lastModifiedBy>
  <dcterms:modified xsi:type="dcterms:W3CDTF">2013-04-14T08:28:4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