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7.png" ContentType="image/png"/>
  <Override PartName="/ppt/media/image26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30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33.gif" ContentType="image/gif"/>
  <Override PartName="/ppt/media/image18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AEF-B5BF-42D2-B1E1-02622BD1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A49-6F4B-4F1F-BB0E-3CEC4ABA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07C97-25B7-4FE3-A1BE-61EC30B7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2356A-6ECC-4171-9547-37982AA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6557C-AEF1-42D5-945E-E7118E5A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749C4-9879-4566-A7E0-9AA5F2FD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DC52B-6733-4FDB-B95F-4D96AEF7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17F8F-1FED-4972-A53A-4D0BB37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B22B1-B76A-48B9-BC0B-23B2A8F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C5B84-F4D0-4E94-A1A1-41C2A84E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226AE-726E-4509-9810-6B9023FB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FBA-D8AC-4101-857C-87DDE410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580-E8CA-4B1E-886D-7668276D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465E-FA0D-484E-BCF3-697C876B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01FD-D878-4986-86FE-E52A5912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8021-6B59-41BD-A440-272EAA1F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44D3-CACA-4635-87FC-C5537862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283B-C6F6-424A-905D-5593C3DE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0962-25D6-47E7-9EB8-2DAAABBF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623F-A80E-4E22-94B5-95F8F42A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214-ECCD-405F-A0C4-73DD7B3E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63E5-7979-4955-A9B1-A234E472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53C4-9D7E-41FC-9E36-D2A55D0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B8EE-CF2F-4401-93D3-1CD951FB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3E00-AE9D-4620-B671-FBE22FD3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99FA-5105-4535-9D4E-74E6956B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22D0-AAB0-4598-999A-A7AF3821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77B65-431A-4EAF-850B-4DB71D80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F88F-6BBF-4F60-B567-24C36FF3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1B2F-A8F6-4B6B-9AED-1AEF5831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2EB7-7D35-445A-AC79-D14FA8E5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4FC4-48F7-4796-86F2-ADDEC1EF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AC15-2E4F-4388-B221-240E9CE6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E15B-4CFA-4CAB-AC24-4FD083B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85E2-904B-43A7-9C33-514F6DF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2C3B5-31CC-4C77-ADB6-B477D61D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7F7DF-11A9-4D16-9326-58246643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83AE5-F893-4BBE-909C-29AE2F82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E628-D74E-4B74-8E3B-1BAA53C7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BF16-BD86-4A4A-86EF-820AE544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8463D-A4F0-49AC-9C70-186102C2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263C-FE38-4DB0-8470-5E8CE2AD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7AF-A861-4219-B4A2-A11B917D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6F493-D552-4F58-B27A-39907DC0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E245-8273-4D8D-8EDF-6C9D4E3C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FBE0-7E8D-46CA-9D2B-D75AB463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46907-57F9-43BE-89FC-C094C681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6DE5-BC0E-4E61-B2E7-97F270F7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6A013-B45D-4BE1-B9D0-742E212A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807FE-82AC-4296-9251-5466A804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F4A3E-A883-4D5D-81D9-98DD7EA0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0CE17-BB84-4A43-B102-F873F0EF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F6B5A-7C0B-4694-9B95-C147C27F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569-F7B3-4D0E-ADFB-24A84F80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FF164-8C2A-43A9-B88D-FB6984B1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5545D-A738-4950-B2B0-0242BFB8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7C4C-6E52-4ED1-88B1-222C0A4A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2992-40F7-4369-BDE2-5E013975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EF221-26AA-4507-9457-9A0344C5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7B7EA-AAE0-4C02-AB8B-F084BEE5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7BB84-7B9C-46A1-A02D-DA3C1400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20A47-4850-4FD8-AEB1-A23AAF7A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410C7-6B93-4594-874C-1E60B3C5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DC096-83CF-44DA-AEFD-B647C287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23C-0DE6-4C0E-B5AE-7FC54C9D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B3E0-F571-4638-904E-8554B1BC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87C47-2437-40A5-AC55-A74AB99C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47CAB-28A9-4AA7-8EF2-DF7D4367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CBBDB-DAB2-41EA-B647-3B3BEA5B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CF9C7-E31D-4623-9000-2B3A7209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2CC5A-8F24-49EA-9C66-0A17AA99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EB3E9-989A-44EE-9FE4-F1E80471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1EF98-B9EF-4C66-A0FD-101441DC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8797E-18C1-4B2F-AB70-CAB2B17D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D2D39-B6B8-4C39-8415-5A5CBF98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FD7-7698-4E0C-A07B-AC2EA80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03EDF-B651-4FF4-BB76-A957FFF8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A621F-793A-4D9B-8285-D56959E2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B2A19-D6C5-4E4E-BA5C-FBA52DE6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FE135-F565-4344-8FB4-D0636C90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71E25-AAC4-4D72-902B-CBF53633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BA147-2BC4-418B-98F3-F20886CD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79A3F-57E7-4980-9982-53FBB683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61CB3-7CC5-4D4A-AE73-FC7C477B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F7CA-7E52-4C33-833A-C252A3B9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BA0D-046B-4DD9-9740-C192B9A7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2E40-87C3-49C2-9A89-6DB8434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C28B-C734-434D-8AEA-15BBB96A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17548-F287-43BC-8CCD-C6037234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F62EA-0D8E-4CA8-A79C-4C423FCB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CB34-C632-4413-9C87-3891AEE7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CC6F1-5BCE-414D-B570-A9A567CB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5201B-2170-4390-B3B4-189D90F1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23FD9-F16A-4793-A71C-C9DD03A4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44263-B0DE-404A-BDC3-4D54AB2A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B40EC-ADED-4BB1-B3B3-4ACAD52D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BE0E6-EBA9-4174-8990-1FB7E508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45A-20E3-4745-B09D-DD2D454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40034-62B1-436D-A0A8-E1D7232B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7C846-4D6A-4B70-8051-228D2F50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92491-BF03-436E-9BE9-8D27BAE0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A9997-2E94-44D7-8C06-8ADCF371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DAF70-6E8F-475A-A945-2C303EC3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5040A-48F6-41DD-A4E6-CCA15F87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9B0FC-3EBF-4CFE-8980-21E9CA3C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133C2-3E7A-4FF7-83CF-C41A8029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F0A09-9009-449E-AEA3-F7D04A5B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A5F92-D0A5-4795-98E5-65007FD7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BB75-6526-4F80-878C-6E19C1AED2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D6DA-1416-4F86-8CE6-BB9AABC8F04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56BA-CA53-4917-A62A-39330B0AD8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86C0-DB08-45E9-ABCB-499D7476FD4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1DE2-4258-4256-A620-2A7C036056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9300-1F42-4568-A542-2F407AA689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B548-C295-422B-97F7-7432B8F322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7D51-A5F6-4B1A-BCED-56BFA2EB48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A020-F404-48DD-9AD8-9F5DFC636B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682560" y="738360"/>
            <a:ext cx="7785000" cy="1699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shykshin"/>
          <p:cNvPicPr/>
          <p:nvPr/>
        </p:nvPicPr>
        <p:blipFill>
          <a:blip r:embed="rId2"/>
          <a:stretch/>
        </p:blipFill>
        <p:spPr>
          <a:xfrm>
            <a:off x="609480" y="22096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4"/>
          <p:cNvSpPr/>
          <p:nvPr/>
        </p:nvSpPr>
        <p:spPr>
          <a:xfrm>
            <a:off x="4191120" y="25509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веруй, что все было не зря: наши песни, наши сказки, наши неимоверной тяжести победы, наши страдания - не отдавай всего этого за понюх таба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мели жить. Помни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 человеком 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33200" y="274680"/>
            <a:ext cx="8944200" cy="15303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«РАСКАС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Экспозиция рассказа (зачин)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 групп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вращение Ивана из дальнего путешеств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ткрытие некой тайн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хищение красавицы-жен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оревание. Ду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33200" y="255600"/>
            <a:ext cx="8944200" cy="15177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Действие героя. Рассказ Ивана Петин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2 групп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ействия героя после узнавания тайн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Иван идет со своим рассказом в редакцию/анализирует эпизод 3 группа/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уть и препятствия на пу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33200" y="255600"/>
            <a:ext cx="8944200" cy="15177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Финал рассказа/анализирует эпизод 4 группа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ир. Горькое застоль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65240" y="128520"/>
            <a:ext cx="8832600" cy="13096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Возвращение Ивана из дальнего путешеств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Открытие некой тай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Похищение красавицы-же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 Горевание. Дум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5.Действия героя после узнавания тайны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6. Путь и препятствия на пути.                                                             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7. Пир. Горькое застол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1"/>
          <p:cNvSpPr/>
          <p:nvPr/>
        </p:nvSpPr>
        <p:spPr>
          <a:xfrm>
            <a:off x="914400" y="380880"/>
            <a:ext cx="754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конкретизировать и искать дальше истоки того творческого пути, которым иду, то они, конечно, лежат в искусстве устного рассказа… Всегда в таких рассказах была цель, какая-то пряма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нная необходимость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ывали так, чтобы слушатели решительно все поняли. Н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я и доступная фор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значит унылая и серая. Тут… всегда был свой неожиданный прием,  свой особый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»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9874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читать один из рассказов В.М.Шукшин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писать сочинение на одну из тем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Пенек в школе, семье, обществе» (эссе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Шукшин. Каким я увидел его сегодня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Мой любимый рассказ В.М.Шукшина»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Какие чувства вызывает Иван Петин?»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Рисунок 172" descr="http://woweb.ucoz.ru/flist/gif/502/164.gif"/>
          <p:cNvPicPr/>
          <p:nvPr/>
        </p:nvPicPr>
        <p:blipFill>
          <a:blip r:embed="rId2"/>
          <a:stretch/>
        </p:blipFill>
        <p:spPr>
          <a:xfrm>
            <a:off x="285840" y="0"/>
            <a:ext cx="142884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2286000" y="310500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встречи 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ем уроке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"/>
          <p:cNvSpPr/>
          <p:nvPr/>
        </p:nvSpPr>
        <p:spPr>
          <a:xfrm>
            <a:off x="609480" y="22096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 Козлова С.М. Поэтика рассказов В.М.Шукшина. Барнаул. Издательство Алтайского государственного университета.1992 г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 Коробов В.И. Василий Шукшин «Современник».1984 г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В.М.Шукшин. Точка зрения. Алтайское книжное издательство.1979 год.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281160" y="426960"/>
            <a:ext cx="8729640" cy="1152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Users\Галина\Desktop\сростки.jpg"/>
          <p:cNvPicPr/>
          <p:nvPr/>
        </p:nvPicPr>
        <p:blipFill>
          <a:blip r:embed="rId2"/>
          <a:stretch/>
        </p:blipFill>
        <p:spPr>
          <a:xfrm>
            <a:off x="5257800" y="3048120"/>
            <a:ext cx="3733920" cy="365760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4"/>
          <p:cNvSpPr/>
          <p:nvPr/>
        </p:nvSpPr>
        <p:spPr>
          <a:xfrm>
            <a:off x="304920" y="1676520"/>
            <a:ext cx="601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 сибирский. Пейзаж неброский. Бьет о берег Катуни вол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 каждый в России, что Срост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одина Шук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3" descr="C:\Users\Галина\Desktop\biy3b(1).jpg"/>
          <p:cNvPicPr/>
          <p:nvPr/>
        </p:nvPicPr>
        <p:blipFill>
          <a:blip r:embed="rId3"/>
          <a:stretch/>
        </p:blipFill>
        <p:spPr>
          <a:xfrm>
            <a:off x="228600" y="342900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Галина\Desktop\shukshin_vasiliy_401.jpg"/>
          <p:cNvPicPr/>
          <p:nvPr/>
        </p:nvPicPr>
        <p:blipFill>
          <a:blip r:embed="rId2"/>
          <a:stretch/>
        </p:blipFill>
        <p:spPr>
          <a:xfrm>
            <a:off x="3352680" y="1523880"/>
            <a:ext cx="2667240" cy="3581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im4-tub-ru.yandex.net/i?id=548456782-07-72&amp;n=21"/>
          <p:cNvPicPr/>
          <p:nvPr/>
        </p:nvPicPr>
        <p:blipFill>
          <a:blip r:embed="rId3"/>
          <a:stretch/>
        </p:blipFill>
        <p:spPr>
          <a:xfrm rot="487200">
            <a:off x="5921280" y="2552400"/>
            <a:ext cx="2971800" cy="37576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5"/>
          <p:cNvSpPr/>
          <p:nvPr/>
        </p:nvSpPr>
        <p:spPr>
          <a:xfrm rot="520800">
            <a:off x="6401160" y="1980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ы учебы во ВГ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411480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http://telegrafua.com/photos/bank_9762_40329.jpg"/>
          <p:cNvPicPr/>
          <p:nvPr/>
        </p:nvPicPr>
        <p:blipFill>
          <a:blip r:embed="rId4"/>
          <a:stretch/>
        </p:blipFill>
        <p:spPr>
          <a:xfrm rot="21036600">
            <a:off x="228600" y="1600200"/>
            <a:ext cx="3200400" cy="39434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8"/>
          <p:cNvSpPr/>
          <p:nvPr/>
        </p:nvSpPr>
        <p:spPr>
          <a:xfrm rot="20902800">
            <a:off x="1817640" y="56973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90c148f46fb5"/>
          <p:cNvPicPr/>
          <p:nvPr/>
        </p:nvPicPr>
        <p:blipFill>
          <a:blip r:embed="rId2"/>
          <a:stretch/>
        </p:blipFill>
        <p:spPr>
          <a:xfrm>
            <a:off x="1523880" y="1600200"/>
            <a:ext cx="5943600" cy="35481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5"/>
          <p:cNvSpPr/>
          <p:nvPr/>
        </p:nvSpPr>
        <p:spPr>
          <a:xfrm>
            <a:off x="1371600" y="5257800"/>
            <a:ext cx="6858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не был бражником и не был главар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не был хулиганом и повес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водится в России, и о 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ла разное язвительная пре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69541bc6b40a"/>
          <p:cNvPicPr/>
          <p:nvPr/>
        </p:nvPicPr>
        <p:blipFill>
          <a:blip r:embed="rId2"/>
          <a:stretch/>
        </p:blipFill>
        <p:spPr>
          <a:xfrm>
            <a:off x="0" y="1295280"/>
            <a:ext cx="2362320" cy="2352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1000061695"/>
          <p:cNvPicPr/>
          <p:nvPr/>
        </p:nvPicPr>
        <p:blipFill>
          <a:blip r:embed="rId3"/>
          <a:stretch/>
        </p:blipFill>
        <p:spPr>
          <a:xfrm>
            <a:off x="1676520" y="2590920"/>
            <a:ext cx="1904760" cy="3009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1163396259_kalina_krasnaya"/>
          <p:cNvPicPr/>
          <p:nvPr/>
        </p:nvPicPr>
        <p:blipFill>
          <a:blip r:embed="rId4"/>
          <a:stretch/>
        </p:blipFill>
        <p:spPr>
          <a:xfrm>
            <a:off x="6286680" y="1523880"/>
            <a:ext cx="2857320" cy="40197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big"/>
          <p:cNvPicPr/>
          <p:nvPr/>
        </p:nvPicPr>
        <p:blipFill>
          <a:blip r:embed="rId5"/>
          <a:stretch/>
        </p:blipFill>
        <p:spPr>
          <a:xfrm>
            <a:off x="2971800" y="304812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big1"/>
          <p:cNvPicPr/>
          <p:nvPr/>
        </p:nvPicPr>
        <p:blipFill>
          <a:blip r:embed="rId6"/>
          <a:stretch/>
        </p:blipFill>
        <p:spPr>
          <a:xfrm>
            <a:off x="4800600" y="3619440"/>
            <a:ext cx="20955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2793960" y="2471760"/>
            <a:ext cx="370836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6840" y="3886200"/>
            <a:ext cx="84582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равственность - есть правда для народ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том стоял Макара крепкий сы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м завещал духовную свобод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исатель, режиссер, актер  Шукш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4" descr="shukshin_klykov"/>
          <p:cNvPicPr/>
          <p:nvPr/>
        </p:nvPicPr>
        <p:blipFill>
          <a:blip r:embed="rId1"/>
          <a:stretch/>
        </p:blipFill>
        <p:spPr>
          <a:xfrm>
            <a:off x="914400" y="228600"/>
            <a:ext cx="2724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04560" y="3580920"/>
            <a:ext cx="883908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 – над Катунью яркие рассветы…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десь, в Сростках, их встречал Шукш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сем цветы любви простых людей планеты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 ногам твоим, Великий Гражданин!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Picture 4" descr="shukshin-12042007101918dEu"/>
          <p:cNvPicPr/>
          <p:nvPr/>
        </p:nvPicPr>
        <p:blipFill>
          <a:blip r:embed="rId1"/>
          <a:stretch/>
        </p:blipFill>
        <p:spPr>
          <a:xfrm>
            <a:off x="380880" y="228600"/>
            <a:ext cx="2573280" cy="3429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Рябина"/>
          <p:cNvPicPr/>
          <p:nvPr/>
        </p:nvPicPr>
        <p:blipFill>
          <a:blip r:embed="rId2"/>
          <a:stretch/>
        </p:blipFill>
        <p:spPr>
          <a:xfrm>
            <a:off x="5791320" y="228600"/>
            <a:ext cx="29480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886200" y="15541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«Русский народ за свою историю отобрал, сохранил, возвел в степень уважения такие человеческие качества, которые не подлежат пересмотру: честность,  трудолюбие, совестливость доброту.»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e3b30"/>
                </a:solidFill>
                <a:latin typeface="Franklin Gothic Book"/>
              </a:rPr>
              <a:t>В.М.Шукшин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1" name="Picture 2" descr="http://static.ozone.ru/multimedia/books_covers/1000048740.jpg"/>
          <p:cNvPicPr/>
          <p:nvPr/>
        </p:nvPicPr>
        <p:blipFill>
          <a:blip r:embed="rId2"/>
          <a:stretch/>
        </p:blipFill>
        <p:spPr>
          <a:xfrm>
            <a:off x="533520" y="1752480"/>
            <a:ext cx="2743200" cy="379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алина</dc:creator>
  <dc:description/>
  <dc:language>en-US</dc:language>
  <cp:lastModifiedBy>Галина</cp:lastModifiedBy>
  <dcterms:modified xsi:type="dcterms:W3CDTF">2013-04-14T08:28:4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