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5DD-053F-463E-BC7F-FE1F154D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0AF-FF48-4583-B8F3-04E23705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14B-C57F-4F15-A414-84CA9C56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AD7-7091-43FF-A70B-FDD48972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293-85DE-4EF9-A91B-F3CCB88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5B3-085C-4DAF-A413-ACAFB8E0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83F-DE42-4A0A-AA92-06922C8A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20F-C925-4821-B071-3D9DCC62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668-B99D-400B-BC80-C5AB7B6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F10-59AE-4E07-A5BB-2CBD3F4A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3CE-E7A7-43D4-BCDF-D96B2F4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719-B346-4041-9350-F8CDC6E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12C2-7A38-4FFD-95B2-DDC20AADC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«Вы - талантливые дети! Когда-нибудь вы сами приятно поразитесь, какие вы умные, как много и хорошо умеете, если будете постоянно работать над собой, ставить новые цели к их достижению…»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                                     Ж.Ж. Рус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Верите ли вы, что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9640" y="1197000"/>
          <a:ext cx="7848720" cy="5702400"/>
        </p:xfrm>
        <a:graphic>
          <a:graphicData uri="http://schemas.openxmlformats.org/drawingml/2006/table">
            <a:tbl>
              <a:tblPr/>
              <a:tblGrid>
                <a:gridCol w="6778800"/>
                <a:gridCol w="579240"/>
                <a:gridCol w="49068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1) наука, которая изучает углы, называется </a:t>
                      </a:r>
                      <a:r>
                        <a:rPr b="1" i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геометрия;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2) углы бывают тупые, прямые и остры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3)нельзя сравнить два угла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4) существует несколько способов измерения углов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5) при помощи углов можно моделировать фигуры животных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6) не существует инструмента  для сравнения углов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7) из трёх палочек можно выложить сразу три угла: прямой, тупой и острый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8) острый угол больше тупого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8388360" y="1197000"/>
            <a:ext cx="0" cy="547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2000" y="1268280"/>
            <a:ext cx="64764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ист оцен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сравнивать углы н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чертить углы для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моделировать у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решать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Кроссворд по теме у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Изобразить животн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используя при этом только у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Учебник с.80 №149, №150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252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002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8х6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500-2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9х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18:2=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900-2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7х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30:5=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733+1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42: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72:9=  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         580-4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4х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5х7=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 806-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12536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8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7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5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2349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  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8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342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40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  р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5229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4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5805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5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197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1125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00 у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2276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27664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98 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3500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33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45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40  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57340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00  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1197000"/>
            <a:ext cx="7207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12000" y="1125360"/>
            <a:ext cx="7207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9079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879640" cy="504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3195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Верите ли вы, что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197000"/>
          <a:ext cx="7848720" cy="5521320"/>
        </p:xfrm>
        <a:graphic>
          <a:graphicData uri="http://schemas.openxmlformats.org/drawingml/2006/table">
            <a:tbl>
              <a:tblPr/>
              <a:tblGrid>
                <a:gridCol w="6778800"/>
                <a:gridCol w="579240"/>
                <a:gridCol w="4906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1) наука, которая изучает углы, называется </a:t>
                      </a:r>
                      <a:r>
                        <a:rPr b="1" i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геометрия;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2) углы бывают тупые, прямые и остры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3)нельзя сравнить два угла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4) существует несколько способов измерения углов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5) при помощи углов можно моделировать фигуры животных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6) не существует инструмента  для сравнения углов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7) из трёх палочек можно выложить сразу три угла: прямой, тупой и острый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8) острый угол больше тупого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8388360" y="1197000"/>
            <a:ext cx="0" cy="547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Выполним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оверяем по образ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3, 2, 7, 1, 4, 5, 8,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Критер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«5» - 0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«4» - 1,2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«3» - 3,4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33"/>
                </a:solidFill>
                <a:latin typeface="Arial"/>
              </a:rPr>
              <a:t>«Инсе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+ - 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! – нов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? –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Алгоритм с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вырезать  один уг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совместить вершины углов и  одну из сторон уг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по второй стороне угла определить какой угол больше (меньш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Проверим по образ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2421000"/>
            <a:ext cx="865080" cy="158436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492360" y="2276640"/>
            <a:ext cx="0" cy="172872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4005360"/>
            <a:ext cx="158436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У Юли на чертеже получилось 7 тупых углов, 1 прямой и 11 – острых. А у Вали 5 – тупых углов, 2 – прямых и 14 – острых. У кого и на сколько начерчено углов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7+1+11= 19 (у) – у Ю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5+2+14=21 (у) –у 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21-19=2(у) – раз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Ответ: на 2 угла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4:12:34Z</dcterms:created>
  <dc:creator>admin</dc:creator>
  <dc:description/>
  <dc:language>en-US</dc:language>
  <cp:lastModifiedBy>admin</cp:lastModifiedBy>
  <dcterms:modified xsi:type="dcterms:W3CDTF">2012-11-21T16:10:35Z</dcterms:modified>
  <cp:revision>4</cp:revision>
  <dc:subject/>
  <dc:title>«Вы талантливые дети! Когда-нибудь вы сами приятно поразитесь, какие вы умные, как много и хорошо умеете, если будете постоянно работать над собой, ставить новые цели к их достижению…»                                       Ж.Ж. Руссо</dc:title>
</cp:coreProperties>
</file>