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FA1-ED73-4F54-ADFE-FD47EDCF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462-A8FF-4708-B797-7BB80A67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1861-B2BD-48D4-A760-9DE6E1DB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6E0-7658-43E0-9CB8-EB662B5A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0993-58E8-4521-977C-6DC5B02A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40-4DBA-4FF6-A498-DD56F771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978-A1BE-4AC1-8133-06B9793E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669-399F-4D7E-9283-FB1A522E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FA5-598B-4A68-871B-1C0C6E4F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1ED-8BB1-4E86-AD17-751DA8F9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38-948B-4C9A-BDDA-F7A25913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BE4-5D69-4666-A707-4BFE208D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E27D-8892-4524-89DA-92A686FE6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«Вы -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к их достижению…»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                                      Ж.Ж. Рус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Верите ли вы, что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9640" y="1197000"/>
          <a:ext cx="7848720" cy="5702400"/>
        </p:xfrm>
        <a:graphic>
          <a:graphicData uri="http://schemas.openxmlformats.org/drawingml/2006/table">
            <a:tbl>
              <a:tblPr/>
              <a:tblGrid>
                <a:gridCol w="6778800"/>
                <a:gridCol w="579240"/>
                <a:gridCol w="4906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1) наука, которая изучает углы, называется </a:t>
                      </a:r>
                      <a:r>
                        <a:rPr b="1" i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геометрия;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2) углы бывают тупые, прямые и остры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3)нельзя сравнить два угла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4) существует несколько способов измерения углов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5) при помощи углов можно моделировать фигуры животных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6) не существует инструмента  для сравнения углов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7) из трёх палочек можно выложить сразу три угла: прямой, тупой и острый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8) острый угол больше тупог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8388360" y="1197000"/>
            <a:ext cx="0" cy="54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2000" y="1268280"/>
            <a:ext cx="64764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Лист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сравнивать углы на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чертить углы для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моделировать уг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решать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Кроссворд по теме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Изобразить животн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используя при этом только угл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cc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Учебник с.80 №149, №150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52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002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8х6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500-2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9х5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18:2=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900-2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7х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30:5=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733+1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42: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72:9=   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        580-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4х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5х7=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ff"/>
                </a:solidFill>
                <a:latin typeface="Arial"/>
              </a:rPr>
              <a:t>    806-6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112536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8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7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45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234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  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8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342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 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4005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  р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465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5229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4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580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5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197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1125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00 у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2276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276640"/>
            <a:ext cx="18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98 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88000" y="350028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33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00720" y="45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40  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573408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00  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1197000"/>
            <a:ext cx="7207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12000" y="1125360"/>
            <a:ext cx="72072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90792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879640" cy="504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3195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«Верите ли вы, что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197000"/>
          <a:ext cx="7848720" cy="5521320"/>
        </p:xfrm>
        <a:graphic>
          <a:graphicData uri="http://schemas.openxmlformats.org/drawingml/2006/table">
            <a:tbl>
              <a:tblPr/>
              <a:tblGrid>
                <a:gridCol w="6778800"/>
                <a:gridCol w="579240"/>
                <a:gridCol w="4906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1) наука, которая изучает углы, называется </a:t>
                      </a:r>
                      <a:r>
                        <a:rPr b="1" i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геометрия;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2) углы бывают тупые, прямые и острые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3)нельзя сравнить два угла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4) существует несколько способов измерения углов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5) при помощи углов можно моделировать фигуры животных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6) не существует инструмента  для сравнения углов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7) из трёх палочек можно выложить сразу три угла: прямой, тупой и острый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99ff33"/>
                          </a:solidFill>
                          <a:latin typeface="Arial"/>
                        </a:rPr>
                        <a:t>8) острый угол больше тупого;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8388360" y="1197000"/>
            <a:ext cx="0" cy="547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Выполним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роверяем по образ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3, 2, 7, 1, 4, 5, 8,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Критер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5» - 0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4» - 1,2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Arial"/>
              </a:rPr>
              <a:t>«3» - 3,4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33"/>
                </a:solidFill>
                <a:latin typeface="Arial"/>
              </a:rPr>
              <a:t>«Инсер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+ - зн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! – нов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? – не 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Алгоритм срав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вырезать  один уго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совместить вершины углов и  одну из сторон уг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33"/>
                </a:solidFill>
                <a:latin typeface="Arial"/>
              </a:rPr>
              <a:t>по второй стороне угла определить какой угол больше (меньш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Проверим по образ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2421000"/>
            <a:ext cx="865080" cy="158436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492360" y="2276640"/>
            <a:ext cx="0" cy="172872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4005360"/>
            <a:ext cx="158436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У Юли на чертеже получилось 7 тупых углов, 1 прямой и 11 – острых. А у Вали 5 – тупых углов, 2 – прямых и 14 – острых. У кого и на сколько начерчено углов больш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7+1+11= 19 (у) – у Ю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5+2+14=21 (у) –у В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21-19=2(у) – раз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33"/>
                </a:solidFill>
                <a:latin typeface="Arial"/>
              </a:rPr>
              <a:t>Ответ: на 2 угла б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4:12:34Z</dcterms:created>
  <dc:creator>admin</dc:creator>
  <dc:description/>
  <dc:language>en-US</dc:language>
  <cp:lastModifiedBy>admin</cp:lastModifiedBy>
  <dcterms:modified xsi:type="dcterms:W3CDTF">2012-11-21T16:10:35Z</dcterms:modified>
  <cp:revision>4</cp:revision>
  <dc:subject/>
  <dc:title>«Вы талантливые дети! Когда-нибудь вы сами приятно поразитесь, какие вы умные, как много и хорошо умеете, если будете постоянно работать над собой, ставить новые цели к их достижению…»                                       Ж.Ж. Руссо</dc:title>
</cp:coreProperties>
</file>