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B03-F234-4187-80A1-0CA06B9B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435-2472-4A4D-A8B8-436BE935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61F-A4BF-400B-9500-54414B64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A47-489E-496E-A887-A7A0E8F1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BD7-CAA3-4DE3-85E4-722C42BB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BC9-A9D7-4423-B18D-44585923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50B-4451-41FA-9052-40C94151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D22-FB1D-4456-A2C0-E7B96ABF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753-82A4-4B96-B10A-FF5F089F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397-5BE8-4C38-99B8-C3971DA6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7B7-38DD-4404-917C-7A03F4B4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128-65B5-48D9-BA04-6BFB0781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C210-1743-46EC-BCE7-D24355D15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076640"/>
            <a:ext cx="64008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а элективного курса по английскому языку для учащихся 9 класса общеобразователь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7440" y="220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3240" y="47628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итель - Попова Тамара Ивановна учитель английского язык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907920"/>
            <a:ext cx="81360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нглийский с удовольствие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27640" y="3573360"/>
            <a:ext cx="2637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тешествие по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70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58920" y="5950080"/>
            <a:ext cx="76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кобритания древняя страна, со множеством старинных замков, соору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608360" cy="2949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284640"/>
            <a:ext cx="4824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историческое собрание каменных глыб - Стоунхенд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467080" cy="302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724360" y="328464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аши дни в Великобритании живет  Королева Елизаве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050920" y="3573360"/>
            <a:ext cx="3673440" cy="2756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63680" y="6423120"/>
            <a:ext cx="2756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олица Британии – Лонд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7640" y="3212640"/>
            <a:ext cx="360036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менитый  Тауэрский мост тоже находится в Англ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513240" cy="2635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3667320" cy="264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09520" y="3141720"/>
            <a:ext cx="39556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инная башня с часами Биг Бен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g B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56000" y="3573360"/>
            <a:ext cx="3528720" cy="264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6237360"/>
            <a:ext cx="4968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вы будете в Англии, обязательно покатайтесь на знаменитом колесе  обозрения - «Лондонский глаз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492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методическая разработ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бой обобщение педагогического опыта по применению дополнительного лексико-грамматического материала на уроках английского язы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ража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ктуальность выбранной тематики для учащихся   9-х классов в рамках профильного обучения, цели и задачи элективного курса и ожидаемые результаты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держ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ебно-тематическое планирование и описание основного содержания курса, а также рекомендуемые формы контроля по усвоению зн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лага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игинальные  тексты по теме элективного курса и лексически связанные грамматические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туальность методической разраб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уальными задачами современной школы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2349360"/>
            <a:ext cx="3166920" cy="122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адекватной современ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уровню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картины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2349360"/>
            <a:ext cx="331128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Личностно-ориентирова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обучение, учет потреб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ученика, его склон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и спосо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716280"/>
            <a:ext cx="3167280" cy="122400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Интег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личности уче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в систему мировой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национальн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3718080"/>
            <a:ext cx="3166920" cy="122364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Развитие у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необходим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коммуникати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компетенции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5084640"/>
            <a:ext cx="7632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я выполнению этих задач, программа элективного курса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йский с удовольствием»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жит расширению кругозора и формированию культуры общения учащихся по данной тематике, содействуя таким образом, их общему развит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туальность методической разраб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составлением элективного курса проводилось анкетирование учащихся 8-х, 9-х классов с целью изучения их интересов и предпоч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ыборе тематики дополнительных курсов по англий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48320" y="2505240"/>
          <a:ext cx="403848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05240"/>
                    <a:ext cx="403848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элективного курс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витие речевой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умение понимать аутентичные тексты, (аудирование и чтение) и умение передавать информацию       в связных аргументированных высказываниях (говорение и письм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ение объема языковых зн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 счет информации профильно-ориентирован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ширение объема знаний о социокультурный специф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стран изучаемого я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ание способности к личностному самоопредел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фессиональной и социальной адап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витие способности к самостоятельному изучению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странного языка, приобретение опыта творческой  деятельности    с использованием изучаем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элективного курс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ить и углубить знания учащихся во всех видах речевой деятельности (чтение, говорение, аудирование, письмо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имать на слух англоязычную реч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иентироваться в аутентичных текстах, связанных с  тематикой элективного кур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одить аргументированные высказывания в рамках предлагаемых т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готовить презентацию по выбранной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ть навыки работы в групп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сти диалог (умение начать, поддержать и закончить диалог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уждать какую-либо проблему в групп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ажать позицию собеседника, избегать конфликтов в разгов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развитию творческого потенциала учащего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ь учащихся самостоятельно, в доступных им поисковых системах (библиотека, Интернет, СМИ), отбирать и оценивать материал для своих проек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т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ык устного выступления, умение представить материал ярко и наглядно, с использованием современных техноло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теллектуальные ум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работать с текст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ть главную мысль и анализировать информ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ать обобщения и выв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ворческие ум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генерировать иде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ходить варианты решения проблем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ммуникативные умен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нимать звучащую англоязычную реч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ашивать необходимую информац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екватно реагировать на реплики и поддерживать бесе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гументировано отстаивать свою точку зрения, находить компромис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лаконично высказы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бно-тематический 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059280" y="1557360"/>
          <a:ext cx="5832360" cy="4210200"/>
        </p:xfrm>
        <a:graphic>
          <a:graphicData uri="http://schemas.openxmlformats.org/drawingml/2006/table">
            <a:tbl>
              <a:tblPr/>
              <a:tblGrid>
                <a:gridCol w="4537080"/>
                <a:gridCol w="1295280"/>
              </a:tblGrid>
              <a:tr h="421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Вводный 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 - личнос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ои увле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оя будущая профе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утешествуем по ми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раздники и традиции Англ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Деловой англий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Заключительный 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368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ffffff"/>
                        </a:gs>
                        <a:gs pos="100000">
                          <a:srgbClr val="99cc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gradFill rotWithShape="0">
                      <a:gsLst>
                        <a:gs pos="0">
                          <a:srgbClr val="99f9c4"/>
                        </a:gs>
                        <a:gs pos="50000">
                          <a:srgbClr val="ffffff"/>
                        </a:gs>
                        <a:gs pos="100000">
                          <a:srgbClr val="99f9c4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539640" y="5950080"/>
            <a:ext cx="820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а курса рассчитана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час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предназначена для работы    с учащимися,  имеющими средний уровень владения английским языко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378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я об авт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ова Тамара Ивановна-учитель англий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тличник народного просвещ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ж работы по специа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2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24360" y="1268280"/>
            <a:ext cx="3122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0:53:28Z</dcterms:created>
  <dc:creator>Овечкина</dc:creator>
  <dc:description/>
  <dc:language>en-US</dc:language>
  <cp:lastModifiedBy>Попов</cp:lastModifiedBy>
  <dcterms:modified xsi:type="dcterms:W3CDTF">2001-12-31T21:01:36Z</dcterms:modified>
  <cp:revision>5</cp:revision>
  <dc:subject/>
  <dc:title>Английский с удовольствием</dc:title>
</cp:coreProperties>
</file>