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4.wmf" ContentType="image/x-wmf"/>
  <Override PartName="/ppt/media/image3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D3A-6463-44E8-AD60-548EE842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7938-EA98-4A0E-AF16-1B29938D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378-6870-455D-97AF-5E7D1EA6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0B06-6EC9-482B-B2D8-8ACAA5CF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7304-65EF-4973-B163-E63D9F52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5725-8342-4B49-8899-533275D8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6A3-5E7F-4727-9A74-2E089317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8935-C992-42E5-9F86-6771081B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59B-F939-470F-B83E-77CC4EB3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DB6F-55D1-45EC-948E-3AFB6861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E9B-31B8-46F2-A729-0033C6F9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EEC6-2647-41AF-9FA2-C567406C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BA0F-857F-4638-B547-C53186609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076640"/>
            <a:ext cx="640080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рамма элективного курса по английскому языку для учащихся 9 класса общеобразовательно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57440" y="2205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3240" y="476280"/>
            <a:ext cx="74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авитель - Попова Тамара Ивановна учитель английского язык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907920"/>
            <a:ext cx="813600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нглийский с удовольствием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227640" y="3573360"/>
            <a:ext cx="26370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утешествие по Анг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87060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58920" y="5950080"/>
            <a:ext cx="76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ликобритания древняя страна, со множеством старинных замков, сооруж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4608360" cy="2949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3284640"/>
            <a:ext cx="4824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историческое собрание каменных глыб - Стоунхенд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467080" cy="3024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724360" y="3284640"/>
            <a:ext cx="341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наши дни в Великобритании живет  Королева Елизаве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050920" y="3573360"/>
            <a:ext cx="3673440" cy="2756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63680" y="6423120"/>
            <a:ext cx="27561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олица Британии – Лонд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7640" y="3212640"/>
            <a:ext cx="360036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менитый  Тауэрский мост тоже находится в Англ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513240" cy="2635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716360" y="260280"/>
            <a:ext cx="3667320" cy="2641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709520" y="3141720"/>
            <a:ext cx="39556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ринная башня с часами Биг Бен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g B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556000" y="3573360"/>
            <a:ext cx="3528720" cy="264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835280" y="6237360"/>
            <a:ext cx="4968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ли вы будете в Англии, обязательно покатайтесь на знаменитом колесе  обозрения - «Лондонский глаз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4929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но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ая методическая разработ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ставля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бой обобщение педагогического опыта по применению дополнительного лексико-грамматического материала на уроках английского язы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ража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ктуальность выбранной тематики для учащихся   9-х классов в рамках профильного обучения, цели и задачи элективного курса и ожидаемые результаты об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держ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ебно-тематическое планирование и описание основного содержания курса, а также рекомендуемые формы контроля по усвоению зн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лага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ригинальные  тексты по теме элективного курса и лексически связанные грамматические упра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ктуальность методической разрабо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уальными задачами современной школы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2349360"/>
            <a:ext cx="3166920" cy="122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Форм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адекватной современ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уровню зн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картины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2349360"/>
            <a:ext cx="3311280" cy="122400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Личностно-ориентирова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обучение, учет потребн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ученика, его склонн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и способ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716280"/>
            <a:ext cx="3167280" cy="122400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Интег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личности уче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в систему мировой 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национальн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35640" y="3718080"/>
            <a:ext cx="3166920" cy="122364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Развитие у уча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необходимо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коммуникатив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компетенции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5084640"/>
            <a:ext cx="76327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уя выполнению этих задач, программа элективного курса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глийский с удовольствием» 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жит расширению кругозора и формированию культуры общения учащихся по данной тематике, содействуя таким образом, их общему развит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ктуальность методической разрабо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составлением элективного курса проводилось анкетирование учащихся 8-х, 9-х классов с целью изучения их интересов и предпочтен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ыборе тематики дополнительных курсов по английскому язы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648320" y="2505240"/>
          <a:ext cx="4038480" cy="27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05240"/>
                    <a:ext cx="4038480" cy="27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 элективного курс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звитие речевой компетен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умение понимать аутентичные тексты, (аудирование и чтение) и умение передавать информацию       в связных аргументированных высказываниях (говорение и письм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еличение объема языковых зна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 счет информации профильно-ориентированн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ширение объема знаний о социокультурный специфи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стран изучаемого язы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спитание способности к личностному самоопределен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фессиональной и социальной адап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звитие способности к самостоятельному изучению</a:t>
            </a: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странного языка, приобретение опыта творческой  деятельности    с использованием изучаемого я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 элективного курс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ширить и углубить знания учащихся во всех видах речевой деятельности (чтение, говорение, аудирование, письмо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нимать на слух англоязычную речь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иентироваться в аутентичных текстах, связанных с  тематикой элективного курс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водить аргументированные высказывания в рамках предлагаемых те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готовить презентацию по выбранной те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ствовать навыки работы в групп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сти диалог (умение начать, поддержать и закончить диалог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суждать какую-либо проблему в групп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важать позицию собеседника, избегать конфликтов в разгово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ствовать развитию творческого потенциала учащего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ить учащихся самостоятельно, в доступных им поисковых системах (библиотека, Интернет, СМИ), отбирать и оценивать материал для своих проек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ершенствовать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ык устного выступления, умение представить материал ярко и наглядно, с использованием современных технолог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жидаемые 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теллектуальные ум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ие работать с тексто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ть главную мысль и анализировать информаци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лать обобщения и вывод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ворческие ум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ие генерировать иде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ходить варианты решения проблем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ие прогнозировать последств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оммуникативные умения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нимать звучащую англоязычную реч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рашивать необходимую информаци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декватно реагировать на реплики и поддерживать бесед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гументировано отстаивать свою точку зрения, находить компромис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мение лаконично высказыв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чебно-тематический пла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059280" y="1557360"/>
          <a:ext cx="5832360" cy="4210200"/>
        </p:xfrm>
        <a:graphic>
          <a:graphicData uri="http://schemas.openxmlformats.org/drawingml/2006/table">
            <a:tbl>
              <a:tblPr/>
              <a:tblGrid>
                <a:gridCol w="4537080"/>
                <a:gridCol w="1295280"/>
              </a:tblGrid>
              <a:tr h="421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Вводный у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Я - личнос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ои увлеч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Моя будущая профес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Путешествуем по мир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Праздники и традиции Англ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Деловой англий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Заключительный у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80"/>
                      </a:solidFill>
                    </a:lnL>
                    <a:lnR w="1368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gradFill rotWithShape="0">
                      <a:gsLst>
                        <a:gs pos="0">
                          <a:srgbClr val="99cc00"/>
                        </a:gs>
                        <a:gs pos="50000">
                          <a:srgbClr val="ffffff"/>
                        </a:gs>
                        <a:gs pos="100000">
                          <a:srgbClr val="99cc00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 ча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3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2 ч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1 ча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80"/>
                      </a:solidFill>
                    </a:lnL>
                    <a:lnR w="18720">
                      <a:solidFill>
                        <a:srgbClr val="008080"/>
                      </a:solidFill>
                    </a:lnR>
                    <a:lnT w="18720">
                      <a:solidFill>
                        <a:srgbClr val="008080"/>
                      </a:solidFill>
                    </a:lnT>
                    <a:lnB w="18720">
                      <a:solidFill>
                        <a:srgbClr val="008080"/>
                      </a:solidFill>
                    </a:lnB>
                    <a:gradFill rotWithShape="0">
                      <a:gsLst>
                        <a:gs pos="0">
                          <a:srgbClr val="99f9c4"/>
                        </a:gs>
                        <a:gs pos="50000">
                          <a:srgbClr val="ffffff"/>
                        </a:gs>
                        <a:gs pos="100000">
                          <a:srgbClr val="99f9c4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539640" y="5950080"/>
            <a:ext cx="8209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рамма курса рассчитана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час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предназначена для работы    с учащимися,  имеющими средний уровень владения английским языком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3781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формация об авт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ова Тамара Ивановна-учитель англий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ш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Отличник народного просвещ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таж работы по специаль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24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24360" y="1268280"/>
            <a:ext cx="3122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0:53:28Z</dcterms:created>
  <dc:creator>Овечкина</dc:creator>
  <dc:description/>
  <dc:language>en-US</dc:language>
  <cp:lastModifiedBy>Попов</cp:lastModifiedBy>
  <dcterms:modified xsi:type="dcterms:W3CDTF">2001-12-31T21:01:36Z</dcterms:modified>
  <cp:revision>5</cp:revision>
  <dc:subject/>
  <dc:title>Английский с удовольствием</dc:title>
</cp:coreProperties>
</file>