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6AC-205B-4D9B-9892-B6E74A2F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EE9-28CA-4698-B8D5-78478D1A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101-DCE0-4442-B9F9-9843CED7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57C-D7CC-4A53-9517-A604FC89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6A18-CEB7-4E9B-8A01-D7EAEC28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AE4-A766-433B-9D04-141EB86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B7A-3393-4BC9-A419-F4BAC865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9E-B08E-4191-940E-5A24A714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8E0-3526-49DB-93F4-73CBEBE3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BAE-73D6-4F98-A66A-63FA756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CC9-FC21-4ABB-AC0F-31B9AA0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77F-C6C2-4439-A952-6561CE99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A76-7800-42E5-A365-0523F29BE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Исследовательская работа</a:t>
            </a:r>
            <a:br>
              <a:rPr sz="4400"/>
            </a:b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«Англий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3886200"/>
            <a:ext cx="7016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5»А»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ясниковой Ангел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d050"/>
                </a:solidFill>
                <a:latin typeface="Arial"/>
              </a:rPr>
              <a:t>Английское чаеп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5" descr="2309fbbe6bd21e2bdb70562da81b0767.jpg"/>
          <p:cNvPicPr/>
          <p:nvPr/>
        </p:nvPicPr>
        <p:blipFill>
          <a:blip r:embed="rId1"/>
          <a:stretch/>
        </p:blipFill>
        <p:spPr>
          <a:xfrm>
            <a:off x="1214280" y="1285920"/>
            <a:ext cx="63723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"/>
          <p:cNvPicPr/>
          <p:nvPr/>
        </p:nvPicPr>
        <p:blipFill>
          <a:blip r:embed="rId1"/>
          <a:srcRect l="0" t="0" r="0" b="4621"/>
          <a:stretch/>
        </p:blipFill>
        <p:spPr>
          <a:xfrm>
            <a:off x="4933800" y="1600200"/>
            <a:ext cx="3753000" cy="4060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Рецепт чая по-английс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5040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й – 1 чайная лож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око – 1/4 стакан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хар – по вкус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а – 1/2 стак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олоснуть чайник кипятком, чтобы он прогрелся. Засыпать в него чай из расчета на чашку кипятка – одна чайная ложка сухого чая. Залить кипяток  и дать настояться в течение 5 минут. В то время, когда заварка готовится, налить  1/4 чашки молока, затем туда же долить чай. Этой очередности нужно строго придержив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00"/>
                </a:solidFill>
                <a:latin typeface="Book Antiqua"/>
              </a:rPr>
              <a:t>В результате исследования я выяснил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чай появился в Англии в 1664 году, а традиция чаепития прижилась благодаря жене Карл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тарине Брагансск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чаепитие является национальной традицией англич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ервируется английский чайный ст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цепт английского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Arial"/>
              </a:rPr>
              <a:t>Источник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dealdom.b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britain4russian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vyazma.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blogs.mk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ndonmania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Book Antiqua"/>
              </a:rPr>
              <a:t>Цель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почему самой «чайной» страной считается Англ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в чём заключается суть ритуала английского чаепи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для англичан является чаепит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заварить английский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826920" y="40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00"/>
                </a:solidFill>
                <a:latin typeface="Book Antiqua"/>
              </a:rPr>
              <a:t>Тем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68360" y="1052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глийское чаеп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9900"/>
                </a:solidFill>
                <a:latin typeface="Book Antiqua"/>
              </a:rPr>
              <a:t>Вопросы, на которые надо искать 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и каким образом чай появился в Англ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 является для англичан чаепит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ервируют стол для чаепития англич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в рецепт английского ч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План моего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тория возникновения традиции чаепития  в  Анг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епитие как одна из национальных традиций англич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рвировка стола к английскому чаепит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особ заваривания английского ч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498840" cy="3921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Появление чая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21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1664г. купцы передали в подарок своему королю килограмм "китайского зелья". Может быть, и на этот раз чай валялся бы, где-нибудь на складе, если бы... Карл II не женился на португальской принцессе Катарине. Она, как оказалось, была большая любительница этого терпкого напитк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коро уже чуть ли не в каждом доме знатных лондонцев стали пить чай и восторгаться 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Национальная тради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чане – одна из самых чаепотребляющих наций в мир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 чая господствует почти в каждой английской семье, и до сих пор чаепитие составляет одну из характернейших национальных традиций англич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923000" y="1773360"/>
            <a:ext cx="3727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714680" y="318960"/>
            <a:ext cx="5929200" cy="6243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13920" y="404280"/>
            <a:ext cx="664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и пьют чай до 7 раз в день при любых обстоятельствах, важных и не очень, в торжественных случаях и во время непринужденной дружеской беседы. Английское чаепитие – своеобразный способ общ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ем сопровождается первый английский завтрак (с 7 до 9 часов) и ленч (второй завтрак в 13 часов). Строго соблюдается чаепитие между 17 и 18 часами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ve o c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учреждениях обязательн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ржат работницу, которая готовит для служащих крепкий чай с печеньем. Вечерний чай в некоторых семьях заменяет обед. </a:t>
            </a:r>
            <a:br>
              <a:rPr sz="2400"/>
            </a:br>
            <a:br>
              <a:rPr sz="2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ай с молоком давно стал национальным напитком жителей Британских остров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648320" y="404640"/>
            <a:ext cx="403848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9900"/>
                </a:solidFill>
                <a:latin typeface="Book Antiqua"/>
              </a:rPr>
              <a:t>Сервировка стола к ча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396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чаю по-английски подают горячее молоко или подогретые сливки, мармелад, кексы, сухое печенье, небольшие пирожные или торт, маленькие закусочные бутерб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4140360" y="1600200"/>
            <a:ext cx="454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3:49:38Z</dcterms:created>
  <dc:creator>Павел</dc:creator>
  <dc:description/>
  <dc:language>en-US</dc:language>
  <cp:lastModifiedBy>Master</cp:lastModifiedBy>
  <dcterms:modified xsi:type="dcterms:W3CDTF">2013-04-14T14:24:15Z</dcterms:modified>
  <cp:revision>25</cp:revision>
  <dc:subject/>
  <dc:title>Английское чаепитие</dc:title>
</cp:coreProperties>
</file>