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5C04-05A2-4564-A057-D37FB3FC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580-1349-4458-BEEB-DF413B44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3E3-B992-4C9D-BEB7-53DB7E97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50D-B889-4E8A-8E96-9F01D70E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C9C-AE43-428A-9C28-E38EEAB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1EC4-AA81-41B1-AB8C-C6A979ED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871-8E31-4DDC-8F27-C7C95108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58E-4922-4F97-9477-FB3D798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81A-4D1B-496C-B54F-462EEAC3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BAF-3045-48EC-895A-9260D83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E13-73C7-4946-996A-5550F65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7FD-D07C-41AB-AC55-A915746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A51-1D08-4CF1-90DC-F83869EE3D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ус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цы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№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пель Эве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второй половины 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 столетия чай становится традиционным купеческим напитком. А с конца 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 века трудно было найти трактир любого достоинства, где бы не подавался чай. В России, однако, в силу устойчивых местных традиций, возникли свои национальные особенности употребления чая и его сервир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435600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Каким должен быть  настоящий</a:t>
            </a:r>
            <a:br>
              <a:rPr sz="4000"/>
            </a:b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русский ч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 – первых, настоящий чай  должен быть не только хорошего сорта, без примесей, но и крепкий, его не следует жалеть на заварку. Он должен, как писал Пушкин, бежать по чашкам темною стру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том же говорит и друг Пушкина поэт П.А. Вяземский: по его словам, чай должен быть "не жидкий, как вода... но густой, душистый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удожник В.А. Милашевский говорил: "Разве можно что-то почувствовать, если ты не выпил крепкого душистого чаю. Чай - это взлет души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-вторых, чай должен быть горяч. "Истинные любители чаю... - объясняет Кокорев, - пьют его с толком, даже с чувством, то есть совершенно горячий, когда он проникает во все поры тела и понемногу погружает нервы в сладостное онемение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ретье условие "настоящего чая" - пить его нужно много; "по-настоящему" напившийся чая человек говорил о себе, что он "усидел самовар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Чай по – старорусски горяч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рошо вымытый заварной фарфоровый чайник перед использованием сполоснуть кипятком и слегка подержать закрытым крышк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ыпать заварку в нужном количестве из расчета 1 чайная ложка  на порцию и залить кипятком примерно на 1/3 чайника. Прикрыть на 5 минут крышкой и салфет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ем долить в чайник доверху кипяток и перемешать. Разлить чай в чашки из расчета 50мл заварки на порцию и долить кипя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, варенье и сахар (лучше кусковой) подать к чаю отдельно. Так же отдельно можно подать к чаю горячие сливки или молоко с пе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57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чаепитие отличалось особой сердечностью, открытостью и простотой во взаимоотношениях хозяев и г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России  хозяева предлагали гостям за чайным столом чувствовать себя свободно - "без церемоний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10610" t="14940" r="12735" b="21395"/>
          <a:stretch/>
        </p:blipFill>
        <p:spPr>
          <a:xfrm>
            <a:off x="4356000" y="642960"/>
            <a:ext cx="4608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4648320" y="1616040"/>
            <a:ext cx="4476600" cy="498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началу ХХ века чай проник практически во все слои насе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итуал чаепития в России стал столь же повсеместно распространенным и любимым всеми сословиями, как и на родине ч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огласно статистике Россия по потреблению чая занимает третье место в мире, уступая лишь Китаю и Индии, а каждый второй россиянин пьет чай, по крайней мере, трижды в де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цены чаепития с традиционным самоваром нашли  отражение в литературных произведениях,  в творчестве многих русских художников и народных  декоративных издел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В результате исследования я выясн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чай в Россию был привезён в 1638 году от монгольского х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брала исторические сведения о том, как традиция чаепития стала для россиян националь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знала об особенностях русского чаепития и сервировки чайного ст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астоящий русский чай должен быть горячим, крепким и его должно быт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Репродукции картин русских художников, использованные в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507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устодиев «Красав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 Первунинский «Чаепитие в сиреневом сад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Ведерников «Натюрмо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 Грабарь «Утренний час, подснежни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Коровин. «За чайным столом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tk-podvorie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pravmir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edem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ochi.org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72709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00"/>
                </a:solidFill>
                <a:latin typeface="Georgia"/>
              </a:rPr>
              <a:t>Тема 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10920" y="2060280"/>
            <a:ext cx="806436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eorgia"/>
              </a:rPr>
              <a:t>«Русское чаепит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«Пейте ча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мой друг стари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Забывая бег мину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Булат Окуд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, как появился чай 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ть исторические сведения о том, как традиция чаепития стала для россиян национальн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об особенностях русского чаепития и сервировки чайного сто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каким должен быть настоящий русский ч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План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рать исторические сведения о том, как появился чай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ти информацию  об особенностях русского чаеп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 каким должен быть настоящий русский чай и технологию его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Arial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й был впервые привезен в Россию только в 1638 году, его привез в дар государю Московскому Михаилу Федоровичу от монгольского хана боярский сын Василий Стар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ол отказывался от такого подарка: московский царь одарил Алтын - хана соболями и другими ценными дарами, а в ответ... сушёная трав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рков всю дорогу из Монголии в Москву «убивался» по поводу крайне неудачной сделки. К его величайшему удивлению напиток понравился московскому царю, и вскоре наша страна стала регулярно ввозить чай.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485784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то, что в России чай распространился в разных социальных слоях достаточно рано, еще в конце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чале 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 веков он был преимущественно дворянским напит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и годы в Западной Европе чай вошел в моду именно в аристократической среде и стал  символом красив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rcRect l="8804" t="16556" r="10971" b="21395"/>
          <a:stretch/>
        </p:blipFill>
        <p:spPr>
          <a:xfrm>
            <a:off x="4716360" y="1341360"/>
            <a:ext cx="44276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5280" y="0"/>
            <a:ext cx="5148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же к началу XIX века выработался русский ритуал чаепития. Самовар ставился либо на небольшой самоварный столик, либо прямо на поднос в конце большого стола, по левую руку от хозяй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й разливала из самовара хозяйка или старшая дочь хозяина в отсутствии хозяйки. Это правило было подсказано опытом: разливать чай должен всего один челове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4230720" cy="47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00"/>
                </a:solidFill>
                <a:latin typeface="Arial"/>
              </a:rPr>
              <a:t>Откуда импортировался ча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конца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чай получали из Китая в обмен на  лен, кожи и меха. Чайная торговля, была выгодна русскому правительству, поскольку пошлина на его ввоз была очень высока. Это было еще одной причиной высоких цен на чай в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т почему еще в начале 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 века в дворянских усадьбах хозяйка обычно хранила этот ценный продукт не в кладовой, а в собственной спальне, в комоде. Для этого использовались специальные ларцы-чайницы, обитые изнутри свинцовой фольг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лоть до начала ХХ века он оставался очень недешевым и преимущественно городским напитком. В крестьянской же среде чай всегда считался дорогим удовольствием и употреблялся лишь в богатых семьях. Поэтому чаепитие в народе представлялось одним из символов зажиточной, благополу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1"/>
          <a:srcRect l="16314" t="2211" r="17725" b="11860"/>
          <a:stretch/>
        </p:blipFill>
        <p:spPr>
          <a:xfrm>
            <a:off x="179280" y="333360"/>
            <a:ext cx="45403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4:29:56Z</dcterms:created>
  <dc:creator>Павел</dc:creator>
  <dc:description/>
  <dc:language>en-US</dc:language>
  <cp:lastModifiedBy>Master</cp:lastModifiedBy>
  <dcterms:modified xsi:type="dcterms:W3CDTF">2013-04-14T13:49:30Z</dcterms:modified>
  <cp:revision>27</cp:revision>
  <dc:subject/>
  <dc:title>Слайд 1</dc:title>
</cp:coreProperties>
</file>