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7B3-592A-418E-AE64-4A91DC51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B454-9312-4C82-A33C-A9EB1A19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E9B-EAE1-44E2-B15F-4D9A79C0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2D2-B964-4C04-9811-99CAD422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120-8D8F-4CB6-BC2C-26E07160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556-C9A1-46C4-A6DA-1A19CDF5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CFD4-5163-4179-8581-904431D9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CF7D-44AD-42E6-9A4B-868DF77C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951-1D0B-45AF-8002-96D1D60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6096-385D-4926-9BF6-B03C1879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88B-A38A-46C3-9EC3-F8EE2E5B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F67-E765-4355-ACC7-8B0D862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7DEF-A5AF-45D1-B6BC-E72FA081D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5;&#1072;&#1073;&#1083;.&#1085;&#1072;%20&#1087;&#1088;&#1086;&#1075;.&#1087;&#1083;&#1072;&#1085;.doc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_6d3c3_6d240c_XL"/>
          <p:cNvPicPr/>
          <p:nvPr/>
        </p:nvPicPr>
        <p:blipFill>
          <a:blip r:embed="rId1"/>
          <a:stretch/>
        </p:blipFill>
        <p:spPr>
          <a:xfrm>
            <a:off x="380880" y="38862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природы в жизни ребенка раннего возра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337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идова Ф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 вто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лификационн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ДОУ№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б г. 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22453904_22110489_1207426269_s2hddv"/>
          <p:cNvPicPr/>
          <p:nvPr/>
        </p:nvPicPr>
        <p:blipFill>
          <a:blip r:embed="rId2"/>
          <a:stretch/>
        </p:blipFill>
        <p:spPr>
          <a:xfrm>
            <a:off x="6477120" y="304920"/>
            <a:ext cx="18288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и методы приобщения ребенка к природ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колле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арные опыты (детское экспериментирование, игры-экспериментиров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уктивн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отр иллюстрац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передач, альбом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ок, фотограф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ft246"/>
          <p:cNvPicPr/>
          <p:nvPr/>
        </p:nvPicPr>
        <p:blipFill>
          <a:blip r:embed="rId1"/>
          <a:stretch/>
        </p:blipFill>
        <p:spPr>
          <a:xfrm>
            <a:off x="6095880" y="4419720"/>
            <a:ext cx="2946600" cy="2209680"/>
          </a:xfrm>
          <a:prstGeom prst="rect">
            <a:avLst/>
          </a:prstGeom>
          <a:ln w="31680">
            <a:solidFill>
              <a:srgbClr val="004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блю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– сложная познавательная деятельность, она только зарождается в раннем возрасте и осуществляется ка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вместная деятель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го 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ое в наблюдении – созд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й наст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блюдения за животными и природными явлениями бывают случайными и неожиданными. Педагог должен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имулировать детскую любознат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учить видеть изменения в природе, самостоятельно делать элементар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foto-mam-i-detei-13.jpg"/>
          <p:cNvPicPr/>
          <p:nvPr/>
        </p:nvPicPr>
        <p:blipFill>
          <a:blip r:embed="rId1"/>
          <a:stretch/>
        </p:blipFill>
        <p:spPr>
          <a:xfrm>
            <a:off x="5562720" y="5181480"/>
            <a:ext cx="2288880" cy="1524240"/>
          </a:xfrm>
          <a:prstGeom prst="rect">
            <a:avLst/>
          </a:prstGeom>
          <a:ln w="19080">
            <a:solidFill>
              <a:srgbClr val="3c8c9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я проводятся ежедне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ный перечень наблюдений на прогулке за объектами живой природы и явлениями неживой природы для дет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2-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а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ндивидуальные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ников группы, уровень их развития и практически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609480"/>
          <a:ext cx="4038480" cy="31086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Объекты для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 задачи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наблю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с различными видами детск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76" name="Рисунок 3" descr="110.jpg"/>
          <p:cNvPicPr/>
          <p:nvPr/>
        </p:nvPicPr>
        <p:blipFill>
          <a:blip r:embed="rId2"/>
          <a:stretch/>
        </p:blipFill>
        <p:spPr>
          <a:xfrm>
            <a:off x="762120" y="152280"/>
            <a:ext cx="1790640" cy="135756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право 7"/>
          <p:cNvSpPr/>
          <p:nvPr/>
        </p:nvSpPr>
        <p:spPr>
          <a:xfrm rot="19834800">
            <a:off x="3928680" y="2822040"/>
            <a:ext cx="1066680" cy="4572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8" descr="330026694634_04-apr_-15-09_45.gif"/>
          <p:cNvPicPr/>
          <p:nvPr/>
        </p:nvPicPr>
        <p:blipFill>
          <a:blip r:embed="rId3"/>
          <a:stretch/>
        </p:blipFill>
        <p:spPr>
          <a:xfrm>
            <a:off x="4648320" y="3809880"/>
            <a:ext cx="173196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e17_s.jpg"/>
          <p:cNvPicPr/>
          <p:nvPr/>
        </p:nvPicPr>
        <p:blipFill>
          <a:blip r:embed="rId4"/>
          <a:stretch/>
        </p:blipFill>
        <p:spPr>
          <a:xfrm>
            <a:off x="6781680" y="3809880"/>
            <a:ext cx="1731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 и задача наблюдений должны быть поставлены четко и конкретно. Задача всегда должна им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навательн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тавлять ребенка думать, вспоминать, искать ответ на поставленный воп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го наблюдения необходимо отбир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большой круг зн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едставления об объектах природы формируются у детей постепенно, в результат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ногократ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стреч с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каждого наблюдения у детей должно сформировать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едставление или элементарное понят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ом или ином объект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4"/>
          <p:cNvSpPr/>
          <p:nvPr/>
        </p:nvSpPr>
        <p:spPr>
          <a:xfrm>
            <a:off x="3962520" y="2057400"/>
            <a:ext cx="990360" cy="762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наблюдение должно давать детя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е зн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степенн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сширяя и углубляя первоначальные представл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ведении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низ 3"/>
          <p:cNvSpPr/>
          <p:nvPr/>
        </p:nvSpPr>
        <p:spPr>
          <a:xfrm>
            <a:off x="4724280" y="3809880"/>
            <a:ext cx="6858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475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должно способств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ю умственной и речевой активности де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стигается разнообраз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должно вызывать у детей интерес к природе, желание узнать о ней как можно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активизации умственной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90760" y="2174760"/>
            <a:ext cx="4800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ой конкретной и доступной задачи наблю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м действий обследования как способа наблю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детского опы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оваривание результатов наблюд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м одного объекта с други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ъявление вопросов различной степени сл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требования к наблюдению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, полученные детьми в процессе наблюдений, должны закрепляться, уточняться, обобщаться и систематизироваться с помощью других форм и методов работы (рассказ воспитателя, чтение книг о природе, рисование, лепка, беседы об увиденн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draw03.jpg"/>
          <p:cNvPicPr/>
          <p:nvPr/>
        </p:nvPicPr>
        <p:blipFill>
          <a:blip r:embed="rId1"/>
          <a:stretch/>
        </p:blipFill>
        <p:spPr>
          <a:xfrm>
            <a:off x="6781680" y="4876920"/>
            <a:ext cx="1825920" cy="1593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699692701ed8.jpg"/>
          <p:cNvPicPr/>
          <p:nvPr/>
        </p:nvPicPr>
        <p:blipFill>
          <a:blip r:embed="rId2"/>
          <a:stretch/>
        </p:blipFill>
        <p:spPr>
          <a:xfrm>
            <a:off x="4419720" y="4267080"/>
            <a:ext cx="1828800" cy="247824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8" descr="85b5bf6d0b34.jpg"/>
          <p:cNvPicPr/>
          <p:nvPr/>
        </p:nvPicPr>
        <p:blipFill>
          <a:blip r:embed="rId3"/>
          <a:stretch/>
        </p:blipFill>
        <p:spPr>
          <a:xfrm>
            <a:off x="5181480" y="1371600"/>
            <a:ext cx="33829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изация наблюд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наблюдению привлекают небольшую группу детей, не занятых интересным делом (3-10 челове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временный характер наблюдения (3-5-7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ение системы анализаторов (прикоснуться, попробовать на вкус, ощутить весовые различия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можно закончить дидактической игрой или трудовым поруч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ают задачи экологического развития – т.е. дают детям знания о закономерностях развития природных объектов, свойствах объектов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, развивающие восприятие, память, мышление. Содержание – природные объе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8288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ама и малы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ыло - ста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удесный мешоче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куда берется дерево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 речку или по грибы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шка» (игры-имит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ртируем семе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то где жив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2520" y="1371600"/>
            <a:ext cx="40417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742840"/>
            <a:ext cx="404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азноцветная в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тонул? Достанем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ождевые струй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едяные куб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ыращивание лук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физических закономерностей, познание свойств и возможностей матер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10" descr="www_umnichka_ua--66_1258023564.gif"/>
          <p:cNvPicPr/>
          <p:nvPr/>
        </p:nvPicPr>
        <p:blipFill>
          <a:blip r:embed="rId1"/>
          <a:stretch/>
        </p:blipFill>
        <p:spPr>
          <a:xfrm>
            <a:off x="3581280" y="1295280"/>
            <a:ext cx="119880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380520"/>
            <a:ext cx="83818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ок с раннего детства исследует окружающий ми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изна и яркость ранних впечатлений остаются на всю жиз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и позна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осредствен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5" descr="X4GGyxfSIw4.jpg"/>
          <p:cNvPicPr/>
          <p:nvPr/>
        </p:nvPicPr>
        <p:blipFill>
          <a:blip r:embed="rId1"/>
          <a:stretch/>
        </p:blipFill>
        <p:spPr>
          <a:xfrm>
            <a:off x="5334120" y="4419720"/>
            <a:ext cx="3251160" cy="2165400"/>
          </a:xfrm>
          <a:prstGeom prst="rect">
            <a:avLst/>
          </a:prstGeom>
          <a:ln w="19080">
            <a:solidFill>
              <a:srgbClr val="22226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е кол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лекция – собрание необычного, удивительного, нового дл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ние и игры с коллекционным материалом только совместно со взросл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4" descr="f8_pinel_.jpg"/>
          <p:cNvPicPr/>
          <p:nvPr/>
        </p:nvPicPr>
        <p:blipFill>
          <a:blip r:embed="rId1"/>
          <a:srcRect l="0" t="0" r="0" b="6719"/>
          <a:stretch/>
        </p:blipFill>
        <p:spPr>
          <a:xfrm>
            <a:off x="4952880" y="4191120"/>
            <a:ext cx="354348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 чего состоит коллекц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кушки, перышки, листочки, шишки, камешки, семена, сухие плоды (желуди, каштаны), причудливые веточки и ко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ация кол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ая/не живая 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нсорные признаки (цвет, форма, размер, ве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4"/>
          <p:cNvSpPr/>
          <p:nvPr/>
        </p:nvSpPr>
        <p:spPr>
          <a:xfrm>
            <a:off x="914400" y="5029200"/>
            <a:ext cx="365760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ллекцию не должны включаться «мертвые» объекты (засушенные насеком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работать с коллекцие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ние 1-2 экспонатов коллекции за один 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ленно достаем и рассматриваем объ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м объект ребенку для рассмот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ровождаем действия речью, привлекаем внимание к свойствам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1312284878_blestyaschie-kamushki-14.jpg"/>
          <p:cNvPicPr/>
          <p:nvPr/>
        </p:nvPicPr>
        <p:blipFill>
          <a:blip r:embed="rId1"/>
          <a:stretch/>
        </p:blipFill>
        <p:spPr>
          <a:xfrm>
            <a:off x="5181480" y="39625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коллекционным матери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однородными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амый-самый» (камушки, шиш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дкий или шерша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Содержимое 9" descr="5.png"/>
          <p:cNvPicPr/>
          <p:nvPr/>
        </p:nvPicPr>
        <p:blipFill>
          <a:blip r:embed="rId1"/>
          <a:stretch/>
        </p:blipFill>
        <p:spPr>
          <a:xfrm>
            <a:off x="4419720" y="1523880"/>
            <a:ext cx="4365360" cy="2619360"/>
          </a:xfrm>
          <a:prstGeom prst="rect">
            <a:avLst/>
          </a:prstGeom>
          <a:ln w="0">
            <a:noFill/>
          </a:ln>
        </p:spPr>
      </p:pic>
      <p:sp>
        <p:nvSpPr>
          <p:cNvPr id="125" name="Скругленный прямоугольник 8"/>
          <p:cNvSpPr/>
          <p:nvPr/>
        </p:nvSpPr>
        <p:spPr>
          <a:xfrm>
            <a:off x="228600" y="4419720"/>
            <a:ext cx="25146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новление ассортимента кам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10" descr="63747313_1283914310_44.jpg"/>
          <p:cNvPicPr/>
          <p:nvPr/>
        </p:nvPicPr>
        <p:blipFill>
          <a:blip r:embed="rId2"/>
          <a:stretch/>
        </p:blipFill>
        <p:spPr>
          <a:xfrm>
            <a:off x="2895480" y="449568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kedrovaya_shishka-800x800.jpg"/>
          <p:cNvPicPr/>
          <p:nvPr/>
        </p:nvPicPr>
        <p:blipFill>
          <a:blip r:embed="rId3"/>
          <a:srcRect l="0" t="0" r="0" b="9454"/>
          <a:stretch/>
        </p:blipFill>
        <p:spPr>
          <a:xfrm>
            <a:off x="6114960" y="449568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мешки спряталис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ка-шн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ятствия (валик, плат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с корзинками ищут камушки, спрятанные педаг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нахождения камушка – рассказать – какой 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8" descr="item7Q.jpg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674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04.jpg"/>
          <p:cNvPicPr/>
          <p:nvPr/>
        </p:nvPicPr>
        <p:blipFill>
          <a:blip r:embed="rId2"/>
          <a:stretch/>
        </p:blipFill>
        <p:spPr>
          <a:xfrm>
            <a:off x="4800600" y="4114800"/>
            <a:ext cx="28926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ы с разнородными объек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де же вы живет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тизация природных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: Макеты елки и берега мор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й материал (шишки и камеш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еселые гор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: горки для скатывания предметов; камешки (округлые), шишки, желуди. Предметы различаются разм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ое задание (иг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ы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ижная иг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5" descr="ev-unyy-ekolog-sistema-raboty-v-mladshey-gruppe-detskogo-sada-2-4-goda-nikolaeva.jpg"/>
          <p:cNvPicPr/>
          <p:nvPr/>
        </p:nvPicPr>
        <p:blipFill>
          <a:blip r:embed="rId1"/>
          <a:stretch/>
        </p:blipFill>
        <p:spPr>
          <a:xfrm>
            <a:off x="5238720" y="24336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ющая среда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ятельность детей в приро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материа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зные картинки, разделенные на 2-4 части по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бики с предметными картинками (4-6 частей) с изображением объектов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оры объемных и плоских игрушек: «Зоопарк», «Домашние животные», «Овощи», «Фрук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ие игры: «Кто что ест?», «Чей малыш?», «Времена года», «Пароч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ии сюжетных картин из 4 штук: времена года (природа и сезонная деятельность люд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бомы для рассматр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еты экологически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растений…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я, трава, цветы, овощи, фру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 к растениям проявляется у ребенка чаще, когда взрослые привлекают его внимание к ним, наблюдают их вместе с ребен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помочь ребенку понять, как жизнь растения зависит от воды, тепла,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пешите ответить на вопросы, которые вы задаете ребенку. Очень важно, чтобы ребенок высказал свои предпо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е растение сравнивать со знакомым по 1-2 признакам (цветет - не цветет, большие - маленькие листоч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ухода за растениями необходима яркая красивая леечка. Показать ребенку способы полива растений, помочь самому по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вместе с ребенком чаще походить к растениям и каждый раз удивляться, восхищаться их крас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о специально учить ребенка всматриваться, любоваться, радоваться и восхищаться красотой мира природы, воспитывать наблюдательность и любознательность, доброе и бережное отношение к объектам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405404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блюдение за цветущими расте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я за цветущими растениями многократно повто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окраску, размер, количество цветков (один или много), поню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ий день предложите ребенку самому посмотреть, как выглядит рас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дактические игры «Найди такой же», «Большие и маленькие», «Один и много»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имой можно выращивать овощные растения (лук, морковь, свеклу, петрушк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р животных…</a:t>
            </a:r>
            <a:br>
              <a:rPr sz="4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ие и дикие животные, их детеныши, пт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 привлекают внимание ребенка своей подвижностью, динамичностью, издаваемыми звуками и другими интересными проявлениями (что и как едят, как передвигаются, где живу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 нравятся детям многообразием окраски, размеров, форм, движений (яркая бабочка - окраска, птичка – полетом, звуко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цвечивание листьев и листоп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ец с листочками, послушать как шуршат листья под ногами, посмотреть откуда слетают листья, поискать, кто рячется на земле под листьями, украсть листьями комнат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– как с деревьев падают листья, они разные по цвету, красивые. Цветов и травы становится все меньше. Птицы улетают. В наблюдениях за животными обращайте внимание на их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«Принеси листочек», «Собери листья желтого цвета», подвижные игры, чтение сти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и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роз и холод, короткие дни, снег и л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е за снегом: идет, падает, кружит, медленно опускается, ложится на дорожки, скамейки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снега: легкий, холодный, можно слепить комок. Рассмотреть снежинку. На теплой ладошке снег тает. Пушистый. Следы на сне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стихотворений, пот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сн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овится теплее и светлее, тает снег, много воды, первая зе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нышко становится теп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е за ручейками, лодочки для ручей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ая травка, чистые дорожки. Где-то еще снег, а где-то уже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цветы: мать-и-мачеха, подснежники, крокусы, одуванчики. Рассмотреть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ение впечатлений в рисунках, подел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цветов (строение, цвет, размер, количество, зап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атривание плодов (величина, цвет, форма, вку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его нужны растения в городе? Нарядный вид, очищение воздуха от пыли, аром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насекомыми. Чтение стихотворений, потеш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ение за птицами (как летят, какие звуки издаю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ы на различение и запоминание животных: «кто пришел?», «Кого не стало?», «Кто тебя позвал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ировку животных в пары по признаку: взрослое животное-детеныш «Чей малыш?», «Помоги найти мам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ленение характерных для животных повадок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то что ест?», «Кто клюет, а кто лает?» «Кто как кричи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удить у ребенка интерес к природе, к жизни растений и животных, к явлениям неживой природ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6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сам отношусь к природе? Кто я – хозяин природы или ее часть? Могу ли я удивляться и радоваться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66720" y="1599840"/>
            <a:ext cx="4496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о показывать детям свой интерес к природе, ее объектам и явлениям, желание познавать их; своим поведением доказывать, что вы не утратили способность удивляться и радоваться травке, птичкам, солнышку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43f2e2a4da1c30511af05db84774bd8a_full"/>
          <p:cNvPicPr/>
          <p:nvPr/>
        </p:nvPicPr>
        <p:blipFill>
          <a:blip r:embed="rId1"/>
          <a:stretch/>
        </p:blipFill>
        <p:spPr>
          <a:xfrm>
            <a:off x="1371600" y="4419720"/>
            <a:ext cx="28954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ое воспитание в раннем возраст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ое воспитание – это формирование осознанно правильного отношения детей к объектам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 rot="20563200">
            <a:off x="1294920" y="4571640"/>
            <a:ext cx="281952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rot="1657800">
            <a:off x="4952520" y="4495320"/>
            <a:ext cx="289584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2819520" y="3200400"/>
            <a:ext cx="28954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нирование работы по формированию элементарных экологических представ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 образовательная деятельность – 1 раз в месяц. Наблюдения на прогулке – ежедне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тельная работа экологического содержания  в режимных момен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предметно-развивающей среды для самостоятельной деятельности детей (рассматривание иллюстраций, игрушки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с родителями (рекомендации, творческие задания, конкурсы, наблюд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ГТ к структуре ООП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О «Безопас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формирование основ безопасности собственной жизнедеятельности и формирова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дпосылок экологического сознани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езопасности окружающего ми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14255898_IMG_1477.jpg"/>
          <p:cNvPicPr/>
          <p:nvPr/>
        </p:nvPicPr>
        <p:blipFill>
          <a:blip r:embed="rId1"/>
          <a:stretch/>
        </p:blipFill>
        <p:spPr>
          <a:xfrm>
            <a:off x="5562720" y="4343400"/>
            <a:ext cx="2719440" cy="2286000"/>
          </a:xfrm>
          <a:prstGeom prst="rect">
            <a:avLst/>
          </a:prstGeom>
          <a:ln w="31680">
            <a:solidFill>
              <a:srgbClr val="00462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овательных обла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photo1.jpg"/>
          <p:cNvPicPr/>
          <p:nvPr/>
        </p:nvPicPr>
        <p:blipFill>
          <a:blip r:embed="rId1"/>
          <a:stretch/>
        </p:blipFill>
        <p:spPr>
          <a:xfrm>
            <a:off x="4800600" y="3962520"/>
            <a:ext cx="3487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ы и методы приобщения ребенка к природ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оянные, многократно повторяющиес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за животными, растениями, объектами и явлениями неживой природы; трудом взрослого в природе, посильное учас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, образные игры-ими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детских книг, поговорок, поте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</dc:creator>
  <dc:description/>
  <dc:language>en-US</dc:language>
  <cp:lastModifiedBy>автор</cp:lastModifiedBy>
  <dcterms:modified xsi:type="dcterms:W3CDTF">2013-04-14T13:05:49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