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DE6-2E53-44E8-8DD4-75FE468D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BCD-7F61-463C-9490-8CB82B33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9CB-2BAB-4A82-98C1-9645ED39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522-160E-42F7-8749-349F3F7A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816-EADA-4072-8260-D60F7970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EBC-F3DD-43FE-B025-B3736AE2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9F0-33CB-437F-9DAD-D1831567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6A8-9C89-4C6D-AC82-2D87492A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14C-4A02-4A38-B391-F3183541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52D-B23B-4878-90A1-4EC9F925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6B4-FB4E-4694-BEC3-03F7DCDF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728E-A631-4652-82B1-5ED64527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9CC0-3EBB-44A8-8153-69C013B547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85;&#1072;&#1073;&#1083;.&#1085;&#1072;%20&#1087;&#1088;&#1086;&#1075;.&#1087;&#1083;&#1072;&#1085;.doc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_6d3c3_6d240c_XL"/>
          <p:cNvPicPr/>
          <p:nvPr/>
        </p:nvPicPr>
        <p:blipFill>
          <a:blip r:embed="rId1"/>
          <a:stretch/>
        </p:blipFill>
        <p:spPr>
          <a:xfrm>
            <a:off x="380880" y="38862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 природы в жизни ребенка раннего возра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337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идова Ф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ь вто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лификационной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БДОУ№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б г. 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22453904_22110489_1207426269_s2hddv"/>
          <p:cNvPicPr/>
          <p:nvPr/>
        </p:nvPicPr>
        <p:blipFill>
          <a:blip r:embed="rId2"/>
          <a:stretch/>
        </p:blipFill>
        <p:spPr>
          <a:xfrm>
            <a:off x="6477120" y="304920"/>
            <a:ext cx="18288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ы и методы приобщения ребенка к природ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колл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арные опыты (детское экспериментирование, игры-экспериментиров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уктивная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мотр иллюстрац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передач, альбом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ок, фотограф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ft246"/>
          <p:cNvPicPr/>
          <p:nvPr/>
        </p:nvPicPr>
        <p:blipFill>
          <a:blip r:embed="rId1"/>
          <a:stretch/>
        </p:blipFill>
        <p:spPr>
          <a:xfrm>
            <a:off x="6095880" y="4419720"/>
            <a:ext cx="2946600" cy="2209680"/>
          </a:xfrm>
          <a:prstGeom prst="rect">
            <a:avLst/>
          </a:prstGeom>
          <a:ln w="31680">
            <a:solidFill>
              <a:srgbClr val="0046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блюд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– сложная познавательная деятельность, она только зарождается в раннем возрасте и осуществляется как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вместная деятель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рослого и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в наблюдении – созда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моциональный настр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блюдения за животными и природными явлениями бывают случайными и неожиданными. Педагог должен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имулировать детскую любозна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учить видеть изменения в природе, самостоятельно делать элементарные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foto-mam-i-detei-13.jpg"/>
          <p:cNvPicPr/>
          <p:nvPr/>
        </p:nvPicPr>
        <p:blipFill>
          <a:blip r:embed="rId1"/>
          <a:stretch/>
        </p:blipFill>
        <p:spPr>
          <a:xfrm>
            <a:off x="5562720" y="5181480"/>
            <a:ext cx="2288880" cy="1524240"/>
          </a:xfrm>
          <a:prstGeom prst="rect">
            <a:avLst/>
          </a:prstGeom>
          <a:ln w="19080">
            <a:solidFill>
              <a:srgbClr val="3c8c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282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я проводятся ежедне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ый перечень наблюдений на прогулке за объектами живой природы и явлениями неживой природы для дет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2-4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ора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дивидуальные особен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ников группы, уровень их развития и практический оп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609480"/>
          <a:ext cx="4038480" cy="31086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Объекты для наблю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 задачи наблю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наблю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ь с различными видами дет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76" name="Рисунок 3" descr="110.jpg"/>
          <p:cNvPicPr/>
          <p:nvPr/>
        </p:nvPicPr>
        <p:blipFill>
          <a:blip r:embed="rId2"/>
          <a:stretch/>
        </p:blipFill>
        <p:spPr>
          <a:xfrm>
            <a:off x="762120" y="152280"/>
            <a:ext cx="1790640" cy="1357560"/>
          </a:xfrm>
          <a:prstGeom prst="rect">
            <a:avLst/>
          </a:prstGeom>
          <a:ln w="0">
            <a:noFill/>
          </a:ln>
        </p:spPr>
      </p:pic>
      <p:sp>
        <p:nvSpPr>
          <p:cNvPr id="77" name="Стрелка вправо 7"/>
          <p:cNvSpPr/>
          <p:nvPr/>
        </p:nvSpPr>
        <p:spPr>
          <a:xfrm rot="19834800">
            <a:off x="3928680" y="2822040"/>
            <a:ext cx="1066680" cy="4572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8" descr="330026694634_04-apr_-15-09_45.gif"/>
          <p:cNvPicPr/>
          <p:nvPr/>
        </p:nvPicPr>
        <p:blipFill>
          <a:blip r:embed="rId3"/>
          <a:stretch/>
        </p:blipFill>
        <p:spPr>
          <a:xfrm>
            <a:off x="4648320" y="3809880"/>
            <a:ext cx="1731960" cy="2514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e17_s.jpg"/>
          <p:cNvPicPr/>
          <p:nvPr/>
        </p:nvPicPr>
        <p:blipFill>
          <a:blip r:embed="rId4"/>
          <a:stretch/>
        </p:blipFill>
        <p:spPr>
          <a:xfrm>
            <a:off x="6781680" y="3809880"/>
            <a:ext cx="1731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ие требования к наблюдени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2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и задача наблюдений должны быть поставлены четко и конкретно. Задача всегда должна име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навательный характ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ставлять ребенка думать, вспоминать, искать ответ на поставленный в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аждого наблюдения необходимо отбир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большой круг зн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редставления об объектах природы формируются у детей постепенно, в результат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ногократ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треч с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каждого наблюдения у детей должно сформировать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едставление или элементарное понят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том или ином объекте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4"/>
          <p:cNvSpPr/>
          <p:nvPr/>
        </p:nvSpPr>
        <p:spPr>
          <a:xfrm>
            <a:off x="3962520" y="2057400"/>
            <a:ext cx="990360" cy="7621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ие требования к наблюдени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наблюдение должно давать детя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ые зн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степен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сширяя и углубляя первоначальные представ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ведении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3"/>
          <p:cNvSpPr/>
          <p:nvPr/>
        </p:nvSpPr>
        <p:spPr>
          <a:xfrm>
            <a:off x="4724280" y="3809880"/>
            <a:ext cx="68580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ие требования к наблюдени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240" y="14475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должно способство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ю умственной и речевой активности дет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стигается разнообраз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должно вызывать у детей интерес к природе, желание узнать о ней как можно б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емы активизации умственн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90760" y="2174760"/>
            <a:ext cx="4800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кой конкретной и доступной задачи наблюд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м действий обследования как способа наблюд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чение детского опы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оваривание результатов наблюд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ением одного объекта с други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ъявление вопросов различной степени сл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ие требования к наблюдени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, полученные детьми в процессе наблюдений, должны закрепляться, уточняться, обобщаться и систематизироваться с помощью других форм и методов работы (рассказ воспитателя, чтение книг о природе, рисование, лепка, беседы об увиденн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draw03.jpg"/>
          <p:cNvPicPr/>
          <p:nvPr/>
        </p:nvPicPr>
        <p:blipFill>
          <a:blip r:embed="rId1"/>
          <a:stretch/>
        </p:blipFill>
        <p:spPr>
          <a:xfrm>
            <a:off x="6781680" y="4876920"/>
            <a:ext cx="1825920" cy="1593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699692701ed8.jpg"/>
          <p:cNvPicPr/>
          <p:nvPr/>
        </p:nvPicPr>
        <p:blipFill>
          <a:blip r:embed="rId2"/>
          <a:stretch/>
        </p:blipFill>
        <p:spPr>
          <a:xfrm>
            <a:off x="4419720" y="4267080"/>
            <a:ext cx="1828800" cy="247824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8" descr="85b5bf6d0b34.jpg"/>
          <p:cNvPicPr/>
          <p:nvPr/>
        </p:nvPicPr>
        <p:blipFill>
          <a:blip r:embed="rId3"/>
          <a:stretch/>
        </p:blipFill>
        <p:spPr>
          <a:xfrm>
            <a:off x="5181480" y="1371600"/>
            <a:ext cx="33829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изация наблюд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наблюдению привлекают небольшую группу детей, не занятых интересным делом (3-10 челов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временный характер наблюдения (3-5-7 ми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ение системы анализаторов (прикоснуться, попробовать на вкус, ощутить весовые различия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ение можно закончить дидактической игрой или трудовым поруч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ют задачи экологического развития – т.е. дают детям знания о закономерностях развития природных объектов, свойствах объектов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ы, развивающие восприятие, память, мышление. Содержание – природные объ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8288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ама и малы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ыло - стал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удесный мешоче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ткуда берется дерево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 речку или по грибы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шка» (игры-имит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ортируем семе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то где живет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2520" y="1371600"/>
            <a:ext cx="40417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ы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имен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4720" y="2742840"/>
            <a:ext cx="4041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азноцветная в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тонул? Достане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ождевые струй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едяные куб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ыращивание луков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ие физических закономерностей, познание свойств и возможностей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0" descr="www_umnichka_ua--66_1258023564.gif"/>
          <p:cNvPicPr/>
          <p:nvPr/>
        </p:nvPicPr>
        <p:blipFill>
          <a:blip r:embed="rId1"/>
          <a:stretch/>
        </p:blipFill>
        <p:spPr>
          <a:xfrm>
            <a:off x="3581280" y="1295280"/>
            <a:ext cx="11988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6840" y="380520"/>
            <a:ext cx="83818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енок с раннего детства исследует окружающий м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изна и яркость ранних впечатлений остаются на всю жиз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познаю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осредстве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" descr="X4GGyxfSIw4.jpg"/>
          <p:cNvPicPr/>
          <p:nvPr/>
        </p:nvPicPr>
        <p:blipFill>
          <a:blip r:embed="rId1"/>
          <a:stretch/>
        </p:blipFill>
        <p:spPr>
          <a:xfrm>
            <a:off x="5334120" y="4419720"/>
            <a:ext cx="3251160" cy="2165400"/>
          </a:xfrm>
          <a:prstGeom prst="rect">
            <a:avLst/>
          </a:prstGeom>
          <a:ln w="19080">
            <a:solidFill>
              <a:srgbClr val="2222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е колл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кция – собрание необычного, удивительного, нового для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ние и игры с коллекционным материалом только совместно со взросл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4" descr="f8_pinel_.jpg"/>
          <p:cNvPicPr/>
          <p:nvPr/>
        </p:nvPicPr>
        <p:blipFill>
          <a:blip r:embed="rId1"/>
          <a:srcRect l="0" t="0" r="0" b="6719"/>
          <a:stretch/>
        </p:blipFill>
        <p:spPr>
          <a:xfrm>
            <a:off x="4952880" y="4191120"/>
            <a:ext cx="354348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 чего состоит коллекц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кушки, перышки, листочки, шишки, камешки, семена, сухие плоды (желуди, каштаны), причудливые веточки и коре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тизация колле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ая/не 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сорные признаки (цвет, форма, размер, вес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4"/>
          <p:cNvSpPr/>
          <p:nvPr/>
        </p:nvSpPr>
        <p:spPr>
          <a:xfrm>
            <a:off x="914400" y="5029200"/>
            <a:ext cx="365760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ллекцию не должны включаться «мертвые» объекты (засушенные насеком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ть с коллекцие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атривание 1-2 экспонатов коллекции за один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ленно достаем и рассматриваем объ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ем объект ребенку для рассмот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ровождаем действия речью, привлекаем внимание к свойствам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4" descr="1312284878_blestyaschie-kamushki-14.jpg"/>
          <p:cNvPicPr/>
          <p:nvPr/>
        </p:nvPicPr>
        <p:blipFill>
          <a:blip r:embed="rId1"/>
          <a:stretch/>
        </p:blipFill>
        <p:spPr>
          <a:xfrm>
            <a:off x="5181480" y="39625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ы с коллекционным материал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ы с однородными предме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амый-самый» (камушки, шиш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дкий или шерша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Содержимое 9" descr="5.png"/>
          <p:cNvPicPr/>
          <p:nvPr/>
        </p:nvPicPr>
        <p:blipFill>
          <a:blip r:embed="rId1"/>
          <a:stretch/>
        </p:blipFill>
        <p:spPr>
          <a:xfrm>
            <a:off x="4419720" y="1523880"/>
            <a:ext cx="4365360" cy="2619360"/>
          </a:xfrm>
          <a:prstGeom prst="rect">
            <a:avLst/>
          </a:prstGeom>
          <a:ln w="0">
            <a:noFill/>
          </a:ln>
        </p:spPr>
      </p:pic>
      <p:sp>
        <p:nvSpPr>
          <p:cNvPr id="125" name="Скругленный прямоугольник 8"/>
          <p:cNvSpPr/>
          <p:nvPr/>
        </p:nvSpPr>
        <p:spPr>
          <a:xfrm>
            <a:off x="228600" y="4419720"/>
            <a:ext cx="251460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новление ассортимента камн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10" descr="63747313_1283914310_44.jpg"/>
          <p:cNvPicPr/>
          <p:nvPr/>
        </p:nvPicPr>
        <p:blipFill>
          <a:blip r:embed="rId2"/>
          <a:stretch/>
        </p:blipFill>
        <p:spPr>
          <a:xfrm>
            <a:off x="2895480" y="4495680"/>
            <a:ext cx="2768760" cy="20764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1" descr="kedrovaya_shishka-800x800.jpg"/>
          <p:cNvPicPr/>
          <p:nvPr/>
        </p:nvPicPr>
        <p:blipFill>
          <a:blip r:embed="rId3"/>
          <a:srcRect l="0" t="0" r="0" b="9454"/>
          <a:stretch/>
        </p:blipFill>
        <p:spPr>
          <a:xfrm>
            <a:off x="6114960" y="4495680"/>
            <a:ext cx="3029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амешки спряталис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ка-шн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ятствия (валик, плат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с корзинками ищут камушки, спрятанные педаго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нахождения камушка – рассказать – какой 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8" descr="item7Q.jpg"/>
          <p:cNvPicPr/>
          <p:nvPr/>
        </p:nvPicPr>
        <p:blipFill>
          <a:blip r:embed="rId1"/>
          <a:stretch/>
        </p:blipFill>
        <p:spPr>
          <a:xfrm>
            <a:off x="5791320" y="1219320"/>
            <a:ext cx="2971800" cy="26748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9" descr="04.jpg"/>
          <p:cNvPicPr/>
          <p:nvPr/>
        </p:nvPicPr>
        <p:blipFill>
          <a:blip r:embed="rId2"/>
          <a:stretch/>
        </p:blipFill>
        <p:spPr>
          <a:xfrm>
            <a:off x="4800600" y="4114800"/>
            <a:ext cx="28926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ы с разнородными объек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де же вы живет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тизация природных объ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: Макеты елки и берега мор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ный материал (шишки и камеш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еселые гор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: горки для скатывания предметов; камешки (округлые), шишки, желуди. Предметы различаются разме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дактическое задание (иг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ы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ижная 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5" descr="ev-unyy-ekolog-sistema-raboty-v-mladshey-gruppe-detskogo-sada-2-4-goda-nikolaeva.jpg"/>
          <p:cNvPicPr/>
          <p:nvPr/>
        </p:nvPicPr>
        <p:blipFill>
          <a:blip r:embed="rId1"/>
          <a:stretch/>
        </p:blipFill>
        <p:spPr>
          <a:xfrm>
            <a:off x="5238720" y="24336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вающая сред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ятельность детей в приро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ые материа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зные картинки, разделенные на 2-4 части по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бики с предметными картинками (4-6 частей) с изображением объектов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ы объемных и плоских игрушек: «Зоопарк», «Домашние животные», «Овощи», «Фрукт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дактические игры: «Кто что ест?», «Чей малыш?», «Времена года», «Пароч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ии сюжетных картин из 4 штук: времена года (природа и сезонная деятельность люд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бомы для рассматр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еты экологически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 растений…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ья, трава, цветы, овощи, фр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 к растениям проявляется у ребенка чаще, когда взрослые привлекают его внимание к ним, наблюдают их вместе с ребен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о помочь ребенку понять, как жизнь растения зависит от воды, тепла,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пешите ответить на вопросы, которые вы задаете ребенку. Очень важно, чтобы ребенок высказал свои предпо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ое растение сравнивать со знакомым по 1-2 признакам (цветет - не цветет, большие - маленькие листоч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ухода за растениями необходима яркая красивая леечка. Показать ребенку способы полива растений, помочь самому по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о вместе с ребенком чаще походить к растениям и каждый раз удивляться, восхищаться их крас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о специально учить ребенка всматриваться, любоваться, радоваться и восхищаться красотой мира природы, воспитывать наблюдательность и любознательность, доброе и бережное отношение к объектам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405404"/>
          <p:cNvPicPr/>
          <p:nvPr/>
        </p:nvPicPr>
        <p:blipFill>
          <a:blip r:embed="rId1"/>
          <a:stretch/>
        </p:blipFill>
        <p:spPr>
          <a:xfrm>
            <a:off x="4876920" y="3886200"/>
            <a:ext cx="388620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блюдение за цветущими раст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ения за цветущими растениями многократно повтор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ть окраску, размер, количество цветков (один или много), поню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ледующий день предложите ребенку самому посмотреть, как выглядит раст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дактические игры «Найди такой же», «Большие и маленькие», «Один и много»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ой можно выращивать овощные растения (лук, морковь, свеклу, петрушк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 животных…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ие и дикие животные, их детеныши, 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ые привлекают внимание ребенка своей подвижностью, динамичностью, издаваемыми звуками и другими интересными проявлениями (что и как едят, как передвигаются, где живу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ые нравятся детям многообразием окраски, размеров, форм, движений (яркая бабочка - окраска, птичка – полетом, звук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цвечивание листьев и листоп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ец с листочками, послушать как шуршат листья под ногами, посмотреть откуда слетают листья, поискать, кто рячется на земле под листьями, украсть листьями комнат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– как с деревьев падают листья, они разные по цвету, красивые. Цветов и травы становится все меньше. Птицы улетают. В наблюдениях за животными обращайте внимание на их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ы «Принеси листочек», «Собери листья желтого цвета», подвижные игры, чтение сти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з и холод, короткие дни, снег и 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ение за снегом: идет, падает, кружит, медленно опускается, ложится на дорожки, скамейки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снега: легкий, холодный, можно слепить комок. Рассмотреть снежинку. На теплой ладошке снег тает. Пушистый. Следы на сне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стихотворений, поте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с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овится теплее и светлее, тает снег, много воды, первая зе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нышко становится теп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ение за ручейками, лодочки для ручей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травка, чистые дорожки. Где-то еще снег, а где-то уже зем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цветы: мать-и-мачеха, подснежники, крокусы, одуванчики. Рассмотреть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жение впечатлений в рисунках, подел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т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атривание цветов (строение, цвет, размер, количество, запа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атривание плодов (величина, цвет, форма, вку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чего нужны растения в городе? Нарядный вид, очищение воздуха от пыли, аром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ение за насекомыми. Чтение стихотворений, потеш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ение за птицами (как летят, какие звуки издаю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 на различение и запоминание животных: «кто пришел?», «Кого не стало?», «Кто тебя позвал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ировку животных в пары по признаку: взрослое животное-детеныш «Чей малыш?», «Помоги найти мам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ленение характерных для животных повадок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то что ест?», «Кто клюет, а кто лает?» «Кто как кричит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удить у ребенка интерес к природе, к жизни растений и животных, к явлениям неживой природ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6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я сам отношусь к природе? Кто я – хозяин природы или ее часть? Могу ли я удивляться и радоваться при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66720" y="1599840"/>
            <a:ext cx="4496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о показывать детям свой интерес к природе, ее объектам и явлениям, желание познавать их; своим поведением доказывать, что вы не утратили способность удивляться и радоваться травке, птичкам, солнышку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43f2e2a4da1c30511af05db84774bd8a_full"/>
          <p:cNvPicPr/>
          <p:nvPr/>
        </p:nvPicPr>
        <p:blipFill>
          <a:blip r:embed="rId1"/>
          <a:stretch/>
        </p:blipFill>
        <p:spPr>
          <a:xfrm>
            <a:off x="1371600" y="4419720"/>
            <a:ext cx="28954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логическое воспитание в раннем возраст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ое воспитание – это формирование осознанно правильного отношения детей к объектам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 rot="20563200">
            <a:off x="1294920" y="4571640"/>
            <a:ext cx="281952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ллект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 rot="1657800">
            <a:off x="4952520" y="4495320"/>
            <a:ext cx="289584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2819520" y="3200400"/>
            <a:ext cx="289548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ст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ирование работы по формированию элементарных экологических представ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ственно образовательная деятельность – 1 раз в месяц. Наблюдения на прогулке – ежеднев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ая работа экологического содержания  в режимных момен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предметно-развивающей среды для самостоятельной деятельности детей (рассматривание иллюстраций, игрушки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родителями (рекомендации, творческие задания, конкурсы, наблюде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ГТ к структуре ООП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О «Безопас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формирование основ безопасности собственной жизнедеятельности и формировани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едпосылок экологического сознан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езопасности окружающего ми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14255898_IMG_1477.jpg"/>
          <p:cNvPicPr/>
          <p:nvPr/>
        </p:nvPicPr>
        <p:blipFill>
          <a:blip r:embed="rId1"/>
          <a:stretch/>
        </p:blipFill>
        <p:spPr>
          <a:xfrm>
            <a:off x="5562720" y="4343400"/>
            <a:ext cx="2719440" cy="2286000"/>
          </a:xfrm>
          <a:prstGeom prst="rect">
            <a:avLst/>
          </a:prstGeom>
          <a:ln w="31680">
            <a:solidFill>
              <a:srgbClr val="0046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овательных обла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ественное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ая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photo1.jpg"/>
          <p:cNvPicPr/>
          <p:nvPr/>
        </p:nvPicPr>
        <p:blipFill>
          <a:blip r:embed="rId1"/>
          <a:stretch/>
        </p:blipFill>
        <p:spPr>
          <a:xfrm>
            <a:off x="4800600" y="3962520"/>
            <a:ext cx="3487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ы и методы приобщения ребенка к природ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оянные, многократно повторяющие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блюд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 животными, растениями, объектами и явлениями неживой природы; трудом взрослого в природе, посильное учас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дактические игры, образные игры-ими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детских книг, поговорок, поте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na</dc:creator>
  <dc:description/>
  <dc:language>en-US</dc:language>
  <cp:lastModifiedBy>автор</cp:lastModifiedBy>
  <dcterms:modified xsi:type="dcterms:W3CDTF">2013-04-14T13:05:49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