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3F6-4180-4F00-92AC-B5A98705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B57-35A1-4748-BF58-CFC196E8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28C-F61F-4E83-9908-056035C4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AC7-43C1-4BA5-8CD9-D979A9AA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E893-0D94-4319-BF23-19D876FD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7250-7A9E-453B-BE69-E55079E7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EAF2-0357-4F65-9822-95902646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B238-E5A1-469B-886A-A5EBFAB8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B373-CAEF-4215-98DB-C1469EA8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E80B-AC46-450F-9024-CC069080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FAC6-4556-4C89-B04A-3819C503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1AC-497C-450C-9D2B-5BB716BD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696A-4443-426E-A6F3-D4DB0DD1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9E0E-2AF9-4F95-9F16-586FDF3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A79A-24B7-48FB-A08D-643131C6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8B7A-618B-4F5F-9C81-C0765EB2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5201-9980-4113-8953-69625A6F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9CC-CCB6-4743-937C-9E4F9A5C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90C-757C-4697-B877-C2758E28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8F3-3F34-4531-AB3D-9E52AB22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D0E-3406-4D22-8706-9E477B09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E294-C21F-4080-87DF-6C69E078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4A7-1ED5-43E6-90EB-48AA78E9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EBD-AC01-46F8-AD53-C509B9F5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1F27-D1DB-4876-B749-91AB3C80F9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0D88-64AC-4DA2-8B44-BCD1B8D492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82;&#1072;&#1074;&#1082;&#1072;&#1079;&#1100;&#1077;" TargetMode="External"/><Relationship Id="rId2" Type="http://schemas.openxmlformats.org/officeDocument/2006/relationships/hyperlink" Target="http://ru.wikipedia.org/wiki/&#1063;&#1077;&#1088;&#1085;&#1086;&#1084;&#1086;&#1088;&#1089;&#1082;&#1086;&#1077;_&#1087;&#1086;&#1073;&#1077;&#1088;&#1077;&#1078;&#1100;&#1077;_&#1050;&#1072;&#1074;&#1082;&#1072;&#1079;&#1072;" TargetMode="External"/><Relationship Id="rId3" Type="http://schemas.openxmlformats.org/officeDocument/2006/relationships/hyperlink" Target="http://ru.wikipedia.org/wiki/&#1063;&#1105;&#1088;&#1085;&#1086;&#1077;_&#1084;&#1086;&#1088;&#1077;" TargetMode="External"/><Relationship Id="rId4" Type="http://schemas.openxmlformats.org/officeDocument/2006/relationships/hyperlink" Target="http://ru.wikipedia.org/wiki/&#1060;&#1072;&#1081;&#1083;:Europe_Location_Georgia_uncontrolled_highlighted.sv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ru.wikipedia.org/wiki/&#1040;&#1088;&#1084;&#1077;&#1085;&#1080;&#1103;" TargetMode="External"/><Relationship Id="rId7" Type="http://schemas.openxmlformats.org/officeDocument/2006/relationships/hyperlink" Target="http://ru.wikipedia.org/wiki/&#1058;&#1091;&#1088;&#1094;&#1080;&#1103;" TargetMode="External"/><Relationship Id="rId8" Type="http://schemas.openxmlformats.org/officeDocument/2006/relationships/hyperlink" Target="http://ru.wikipedia.org/wiki/&#1040;&#1079;&#1077;&#1088;&#1073;&#1072;&#1081;&#1076;&#1078;&#1072;&#1085;" TargetMode="External"/><Relationship Id="rId9" Type="http://schemas.openxmlformats.org/officeDocument/2006/relationships/hyperlink" Target="http://ru.wikipedia.org/wiki/&#1056;&#1086;&#1089;&#1089;&#1080;&#1103;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Georgia.sv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ru.wikipedia.org/wiki/&#1060;&#1072;&#1081;&#1083;:Greater_coat_of_arms_of_Georgia.s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2_&#1075;&#1086;&#1076;" TargetMode="External"/><Relationship Id="rId2" Type="http://schemas.openxmlformats.org/officeDocument/2006/relationships/hyperlink" Target="http://ru.wikipedia.org/wiki/&#1043;&#1088;&#1091;&#1079;&#1080;&#1085;&#1099;" TargetMode="External"/><Relationship Id="rId3" Type="http://schemas.openxmlformats.org/officeDocument/2006/relationships/hyperlink" Target="http://ru.wikipedia.org/wiki/&#1040;&#1079;&#1077;&#1088;&#1073;&#1072;&#1081;&#1076;&#1078;&#1072;&#1085;&#1094;&#1099;" TargetMode="External"/><Relationship Id="rId4" Type="http://schemas.openxmlformats.org/officeDocument/2006/relationships/hyperlink" Target="http://ru.wikipedia.org/wiki/&#1040;&#1088;&#1084;&#1103;&#1085;&#1077;" TargetMode="External"/><Relationship Id="rId5" Type="http://schemas.openxmlformats.org/officeDocument/2006/relationships/hyperlink" Target="http://ru.wikipedia.org/wiki/&#1056;&#1091;&#1089;&#1089;&#1082;&#1080;&#1077;" TargetMode="External"/><Relationship Id="rId6" Type="http://schemas.openxmlformats.org/officeDocument/2006/relationships/hyperlink" Target="http://ru.wikipedia.org/wiki/&#1054;&#1089;&#1077;&#1090;&#1080;&#1085;&#1099;" TargetMode="External"/><Relationship Id="rId7" Type="http://schemas.openxmlformats.org/officeDocument/2006/relationships/hyperlink" Target="http://ru.wikipedia.org/wiki/&#1043;&#1088;&#1077;&#1082;&#1080;" TargetMode="External"/><Relationship Id="rId8" Type="http://schemas.openxmlformats.org/officeDocument/2006/relationships/hyperlink" Target="http://ru.wikipedia.org/wiki/&#1063;&#1077;&#1095;&#1077;&#1085;&#1094;&#1099;" TargetMode="External"/><Relationship Id="rId9" Type="http://schemas.openxmlformats.org/officeDocument/2006/relationships/hyperlink" Target="http://ru.wikipedia.org/wiki/&#1050;&#1080;&#1089;&#1090;&#1080;&#1085;&#1094;&#1099;" TargetMode="External"/><Relationship Id="rId10" Type="http://schemas.openxmlformats.org/officeDocument/2006/relationships/hyperlink" Target="http://ru.wikipedia.org/wiki/&#1059;&#1082;&#1088;&#1072;&#1080;&#1085;&#1094;&#1099;" TargetMode="External"/><Relationship Id="rId11" Type="http://schemas.openxmlformats.org/officeDocument/2006/relationships/hyperlink" Target="http://ru.wikipedia.org/wiki/&#1040;&#1089;&#1089;&#1080;&#1088;&#1080;&#1081;&#1094;&#1099;" TargetMode="External"/><Relationship Id="rId12" Type="http://schemas.openxmlformats.org/officeDocument/2006/relationships/hyperlink" Target="http://ru.wikipedia.org/wiki/&#1040;&#1074;&#1072;&#1088;&#1094;&#1099;" TargetMode="External"/><Relationship Id="rId13" Type="http://schemas.openxmlformats.org/officeDocument/2006/relationships/hyperlink" Target="http://ru.wikipedia.org/wiki/&#1040;&#1073;&#1093;&#1072;&#1079;&#1099;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43;&#1088;&#1091;&#1079;&#1080;&#1080;" TargetMode="External"/><Relationship Id="rId2" Type="http://schemas.openxmlformats.org/officeDocument/2006/relationships/hyperlink" Target="http://ru.wikipedia.org/wiki/&#1055;&#1072;&#1088;&#1083;&#1072;&#1084;&#1077;&#1085;&#1090;_&#1043;&#1088;&#1091;&#1079;&#1080;&#1080;" TargetMode="External"/><Relationship Id="rId3" Type="http://schemas.openxmlformats.org/officeDocument/2006/relationships/hyperlink" Target="http://ru.wikipedia.org/wiki/&#1060;&#1072;&#1081;&#1083;:Mikhail_Saakashvili,_Davos_(cropped).jp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ru.wikipedia.org/wiki/&#1060;&#1072;&#1081;&#1083;:Parliament_of_Georgia_in_Rustaveli_Avenue,_Tbilisi.JP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4;&#1090;&#1086;&#1085;&#1086;&#1084;&#1085;&#1072;&#1103;_&#1056;&#1077;&#1089;&#1087;&#1091;&#1073;&#1083;&#1080;&#1082;&#1072;_&#1040;&#1073;&#1093;&#1072;&#1079;&#1080;&#1103;" TargetMode="External"/><Relationship Id="rId2" Type="http://schemas.openxmlformats.org/officeDocument/2006/relationships/hyperlink" Target="http://ru.wikipedia.org/wiki/&#1040;&#1073;&#1093;&#1072;&#1079;&#1080;&#1103;" TargetMode="External"/><Relationship Id="rId3" Type="http://schemas.openxmlformats.org/officeDocument/2006/relationships/hyperlink" Target="http://ru.wikipedia.org/wiki/&#1056;&#1077;&#1089;&#1087;&#1091;&#1073;&#1083;&#1080;&#1082;&#1072;_&#1070;&#1078;&#1085;&#1072;&#1103;_&#1054;&#1089;&#1077;&#1090;&#1080;&#1103;" TargetMode="External"/><Relationship Id="rId4" Type="http://schemas.openxmlformats.org/officeDocument/2006/relationships/hyperlink" Target="http://ru.wikipedia.org/wiki/&#1052;&#1091;&#1085;&#1080;&#1094;&#1080;&#1087;&#1072;&#1083;&#1080;&#1090;&#1077;&#1090;&#1099;_&#1043;&#1088;&#1091;&#1079;&#1080;&#1080;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82;&#1072;&#1074;&#1082;&#1072;&#1079;&#1100;&#1077;" TargetMode="External"/><Relationship Id="rId2" Type="http://schemas.openxmlformats.org/officeDocument/2006/relationships/hyperlink" Target="http://ru.wikipedia.org/wiki/&#1057;&#1088;&#1077;&#1076;&#1080;&#1079;&#1077;&#1084;&#1085;&#1086;&#1084;&#1086;&#1088;&#1100;&#1077;" TargetMode="External"/><Relationship Id="rId3" Type="http://schemas.openxmlformats.org/officeDocument/2006/relationships/hyperlink" Target="http://ru.wikipedia.org/wiki/&#1055;&#1077;&#1088;&#1077;&#1076;&#1085;&#1103;&#1103;_&#1040;&#1079;&#1080;&#1103;" TargetMode="External"/><Relationship Id="rId4" Type="http://schemas.openxmlformats.org/officeDocument/2006/relationships/hyperlink" Target="http://ru.wikipedia.org/wiki/&#1051;&#1072;&#1085;&#1076;&#1096;&#1072;&#1092;&#1090;" TargetMode="External"/><Relationship Id="rId5" Type="http://schemas.openxmlformats.org/officeDocument/2006/relationships/hyperlink" Target="http://ru.wikipedia.org/wiki/&#1060;&#1072;&#1081;&#1083;:Georgia_topographic_map-fr.sv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Zhinvali_reservoir.jp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/index.php?title=&#1046;&#1080;&#1085;&#1074;&#1072;&#1083;&#1100;&#1089;&#1082;&#1086;&#1077;_&#1074;&#1086;&#1076;&#1086;&#1093;&#1088;&#1072;&#1085;&#1080;&#1083;&#1080;&#1097;&#1077;&amp;action=edit&amp;redlink=1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i="1" lang="ru-RU" sz="6600" spc="-1" strike="noStrike">
                <a:solidFill>
                  <a:srgbClr val="330033"/>
                </a:solidFill>
                <a:latin typeface="Traditional Arabic"/>
              </a:rPr>
              <a:t>ГРУЗИЯ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radley Hand ITC"/>
              </a:rPr>
              <a:t>Струкова Светл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алюта и внешняя торгов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иальной валютой на территории Грузии является ла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яя торговля Грузии характеризуется отрицательным торговым балансом, импорт в несколько раз превышает эк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51" descr="http://upload.wikimedia.org/wikipedia/commons/thumb/0/05/200_%D0%BB%D0%B0%D1%80%D0%B8.JPG/220px-200_%D0%BB%D0%B0%D1%80%D0%B8.JPG"/>
          <p:cNvPicPr/>
          <p:nvPr/>
        </p:nvPicPr>
        <p:blipFill>
          <a:blip r:embed="rId1"/>
          <a:stretch/>
        </p:blipFill>
        <p:spPr>
          <a:xfrm>
            <a:off x="5135400" y="2208240"/>
            <a:ext cx="3426120" cy="345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Конфликт в Южной Осетии стал причиной ухудшения отношения россиян к Грузии и грузин к Российской Федерации. В то же самое время, кризис в отношениях руководства двух стран не повлиял на межличностные отношения грузин и русских – народы этих стран в массе своей по-прежнему относятся друг к другу с симпатией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онументальный символ суверенитета Грузии – площадь свободы, Памятник Свобод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1" descr="http://im5-tub-ru.yandex.net/i?id=7375788-30-72"/>
          <p:cNvPicPr/>
          <p:nvPr/>
        </p:nvPicPr>
        <p:blipFill>
          <a:blip r:embed="rId1"/>
          <a:stretch/>
        </p:blipFill>
        <p:spPr>
          <a:xfrm>
            <a:off x="1187280" y="333360"/>
            <a:ext cx="7129800" cy="62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Со средних веков центральная площадь Тифлиса (Тбилиси) называлась Гостиничной. В 1827 г. она была переименована царской администрацией в площадь Эриванского ( в честь генерала Ивана Федоровича Паскевича, графа Эриванского) , в советское время сначала носили имя Л.П.Берия, затем – В.И.Ленина. После получения Грузией независимости _ площадь Свободы. Эта площадь неоднократно становилась местом массовых выступлений, в советское время – за независимость Грузии от СССР, в годы суверенной Грузии – против президентов Звиада Гамсахурдия ( 1991 – 1992 гг.) и Эдуарда Шеварнадзе ( 2003 г. «революция роз»). В советское время на площади стоял памятник  Ленину. 23 ноября 2006 г. был открыт созданный проживающим в Москве Зурабом Церетели памятник Свободе. На вершине колоны – золотая конная статуя небесного покровителя Грузии святого Геогргия, убивающего дракона. 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http://im3-tub-ru.yandex.net/i?id=391397346-04-72"/>
          <p:cNvPicPr/>
          <p:nvPr/>
        </p:nvPicPr>
        <p:blipFill>
          <a:blip r:embed="rId1"/>
          <a:stretch/>
        </p:blipFill>
        <p:spPr>
          <a:xfrm>
            <a:off x="1258920" y="549360"/>
            <a:ext cx="7416720" cy="597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</a:t>
            </a:r>
            <a:r>
              <a:rPr b="1" i="1" lang="ru-RU" sz="3600" spc="-1" strike="noStrike">
                <a:solidFill>
                  <a:srgbClr val="990033"/>
                </a:solidFill>
                <a:latin typeface="Broadway"/>
              </a:rPr>
              <a:t>Г Р У З И Я – </a:t>
            </a:r>
            <a:r>
              <a:rPr b="1" i="1" lang="ru-RU" sz="2000" spc="-1" strike="noStrike">
                <a:solidFill>
                  <a:srgbClr val="990033"/>
                </a:solidFill>
                <a:latin typeface="Broadway"/>
              </a:rPr>
              <a:t>государство</a:t>
            </a:r>
            <a:r>
              <a:rPr b="1" i="1" lang="ru-RU" sz="1800" spc="-1" strike="noStrike">
                <a:solidFill>
                  <a:srgbClr val="990033"/>
                </a:solidFill>
                <a:latin typeface="Broadway"/>
              </a:rPr>
              <a:t>,  расположенное </a:t>
            </a:r>
            <a:r>
              <a:rPr b="1" i="1" lang="ru-RU" sz="1800" spc="-1" strike="noStrike">
                <a:solidFill>
                  <a:srgbClr val="330033"/>
                </a:solidFill>
                <a:latin typeface="Times New Roman"/>
              </a:rPr>
              <a:t>в западной части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Закавказья</a:t>
            </a:r>
            <a:r>
              <a:rPr b="1" i="1" lang="ru-RU" sz="1800" spc="-1" strike="noStrike">
                <a:solidFill>
                  <a:srgbClr val="330033"/>
                </a:solidFill>
                <a:latin typeface="Times New Roman"/>
              </a:rPr>
              <a:t> на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восточном побережье</a:t>
            </a:r>
            <a:r>
              <a:rPr b="1" i="1" lang="ru-RU" sz="1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Times New Roman"/>
                <a:hlinkClick r:id="rId3"/>
              </a:rPr>
              <a:t>Чёрного моря</a:t>
            </a:r>
            <a:r>
              <a:rPr b="1" i="1" lang="ru-RU" sz="1800" spc="-1" strike="noStrike">
                <a:solidFill>
                  <a:srgbClr val="330033"/>
                </a:solidFill>
                <a:latin typeface="Times New Roman"/>
              </a:rPr>
              <a:t>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Рисунок 4" descr="Europe Location Georgia uncontrolled highlighted.sv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1989000"/>
            <a:ext cx="5112000" cy="4248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56000" y="414972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ёрное мо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659640" y="2060640"/>
            <a:ext cx="1511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узия  граничит с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Армени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Турци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а юге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Азербайджано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а юго-востоке и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Росси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а севе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348000" y="2708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771640" y="4581360"/>
            <a:ext cx="10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843280" y="4724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284720" y="443700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зербайдж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924360" y="458136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рм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мволика      государ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Рисунок 5" descr="http://upload.wikimedia.org/wikipedia/commons/thumb/0/0f/Flag_of_Georgia.svg/300px-Flag_of_Georgia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130480"/>
            <a:ext cx="2854440" cy="190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Rectangle 6"/>
          <p:cNvSpPr/>
          <p:nvPr/>
        </p:nvSpPr>
        <p:spPr>
          <a:xfrm>
            <a:off x="1928880" y="2890800"/>
            <a:ext cx="142884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http://upload.wikimedia.org/wikipedia/commons/thumb/9/94/Greater_coat_of_arms_of_Georgia.svg/300px-Greater_coat_of_arms_of_Georgia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916280"/>
            <a:ext cx="2857680" cy="2495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5292720" y="4437000"/>
            <a:ext cx="23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ძალაერთობაშია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щитом находится лента с девизо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Сила в единств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332000" y="4437000"/>
            <a:ext cx="2952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ხუთჯვრიანიდროშა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Пятикрестный фла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селение Груз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000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численность населения  — 4 615 807 человек. По переписи населения в Грузии в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2002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 4 369 579 жителей) проживают следующие национальные группы —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груз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83,7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азербайджан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6,5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армя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5,7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рус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,5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осет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,9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гре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,3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чечен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кистин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,2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украин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,2 %)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1"/>
              </a:rPr>
              <a:t>ассирий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2"/>
              </a:rPr>
              <a:t>авар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абхаз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ределами Грузии проживает более 1,6 млн грузин (25,7 %), в эти 1,6 млн не входят грузины, проживающие в Азербайджане (14,9 тыс.) и Турции (1,5 млн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литическое устрой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нительная власть сосредоточена в руках  </a:t>
            </a:r>
            <a:r>
              <a:rPr b="0" lang="ru-RU" sz="1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Президе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хаила Саакашв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одательная власть представлена однопалатным 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парламентом Груз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арламент является высшим законодательным орга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5" descr="http://upload.wikimedia.org/wikipedia/commons/thumb/9/96/Mikhail_Saakashvili%2C_Davos_%28cropped%29.jpg/200px-Mikhail_Saakashvili%2C_Davos_%28cropped%2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1557360"/>
            <a:ext cx="1905120" cy="21528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7" descr="http://upload.wikimedia.org/wikipedia/commons/thumb/d/da/Parliament_of_Georgia_in_Rustaveli_Avenue%2C_Tbilisi.JPG/295px-Parliament_of_Georgia_in_Rustaveli_Avenue%2C_Tbilisi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18280" y="3940200"/>
            <a:ext cx="2923920" cy="21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Административно-территориальное дел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дминистративном отношении территория Грузии включает 2 автономные республики: Абхазию и Аджарию, и 10 краёв . Территория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Автономной Республики Абха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нтролируются самостоятельными республиками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Абха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Южная Осе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ветственно. Края и автономные республики подразделяются на 55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муниципалит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еографическое полож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225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ия расположена в центральной и западной  части </a:t>
            </a: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Закавказь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её площадь составляет     69 700 к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ные условия крайне разнообраз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оложение Грузии на рубеже полувлажного </a:t>
            </a: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Средиземноморь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нагорий </a:t>
            </a: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Передней Аз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 континентальным климатом обусловило разнообразие </a:t>
            </a: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ландшаф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природного и растительного ми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ия располагает широкой гаммой полезных ископаемых и месторождениями минеральных вод; уникальны по своим характеристикам рекреационные ресурсы - горные и морские куро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1" descr="http://upload.wikimedia.org/wikipedia/commons/thumb/f/fa/Georgia_topographic_map-fr.svg/300px-Georgia_topographic_map-fr.svg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6000" y="2133720"/>
            <a:ext cx="3961080" cy="332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одные ресурс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08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чная сеть развита неравномерно. Реки Грузии принадлежат двум бассейнам — Черноморскому (75 % стока) и Каспийскому (25 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дая быстрым течением, горные реки замерзают редк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зия богата гидроэнергоресурсами. На многих горных реках сооружены каскады ГЭС, построены водохран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5" descr="http://upload.wikimedia.org/wikipedia/commons/thumb/c/c0/Zhinvali_reservoir.jpg/300px-Zhinvali_reservoi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628640"/>
            <a:ext cx="2859120" cy="2143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651640" y="393372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Жинвальское  водохранилищ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Араг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храняемые территор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ерритории Грузии находится 14 государственных заповедников, 8 национальных парков, 12 охраняемых территорий, 14 природных памятников и 2 защищённых ландшафта.   Первая защищённая территория в Грузии появилась в 1912 году. Сегодня защищённые территории составляют 7 % от территории Грузии (384 684га). Около 75 % защищённых территорий занимают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6:07:32Z</dcterms:created>
  <dc:creator>Света</dc:creator>
  <dc:description/>
  <dc:language>en-US</dc:language>
  <cp:lastModifiedBy>школа 0</cp:lastModifiedBy>
  <dcterms:modified xsi:type="dcterms:W3CDTF">2012-01-19T04:55:12Z</dcterms:modified>
  <cp:revision>5</cp:revision>
  <dc:subject/>
  <dc:title> </dc:title>
</cp:coreProperties>
</file>