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2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1.jpeg" ContentType="image/jpeg"/>
  <Override PartName="/ppt/media/image7.wmf" ContentType="image/x-wmf"/>
  <Override PartName="/ppt/media/image10.wmf" ContentType="image/x-wmf"/>
  <Override PartName="/ppt/media/image6.png" ContentType="image/png"/>
  <Override PartName="/ppt/media/image5.wmf" ContentType="image/x-wmf"/>
  <Override PartName="/ppt/media/image21.jpeg" ContentType="image/jpeg"/>
  <Override PartName="/ppt/media/image16.png" ContentType="image/png"/>
  <Override PartName="/ppt/media/image20.gif" ContentType="image/gif"/>
  <Override PartName="/ppt/media/image19.gif" ContentType="image/gif"/>
  <Override PartName="/ppt/media/image4.wmf" ContentType="image/x-wmf"/>
  <Override PartName="/ppt/media/image18.png" ContentType="image/png"/>
  <Override PartName="/ppt/media/image17.png" ContentType="image/png"/>
  <Override PartName="/ppt/media/image15.png" ContentType="image/png"/>
  <Override PartName="/ppt/media/image14.jpeg" ContentType="image/jpeg"/>
  <Override PartName="/ppt/media/image1.jpeg" ContentType="image/jpeg"/>
  <Override PartName="/ppt/media/image22.jpeg" ContentType="image/jpeg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F627B-53C6-4116-A1D5-98B89E86721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9A17A-FF8A-425F-A0DC-28D18B8FDD84}" type="slidenum">
              <a:rPr b="0" lang="ru-RU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B5884-8627-4125-9624-C27468235D82}" type="slidenum">
              <a:rPr b="0" lang="ru-RU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DFA50-ACCF-48FD-A5B4-9A5064D95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BCF53-46A1-430B-9131-BDFCA6468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FFA8C-5409-430A-84B3-B1609C72B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3033C-4A19-40A4-887F-054EF5654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5A5C9-C3EC-4217-897A-C26AB89C9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9C9E4-953E-45DF-B577-BE0C683B9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B9263-2B89-4A30-8DAC-714D9EA15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2DE66-B05D-4013-88D1-696A33B61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50F7B-EEC7-47C8-A251-5A5C97B5A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AA129-B24D-4FEF-BBF7-07C1A9E80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6B032-54B1-4B7C-9EB1-28CDE002B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5F089-0431-448E-9ED9-331F2DA98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18549-5263-4BF4-BB8C-603AF0C7E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D4CD3-B4D5-42F6-8B31-B5B6B31EF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8461B-5E7F-496F-AA6B-B4807A10B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7B207-7DD7-4E0F-AD4F-871D18873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D02B5-C90F-408A-9C98-03D3BA5CF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9D164-52A1-4DA0-AC14-7E7EFC198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B483C-5C8E-4FC0-B8E7-E7651B82C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9E942-ACE5-4E6E-BA50-9E9C5B471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8C3E5-9466-44A2-B53F-BD2587B66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47E35-C0C6-4A42-B676-F56A10CC9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6000D-DF83-40E6-A1A8-28CEDF58B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0975E-E47B-443C-B05F-9ED19F6A6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05AE2-31BF-44AA-8D3E-387411F9939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4EEB5-B701-42C3-8868-7C73E56D7D7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20.gif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png"/><Relationship Id="rId5" Type="http://schemas.openxmlformats.org/officeDocument/2006/relationships/image" Target="../media/image7.wmf"/><Relationship Id="rId6" Type="http://schemas.openxmlformats.org/officeDocument/2006/relationships/image" Target="../media/image8.wmf"/><Relationship Id="rId7" Type="http://schemas.openxmlformats.org/officeDocument/2006/relationships/image" Target="../media/image9.wmf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5" descr="0a2446eea378dac32a93eb6b711622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2050920" y="3357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Игра – это огромное светлое окно, через которое в духовный мир ребенка вливается живительный поток представлений, понятий об окружающем мире. Игра – это искра, зажигающая огонек пытливости и любознательности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В.А.Сухомлинский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WordArt 6"/>
          <p:cNvSpPr txBox="1"/>
          <p:nvPr/>
        </p:nvSpPr>
        <p:spPr>
          <a:xfrm>
            <a:off x="971640" y="1700280"/>
            <a:ext cx="712944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Игровые технологии</a:t>
            </a:r>
            <a:endParaRPr b="1" lang="en-US" sz="4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3" name=""/>
          <p:cNvGraphicFramePr/>
          <p:nvPr/>
        </p:nvGraphicFramePr>
        <p:xfrm>
          <a:off x="539640" y="620640"/>
          <a:ext cx="3772080" cy="3657600"/>
        </p:xfrm>
        <a:graphic>
          <a:graphicData uri="http://schemas.openxmlformats.org/drawingml/2006/table">
            <a:tbl>
              <a:tblPr/>
              <a:tblGrid>
                <a:gridCol w="628920"/>
                <a:gridCol w="628560"/>
                <a:gridCol w="628560"/>
                <a:gridCol w="628560"/>
                <a:gridCol w="628920"/>
                <a:gridCol w="628560"/>
              </a:tblGrid>
              <a:tr h="52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П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П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4" name=""/>
          <p:cNvGraphicFramePr/>
          <p:nvPr/>
        </p:nvGraphicFramePr>
        <p:xfrm>
          <a:off x="4716360" y="2565360"/>
          <a:ext cx="3772080" cy="3657600"/>
        </p:xfrm>
        <a:graphic>
          <a:graphicData uri="http://schemas.openxmlformats.org/drawingml/2006/table">
            <a:tbl>
              <a:tblPr/>
              <a:tblGrid>
                <a:gridCol w="647640"/>
                <a:gridCol w="648000"/>
                <a:gridCol w="590400"/>
                <a:gridCol w="628560"/>
                <a:gridCol w="628920"/>
                <a:gridCol w="628560"/>
              </a:tblGrid>
              <a:tr h="52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П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Ю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П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П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94920" y="259920"/>
            <a:ext cx="777708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703dff"/>
                </a:solidFill>
                <a:latin typeface="Comic Sans MS"/>
              </a:rPr>
              <a:t>Дерево чудес</a:t>
            </a:r>
            <a:br>
              <a:rPr sz="4000"/>
            </a:br>
            <a:r>
              <a:rPr b="1" i="1" lang="ru-RU" sz="4000" spc="-1" strike="noStrike">
                <a:solidFill>
                  <a:srgbClr val="703dff"/>
                </a:solidFill>
                <a:latin typeface="Comic Sans MS"/>
              </a:rPr>
              <a:t>(шоссе синтаксиса и пунктуации)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23640" y="2492280"/>
            <a:ext cx="828036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Расставьте слова так, чтобы получилось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редложение, объясните знак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репинания, укажите грамматическую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основу предложения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4" descr="MC900088606[1]"/>
          <p:cNvPicPr/>
          <p:nvPr/>
        </p:nvPicPr>
        <p:blipFill>
          <a:blip r:embed="rId1"/>
          <a:stretch/>
        </p:blipFill>
        <p:spPr>
          <a:xfrm>
            <a:off x="539640" y="260280"/>
            <a:ext cx="3308400" cy="404676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5" descr="MC900088606[1]"/>
          <p:cNvPicPr/>
          <p:nvPr/>
        </p:nvPicPr>
        <p:blipFill>
          <a:blip r:embed="rId2"/>
          <a:stretch/>
        </p:blipFill>
        <p:spPr>
          <a:xfrm>
            <a:off x="5076720" y="2133720"/>
            <a:ext cx="3036960" cy="3713040"/>
          </a:xfrm>
          <a:prstGeom prst="rect">
            <a:avLst/>
          </a:prstGeom>
          <a:ln w="0">
            <a:noFill/>
          </a:ln>
        </p:spPr>
      </p:pic>
      <p:sp>
        <p:nvSpPr>
          <p:cNvPr id="199" name="Text Box 6"/>
          <p:cNvSpPr/>
          <p:nvPr/>
        </p:nvSpPr>
        <p:spPr>
          <a:xfrm>
            <a:off x="1547640" y="620640"/>
            <a:ext cx="12240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хвойных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Text Box 7"/>
          <p:cNvSpPr/>
          <p:nvPr/>
        </p:nvSpPr>
        <p:spPr>
          <a:xfrm>
            <a:off x="900000" y="1557360"/>
            <a:ext cx="8654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сосн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Text Box 8"/>
          <p:cNvSpPr/>
          <p:nvPr/>
        </p:nvSpPr>
        <p:spPr>
          <a:xfrm>
            <a:off x="2556000" y="1557360"/>
            <a:ext cx="10080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дерево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Text Box 9"/>
          <p:cNvSpPr/>
          <p:nvPr/>
        </p:nvSpPr>
        <p:spPr>
          <a:xfrm>
            <a:off x="1476360" y="2708280"/>
            <a:ext cx="13669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семейств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Text Box 10"/>
          <p:cNvSpPr/>
          <p:nvPr/>
        </p:nvSpPr>
        <p:spPr>
          <a:xfrm>
            <a:off x="6084720" y="2421000"/>
            <a:ext cx="100836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ставьте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Text Box 11"/>
          <p:cNvSpPr/>
          <p:nvPr/>
        </p:nvSpPr>
        <p:spPr>
          <a:xfrm>
            <a:off x="5292720" y="3068640"/>
            <a:ext cx="10796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кресло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Text Box 12"/>
          <p:cNvSpPr/>
          <p:nvPr/>
        </p:nvSpPr>
        <p:spPr>
          <a:xfrm>
            <a:off x="6948360" y="3068640"/>
            <a:ext cx="8636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сумки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Text Box 13"/>
          <p:cNvSpPr/>
          <p:nvPr/>
        </p:nvSpPr>
        <p:spPr>
          <a:xfrm>
            <a:off x="5940360" y="3860640"/>
            <a:ext cx="12970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товарищи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Text Box 14"/>
          <p:cNvSpPr/>
          <p:nvPr/>
        </p:nvSpPr>
        <p:spPr>
          <a:xfrm>
            <a:off x="6877080" y="5229360"/>
            <a:ext cx="5763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н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Text Box 15"/>
          <p:cNvSpPr/>
          <p:nvPr/>
        </p:nvSpPr>
        <p:spPr>
          <a:xfrm>
            <a:off x="5508720" y="4365720"/>
            <a:ext cx="5760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не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755640" y="476280"/>
            <a:ext cx="702144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703dff"/>
                </a:solidFill>
                <a:latin typeface="Comic Sans MS"/>
              </a:rPr>
              <a:t>Творческая игра «Я работаю поэтом»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94920" y="1197000"/>
            <a:ext cx="79866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Учитель, играя, учит рифмовать слова (кот- крот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гость - гвоздь),а затем дает два рифмующихся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слова (снеговика - уголька, носа - эскимоса) и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редлагает интересно, оригинально, остроумно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одобрать недостающие слова .Разобрать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некоторые слова по составу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Comic Sans MS"/>
              </a:rPr>
              <a:t>Слепили мы снеговика.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Comic Sans MS"/>
              </a:rPr>
              <a:t>Морковка вместо носа.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Comic Sans MS"/>
              </a:rPr>
              <a:t>Глаза его из уголька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Comic Sans MS"/>
              </a:rPr>
              <a:t>И как у эскимоса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1384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703dff"/>
                </a:solidFill>
                <a:latin typeface="Comic Sans MS"/>
              </a:rPr>
              <a:t>Игры - соревнования "Бей ответом, как мячом, прямо в цель", "Футбол"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250560" y="1844640"/>
            <a:ext cx="8893080" cy="38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 этих играх используются задания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о морфемному анализу и конструкци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слов. Класс делится на 3 команды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обеждает та команда, которая быстро 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равильно выполнит задание. В игре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используется мяч. Итог – количество голов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-360" y="259920"/>
            <a:ext cx="817236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703dff"/>
                </a:solidFill>
                <a:latin typeface="Comic Sans MS"/>
              </a:rPr>
              <a:t>Отгадывание сказки - загадки "Большая родня".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8569440" cy="554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Жил-был корень, обычный, не очень сложный, но очень древний. З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долгую жизнь обзавелся он большой семьей. Тут и существительные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omic Sans MS"/>
              </a:rPr>
              <a:t>стройка, строитель, строительство, строение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и прилагательные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omic Sans MS"/>
              </a:rPr>
              <a:t>строительный, строевой,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и глаголы :</a:t>
            </a:r>
            <a:r>
              <a:rPr b="0" i="1" lang="ru-RU" sz="1800" spc="-1" strike="noStrike">
                <a:solidFill>
                  <a:srgbClr val="000000"/>
                </a:solidFill>
                <a:latin typeface="Comic Sans MS"/>
              </a:rPr>
              <a:t>строить, строиться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Видятся родные и близкие нечасто, письма писать некогда, вот и решил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наш старец собрать всю свою большую родню. Разослал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пригласительные открытки. Первыми откликнулись братья – глаголы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omic Sans MS"/>
              </a:rPr>
              <a:t>строить и строиться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с семействами. Не заставили себя ждать долго и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остальные. Явились. Выстроились. Все как на подбор, любят дело делать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у каждого для того своя приставка имеется: у кого </a:t>
            </a:r>
            <a:r>
              <a:rPr b="0" i="1" lang="ru-RU" sz="1800" spc="-1" strike="noStrike">
                <a:solidFill>
                  <a:srgbClr val="000000"/>
                </a:solidFill>
                <a:latin typeface="Comic Sans MS"/>
              </a:rPr>
              <a:t>вы,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у кого </a:t>
            </a:r>
            <a:r>
              <a:rPr b="0" i="1" lang="ru-RU" sz="1800" spc="-1" strike="noStrike">
                <a:solidFill>
                  <a:srgbClr val="000000"/>
                </a:solidFill>
                <a:latin typeface="Comic Sans MS"/>
              </a:rPr>
              <a:t>до,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есть и </a:t>
            </a:r>
            <a:r>
              <a:rPr b="0" i="1" lang="ru-RU" sz="1800" spc="-1" strike="noStrike">
                <a:solidFill>
                  <a:srgbClr val="000000"/>
                </a:solidFill>
                <a:latin typeface="Comic Sans MS"/>
              </a:rPr>
              <a:t>за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omic Sans MS"/>
              </a:rPr>
              <a:t>на, от, по, од, при.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Порадовался гостеприимный хозяин, возгордился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"Молодцы, родственники, вон какую богатую коллекцию приставок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собрали! «Глаголы деловые, энергичные. И сегодня работают, и в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прошедшем потрудились они на славу, и о будущем не забывают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Существительные от них не отстают - спешат в гости к деду. У них и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приставок много, и суффиксами они не бедны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684360" y="112536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703dff"/>
                </a:solidFill>
                <a:uFillTx/>
                <a:latin typeface="Comic Sans MS"/>
              </a:rPr>
              <a:t>Задания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1. Попробуйте записать этих многочисленных родственников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2. Как же зовут старца -прародителя, от которого все они произошли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-360" y="260280"/>
            <a:ext cx="8172360" cy="1224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703dff"/>
                </a:solidFill>
                <a:latin typeface="Comic Sans MS"/>
              </a:rPr>
              <a:t>Интеллектуальная игра-викторина </a:t>
            </a:r>
            <a:br>
              <a:rPr sz="3600"/>
            </a:br>
            <a:r>
              <a:rPr b="1" i="1" lang="ru-RU" sz="3600" spc="-1" strike="noStrike">
                <a:solidFill>
                  <a:srgbClr val="703dff"/>
                </a:solidFill>
                <a:latin typeface="Comic Sans MS"/>
              </a:rPr>
              <a:t>В стране «Русский язык»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50920" y="1557360"/>
            <a:ext cx="8424720" cy="39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На уроке ребята посетили города </a:t>
            </a:r>
            <a:r>
              <a:rPr b="0" i="1" lang="ru-RU" sz="2200" spc="-1" strike="noStrike">
                <a:solidFill>
                  <a:srgbClr val="000000"/>
                </a:solidFill>
                <a:latin typeface="Comic Sans MS"/>
              </a:rPr>
              <a:t>Морфология</a:t>
            </a: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i="1" lang="ru-RU" sz="2200" spc="-1" strike="noStrike">
                <a:solidFill>
                  <a:srgbClr val="000000"/>
                </a:solidFill>
                <a:latin typeface="Comic Sans MS"/>
              </a:rPr>
              <a:t>Лексика</a:t>
            </a: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Comic Sans MS"/>
              </a:rPr>
              <a:t>Загадки и пословицы</a:t>
            </a: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. Перед поездкой учитель задавал им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шуточные вопросы: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1) В каких словах по сто согласных? </a:t>
            </a:r>
            <a:r>
              <a:rPr b="0" i="1" lang="ru-RU" sz="2200" spc="-1" strike="noStrike">
                <a:solidFill>
                  <a:srgbClr val="000000"/>
                </a:solidFill>
                <a:latin typeface="Comic Sans MS"/>
              </a:rPr>
              <a:t>(Сто-к, сто-л, сто-н.)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2) Что стоит посередине </a:t>
            </a:r>
            <a:r>
              <a:rPr b="0" i="1" lang="ru-RU" sz="2200" spc="-1" strike="noStrike">
                <a:solidFill>
                  <a:srgbClr val="000000"/>
                </a:solidFill>
                <a:latin typeface="Comic Sans MS"/>
              </a:rPr>
              <a:t>земли</a:t>
            </a: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?</a:t>
            </a:r>
            <a:r>
              <a:rPr b="0" i="1" lang="ru-RU" sz="2200" spc="-1" strike="noStrike">
                <a:solidFill>
                  <a:srgbClr val="000000"/>
                </a:solidFill>
                <a:latin typeface="Comic Sans MS"/>
              </a:rPr>
              <a:t> (Буква </a:t>
            </a:r>
            <a:r>
              <a:rPr b="1" i="1" lang="ru-RU" sz="2200" spc="-1" strike="noStrike">
                <a:solidFill>
                  <a:srgbClr val="000000"/>
                </a:solidFill>
                <a:latin typeface="Comic Sans MS"/>
              </a:rPr>
              <a:t>м</a:t>
            </a:r>
            <a:r>
              <a:rPr b="0" i="1" lang="ru-RU" sz="22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3) Кто говорит на всех языках? </a:t>
            </a:r>
            <a:r>
              <a:rPr b="0" i="1" lang="ru-RU" sz="2200" spc="-1" strike="noStrike">
                <a:solidFill>
                  <a:srgbClr val="000000"/>
                </a:solidFill>
                <a:latin typeface="Comic Sans MS"/>
              </a:rPr>
              <a:t>(Эхо) </a:t>
            </a: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и др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В городе </a:t>
            </a:r>
            <a:r>
              <a:rPr b="0" i="1" lang="ru-RU" sz="2200" spc="-1" strike="noStrike">
                <a:solidFill>
                  <a:srgbClr val="000000"/>
                </a:solidFill>
                <a:latin typeface="Comic Sans MS"/>
              </a:rPr>
              <a:t>Морфология</a:t>
            </a: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 пятиклассники получили задания: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образуйте множественное число существительных </a:t>
            </a:r>
            <a:r>
              <a:rPr b="0" i="1" lang="ru-RU" sz="2200" spc="-1" strike="noStrike">
                <a:solidFill>
                  <a:srgbClr val="000000"/>
                </a:solidFill>
                <a:latin typeface="Comic Sans MS"/>
              </a:rPr>
              <a:t>кот, плот, беда, сметана</a:t>
            </a: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 (Какие слова не образуют форму мн. ч.?);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продолжите высказывание: </a:t>
            </a:r>
            <a:r>
              <a:rPr b="0" i="1" lang="ru-RU" sz="2200" spc="-1" strike="noStrike">
                <a:solidFill>
                  <a:srgbClr val="000000"/>
                </a:solidFill>
                <a:latin typeface="Comic Sans MS"/>
              </a:rPr>
              <a:t>Основа предложения – это… ; Значимая часть слова, стоящая после корня, – это…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394920" y="620640"/>
            <a:ext cx="7986600" cy="51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 городе </a:t>
            </a:r>
            <a:r>
              <a:rPr b="0" i="1" lang="ru-RU" sz="2800" spc="-1" strike="noStrike">
                <a:solidFill>
                  <a:srgbClr val="000000"/>
                </a:solidFill>
                <a:latin typeface="Comic Sans MS"/>
              </a:rPr>
              <a:t>Загадки и пословицы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задержались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подольше, так как пятиклассникам очень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понравилось загадывать загадки и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споминать пословицы. Например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1) Ум хорошо, а …</a:t>
            </a:r>
            <a:r>
              <a:rPr b="0" i="1" lang="ru-RU" sz="2800" spc="-1" strike="noStrike">
                <a:solidFill>
                  <a:srgbClr val="000000"/>
                </a:solidFill>
                <a:latin typeface="Comic Sans MS"/>
              </a:rPr>
              <a:t>(два лучше)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2) Знай больше, а говори …</a:t>
            </a:r>
            <a:r>
              <a:rPr b="0" i="1" lang="ru-RU" sz="2800" spc="-1" strike="noStrike">
                <a:solidFill>
                  <a:srgbClr val="000000"/>
                </a:solidFill>
                <a:latin typeface="Comic Sans MS"/>
              </a:rPr>
              <a:t>(меньше)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3) Не зная броду, …</a:t>
            </a:r>
            <a:r>
              <a:rPr b="0" i="1" lang="ru-RU" sz="2800" spc="-1" strike="noStrike">
                <a:solidFill>
                  <a:srgbClr val="000000"/>
                </a:solidFill>
                <a:latin typeface="Comic Sans MS"/>
              </a:rPr>
              <a:t>(не суйся в воду)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4) Бежит свинка, железная спинка, льняной хвостик. Что это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5) Ты за ней, а она от тебя, ты от нее, а она за тобой и т.д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75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703dff"/>
                </a:solidFill>
                <a:latin typeface="Comic Sans MS"/>
              </a:rPr>
              <a:t>Конкурс «Ералаш»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250560" y="1341000"/>
            <a:ext cx="8057880" cy="428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На доске стихотворение. Первые слова каждой строчки написаны слева, а продолжение – справа на отдельных полосках. Полоски эти перепутаны, в результате чего получается бессмыслица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Задача играющих – разложить полоски правильно, чтобы каждая оказалась на своем месте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10920" y="259920"/>
            <a:ext cx="6870600" cy="1305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703dff"/>
                </a:solidFill>
                <a:latin typeface="Comic Sans MS"/>
              </a:rPr>
              <a:t>Сущность игровой технологии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94920" y="1828800"/>
            <a:ext cx="7986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«Учебная (дидактическая) игра как технология обучения давно интересует ученых и практиков. Как педагогическая технология игра интересна тем, что создает эмоциональный подъем, а мотивы игровой деятельности ориентированы на процесс постижения смысла этой деятельности»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685440" y="475920"/>
            <a:ext cx="73422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Злой кабан   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сидел на ветке 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ароход       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томился в клетке 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Соловей       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точил клыки 3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Дикобраз      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давал гудки 4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Кошка          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физику учила 5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Маша            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хвостик свой ловила 6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Буратино      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шил штаны 7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А портняжка 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ел блины 8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Еж                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накрыт к обеду был 9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Чиж              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усами шевелил 1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Рак               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летал под облаками 1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Стол             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гонялся за мышами 1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Чайник        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рыгал во дворе 13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Мальчик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булькал на костре 14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7128000" cy="79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703dff"/>
                </a:solidFill>
                <a:latin typeface="Comic Sans MS"/>
              </a:rPr>
              <a:t>Деловая игра «Корректор»</a:t>
            </a: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813744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i="1" lang="ru-RU" sz="2200" spc="-1" strike="noStrike">
                <a:solidFill>
                  <a:srgbClr val="703dff"/>
                </a:solidFill>
                <a:latin typeface="Comic Sans MS"/>
              </a:rPr>
              <a:t>Задание 1.</a:t>
            </a:r>
            <a:r>
              <a:rPr b="1" i="1" lang="ru-RU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Найдите ошибки в письме одной девочки (из стихотворения болгарского поэта И.Босева) и исправьте их, а затем определите, какие орфограммы не усвоила девочка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ru-RU" sz="2200" spc="-1" strike="noStrike">
                <a:solidFill>
                  <a:srgbClr val="000000"/>
                </a:solidFill>
                <a:latin typeface="Comic Sans MS"/>
              </a:rPr>
              <a:t>Жалоба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Дядя прашу тебя, памаги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Твоей племяннице оле,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А то не будет ее ноги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В этой пративной школе.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Мне вчера за дектант на слова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Учитель паставил два,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А сам сказал, что маю работу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Даже не смок прачитать.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Попраси его дядя исправить двойку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И паставить мне пять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1. Найдите слова, которые проверяются изменением формы слова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2. Найдите слова, которые проверяются с помощью словаря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3. Найдите слова, которые проверяются с помощью других правил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468360" y="1557000"/>
            <a:ext cx="8244000" cy="32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03dff"/>
                </a:solidFill>
                <a:latin typeface="Comic Sans MS"/>
              </a:rPr>
              <a:t>	</a:t>
            </a:r>
            <a:r>
              <a:rPr b="1" i="1" lang="ru-RU" sz="3600" spc="-1" strike="noStrike">
                <a:solidFill>
                  <a:srgbClr val="703dff"/>
                </a:solidFill>
                <a:latin typeface="Comic Sans MS"/>
              </a:rPr>
              <a:t>Задание 2.</a:t>
            </a: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Верным помощником корректора является словарь. С помощью словаря проверьте написание следующих слов: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ru-RU" sz="3600" spc="-1" strike="noStrike">
                <a:solidFill>
                  <a:srgbClr val="000000"/>
                </a:solidFill>
                <a:latin typeface="Comic Sans MS"/>
              </a:rPr>
              <a:t>ф_ст_валь, пара_ели, д_фицит, д_тектив, р_клама, ко_ерческий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250560" y="981000"/>
            <a:ext cx="82818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03dff"/>
                </a:solidFill>
                <a:latin typeface="Comic Sans MS"/>
              </a:rPr>
              <a:t>	</a:t>
            </a:r>
            <a:r>
              <a:rPr b="1" i="1" lang="ru-RU" sz="2800" spc="-1" strike="noStrike">
                <a:solidFill>
                  <a:srgbClr val="703dff"/>
                </a:solidFill>
                <a:latin typeface="Comic Sans MS"/>
              </a:rPr>
              <a:t>Задание 3.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Орфографическая дуэль. Словарный диктант с взаимопроверкой (в парах)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ru-RU" sz="2800" spc="-1" strike="noStrike">
                <a:solidFill>
                  <a:srgbClr val="000000"/>
                </a:solidFill>
                <a:latin typeface="Comic Sans MS"/>
              </a:rPr>
              <a:t>Никому не преодолеть, ничего не возьмешь, не о чем расспрашивать, нечего рассказывать, кое-что необъяснимое, рассердиться кое на кого, чьи-то недостатки, какая-то речонка, ни перед кем не пресмыкаться, подрастали со мной, кто-нибудь не местный, а иногородний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395280" y="333000"/>
            <a:ext cx="813744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i="1" lang="ru-RU" sz="2400" spc="-1" strike="noStrike">
                <a:solidFill>
                  <a:srgbClr val="703dff"/>
                </a:solidFill>
                <a:latin typeface="Comic Sans MS"/>
              </a:rPr>
              <a:t>Задание 4.</a:t>
            </a:r>
            <a:r>
              <a:rPr b="1" i="1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Светло и ярко солнце светит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Но загрустил Ошибкин Петя,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Глядит мечтательно в тетрадь: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– Вот если б получить мне «пять»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роверьте работу Ошибкина, помогите ему получить пятерку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1. В слове </a:t>
            </a:r>
            <a:r>
              <a:rPr b="0" i="1" lang="ru-RU" sz="2400" spc="-1" strike="noStrike">
                <a:solidFill>
                  <a:srgbClr val="000000"/>
                </a:solidFill>
                <a:latin typeface="Comic Sans MS"/>
              </a:rPr>
              <a:t>«дуб»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три звука [д], [у], [бэ]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2. </a:t>
            </a:r>
            <a:r>
              <a:rPr b="0" i="1" lang="ru-RU" sz="2400" spc="-1" strike="noStrike">
                <a:solidFill>
                  <a:srgbClr val="000000"/>
                </a:solidFill>
                <a:latin typeface="Comic Sans MS"/>
              </a:rPr>
              <a:t>(На) желтых листьях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– прилагательное, н.ф. – </a:t>
            </a:r>
            <a:r>
              <a:rPr b="0" i="1" lang="ru-RU" sz="2400" spc="-1" strike="noStrike">
                <a:solidFill>
                  <a:srgbClr val="000000"/>
                </a:solidFill>
                <a:latin typeface="Comic Sans MS"/>
              </a:rPr>
              <a:t>желтый,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относительное, употреблено в р.п., мн.ч., м.р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250560" y="836640"/>
            <a:ext cx="82818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i="1" lang="ru-RU" sz="2800" spc="-1" strike="noStrike">
                <a:solidFill>
                  <a:srgbClr val="703dff"/>
                </a:solidFill>
                <a:latin typeface="Comic Sans MS"/>
              </a:rPr>
              <a:t>Задание 5.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Отредактируйте сочинение Ошибкина Пети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Я учавствовал в соревновании. Я шел под пятым номером. На повороте я и Петров вырвались вперед. Вдруг Петров упал. Он подвергнул ногу. «Кто-нибудь придут ему на помощь», – подумал я и побежал еще сильнее. Митя Смирнов помог Петрову добраться до школы. Там Петрову оказали первую помощь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10920" y="188640"/>
            <a:ext cx="6870600" cy="72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703dff"/>
                </a:solidFill>
                <a:latin typeface="Comic Sans MS"/>
              </a:rPr>
              <a:t>Игра «Переводчик»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8130960" cy="428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Учитель дает толкование слова, а ученики называют (отгадывают) его. За каждое правильно записанное слово ученик получает очко и за удачный пример (литературный или собственный) – еще очко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1) Драчун, зачинщик ссор и драк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2) Тот, кто первым вмешивается в разговор или дело, чтобы выслужиться перед кем-нибудь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3) Тот, кто любит сласти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4) Необразованный, малосведущий человек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85520" y="-360"/>
            <a:ext cx="6870600" cy="824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703dff"/>
                </a:solidFill>
                <a:latin typeface="Comic Sans MS"/>
              </a:rPr>
              <a:t>Игра в слов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142920" y="928800"/>
            <a:ext cx="8501040" cy="43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«Загадка – это не просто забава, не просто игра, она помогает с самых малых лет развивать у человека логическое и нестандартное мышление, остроту ума, сообразительность, догадливость, умение рассуждать и доказывать, она учит видеть прекрасное, открывает поэтическую сторону в самых, казалось бы, прозаических вещах, предметах и явлениях»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-360" y="285840"/>
            <a:ext cx="8381880" cy="520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Шарада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– это загадка, составленная в стихах, в ней задуманное слово распадается на несколько отдельных частей, причем каждое из них представляет собой самостоятельное слово, как правило, односложное. Например: «кит+ель», «мышь+як» и т.д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Анаграмма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– это слово или словосочетание, образованное от перестановки слогов и букв (например: </a:t>
            </a:r>
            <a:r>
              <a:rPr b="0" i="1" lang="ru-RU" sz="2800" spc="-1" strike="noStrike">
                <a:solidFill>
                  <a:srgbClr val="000000"/>
                </a:solidFill>
                <a:latin typeface="Comic Sans MS"/>
              </a:rPr>
              <a:t>липа – пила, актер – терка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), а также при чтении справа налево (например: </a:t>
            </a:r>
            <a:r>
              <a:rPr b="0" i="1" lang="ru-RU" sz="2800" spc="-1" strike="noStrike">
                <a:solidFill>
                  <a:srgbClr val="000000"/>
                </a:solidFill>
                <a:latin typeface="Comic Sans MS"/>
              </a:rPr>
              <a:t>колесо – оселок, кот – ток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), в результате чего составляется другое слово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55280" y="333000"/>
            <a:ext cx="6985080" cy="1366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703dff"/>
                </a:solidFill>
                <a:latin typeface="Comic Sans MS"/>
              </a:rPr>
              <a:t>Компоненты игровой технологии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11280" y="2133360"/>
            <a:ext cx="7696080" cy="311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Мотивационный;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Ориентационно-целевой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Содержательно-операционный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Ценностно-волевой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Оценочный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-360" y="285840"/>
            <a:ext cx="8381880" cy="520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Метаграмма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– это слово, образованное в результате замены одной буквы так, чтобы получилось новое слово (например, из слова </a:t>
            </a:r>
            <a:r>
              <a:rPr b="0" i="1" lang="ru-RU" sz="2800" spc="-1" strike="noStrike">
                <a:solidFill>
                  <a:srgbClr val="000000"/>
                </a:solidFill>
                <a:latin typeface="Comic Sans MS"/>
              </a:rPr>
              <a:t>липа,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заменив </a:t>
            </a:r>
            <a:r>
              <a:rPr b="1" i="1" lang="ru-RU" sz="2800" spc="-1" strike="noStrike">
                <a:solidFill>
                  <a:srgbClr val="000000"/>
                </a:solidFill>
                <a:latin typeface="Comic Sans MS"/>
              </a:rPr>
              <a:t>п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на </a:t>
            </a:r>
            <a:r>
              <a:rPr b="1" i="1" lang="ru-RU" sz="2800" spc="-1" strike="noStrike">
                <a:solidFill>
                  <a:srgbClr val="000000"/>
                </a:solidFill>
                <a:latin typeface="Comic Sans MS"/>
              </a:rPr>
              <a:t>с</a:t>
            </a:r>
            <a:r>
              <a:rPr b="0" i="1" lang="ru-RU" sz="28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получаем другое слово – </a:t>
            </a:r>
            <a:r>
              <a:rPr b="0" i="1" lang="ru-RU" sz="2800" spc="-1" strike="noStrike">
                <a:solidFill>
                  <a:srgbClr val="000000"/>
                </a:solidFill>
                <a:latin typeface="Comic Sans MS"/>
              </a:rPr>
              <a:t>лиса,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Comic Sans MS"/>
              </a:rPr>
              <a:t>сазан – фазан, цапля – капля, карта – парта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и т.п.)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Логогриф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– загадка, для решения которой надо отыскать загаданное слово и образовать от него новое слово путем прибавления или убавления одной буквы или слога, например: </a:t>
            </a:r>
            <a:r>
              <a:rPr b="0" i="1" lang="ru-RU" sz="2800" spc="-1" strike="noStrike">
                <a:solidFill>
                  <a:srgbClr val="000000"/>
                </a:solidFill>
                <a:latin typeface="Comic Sans MS"/>
              </a:rPr>
              <a:t>пест – перст, мир – мираж, Вера – Венера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-360" y="142560"/>
            <a:ext cx="8381880" cy="53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Омограф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– слово, совпадающее с другим по написанию, но разное по значению. Для разгадывания необходимо правильно перенести ударение с одного слога на другой, например: </a:t>
            </a:r>
            <a:r>
              <a:rPr b="0" i="1" lang="ru-RU" sz="2800" spc="-1" strike="noStrike">
                <a:solidFill>
                  <a:srgbClr val="000000"/>
                </a:solidFill>
                <a:latin typeface="Comic Sans MS"/>
              </a:rPr>
              <a:t>проволо'чка – про'волочка, и'рис – ири'с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Омоним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– слово, совпадающее с другим по звучанию и написанию, но по значению не имеющее с ним ничего общего (например: </a:t>
            </a:r>
            <a:r>
              <a:rPr b="0" i="1" lang="ru-RU" sz="2800" spc="-1" strike="noStrike">
                <a:solidFill>
                  <a:srgbClr val="000000"/>
                </a:solidFill>
                <a:latin typeface="Comic Sans MS"/>
              </a:rPr>
              <a:t>мир</a:t>
            </a:r>
            <a:r>
              <a:rPr b="0" lang="ru-RU" sz="2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– Вселенная, </a:t>
            </a:r>
            <a:r>
              <a:rPr b="0" i="1" lang="ru-RU" sz="2800" spc="-1" strike="noStrike">
                <a:solidFill>
                  <a:srgbClr val="000000"/>
                </a:solidFill>
                <a:latin typeface="Comic Sans MS"/>
              </a:rPr>
              <a:t>мир</a:t>
            </a:r>
            <a:r>
              <a:rPr b="0" lang="ru-RU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– земля, </a:t>
            </a:r>
            <a:r>
              <a:rPr b="0" i="1" lang="ru-RU" sz="2800" spc="-1" strike="noStrike">
                <a:solidFill>
                  <a:srgbClr val="000000"/>
                </a:solidFill>
                <a:latin typeface="Comic Sans MS"/>
              </a:rPr>
              <a:t>мир</a:t>
            </a:r>
            <a:r>
              <a:rPr b="0" i="1" lang="ru-RU" sz="28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– среда, </a:t>
            </a:r>
            <a:r>
              <a:rPr b="0" i="1" lang="ru-RU" sz="2800" spc="-1" strike="noStrike">
                <a:solidFill>
                  <a:srgbClr val="000000"/>
                </a:solidFill>
                <a:latin typeface="Comic Sans MS"/>
              </a:rPr>
              <a:t>мир</a:t>
            </a:r>
            <a:r>
              <a:rPr b="0" lang="ru-RU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– согласие, покой и др.; </a:t>
            </a:r>
            <a:r>
              <a:rPr b="0" i="1" lang="ru-RU" sz="2800" spc="-1" strike="noStrike">
                <a:solidFill>
                  <a:srgbClr val="000000"/>
                </a:solidFill>
                <a:latin typeface="Comic Sans MS"/>
              </a:rPr>
              <a:t>свет</a:t>
            </a:r>
            <a:r>
              <a:rPr b="0" lang="ru-RU" sz="2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– энергия, </a:t>
            </a:r>
            <a:r>
              <a:rPr b="0" i="1" lang="ru-RU" sz="2800" spc="-1" strike="noStrike">
                <a:solidFill>
                  <a:srgbClr val="000000"/>
                </a:solidFill>
                <a:latin typeface="Comic Sans MS"/>
              </a:rPr>
              <a:t>свет</a:t>
            </a:r>
            <a:r>
              <a:rPr b="0" i="1" lang="ru-RU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– сияние, </a:t>
            </a:r>
            <a:r>
              <a:rPr b="0" i="1" lang="ru-RU" sz="2800" spc="-1" strike="noStrike">
                <a:solidFill>
                  <a:srgbClr val="000000"/>
                </a:solidFill>
                <a:latin typeface="Comic Sans MS"/>
              </a:rPr>
              <a:t>свет</a:t>
            </a:r>
            <a:r>
              <a:rPr b="0" i="1" lang="ru-RU" sz="28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– общество, </a:t>
            </a:r>
            <a:r>
              <a:rPr b="0" i="1" lang="ru-RU" sz="2800" spc="-1" strike="noStrike">
                <a:solidFill>
                  <a:srgbClr val="000000"/>
                </a:solidFill>
                <a:latin typeface="Comic Sans MS"/>
              </a:rPr>
              <a:t>свет</a:t>
            </a:r>
            <a:r>
              <a:rPr b="0" i="1" lang="ru-RU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– блик и др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3" descr="C:\Documents and Settings\Ученик\Мои документы\Моя музыка\Мои рисунки\1_14104_preview_520.jpg"/>
          <p:cNvPicPr/>
          <p:nvPr/>
        </p:nvPicPr>
        <p:blipFill>
          <a:blip r:embed="rId1"/>
          <a:stretch/>
        </p:blipFill>
        <p:spPr>
          <a:xfrm>
            <a:off x="285840" y="2214720"/>
            <a:ext cx="8323200" cy="3457440"/>
          </a:xfrm>
          <a:prstGeom prst="rect">
            <a:avLst/>
          </a:prstGeom>
          <a:ln w="0">
            <a:noFill/>
          </a:ln>
        </p:spPr>
      </p:pic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722808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ff"/>
                </a:solidFill>
                <a:latin typeface="Comic Sans MS"/>
              </a:rPr>
              <a:t>Помогите ученику найти к записанным ниже словам проверочные, которые спрятались в вагонах трамвайчик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" name="TextBox 5"/>
          <p:cNvSpPr/>
          <p:nvPr/>
        </p:nvSpPr>
        <p:spPr>
          <a:xfrm rot="21335400">
            <a:off x="974160" y="3755880"/>
            <a:ext cx="3009600" cy="131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Страж, накал, подаренный, сладость, сторожка, колет, обличие, дразнит, дрожь, огородит, тесный, подарок, преграда, слово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TextBox 6"/>
          <p:cNvSpPr/>
          <p:nvPr/>
        </p:nvSpPr>
        <p:spPr>
          <a:xfrm rot="21335400">
            <a:off x="4699800" y="3584160"/>
            <a:ext cx="2241360" cy="155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Сторож, прославить, тиснуть, прохлада, приличный, холодный, помощь, поможет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40" name="Picture 4" descr="C:\Documents and Settings\Ученик\Local Settings\Temporary Internet Files\Content.IE5\OPQRGL2B\MC900232133[1].wmf"/>
          <p:cNvPicPr/>
          <p:nvPr/>
        </p:nvPicPr>
        <p:blipFill>
          <a:blip r:embed="rId2"/>
          <a:stretch/>
        </p:blipFill>
        <p:spPr>
          <a:xfrm>
            <a:off x="285840" y="1857240"/>
            <a:ext cx="1714320" cy="17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714240" y="213840"/>
            <a:ext cx="6870960" cy="824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6600ff"/>
                </a:solidFill>
                <a:latin typeface="Comic Sans MS"/>
              </a:rPr>
              <a:t>Игра «Кто быстрее?»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ридумайте и запишите слова с приставками при-, пре-, выделите приставки и корни слов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Слова находящиеся в корзине, распределите по соответствующим колонками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2" descr="C:\Documents and Settings\Ученик\Local Settings\Temporary Internet Files\Content.IE5\OPQRGL2B\dglxasset[1].aspx"/>
          <p:cNvPicPr/>
          <p:nvPr/>
        </p:nvPicPr>
        <p:blipFill>
          <a:blip r:embed="rId1"/>
          <a:stretch/>
        </p:blipFill>
        <p:spPr>
          <a:xfrm>
            <a:off x="2714760" y="0"/>
            <a:ext cx="3714480" cy="4687920"/>
          </a:xfrm>
          <a:prstGeom prst="rect">
            <a:avLst/>
          </a:prstGeom>
          <a:ln w="0">
            <a:noFill/>
          </a:ln>
        </p:spPr>
      </p:pic>
      <p:sp>
        <p:nvSpPr>
          <p:cNvPr id="244" name="TextBox 6"/>
          <p:cNvSpPr/>
          <p:nvPr/>
        </p:nvSpPr>
        <p:spPr>
          <a:xfrm rot="21054000">
            <a:off x="3350160" y="1780560"/>
            <a:ext cx="2643120" cy="228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Пригласить, природа, преодолеть, причина, приготовить, привыкать, приятный, прилежный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" name="TextBox 7"/>
          <p:cNvSpPr/>
          <p:nvPr/>
        </p:nvSpPr>
        <p:spPr>
          <a:xfrm>
            <a:off x="714240" y="1214280"/>
            <a:ext cx="27147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ПРИ_____________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ПРИ___________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ПРИ__________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ПРИ_________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ПРИ_________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ПРИ _________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ПРИ__________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ПРИ___________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ПРИ____________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" name="TextBox 8"/>
          <p:cNvSpPr/>
          <p:nvPr/>
        </p:nvSpPr>
        <p:spPr>
          <a:xfrm>
            <a:off x="6000840" y="1285920"/>
            <a:ext cx="27860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ПРЕ___________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ПРЕ__________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ПРЕ__________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ПРЕ_________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ПРЕ_________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ПРЕ_________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ПРЕ_________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ПРЕ_________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ПРЕ__________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247" name="Прямая со стрелкой 10"/>
          <p:cNvCxnSpPr/>
          <p:nvPr/>
        </p:nvCxnSpPr>
        <p:spPr>
          <a:xfrm flipH="1">
            <a:off x="4071240" y="4786200"/>
            <a:ext cx="214920" cy="286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48" name="Прямая со стрелкой 12"/>
          <p:cNvCxnSpPr/>
          <p:nvPr/>
        </p:nvCxnSpPr>
        <p:spPr>
          <a:xfrm>
            <a:off x="5142600" y="4786200"/>
            <a:ext cx="214920" cy="286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graphicFrame>
        <p:nvGraphicFramePr>
          <p:cNvPr id="249" name=""/>
          <p:cNvGraphicFramePr/>
          <p:nvPr/>
        </p:nvGraphicFramePr>
        <p:xfrm>
          <a:off x="1785960" y="4500720"/>
          <a:ext cx="2214720" cy="2193840"/>
        </p:xfrm>
        <a:graphic>
          <a:graphicData uri="http://schemas.openxmlformats.org/drawingml/2006/table">
            <a:tbl>
              <a:tblPr/>
              <a:tblGrid>
                <a:gridCol w="2214720"/>
              </a:tblGrid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ЗНАЧЕНИЕ ПРИСТАВОК НЕ ОПРЕДЕЛЯЕТС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50" name=""/>
          <p:cNvGraphicFramePr/>
          <p:nvPr/>
        </p:nvGraphicFramePr>
        <p:xfrm>
          <a:off x="5572080" y="4500720"/>
          <a:ext cx="2214720" cy="2193840"/>
        </p:xfrm>
        <a:graphic>
          <a:graphicData uri="http://schemas.openxmlformats.org/drawingml/2006/table">
            <a:tbl>
              <a:tblPr/>
              <a:tblGrid>
                <a:gridCol w="2214720"/>
              </a:tblGrid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ПРИСТАВКА СОСТАВЛЯЕТ ЧАСТЬ КОРН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9" descr="C:\Documents and Settings\Ученик\Local Settings\Temporary Internet Files\Content.IE5\FGHJTH5V\MP900425188[2].jpg"/>
          <p:cNvPicPr/>
          <p:nvPr/>
        </p:nvPicPr>
        <p:blipFill>
          <a:blip r:embed="rId1"/>
          <a:stretch/>
        </p:blipFill>
        <p:spPr>
          <a:xfrm>
            <a:off x="1500120" y="2000160"/>
            <a:ext cx="5929560" cy="3970440"/>
          </a:xfrm>
          <a:prstGeom prst="rect">
            <a:avLst/>
          </a:prstGeom>
          <a:ln w="0">
            <a:noFill/>
          </a:ln>
        </p:spPr>
      </p:pic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42920" y="-360"/>
            <a:ext cx="7858080" cy="171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ff"/>
                </a:solidFill>
                <a:latin typeface="Comic Sans MS"/>
              </a:rPr>
              <a:t>Однажды Николай увидел на воде спасательный круг с буквами в круге зашифровано 8 слов на правописание корней –плав-, -мак-, -скак-/-скоч-. Помогите Николаю прочитать эти слова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53" name="Группа 18"/>
          <p:cNvGrpSpPr/>
          <p:nvPr/>
        </p:nvGrpSpPr>
        <p:grpSpPr>
          <a:xfrm>
            <a:off x="2571840" y="2357280"/>
            <a:ext cx="3571920" cy="3494160"/>
            <a:chOff x="2571840" y="2357280"/>
            <a:chExt cx="3571920" cy="3494160"/>
          </a:xfrm>
        </p:grpSpPr>
        <p:pic>
          <p:nvPicPr>
            <p:cNvPr id="254" name="Picture 1" descr="C:\Users\Наташа\Desktop\0_358e5_2564d703_-2-L.jpg"/>
            <p:cNvPicPr/>
            <p:nvPr/>
          </p:nvPicPr>
          <p:blipFill>
            <a:blip r:embed="rId2"/>
            <a:stretch/>
          </p:blipFill>
          <p:spPr>
            <a:xfrm>
              <a:off x="2571840" y="2357280"/>
              <a:ext cx="3571920" cy="349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5" name="Прямоугольник 20" descr=""/>
            <p:cNvPicPr/>
            <p:nvPr/>
          </p:nvPicPr>
          <p:blipFill>
            <a:blip r:embed="rId3"/>
            <a:stretch/>
          </p:blipFill>
          <p:spPr>
            <a:xfrm>
              <a:off x="2999880" y="2706120"/>
              <a:ext cx="2720880" cy="25362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56760" y="-360"/>
            <a:ext cx="7572600" cy="153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ff"/>
                </a:solidFill>
                <a:latin typeface="Comic Sans MS"/>
              </a:rPr>
              <a:t>Разгадайте кроссворд, составленный из слов с уменьшительно-ласкательными суффиксами –ек-/-ик-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57" name="Picture 3" descr=""/>
          <p:cNvPicPr/>
          <p:nvPr/>
        </p:nvPicPr>
        <p:blipFill>
          <a:blip r:embed="rId1"/>
          <a:stretch/>
        </p:blipFill>
        <p:spPr>
          <a:xfrm>
            <a:off x="285840" y="1714680"/>
            <a:ext cx="8196120" cy="38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2" descr=""/>
          <p:cNvPicPr/>
          <p:nvPr/>
        </p:nvPicPr>
        <p:blipFill>
          <a:blip r:embed="rId1"/>
          <a:stretch/>
        </p:blipFill>
        <p:spPr>
          <a:xfrm>
            <a:off x="500040" y="1571760"/>
            <a:ext cx="7858080" cy="3943080"/>
          </a:xfrm>
          <a:prstGeom prst="rect">
            <a:avLst/>
          </a:prstGeom>
          <a:ln w="0">
            <a:noFill/>
          </a:ln>
        </p:spPr>
      </p:pic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56760" y="-360"/>
            <a:ext cx="7572600" cy="153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ff"/>
                </a:solidFill>
                <a:latin typeface="Comic Sans MS"/>
              </a:rPr>
              <a:t>Разгадайте кроссворд, подбирая к указанным ниже словам и словосочетаниям синонимы с НЕ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929720" cy="1109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ff"/>
                </a:solidFill>
                <a:latin typeface="Comic Sans MS"/>
              </a:rPr>
              <a:t>Помогите футболистам (с помощью стрелочек) забить мячи в нужные ворота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61" name="Picture 2" descr="C:\Documents and Settings\Ученик\Рабочий стол\clipart\HOMEANIM\AG00016_.GIF"/>
          <p:cNvPicPr/>
          <p:nvPr/>
        </p:nvPicPr>
        <p:blipFill>
          <a:blip r:embed="rId1"/>
          <a:stretch/>
        </p:blipFill>
        <p:spPr>
          <a:xfrm>
            <a:off x="2571840" y="1643040"/>
            <a:ext cx="1214280" cy="121464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3" descr="C:\Documents and Settings\Ученик\Рабочий стол\clipart\HOMEANIM\J0095740.GIF"/>
          <p:cNvPicPr/>
          <p:nvPr/>
        </p:nvPicPr>
        <p:blipFill>
          <a:blip r:embed="rId2"/>
          <a:stretch/>
        </p:blipFill>
        <p:spPr>
          <a:xfrm>
            <a:off x="4857840" y="4643280"/>
            <a:ext cx="1214280" cy="148608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5" descr="http://t3.gstatic.com/images?q=tbn:GdSzRi_VouYmoM:http://uaprom-image.s3.amazonaws.com/1018818_w640_h640_s100_vorota.jpg"/>
          <p:cNvPicPr/>
          <p:nvPr/>
        </p:nvPicPr>
        <p:blipFill>
          <a:blip r:embed="rId3"/>
          <a:stretch/>
        </p:blipFill>
        <p:spPr>
          <a:xfrm>
            <a:off x="5857920" y="3786120"/>
            <a:ext cx="2733480" cy="273384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9" descr="http://t2.gstatic.com/images?q=tbn:6fo2ca7gEWBhCM:http://ru.all-biz.info/img/ru/catalog/small/309803.jpeg"/>
          <p:cNvPicPr/>
          <p:nvPr/>
        </p:nvPicPr>
        <p:blipFill>
          <a:blip r:embed="rId4"/>
          <a:stretch/>
        </p:blipFill>
        <p:spPr>
          <a:xfrm>
            <a:off x="357120" y="1285920"/>
            <a:ext cx="2214720" cy="1913040"/>
          </a:xfrm>
          <a:prstGeom prst="rect">
            <a:avLst/>
          </a:prstGeom>
          <a:ln w="0">
            <a:noFill/>
          </a:ln>
        </p:spPr>
      </p:pic>
      <p:sp>
        <p:nvSpPr>
          <p:cNvPr id="265" name="TextBox 8"/>
          <p:cNvSpPr/>
          <p:nvPr/>
        </p:nvSpPr>
        <p:spPr>
          <a:xfrm rot="20493000">
            <a:off x="1015920" y="1765080"/>
            <a:ext cx="107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omic Sans MS"/>
              </a:rPr>
              <a:t>Слитно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" name="TextBox 9"/>
          <p:cNvSpPr/>
          <p:nvPr/>
        </p:nvSpPr>
        <p:spPr>
          <a:xfrm rot="20493000">
            <a:off x="6765840" y="4691880"/>
            <a:ext cx="903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omic Sans MS"/>
              </a:rPr>
              <a:t>Через дефис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" name="TextBox 12"/>
          <p:cNvSpPr/>
          <p:nvPr/>
        </p:nvSpPr>
        <p:spPr>
          <a:xfrm>
            <a:off x="5286240" y="1143000"/>
            <a:ext cx="25718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(бледно) (розовый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" name="TextBox 13"/>
          <p:cNvSpPr/>
          <p:nvPr/>
        </p:nvSpPr>
        <p:spPr>
          <a:xfrm>
            <a:off x="4857840" y="1571760"/>
            <a:ext cx="25718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(четырех) (этажный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" name="TextBox 14"/>
          <p:cNvSpPr/>
          <p:nvPr/>
        </p:nvSpPr>
        <p:spPr>
          <a:xfrm>
            <a:off x="4500720" y="2000160"/>
            <a:ext cx="25714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(тысяча) (тонный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TextBox 15"/>
          <p:cNvSpPr/>
          <p:nvPr/>
        </p:nvSpPr>
        <p:spPr>
          <a:xfrm>
            <a:off x="4071960" y="2428920"/>
            <a:ext cx="25718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(темно) (синий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" name="TextBox 16"/>
          <p:cNvSpPr/>
          <p:nvPr/>
        </p:nvSpPr>
        <p:spPr>
          <a:xfrm>
            <a:off x="3571920" y="2857680"/>
            <a:ext cx="25718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(бело) (ствольная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" name="TextBox 17"/>
          <p:cNvSpPr/>
          <p:nvPr/>
        </p:nvSpPr>
        <p:spPr>
          <a:xfrm>
            <a:off x="3143160" y="3286080"/>
            <a:ext cx="25718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(лейб) (гвардейский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" name="TextBox 18"/>
          <p:cNvSpPr/>
          <p:nvPr/>
        </p:nvSpPr>
        <p:spPr>
          <a:xfrm>
            <a:off x="2500200" y="3714840"/>
            <a:ext cx="25718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(семи) (летний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TextBox 19"/>
          <p:cNvSpPr/>
          <p:nvPr/>
        </p:nvSpPr>
        <p:spPr>
          <a:xfrm>
            <a:off x="2000160" y="4143240"/>
            <a:ext cx="25718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(горько) (соленый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5" name="TextBox 20"/>
          <p:cNvSpPr/>
          <p:nvPr/>
        </p:nvSpPr>
        <p:spPr>
          <a:xfrm>
            <a:off x="1500120" y="4572000"/>
            <a:ext cx="25718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(низко) (рослый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276" name="Прямая со стрелкой 22"/>
          <p:cNvCxnSpPr/>
          <p:nvPr/>
        </p:nvCxnSpPr>
        <p:spPr>
          <a:xfrm flipV="1">
            <a:off x="1641960" y="2999880"/>
            <a:ext cx="214920" cy="1501200"/>
          </a:xfrm>
          <a:prstGeom prst="straightConnector1">
            <a:avLst/>
          </a:prstGeom>
          <a:ln w="9360">
            <a:solidFill>
              <a:srgbClr val="b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03dff"/>
                </a:solidFill>
                <a:latin typeface="Comic Sans MS"/>
              </a:rPr>
              <a:t>Компоненты игровой технологии во взаимосвязи со структурными элементами игры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395280" y="1773360"/>
          <a:ext cx="8064360" cy="3932280"/>
        </p:xfrm>
        <a:graphic>
          <a:graphicData uri="http://schemas.openxmlformats.org/drawingml/2006/table">
            <a:tbl>
              <a:tblPr/>
              <a:tblGrid>
                <a:gridCol w="4137120"/>
                <a:gridCol w="39272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Компонент игровой технолог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Структурные элементы игр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Мотивационны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Установочный момент, игровая ситуац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Ориентационно-целево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Задачи игр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Содержательно-операционны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Правила игры, игровое действ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Ценностно-волево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Игровое состоя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Оценочны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Результат игр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836640"/>
            <a:ext cx="6870600" cy="915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703dff"/>
                </a:solidFill>
                <a:latin typeface="Comic Sans MS"/>
              </a:rPr>
              <a:t>Разновидности игр</a:t>
            </a: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AutoShape 5"/>
          <p:cNvSpPr/>
          <p:nvPr/>
        </p:nvSpPr>
        <p:spPr>
          <a:xfrm rot="1626000">
            <a:off x="3276720" y="1700280"/>
            <a:ext cx="296640" cy="1224000"/>
          </a:xfrm>
          <a:prstGeom prst="downArrow">
            <a:avLst>
              <a:gd name="adj1" fmla="val 50000"/>
              <a:gd name="adj2" fmla="val 103155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AutoShape 8"/>
          <p:cNvSpPr/>
          <p:nvPr/>
        </p:nvSpPr>
        <p:spPr>
          <a:xfrm rot="20239200">
            <a:off x="4787640" y="1699920"/>
            <a:ext cx="296640" cy="1224000"/>
          </a:xfrm>
          <a:prstGeom prst="downArrow">
            <a:avLst>
              <a:gd name="adj1" fmla="val 50000"/>
              <a:gd name="adj2" fmla="val 103155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Text Box 9"/>
          <p:cNvSpPr/>
          <p:nvPr/>
        </p:nvSpPr>
        <p:spPr>
          <a:xfrm>
            <a:off x="1042920" y="3068640"/>
            <a:ext cx="352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mic Sans MS"/>
              </a:rPr>
              <a:t>учебно-ролевые (сюжетно-ролевые)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Text Box 10"/>
          <p:cNvSpPr/>
          <p:nvPr/>
        </p:nvSpPr>
        <p:spPr>
          <a:xfrm>
            <a:off x="4643280" y="3141720"/>
            <a:ext cx="324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mic Sans MS"/>
              </a:rPr>
              <a:t>дидактические игры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2" name="Picture 11" descr="C:\Program Files\Microsoft Office\MEDIA\CAGCAT10\j0301252.wmf"/>
          <p:cNvPicPr/>
          <p:nvPr/>
        </p:nvPicPr>
        <p:blipFill>
          <a:blip r:embed="rId1"/>
          <a:stretch/>
        </p:blipFill>
        <p:spPr>
          <a:xfrm>
            <a:off x="5929200" y="4214880"/>
            <a:ext cx="1830600" cy="15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79218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703dff"/>
                </a:solidFill>
                <a:latin typeface="Comic Sans MS"/>
              </a:rPr>
              <a:t>Основные цели и задачи игр на уроках</a:t>
            </a: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79280" y="1557360"/>
            <a:ext cx="8640720" cy="440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1) победить в конкурсе, осуществить поиск, выступить в какой-либо роли. Перед учениками не ставится прямая цель – овладеть определенными знаниями, умениями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2) добровольный характер игры диктует добровольное подчинение всех участников игровым правилам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3) игра должна заинтриговать (удивить, поразить воображение и, может быть, поставить в тупик). Поэтому в ней должны участвовать все («слабым» ученикам надо дать возможность поверить в себя)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4) игра должна обеспечивать более высокую, по сравнению с обычными формами урока, обучающую, развивающую и воспитательную результативность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8" descr="___________________________"/>
          <p:cNvPicPr/>
          <p:nvPr/>
        </p:nvPicPr>
        <p:blipFill>
          <a:blip r:embed="rId1"/>
          <a:stretch/>
        </p:blipFill>
        <p:spPr>
          <a:xfrm>
            <a:off x="468360" y="981000"/>
            <a:ext cx="7777080" cy="547704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7229520" cy="99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703dff"/>
                </a:solidFill>
                <a:latin typeface="Comic Sans MS"/>
              </a:rPr>
              <a:t>Мы, играя, проверяем, что умеем и что знаем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7" name="Picture 9" descr="MC900280334[1]"/>
          <p:cNvPicPr/>
          <p:nvPr/>
        </p:nvPicPr>
        <p:blipFill>
          <a:blip r:embed="rId2"/>
          <a:stretch/>
        </p:blipFill>
        <p:spPr>
          <a:xfrm>
            <a:off x="324000" y="765000"/>
            <a:ext cx="1439640" cy="113220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0" descr="MC900412398[1]"/>
          <p:cNvPicPr/>
          <p:nvPr/>
        </p:nvPicPr>
        <p:blipFill>
          <a:blip r:embed="rId3"/>
          <a:stretch/>
        </p:blipFill>
        <p:spPr>
          <a:xfrm>
            <a:off x="0" y="5445000"/>
            <a:ext cx="1835280" cy="12304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1" descr="MC900432587[1]"/>
          <p:cNvPicPr/>
          <p:nvPr/>
        </p:nvPicPr>
        <p:blipFill>
          <a:blip r:embed="rId4"/>
          <a:stretch/>
        </p:blipFill>
        <p:spPr>
          <a:xfrm>
            <a:off x="6443640" y="40464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8" descr="dglxasset[2]"/>
          <p:cNvPicPr/>
          <p:nvPr/>
        </p:nvPicPr>
        <p:blipFill>
          <a:blip r:embed="rId5"/>
          <a:stretch/>
        </p:blipFill>
        <p:spPr>
          <a:xfrm>
            <a:off x="5292720" y="3068640"/>
            <a:ext cx="2592360" cy="1905120"/>
          </a:xfrm>
          <a:prstGeom prst="rect">
            <a:avLst/>
          </a:prstGeom>
          <a:ln w="0">
            <a:noFill/>
          </a:ln>
        </p:spPr>
      </p:pic>
      <p:sp>
        <p:nvSpPr>
          <p:cNvPr id="181" name="WordArt 21"/>
          <p:cNvSpPr txBox="1"/>
          <p:nvPr/>
        </p:nvSpPr>
        <p:spPr>
          <a:xfrm>
            <a:off x="2268360" y="6021360"/>
            <a:ext cx="453564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Лингвиния</a:t>
            </a:r>
            <a:endParaRPr b="0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82" name="Text Box 22"/>
          <p:cNvSpPr/>
          <p:nvPr/>
        </p:nvSpPr>
        <p:spPr>
          <a:xfrm>
            <a:off x="2050920" y="2565360"/>
            <a:ext cx="24480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omic Sans MS"/>
              </a:rPr>
              <a:t>Проспект Морфологии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Text Box 23"/>
          <p:cNvSpPr/>
          <p:nvPr/>
        </p:nvSpPr>
        <p:spPr>
          <a:xfrm>
            <a:off x="5003640" y="2492280"/>
            <a:ext cx="25210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omic Sans MS"/>
              </a:rPr>
              <a:t>Орфографический замок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Text Box 24"/>
          <p:cNvSpPr/>
          <p:nvPr/>
        </p:nvSpPr>
        <p:spPr>
          <a:xfrm>
            <a:off x="2050920" y="4941720"/>
            <a:ext cx="24480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omic Sans MS"/>
              </a:rPr>
              <a:t>Поляна Морфемик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Text Box 25"/>
          <p:cNvSpPr/>
          <p:nvPr/>
        </p:nvSpPr>
        <p:spPr>
          <a:xfrm>
            <a:off x="5219640" y="5157720"/>
            <a:ext cx="25192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Шоссе синтаксиса и пунктуации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Text Box 26"/>
          <p:cNvSpPr/>
          <p:nvPr/>
        </p:nvSpPr>
        <p:spPr>
          <a:xfrm>
            <a:off x="2124000" y="3645000"/>
            <a:ext cx="201636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omic Sans MS"/>
              </a:rPr>
              <a:t>Лексический переулок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7" name="Picture 28" descr="MC900199465[1]"/>
          <p:cNvPicPr/>
          <p:nvPr/>
        </p:nvPicPr>
        <p:blipFill>
          <a:blip r:embed="rId6"/>
          <a:stretch/>
        </p:blipFill>
        <p:spPr>
          <a:xfrm>
            <a:off x="2556000" y="1484280"/>
            <a:ext cx="1439640" cy="115416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29" descr="dglxasset[2]"/>
          <p:cNvPicPr/>
          <p:nvPr/>
        </p:nvPicPr>
        <p:blipFill>
          <a:blip r:embed="rId7"/>
          <a:stretch/>
        </p:blipFill>
        <p:spPr>
          <a:xfrm>
            <a:off x="4427640" y="3933720"/>
            <a:ext cx="798480" cy="18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703dff"/>
                </a:solidFill>
                <a:latin typeface="Comic Sans MS"/>
              </a:rPr>
              <a:t>Игра «Справочное бюро»</a:t>
            </a:r>
            <a:br>
              <a:rPr sz="4000"/>
            </a:br>
            <a:r>
              <a:rPr b="1" i="1" lang="ru-RU" sz="4000" spc="-1" strike="noStrike">
                <a:solidFill>
                  <a:srgbClr val="703dff"/>
                </a:solidFill>
                <a:latin typeface="Comic Sans MS"/>
              </a:rPr>
              <a:t>(лексический переулок)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Используя толковый словарь, выбер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слово, соответствующе лексическому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значению – </a:t>
            </a:r>
            <a:r>
              <a:rPr b="1" i="1" lang="ru-RU" sz="3200" spc="-1" strike="noStrike">
                <a:solidFill>
                  <a:srgbClr val="000000"/>
                </a:solidFill>
                <a:latin typeface="Comic Sans MS"/>
              </a:rPr>
              <a:t>составная часть чего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omic Sans MS"/>
              </a:rPr>
              <a:t>либо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omic Sans MS"/>
              </a:rPr>
              <a:t>а) колорит </a:t>
            </a:r>
            <a:r>
              <a:rPr b="1" i="1" lang="ru-R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i="1" lang="ru-R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i="1" lang="ru-RU" sz="3200" spc="-1" strike="noStrike">
                <a:solidFill>
                  <a:srgbClr val="000000"/>
                </a:solidFill>
                <a:latin typeface="Comic Sans MS"/>
              </a:rPr>
              <a:t>в) комфор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omic Sans MS"/>
              </a:rPr>
              <a:t>б) компонент </a:t>
            </a:r>
            <a:r>
              <a:rPr b="1" i="1" lang="ru-R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i="1" lang="ru-RU" sz="3200" spc="-1" strike="noStrike">
                <a:solidFill>
                  <a:srgbClr val="000000"/>
                </a:solidFill>
                <a:latin typeface="Comic Sans MS"/>
              </a:rPr>
              <a:t>г) компромисс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71280" y="33300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703dff"/>
                </a:solidFill>
                <a:latin typeface="Comic Sans MS"/>
              </a:rPr>
              <a:t>Игра «От каждой буквы</a:t>
            </a:r>
            <a:br>
              <a:rPr sz="4000"/>
            </a:br>
            <a:r>
              <a:rPr b="1" i="1" lang="ru-RU" sz="4000" spc="-1" strike="noStrike">
                <a:solidFill>
                  <a:srgbClr val="703dff"/>
                </a:solidFill>
                <a:latin typeface="Comic Sans MS"/>
              </a:rPr>
              <a:t>– столбик - слово»</a:t>
            </a:r>
            <a:br>
              <a:rPr sz="4000"/>
            </a:br>
            <a:r>
              <a:rPr b="1" i="1" lang="ru-RU" sz="4000" spc="-1" strike="noStrike">
                <a:solidFill>
                  <a:srgbClr val="703dff"/>
                </a:solidFill>
                <a:latin typeface="Comic Sans MS"/>
              </a:rPr>
              <a:t>(Проспект Морфология)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50920" y="1989000"/>
            <a:ext cx="835344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mic Sans MS"/>
              </a:rPr>
              <a:t>На доске написано одно и то же слово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mic Sans MS"/>
              </a:rPr>
              <a:t>столько раз, сколько команд будет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mic Sans MS"/>
              </a:rPr>
              <a:t>участвовать в игре. Представители команд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mic Sans MS"/>
              </a:rPr>
              <a:t>по очереди подходят к доске и пишут по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mic Sans MS"/>
              </a:rPr>
              <a:t>вертикали слова, начинающиеся с букв,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mic Sans MS"/>
              </a:rPr>
              <a:t>составляющих написанное слово и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mic Sans MS"/>
              </a:rPr>
              <a:t>являющихся </a:t>
            </a:r>
            <a:r>
              <a:rPr b="1" i="1" lang="ru-RU" sz="3000" spc="-1" strike="noStrike">
                <a:solidFill>
                  <a:srgbClr val="000000"/>
                </a:solidFill>
                <a:latin typeface="Comic Sans MS"/>
              </a:rPr>
              <a:t>существительными 2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Comic Sans MS"/>
              </a:rPr>
              <a:t>склонения мужского рода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3T06:12:13Z</dcterms:created>
  <dc:creator>Завуч</dc:creator>
  <dc:description/>
  <dc:language>en-US</dc:language>
  <cp:lastModifiedBy>Ученик</cp:lastModifiedBy>
  <dcterms:modified xsi:type="dcterms:W3CDTF">2010-11-13T11:29:20Z</dcterms:modified>
  <cp:revision>22</cp:revision>
  <dc:subject/>
  <dc:title>Слайд 1</dc:title>
</cp:coreProperties>
</file>