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0.wmf" ContentType="image/x-wmf"/>
  <Override PartName="/ppt/media/image6.png" ContentType="image/png"/>
  <Override PartName="/ppt/media/image5.wmf" ContentType="image/x-wmf"/>
  <Override PartName="/ppt/media/image21.jpeg" ContentType="image/jpeg"/>
  <Override PartName="/ppt/media/image16.png" ContentType="image/png"/>
  <Override PartName="/ppt/media/image20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F56-E0AC-4A46-BD40-9FD26F883F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B188-1FB8-43CC-BDE8-EC3F1D6D11B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40AC-D09E-4077-BAE0-5F6FA127065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82B-B243-41E7-91F1-C5158B4D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34E-FEC7-42EC-8D29-0F4E6C44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68D-6A37-4484-A4B9-642BDD6F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61A-98D6-4E7B-BD42-F7DB30B2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78E0-4A03-4BA0-B19F-F55786C8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86F7-71A2-426B-A641-B39D552E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D068-E673-4487-A177-E06AE87E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4175-AA6A-41B5-8616-E1864413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E2ED-2B22-4055-A0E8-7CD2C057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E766-5BCD-4286-BEC1-9D3BEF3C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7443-2D71-44FF-B4A8-7A3822D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97C-E810-41C5-9EDD-17064BCB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0095-B030-4B97-BD32-81CBFDC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19C0-C2F9-4C5F-A941-384BEC4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5F6D-2299-471B-88A0-851C4E27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EDB8-2F42-4DF5-8BEC-0D411600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966B-2B0A-4553-980F-43E39A62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CF2-3D1D-444E-9CEA-3D992B00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B1A-D729-4A39-9F8C-57A7E4CE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78D-B093-40E4-A312-F7B03755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A48-6E48-487E-AB85-CE28CCE0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461-A1A2-41D3-9E6B-54BB8CF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59B-99D7-4DB2-8A8D-06D156BB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7EC-DA62-46C8-9933-170A1C1A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9ED2-26A7-4C4C-8200-F6E8CD136E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2A88-1E91-41D9-BCFD-2F99D97909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0a2446eea378dac32a93eb6b71162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2050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гра – это огромное светлое окно, через которое в духовный мир ребенка вливается живительный поток представлений, понятий об окружающем мире. Игра – это искра, зажигающая огонек пытливости и любозна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6"/>
          <p:cNvSpPr txBox="1"/>
          <p:nvPr/>
        </p:nvSpPr>
        <p:spPr>
          <a:xfrm>
            <a:off x="971640" y="1700280"/>
            <a:ext cx="712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овые технологии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539640" y="620640"/>
          <a:ext cx="3772080" cy="36576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28560"/>
                <a:gridCol w="628560"/>
                <a:gridCol w="628920"/>
                <a:gridCol w="62856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716360" y="2565360"/>
          <a:ext cx="3772080" cy="365760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  <a:gridCol w="590400"/>
                <a:gridCol w="628560"/>
                <a:gridCol w="628920"/>
                <a:gridCol w="62856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77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Дерево чудес</a:t>
            </a:r>
            <a:br>
              <a:rPr sz="4000"/>
            </a:b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(шоссе синтаксиса и пунктуации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тавьте слова так, чтобы получило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ложение, объясните зна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пинания, укажите грамматическу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ову предлож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C900088606[1]"/>
          <p:cNvPicPr/>
          <p:nvPr/>
        </p:nvPicPr>
        <p:blipFill>
          <a:blip r:embed="rId1"/>
          <a:stretch/>
        </p:blipFill>
        <p:spPr>
          <a:xfrm>
            <a:off x="539640" y="260280"/>
            <a:ext cx="3308400" cy="4046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MC900088606[1]"/>
          <p:cNvPicPr/>
          <p:nvPr/>
        </p:nvPicPr>
        <p:blipFill>
          <a:blip r:embed="rId2"/>
          <a:stretch/>
        </p:blipFill>
        <p:spPr>
          <a:xfrm>
            <a:off x="5076720" y="2133720"/>
            <a:ext cx="3036960" cy="3713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1547640" y="620640"/>
            <a:ext cx="122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войны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900000" y="1557360"/>
            <a:ext cx="8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556000" y="1557360"/>
            <a:ext cx="100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76360" y="2708280"/>
            <a:ext cx="1366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мей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084720" y="2421000"/>
            <a:ext cx="10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вьт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292720" y="3068640"/>
            <a:ext cx="107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есл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948360" y="306864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м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5940360" y="3860640"/>
            <a:ext cx="12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оварищ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6877080" y="522936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5508720" y="4365720"/>
            <a:ext cx="57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0214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Творческая игра «Я работаю поэтом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7986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, играя, учит рифмовать слова (кот- кро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сть - гвоздь),а затем дает два рифмующих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ва (снеговика - уголька, носа - эскимоса) 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агает интересно, оригинально, остроум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обрать недостающие слова .Разобр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которые слова по состав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лепили мы снеговик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орковка вместо нос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лаза его из угольк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И как у эскимо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Игры - соревнования "Бей ответом, как мячом, прямо в цель", "Футбол"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этих играх используются зад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морфемному анализу и конструк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в. Класс делится на 3 коман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беждает та команда, которая быстро 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ильно выполнит задание. В иг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уется мяч. Итог – количество гол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dff"/>
                </a:solidFill>
                <a:latin typeface="Comic Sans MS"/>
              </a:rPr>
              <a:t>Отгадывание сказки - загадки "Большая родня"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5694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ил-был корень, обычный, не очень сложный, но очень древний. З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лгую жизнь обзавелся он большой семьей. Тут и существительны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тройка, строитель, строительство, строени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прилагательны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троительный, строевой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глаголы :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троить, строи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ятся родные и близкие нечасто, письма писать некогда, вот и реши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ш старец собрать всю свою большую родню. Разосл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гласительные открытки. Первыми откликнулись братья – глагол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троить и строитьс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с семействами. Не заставили себя ждать долго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тальные. Явились. Выстроились. Все как на подбор, любят дело дела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каждого для того своя приставка имеется: у кого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ы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кого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до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ть и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на, от, по, од, при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радовался гостеприимный хозяин, возгордил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"Молодцы, родственники, вон какую богатую коллекцию пристав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брали! «Глаголы деловые, энергичные. И сегодня работают, и 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шедшем потрудились они на славу, и о будущем не забываю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ществительные от них не отстают - спешат в гости к деду. У них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ставок много, и суффиксами они не бедн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Зад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Попробуйте записать этих многочисленных родственн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ак же зовут старца -прародителя, от которого все они произош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1723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Интеллектуальная игра-викторина </a:t>
            </a:r>
            <a:br>
              <a:rPr sz="3600"/>
            </a:b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В стране «Русский язык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2472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уроке ребята посетили города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Морфологи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Лексик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Загадки и пословицы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Перед поездкой учитель задавал им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шуточные вопросы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) В каких словах по сто согласных?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(Сто-к, сто-л, сто-н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) Что стоит посередине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земли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 (Буква </a:t>
            </a: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) Кто говорит на всех языках?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(Эхо)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городе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Морфологи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пятиклассники получили задания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разуйте множественное число существительных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кот, плот, беда, сметан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Какие слова не образуют форму мн. ч.?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одолжите высказывание: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Основа предложения – это… ; Значимая часть слова, стоящая после корня, – это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7986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городе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Загадки и пословиц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адержалис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ольше, так как пятиклассникам оч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равилось загадывать загадки 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поминать пословицы. На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Ум хорошо, а …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два лучше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Знай больше, а говори …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меньше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Не зная броду, …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не суйся в воду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Бежит свинка, железная спинка, льняной хвостик. Что эт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Ты за ней, а она от тебя, ты от нее, а она за тобой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Конкурс «Ералаш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0578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доске стихотворение. Первые слова каждой строчки написаны слева, а продолжение – справа на отдельных полосках. Полоски эти перепутаны, в результате чего получается бессмыслиц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а играющих – разложить полоски правильно, чтобы каждая оказалась на своем мес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13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Сущность игровой технолог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Учебная (дидактическая) игра как технология обучения давно интересует ученых и практиков. Как педагогическая технология игра интересна тем, что создает эмоциональный подъем, а мотивы игровой деятельности ориентированы на процесс постижения смысла этой деятельност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7342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лой кабан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дел на ветке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роход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мился в клетке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овей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чил клыки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кобраз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вал гудки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шка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зику учила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ша 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востик свой ловила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уратино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ил штаны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портняжка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л блины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ж   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крыт к обеду был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иж 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ами шевелил 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к  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тал под облаками 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ол 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нялся за мышами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айник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ыгал во дворе 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льчик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улькал на костре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128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Деловая игра «Корректор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137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200" spc="-1" strike="noStrike">
                <a:solidFill>
                  <a:srgbClr val="703dff"/>
                </a:solidFill>
                <a:latin typeface="Comic Sans MS"/>
              </a:rPr>
              <a:t>Задание 1.</a:t>
            </a: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йдите ошибки в письме одной девочки (из стихотворения болгарского поэта И.Босева) и исправьте их, а затем определите, какие орфограммы не усвоила девоч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Жалоб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Дядя прашу тебя, памаг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воей племяннице ол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то не будет ее ног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этой пративной школ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не вчера за дектант на сло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читель паставил дв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сам сказал, что маю работу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Даже не смок прачитат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праси его дядя исправить двойку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паставить мне пят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Найдите слова, которые проверяются изменением формы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Найдите слова, которые проверяются с помощью словар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Найдите слова, которые проверяются с помощью других прави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44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Задание 2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ерным помощником корректора является словарь. С помощью словаря проверьте написание следующих слов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ф_ст_валь, пара_ели, д_фицит, д_тектив, р_клама, ко_ерческий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8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Задание 3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фографическая дуэль. Словарный диктант с взаимопроверкой (в парах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икому не преодолеть, ничего не возьмешь, не о чем расспрашивать, нечего рассказывать, кое-что необъяснимое, рассердиться кое на кого, чьи-то недостатки, какая-то речонка, ни перед кем не пресмыкаться, подрастали со мной, кто-нибудь не местный, а иногород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400" spc="-1" strike="noStrike">
                <a:solidFill>
                  <a:srgbClr val="703dff"/>
                </a:solidFill>
                <a:latin typeface="Comic Sans MS"/>
              </a:rPr>
              <a:t>Задание 4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етло и ярко солнце свет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загрустил Ошибкин Петя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ядит мечтательно в тетрадь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Вот если б получить мне «пя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ьте работу Ошибкина, помогите ему получить пятер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В слове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«дуб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три звука [д], [у], [бэ]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(На) желтых листья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прилагательное, н.ф. –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желтый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тносительное, употреблено в р.п., мн.ч., м.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Задание 5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редактируйте сочинение Ошибкина Пе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учавствовал в соревновании. Я шел под пятым номером. На повороте я и Петров вырвались вперед. Вдруг Петров упал. Он подвергнул ногу. «Кто-нибудь придут ему на помощь», – подумал я и побежал еще сильнее. Митя Смирнов помог Петрову добраться до школы. Там Петрову оказали первую помощ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Игра «Переводчи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13096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 дает толкование слова, а ученики называют (отгадывают) его. За каждое правильно записанное слово ученик получает очко и за удачный пример (литературный или собственный) – еще очк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 Драчун, зачинщик ссор и дра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 Тот, кто первым вмешивается в разговор или дело, чтобы выслужиться перед кем-нибуд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 Тот, кто любит сл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 Необразованный, малосведущий челове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6870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Игра в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2920" y="928800"/>
            <a:ext cx="85010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Загадка – это не просто забава, не просто игра, она помогает с самых малых лет развивать у человека логическое и нестандартное мышление, остроту ума, сообразительность, догадливость, умение рассуждать и доказывать, она учит видеть прекрасное, открывает поэтическую сторону в самых, казалось бы, прозаических вещах, предметах и явлениях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360" y="285840"/>
            <a:ext cx="83818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арад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это загадка, составленная в стихах, в ней задуманное слово распадается на несколько отдельных частей, причем каждое из них представляет собой самостоятельное слово, как правило, односложное. Например: «кит+ель», «мышь+як»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награмм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это слово или словосочетание, образованное от перестановки слогов и букв (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па – пила, актер – терк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, а также при чтении справа налево (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колесо – оселок, кот – то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, в результате чего составляется другое сло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Компоненты игровой технолог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тивационны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иентационно-целев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держательно-операцион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нностно-волев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еночны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-360" y="285840"/>
            <a:ext cx="83818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таграмм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это слово, образованное в результате замены одной буквы так, чтобы получилось новое слово (например, из слов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па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аменив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на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учаем другое слово –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са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азан – фазан, цапля – капля, карта – пар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т.п.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огогриф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загадка, для решения которой надо отыскать загаданное слово и образовать от него новое слово путем прибавления или убавления одной буквы или слога, 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ест – перст, мир – мираж, Вера – Вене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360" y="142560"/>
            <a:ext cx="838188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мограф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слово, совпадающее с другим по написанию, но разное по значению. Для разгадывания необходимо правильно перенести ударение с одного слога на другой, 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роволо'чка – про'волочка, и'рис – ири'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моним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слово, совпадающее с другим по звучанию и написанию, но по значению не имеющее с ним ничего общего (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ир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селенная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ир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земля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и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реда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ир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огласие, покой и др.;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нергия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ияние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общество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блик и д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C:\Documents and Settings\Ученик\Мои документы\Моя музыка\Мои рисунки\1_14104_preview_520.jpg"/>
          <p:cNvPicPr/>
          <p:nvPr/>
        </p:nvPicPr>
        <p:blipFill>
          <a:blip r:embed="rId1"/>
          <a:stretch/>
        </p:blipFill>
        <p:spPr>
          <a:xfrm>
            <a:off x="285840" y="2214720"/>
            <a:ext cx="8323200" cy="3457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7228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Помогите ученику найти к записанным ниже словам проверочные, которые спрятались в вагонах трамвайч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Box 5"/>
          <p:cNvSpPr/>
          <p:nvPr/>
        </p:nvSpPr>
        <p:spPr>
          <a:xfrm rot="21335400">
            <a:off x="974160" y="3755880"/>
            <a:ext cx="30096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раж, накал, подаренный, сладость, сторожка, колет, обличие, дразнит, дрожь, огородит, тесный, подарок, преграда, слов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6"/>
          <p:cNvSpPr/>
          <p:nvPr/>
        </p:nvSpPr>
        <p:spPr>
          <a:xfrm rot="21335400">
            <a:off x="4699800" y="3584160"/>
            <a:ext cx="224136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орож, прославить, тиснуть, прохлада, приличный, холодный, помощь, помож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4" descr="C:\Documents and Settings\Ученик\Local Settings\Temporary Internet Files\Content.IE5\OPQRGL2B\MC900232133[1].wmf"/>
          <p:cNvPicPr/>
          <p:nvPr/>
        </p:nvPicPr>
        <p:blipFill>
          <a:blip r:embed="rId2"/>
          <a:stretch/>
        </p:blipFill>
        <p:spPr>
          <a:xfrm>
            <a:off x="285840" y="1857240"/>
            <a:ext cx="17143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68709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Comic Sans MS"/>
              </a:rPr>
              <a:t>Игра «Кто быстре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думайте и запишите слова с приставками при-, пре-, выделите приставки и корни с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ва находящиеся в корзине, распределите по соответствующим колонк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Ученик\Local Settings\Temporary Internet Files\Content.IE5\OPQRGL2B\dglxasset[1].aspx"/>
          <p:cNvPicPr/>
          <p:nvPr/>
        </p:nvPicPr>
        <p:blipFill>
          <a:blip r:embed="rId1"/>
          <a:stretch/>
        </p:blipFill>
        <p:spPr>
          <a:xfrm>
            <a:off x="2714760" y="0"/>
            <a:ext cx="3714480" cy="46879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 rot="21054000">
            <a:off x="3350160" y="1780560"/>
            <a:ext cx="26431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гласить, природа, преодолеть, причина, приготовить, привыкать, приятный, прилежны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714240" y="1214280"/>
            <a:ext cx="271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 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6000840" y="1285920"/>
            <a:ext cx="278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Прямая со стрелкой 10"/>
          <p:cNvCxnSpPr/>
          <p:nvPr/>
        </p:nvCxnSpPr>
        <p:spPr>
          <a:xfrm flipH="1">
            <a:off x="4071240" y="4786200"/>
            <a:ext cx="2149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12"/>
          <p:cNvCxnSpPr/>
          <p:nvPr/>
        </p:nvCxnSpPr>
        <p:spPr>
          <a:xfrm>
            <a:off x="5142600" y="4786200"/>
            <a:ext cx="2149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49" name=""/>
          <p:cNvGraphicFramePr/>
          <p:nvPr/>
        </p:nvGraphicFramePr>
        <p:xfrm>
          <a:off x="1785960" y="4500720"/>
          <a:ext cx="2214720" cy="219384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НАЧЕНИЕ ПРИСТАВОК НЕ ОПРЕДЕЛЯ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572080" y="4500720"/>
          <a:ext cx="2214720" cy="219384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СТАВКА СОСТАВЛЯЕТ ЧАСТЬ КОР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C:\Documents and Settings\Ученик\Local Settings\Temporary Internet Files\Content.IE5\FGHJTH5V\MP900425188[2].jpg"/>
          <p:cNvPicPr/>
          <p:nvPr/>
        </p:nvPicPr>
        <p:blipFill>
          <a:blip r:embed="rId1"/>
          <a:stretch/>
        </p:blipFill>
        <p:spPr>
          <a:xfrm>
            <a:off x="1500120" y="2000160"/>
            <a:ext cx="5929560" cy="3970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7858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mic Sans MS"/>
              </a:rPr>
              <a:t>Однажды Николай увидел на воде спасательный круг с буквами в круге зашифровано 8 слов на правописание корней –плав-, -мак-, -скак-/-скоч-. Помогите Николаю прочитать эти сл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Группа 18"/>
          <p:cNvGrpSpPr/>
          <p:nvPr/>
        </p:nvGrpSpPr>
        <p:grpSpPr>
          <a:xfrm>
            <a:off x="2571840" y="2357280"/>
            <a:ext cx="3571920" cy="3494160"/>
            <a:chOff x="2571840" y="2357280"/>
            <a:chExt cx="3571920" cy="3494160"/>
          </a:xfrm>
        </p:grpSpPr>
        <p:pic>
          <p:nvPicPr>
            <p:cNvPr id="254" name="Picture 1" descr="C:\Users\Наташа\Desktop\0_358e5_2564d703_-2-L.jpg"/>
            <p:cNvPicPr/>
            <p:nvPr/>
          </p:nvPicPr>
          <p:blipFill>
            <a:blip r:embed="rId2"/>
            <a:stretch/>
          </p:blipFill>
          <p:spPr>
            <a:xfrm>
              <a:off x="2571840" y="2357280"/>
              <a:ext cx="3571920" cy="34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Прямоугольник 20" descr=""/>
            <p:cNvPicPr/>
            <p:nvPr/>
          </p:nvPicPr>
          <p:blipFill>
            <a:blip r:embed="rId3"/>
            <a:stretch/>
          </p:blipFill>
          <p:spPr>
            <a:xfrm>
              <a:off x="2999880" y="2706120"/>
              <a:ext cx="2720880" cy="253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726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Разгадайте кроссворд, составленный из слов с уменьшительно-ласкательными суффиксами –ек-/-ик-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81961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7858080" cy="3943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726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Разгадайте кроссворд, подбирая к указанным ниже словам и словосочетаниям синонимы с Н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972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Помогите футболистам (с помощью стрелочек) забить мячи в нужные воро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2" descr="C:\Documents and Settings\Ученик\Рабочий стол\clipart\HOMEANIM\AG00016_.GIF"/>
          <p:cNvPicPr/>
          <p:nvPr/>
        </p:nvPicPr>
        <p:blipFill>
          <a:blip r:embed="rId1"/>
          <a:stretch/>
        </p:blipFill>
        <p:spPr>
          <a:xfrm>
            <a:off x="2571840" y="164304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Documents and Settings\Ученик\Рабочий стол\clipart\HOMEANIM\J0095740.GIF"/>
          <p:cNvPicPr/>
          <p:nvPr/>
        </p:nvPicPr>
        <p:blipFill>
          <a:blip r:embed="rId2"/>
          <a:stretch/>
        </p:blipFill>
        <p:spPr>
          <a:xfrm>
            <a:off x="4857840" y="4643280"/>
            <a:ext cx="1214280" cy="1486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http://t3.gstatic.com/images?q=tbn:GdSzRi_VouYmoM:http://uaprom-image.s3.amazonaws.com/1018818_w640_h640_s100_vorota.jpg"/>
          <p:cNvPicPr/>
          <p:nvPr/>
        </p:nvPicPr>
        <p:blipFill>
          <a:blip r:embed="rId3"/>
          <a:stretch/>
        </p:blipFill>
        <p:spPr>
          <a:xfrm>
            <a:off x="5857920" y="3786120"/>
            <a:ext cx="2733480" cy="273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http://t2.gstatic.com/images?q=tbn:6fo2ca7gEWBhCM:http://ru.all-biz.info/img/ru/catalog/small/309803.jpeg"/>
          <p:cNvPicPr/>
          <p:nvPr/>
        </p:nvPicPr>
        <p:blipFill>
          <a:blip r:embed="rId4"/>
          <a:stretch/>
        </p:blipFill>
        <p:spPr>
          <a:xfrm>
            <a:off x="357120" y="1285920"/>
            <a:ext cx="2214720" cy="19130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 rot="20493000">
            <a:off x="1015920" y="1765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9"/>
          <p:cNvSpPr/>
          <p:nvPr/>
        </p:nvSpPr>
        <p:spPr>
          <a:xfrm rot="20493000">
            <a:off x="6765840" y="4691880"/>
            <a:ext cx="90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Через дефи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5286240" y="114300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бледно) (розов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4857840" y="157176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четырех) (этажн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4500720" y="2000160"/>
            <a:ext cx="257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тысяча) (тонн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4071960" y="242892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темно) (сини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3571920" y="285768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бело) (ствольная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3143160" y="328608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лейб) (гвардейски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2500200" y="371484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семи) (летни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2000160" y="414324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горько) (солен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500120" y="457200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низко) (росл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6" name="Прямая со стрелкой 22"/>
          <p:cNvCxnSpPr/>
          <p:nvPr/>
        </p:nvCxnSpPr>
        <p:spPr>
          <a:xfrm flipV="1">
            <a:off x="1641960" y="2999880"/>
            <a:ext cx="214920" cy="1501200"/>
          </a:xfrm>
          <a:prstGeom prst="straightConnector1">
            <a:avLst/>
          </a:prstGeom>
          <a:ln w="9360">
            <a:solidFill>
              <a:srgbClr val="b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мпоненты игровой технологии во взаимосвязи со структурными элементами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773360"/>
          <a:ext cx="8064360" cy="3932280"/>
        </p:xfrm>
        <a:graphic>
          <a:graphicData uri="http://schemas.openxmlformats.org/drawingml/2006/table">
            <a:tbl>
              <a:tblPr/>
              <a:tblGrid>
                <a:gridCol w="4137120"/>
                <a:gridCol w="3927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мпонент игровой техн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уктурные элементы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тив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тановочный момент, игровая 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риентационно-цел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чи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держательно-опер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вила игры, игровое 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нностно-вол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гровое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цено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Разновидности игр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5"/>
          <p:cNvSpPr/>
          <p:nvPr/>
        </p:nvSpPr>
        <p:spPr>
          <a:xfrm rot="1626000">
            <a:off x="3276720" y="1700280"/>
            <a:ext cx="296640" cy="1224000"/>
          </a:xfrm>
          <a:prstGeom prst="downArrow">
            <a:avLst>
              <a:gd name="adj1" fmla="val 50000"/>
              <a:gd name="adj2" fmla="val 10315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8"/>
          <p:cNvSpPr/>
          <p:nvPr/>
        </p:nvSpPr>
        <p:spPr>
          <a:xfrm rot="20239200">
            <a:off x="4787640" y="1699920"/>
            <a:ext cx="296640" cy="1224000"/>
          </a:xfrm>
          <a:prstGeom prst="downArrow">
            <a:avLst>
              <a:gd name="adj1" fmla="val 50000"/>
              <a:gd name="adj2" fmla="val 10315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042920" y="3068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учебно-ролевые (сюжетно-ролевые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643280" y="3141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дактические игр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1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5929200" y="42148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1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Основные цели и задачи игр на уроках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) победить в конкурсе, осуществить поиск, выступить в какой-либо роли. Перед учениками не ставится прямая цель – овладеть определенными знаниями, умени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) добровольный характер игры диктует добровольное подчинение всех участников игровым правила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) игра должна заинтриговать (удивить, поразить воображение и, может быть, поставить в тупик). Поэтому в ней должны участвовать все («слабым» ученикам надо дать возможность поверить в себя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) игра должна обеспечивать более высокую, по сравнению с обычными формами урока, обучающую, развивающую и воспитательную результатив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___________________________"/>
          <p:cNvPicPr/>
          <p:nvPr/>
        </p:nvPicPr>
        <p:blipFill>
          <a:blip r:embed="rId1"/>
          <a:stretch/>
        </p:blipFill>
        <p:spPr>
          <a:xfrm>
            <a:off x="468360" y="981000"/>
            <a:ext cx="7777080" cy="5477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22952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Мы, играя, проверяем, что умеем и что знае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9" descr="MC900280334[1]"/>
          <p:cNvPicPr/>
          <p:nvPr/>
        </p:nvPicPr>
        <p:blipFill>
          <a:blip r:embed="rId2"/>
          <a:stretch/>
        </p:blipFill>
        <p:spPr>
          <a:xfrm>
            <a:off x="324000" y="765000"/>
            <a:ext cx="1439640" cy="113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MC900412398[1]"/>
          <p:cNvPicPr/>
          <p:nvPr/>
        </p:nvPicPr>
        <p:blipFill>
          <a:blip r:embed="rId3"/>
          <a:stretch/>
        </p:blipFill>
        <p:spPr>
          <a:xfrm>
            <a:off x="0" y="5445000"/>
            <a:ext cx="1835280" cy="1230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MC900432587[1]"/>
          <p:cNvPicPr/>
          <p:nvPr/>
        </p:nvPicPr>
        <p:blipFill>
          <a:blip r:embed="rId4"/>
          <a:stretch/>
        </p:blipFill>
        <p:spPr>
          <a:xfrm>
            <a:off x="6443640" y="40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dglxasset[2]"/>
          <p:cNvPicPr/>
          <p:nvPr/>
        </p:nvPicPr>
        <p:blipFill>
          <a:blip r:embed="rId5"/>
          <a:stretch/>
        </p:blipFill>
        <p:spPr>
          <a:xfrm>
            <a:off x="5292720" y="3068640"/>
            <a:ext cx="2592360" cy="190512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1"/>
          <p:cNvSpPr txBox="1"/>
          <p:nvPr/>
        </p:nvSpPr>
        <p:spPr>
          <a:xfrm>
            <a:off x="2268360" y="6021360"/>
            <a:ext cx="4535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Лингвиния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2050920" y="256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роспект Морфолог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5003640" y="2492280"/>
            <a:ext cx="2521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рфографический зам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2050920" y="49417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оляна Морфем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5219640" y="5157720"/>
            <a:ext cx="2519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оссе синтаксиса и пункту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2124000" y="3645000"/>
            <a:ext cx="201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Лексический переул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28" descr="MC900199465[1]"/>
          <p:cNvPicPr/>
          <p:nvPr/>
        </p:nvPicPr>
        <p:blipFill>
          <a:blip r:embed="rId6"/>
          <a:stretch/>
        </p:blipFill>
        <p:spPr>
          <a:xfrm>
            <a:off x="2556000" y="1484280"/>
            <a:ext cx="1439640" cy="1154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9" descr="dglxasset[2]"/>
          <p:cNvPicPr/>
          <p:nvPr/>
        </p:nvPicPr>
        <p:blipFill>
          <a:blip r:embed="rId7"/>
          <a:stretch/>
        </p:blipFill>
        <p:spPr>
          <a:xfrm>
            <a:off x="4427640" y="3933720"/>
            <a:ext cx="7984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Игра «Справочное бюро»</a:t>
            </a:r>
            <a:br>
              <a:rPr sz="4000"/>
            </a:b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(лексический переулок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уя толковый словарь, выбе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во, соответствующе лексическо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ю –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составная часть че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либ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а) колорит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) комфор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б) компонент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г) компроми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Игра «От каждой буквы</a:t>
            </a:r>
            <a:br>
              <a:rPr sz="4000"/>
            </a:b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– столбик - слово»</a:t>
            </a:r>
            <a:br>
              <a:rPr sz="4000"/>
            </a:b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(Проспект Морфология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На доске написано одно и то же слово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столько раз, сколько команд буде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участвовать в игре. Представители команд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о очереди подходят к доске и пишут по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ертикали слова, начинающиеся с букв,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составляющих написанное слово 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являющихся </a:t>
            </a: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существительными 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склонения мужского ро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6:12:13Z</dcterms:created>
  <dc:creator>Завуч</dc:creator>
  <dc:description/>
  <dc:language>en-US</dc:language>
  <cp:lastModifiedBy>Ученик</cp:lastModifiedBy>
  <dcterms:modified xsi:type="dcterms:W3CDTF">2010-11-13T11:29:20Z</dcterms:modified>
  <cp:revision>22</cp:revision>
  <dc:subject/>
  <dc:title>Слайд 1</dc:title>
</cp:coreProperties>
</file>