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EE6-8707-4C7B-A724-B11F3AA4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D8A-E1B0-490F-8121-8EA360D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04E-F653-4AE5-B745-7DDCAB88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A18-8722-47D9-B826-EBB8B1EE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726-20C1-4516-8AB0-60008721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75E7-F9C2-426A-81A0-B68E0D6C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6FE3-585F-495A-A19B-21A3595E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E9E9-EBD3-4959-A2A5-639116C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209D-6894-4318-9FDE-CF965DCB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E916-4798-495C-8F7B-E3FE82F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0237-B3F2-43D1-A199-6EFE16C8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C77-FA25-4617-9D34-A12EAF54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1231-3E41-4693-9890-AB40534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8784-AB49-4872-8501-B1A85481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7539-D64C-4F38-BE8A-44C25676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3E4-B48B-4068-9664-DBCCC4AB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10D-DB12-4A55-8C4F-A6C3B854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B0B9-9090-47D7-85E9-E7F47DB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8614-5485-454C-953E-39F4FF46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F79E-E8D4-46B9-AD8A-155B8BC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1E7B-48BF-4AFD-89D7-7393D26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56A9-1738-4BD8-9902-8D3F34DB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6AF-6CFB-4DE8-A96F-B0C14A1D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6283-415F-43D0-BF17-2167CF5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C394-ECF3-4670-97F8-929C4DF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4E24-14E1-4C29-99DE-655DDAA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560B-C234-4383-ACB7-1C0987F2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A6F7-A0D1-4EDB-A955-BE97DC64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4045-FA0C-4BA6-8827-28934373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AC00-F723-44C2-9223-72CB281B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2922-39B3-43E3-9684-9B9DABDB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45FA5-38D8-4799-B88C-802739C7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1894-88FC-4243-A415-65BB20F0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B72-4A85-4CC1-BB6E-821449F8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5BF0-B19E-4A68-8577-F40288E4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6327-4241-4260-AD6C-E49A1CD1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77FE-83C6-4E68-8D3E-942D277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724E-507D-4BBD-B64A-4DEDA64C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5BC39-F002-489D-BD32-38690076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38DB-3FE8-4367-A3CE-38584D0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C949-0369-4FAD-BB7A-90EF5CA9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53A4-8157-4BA0-811E-EDB3F57E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EF61-847F-4996-9C6A-4201467B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63F9-4E62-4E70-94F7-FF57D538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4D1-A6EE-4AF1-B1BA-806E857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D075-8F62-420C-A2F5-D13D259C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BBEC-AFF5-4195-AD49-5125EC7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85D5-48B9-4663-9649-DAAF7916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A1E7-E982-466D-BFA4-A4B9D211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2077-4EAC-4CD6-9EBC-07E6DAF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1052-C5A4-4240-9DF3-44898F5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2EE5-CCAD-44C1-8372-0A9E650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B32B-CDCC-4EF5-965B-F80DD3F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46C13-AD9C-401D-A45F-F26233B8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82A4-A480-49A1-9C96-CA91FE45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33E-7578-4345-90B6-868080D9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F4DE5-4513-466E-A7C3-2794A087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A4FAA-709F-45D8-ADD0-B8A096BC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56CC-B059-4C07-8E9D-7A9F961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E4F51-0B0E-4241-B17E-30EFB18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9EE4-5AC1-4D82-A8F4-EE532064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E0D02-6512-4081-BCBD-126EBBA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5966-8789-4185-B448-C26FC962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D8E8E-D960-476A-87A4-B52DD19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CCCAA-A5A1-4647-96DF-6E1E3F07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945DE-4C6E-43C1-81F4-AFFA47D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AB0-DF47-4F3A-8157-A7E00FD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C5EA-43A6-4486-A878-26DB785E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4FAD6-D740-49EA-BC3E-D1CD5693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790C8-A04E-488D-982C-DDDAFDA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816-24AD-43FE-A189-FEBCCA2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A98-1D60-4984-8789-4226513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A27-9B88-4249-8919-8D5912D5CA3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BB28-B3FA-4A15-9A82-7B0643DE4E1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4E2-2066-4B42-A0A2-7246E3E73B9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CF1-F9ED-4A00-9823-67B18521225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5955-7335-4663-A26E-3BED4777F36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5AE0-45AE-4EC1-9F4F-CE3B86D528B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7zyczen.com/img/mid/1715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4k.ru/products_pictures/big_5df4727eeca3fbb2dd9cdc0675bb23bf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dic.academic.ru/pictures/wiki/files/67/Clock_lock.jpg&amp;iorient=&amp;icolor=&amp;site=&amp;text=&#1082;&#1074;&#1072;&#1088;&#1094;&#1077;&#1074;&#1099;&#1077;%20&#1095;&#1072;&#1089;&#1099;%20&#1082;&#1072;&#1088;&#1090;&#1080;&#1085;&#1082;&#1080;&amp;wp=&amp;pos=13&amp;isize=&amp;type=&amp;recent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oromio.ru/f/products/96b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www.superprices.ru/published/publicdata/SUPERDVDPRICES/attachments/SC/products_pictures/YW837W_enl.JPG&amp;iorient=&amp;icolor=&amp;site=&amp;text=&#1082;&#1074;&#1072;&#1088;&#1094;&#1077;&#1074;&#1099;&#1077;%20&#1095;&#1072;&#1089;&#1099;%20&#1082;&#1072;&#1088;&#1090;&#1080;&#1085;&#1082;&#1080;&amp;wp=&amp;pos=3&amp;isize=&amp;type=&amp;recent=&amp;rpt=simage&amp;itype=&amp;nojs=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www.alltime.ru/obj/catalog/watch/balmain/img/big/B32553212.jpg&amp;iorient=&amp;icolor=&amp;site=&amp;text=&#1095;&#1072;&#1089;&#1099;%20&#1089;%20&#1089;&#1072;&#1087;&#1092;&#1080;&#1088;&#1086;&#1074;&#1099;&#1084;&#1080;%20&#1089;&#1090;&#1105;&#1082;&#1083;&#1072;&#1084;&#1080;%20&#1082;&#1072;&#1088;&#1090;&#1080;&#1085;&#1082;&#1080;&amp;wp=&amp;pos=19&amp;isize=&amp;type=&amp;recent=&amp;rpt=simage&amp;itype=&amp;nojs=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img_url=www.watcharoo.co.uk/prodims/Mido/19_resize.jpg&amp;iorient=&amp;icolor=&amp;p=1&amp;site=&amp;text=&#1095;&#1072;&#1089;&#1099;%20&#1089;%20&#1089;&#1072;&#1087;&#1092;&#1080;&#1088;&#1086;&#1074;&#1099;&#1084;&#1080;%20&#1089;&#1090;&#1105;&#1082;&#1083;&#1072;&#1084;&#1080;%20&#1082;&#1072;&#1088;&#1090;&#1080;&#1085;&#1082;&#1080;&amp;wp=&amp;pos=57&amp;isize=&amp;type=&amp;recent=&amp;rpt=simage&amp;itype=&amp;nojs=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img_url=vip-watch.com.ua/logo.php?id=29930&amp;num=1.jpg&amp;iorient=&amp;icolor=&amp;p=3&amp;site=&amp;text=&#1095;&#1072;&#1089;&#1099;%20&#1089;%20&#1089;&#1072;&#1087;&#1092;&#1080;&#1088;&#1086;&#1074;&#1099;&#1084;&#1080;%20&#1089;&#1090;&#1105;&#1082;&#1083;&#1072;&#1084;&#1080;%20&#1082;&#1072;&#1088;&#1090;&#1080;&#1085;&#1082;&#1080;&amp;wp=&amp;pos=119&amp;isize=&amp;type=&amp;recent=&amp;rpt=simage&amp;itype=&amp;nojs=1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i02.i.aliimg.com/img/pb/471/516/247/1273218492683_hz-myalibaba-web13.hst.dsl.en.alidc.net_1696.jpg&amp;iorient=&amp;icolor=&amp;site=&amp;text=&#1095;&#1072;&#1089;&#1099;%20&#1074;&#1086;&#1076;&#1086;&#1089;&#1090;&#1086;&#1081;&#1082;&#1080;&#1077;%20&#1082;&#1072;&#1088;&#1090;&#1080;&#1085;&#1082;&#1080;&amp;wp=&amp;pos=3&amp;isize=&amp;type=&amp;recent=&amp;rpt=simage&amp;itype=&amp;nojs=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img_url=i.gsmmaniak.pl/2010/08/garmin-forerunner-110.jpg&amp;iorient=&amp;icolor=&amp;site=&amp;text=&#1095;&#1072;&#1089;&#1099;%20&#1074;&#1086;&#1076;&#1086;&#1089;&#1090;&#1086;&#1081;&#1082;&#1080;&#1077;%20&#1082;&#1072;&#1088;&#1090;&#1080;&#1085;&#1082;&#1080;&amp;wp=&amp;pos=22&amp;isize=&amp;type=&amp;recent=&amp;rpt=simage&amp;itype=&amp;nojs=1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Каталог картинок\Часы\clip39.jpg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0" y="0"/>
            <a:ext cx="9667800" cy="69613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2"/>
          <a:stretch/>
        </p:blipFill>
        <p:spPr>
          <a:xfrm>
            <a:off x="-414360" y="712800"/>
            <a:ext cx="10753920" cy="3451320"/>
          </a:xfrm>
          <a:prstGeom prst="rect">
            <a:avLst/>
          </a:prstGeom>
          <a:ln w="0">
            <a:noFill/>
          </a:ln>
        </p:spPr>
      </p:pic>
      <p:pic>
        <p:nvPicPr>
          <p:cNvPr id="256" name="1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часы.mp3" descr=""/>
          <p:cNvPicPr/>
          <p:nvPr/>
        </p:nvPicPr>
        <p:blipFill>
          <a:blip r:embed="rId4"/>
          <a:stretch/>
        </p:blipFill>
        <p:spPr>
          <a:xfrm>
            <a:off x="8215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9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408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   носить часы в баню, сауну, на пляж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Нет , так как чрезмерное тепло негативно влияет на корпус час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де ремонтировать дорогие часы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олько в специализи-рованных сервисных центр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0" y="404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92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D:\Диски с картинками\Предметы вокруг нас\Время\SETI0003 П.gif"/>
          <p:cNvPicPr/>
          <p:nvPr/>
        </p:nvPicPr>
        <p:blipFill>
          <a:blip r:embed="rId1"/>
          <a:stretch/>
        </p:blipFill>
        <p:spPr>
          <a:xfrm>
            <a:off x="3857760" y="571680"/>
            <a:ext cx="5929200" cy="5929200"/>
          </a:xfrm>
          <a:prstGeom prst="rect">
            <a:avLst/>
          </a:prstGeom>
          <a:ln w="0">
            <a:noFill/>
          </a:ln>
        </p:spPr>
      </p:pic>
      <p:pic>
        <p:nvPicPr>
          <p:cNvPr id="294" name="Заголовок 5" descr=""/>
          <p:cNvPicPr/>
          <p:nvPr/>
        </p:nvPicPr>
        <p:blipFill>
          <a:blip r:embed="rId2"/>
          <a:stretch/>
        </p:blipFill>
        <p:spPr>
          <a:xfrm>
            <a:off x="-6480" y="4761000"/>
            <a:ext cx="6943680" cy="153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 rot="19723800">
            <a:off x="-205200" y="16426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Диски с картинками\Предметы вокруг нас\Время\OLDCLCK П.gif"/>
          <p:cNvPicPr/>
          <p:nvPr/>
        </p:nvPicPr>
        <p:blipFill>
          <a:blip r:embed="rId1"/>
          <a:stretch/>
        </p:blipFill>
        <p:spPr>
          <a:xfrm>
            <a:off x="5715000" y="292896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259" name="Sound 8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571680" y="11494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зависимо от того, хотите вы купить мужские часы или женские, вам необходимо знать правила ухода за этим аксессуаром, чтобы они служили вам как можно дол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 их внешний вид оставался безупреч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403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ханические часы необходимо в обязательном порядке 3-4 раз в год чистить и регулировать точность хода. Делать самостоятельно это не стоит, лучше свои часы доверить сервисному центру, так как любая пылинка, попавшая в механизм, может привести к нарушению точности хода. Заводить механические часы следует только сняв их с руки. Часы, которые заводятся вручную, следует заводить в одно и тоже время ежедневно, часы с автоматическим заводом следует заводить 1 раз в неделю. В механических часах, особенно если они дорогие, не стоит заниматься спортом и домашн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Franklin Gothic Book"/>
              </a:rPr>
              <a:t>Уход за механическими часам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Содержимое 7" descr="http://www.7zyczen.com/img/mid/17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1428840"/>
            <a:ext cx="1733400" cy="2168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8" descr="http://www.m4k.ru/products_pictures/big_5df4727eeca3fbb2dd9cdc0675bb23b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357720"/>
            <a:ext cx="189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кварцевыми часами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цевые часы, в отличии от механических, требуют меньшего внимания, однако в систематическом уходе и чистке они также нуждаются. Так же как и механические, кварцевые часы для чистки лучше отдать в сервисный центр. Менять дату в кварцевых часах необходимо между 22 и 02 часами ночи, чтобы не повредить календарный механ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Содержимое 4" descr="http://im2-tub-ru.yandex.net/i?id=398124578-0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000160"/>
            <a:ext cx="1976400" cy="21430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http://www.oromio.ru/f/products/96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1143000"/>
            <a:ext cx="1625400" cy="19350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http://im5-tub-ru.yandex.net/i?id=311819896-6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240" y="4714920"/>
            <a:ext cx="20005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часами с сапфировыми стёклами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пфировые стёкла – неотъемлемая часть швейцарских часов. Такие стёкла очень прочные и чтобы их поцарапать, надо постараться. Но несмотря на это, часы с сапфировыми стёклами необходимо хранить в специальной коробке (либо в которой они продавались, либо в шкатулке для украшений). Чистить часы с сапфировыми стёклами следует в сервисном цен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Содержимое 4" descr="http://im6-tub-ru.yandex.net/i?id=201976963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928880"/>
            <a:ext cx="1571400" cy="17859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http://im6-tub-ru.yandex.net/i?id=463739825-6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285768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" descr="http://im6-tub-ru.yandex.net/i?id=446973853-0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4357800"/>
            <a:ext cx="207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водостойкими часами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стойкие часы можно чистить самостоятельно, немного намочив тряпочку в мыльном растворе, после чего их насухо вытереть. Различайте такие понятия, как водостойкие и водозащитные часы. Водостойкие часы – часы, для которых неопасно попадание на корпус небольшого количества воды (мытьё рук, например). Водозащитные часы –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ас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плавания и долгого нахождения под в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одержимое 4" descr="http://im6-tub-ru.yandex.net/i?id=452264510-2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264312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http://im5-tub-ru.yandex.net/i?id=446934652-4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240" y="100008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http://im0-tub-ru.yandex.net/i?id=595195268-60-72&amp;n=21"/>
          <p:cNvPicPr/>
          <p:nvPr/>
        </p:nvPicPr>
        <p:blipFill>
          <a:blip r:embed="rId5"/>
          <a:stretch/>
        </p:blipFill>
        <p:spPr>
          <a:xfrm>
            <a:off x="6715080" y="4572000"/>
            <a:ext cx="207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Franklin Gothic Book"/>
              </a:rPr>
              <a:t>Блиц- опрос</a:t>
            </a:r>
            <a:endParaRPr b="0" lang="en-US" sz="8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Picture 2" descr="D:\Диски с картинками\Предметы вокруг нас\Время\STPWT04 П.gif"/>
          <p:cNvPicPr/>
          <p:nvPr/>
        </p:nvPicPr>
        <p:blipFill>
          <a:blip r:embed="rId1"/>
          <a:stretch/>
        </p:blipFill>
        <p:spPr>
          <a:xfrm>
            <a:off x="2762280" y="2433600"/>
            <a:ext cx="35672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хранить часы в холод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67080" y="1599840"/>
            <a:ext cx="3657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    Нет, так как это может привести к загустению смазочного масла и остановке механизм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спать в часах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67080" y="1599840"/>
            <a:ext cx="36576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Нет , так как пот может привести к повреждению корпус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24:27Z</dcterms:created>
  <dc:creator>FoM</dc:creator>
  <dc:description/>
  <dc:language>en-US</dc:language>
  <cp:lastModifiedBy>JT</cp:lastModifiedBy>
  <dcterms:modified xsi:type="dcterms:W3CDTF">2012-09-12T16:38:21Z</dcterms:modified>
  <cp:revision>65</cp:revision>
  <dc:subject/>
  <dc:title>Слайд 1</dc:title>
</cp:coreProperties>
</file>