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9.png" ContentType="image/png"/>
  <Override PartName="/ppt/media/image17.gif" ContentType="image/gif"/>
  <Override PartName="/ppt/media/image3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BA8E-9E68-4C39-8C89-09CF6CF42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FE8B-17CC-42DD-ADD1-A1F7E224F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7A5E-0805-4266-A52B-D29A4FB96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B559-6707-4905-81FA-4B53F999F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33923-04F8-4AB8-9B68-1B54CFD5E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2D12A-45BF-4205-A86D-F9EBFBC7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B9A31-7893-4CE4-995B-C3428497D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9A799-03E7-4149-9E3D-F82C999ED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823CA-DC75-4440-8038-0B96E93B5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EF3FB-FA34-41BD-99A2-336F46396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EFF85-B2E4-4655-886C-F9C14A79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44D5-4013-4E21-9CAB-F8694E48A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5B52D-2AC6-4095-AED8-BD70C7DB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B9C1A-7A74-4678-9F04-A64B330D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C32BD-6EA1-4745-B0A9-37D0ED6BF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6368D-FA8F-40D5-A1F3-758FC0AE1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34907-2D02-4CB9-ADD4-2842A8025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F3799-21B3-445E-9EA7-CCD0922FC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4F6D0-9F3B-4126-A013-04CC97846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E7568-A792-4B45-BE77-4E553484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35282-DACD-47E5-9114-CFD46E09C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04030-7745-4EEB-83B0-74948F959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E860-E4C1-4F8F-8A81-60093C7B0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356DC-D7F3-4633-A201-1B5DED9FC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FF334-5129-43C1-BE87-AFE71C67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45D58-CED2-453D-93B8-507F8656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28EAB-1DB5-4DDD-A042-4583CF6A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25EF9-7CD9-46F0-A5C1-34E9FACAB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4FE86-5B0E-49BC-ACDF-384A12342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2BCD9-D801-4D9C-9D12-C00D20A24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138A3-1143-4D57-88DB-56112F40B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E015B-EDCF-4C1B-9F1E-233B62CB7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E1F4B-7705-4400-9DCD-88E90C0CC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C6F3-A366-435E-86DF-01BE25EB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8378D-5194-4CD6-9BFB-15CFE258D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3EAE2-F1AD-4602-B6D4-222D0BEF3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26ED8-F5A8-403C-A628-330712C5A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206EA-164A-44F2-B220-F2B2BC52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E74AA-7265-424C-BCDE-85F33C2B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A03A1-AF23-4621-96DF-A1DD4754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431F4-A500-4820-B78D-BEF824199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1499A-DBB1-4003-B568-6EB69172C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F181F-2245-4E75-8444-908324D93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ABD84-F0DB-4C10-BBFA-CF371753F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6682-6484-46B5-815B-DE1B5C608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6CFE6-EB49-4A49-8A82-0073C08EB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6B374-02B5-4C37-88DA-DC45D228D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71C2A-1478-49C7-8D1C-334946155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75B04-CAE2-452F-9452-34E18B93A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31DEF-040E-4D0B-8CAC-795F9EA40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BB04B-3E96-421A-9E48-8B3AB399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7D32C-9A1E-4746-BFB4-BC08D458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48DDE-20EF-4F41-A413-F2EF0957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4FB41-8CA5-418B-9A2B-6B5E69E7C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9F432-969F-42A6-AE67-96513C952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48C7-9254-497A-BE82-BFB3D79ED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52D91-42D1-4FB3-8DB9-6104A151A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7C765-9A70-4471-B265-8FDEB8822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65D4E-ADCC-418C-A8D4-E7D21AF32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6B49E-F5D9-44FF-95F7-9598FBDBD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9AC34-4A1D-40B7-B993-3F94C17EA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9A97F-1EB0-4DC7-A3EF-62EC704CA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60190-2267-44C6-8A2F-78DE394A4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6CF5F-91B4-4B6B-9661-7DDAB13A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DDA80-8C4E-4522-8272-D81CED54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1BDA1D-22AC-445C-86AF-F43EB261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2BEC-136A-4594-B67B-5B2981D2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954BE-C98C-4BFE-A891-95E9B4BC9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66B2E-3D0F-4238-A532-DEE86671A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4A9A1-0652-4851-827A-78C5C2059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1285-E6F4-4AC4-8EB0-9E488A5B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3A0E-E02E-4B12-9286-193D18E7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DF4D2-A0FF-4500-95CD-BC81A86366A2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94F81-6EC5-4E6F-A165-E4C3BBEAE3F1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6AE5D-C7A1-4D69-A1A9-EFB7C37AAC81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187EE-3447-455E-A68B-3B400C123697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194A6-BFB6-4078-9968-A199EDB034BB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E99C1-F252-4736-8B86-B72AF0A581F0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7zyczen.com/img/mid/1715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m4k.ru/products_pictures/big_5df4727eeca3fbb2dd9cdc0675bb23bf.jp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img_url=dic.academic.ru/pictures/wiki/files/67/Clock_lock.jpg&amp;iorient=&amp;icolor=&amp;site=&amp;text=&#1082;&#1074;&#1072;&#1088;&#1094;&#1077;&#1074;&#1099;&#1077;%20&#1095;&#1072;&#1089;&#1099;%20&#1082;&#1072;&#1088;&#1090;&#1080;&#1085;&#1082;&#1080;&amp;wp=&amp;pos=13&amp;isize=&amp;type=&amp;recent=&amp;rpt=simage&amp;itype=&amp;nojs=1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oromio.ru/f/products/96b.jpg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images.yandex.ru/yandsearch?img_url=www.superprices.ru/published/publicdata/SUPERDVDPRICES/attachments/SC/products_pictures/YW837W_enl.JPG&amp;iorient=&amp;icolor=&amp;site=&amp;text=&#1082;&#1074;&#1072;&#1088;&#1094;&#1077;&#1074;&#1099;&#1077;%20&#1095;&#1072;&#1089;&#1099;%20&#1082;&#1072;&#1088;&#1090;&#1080;&#1085;&#1082;&#1080;&amp;wp=&amp;pos=3&amp;isize=&amp;type=&amp;recent=&amp;rpt=simage&amp;itype=&amp;nojs=1" TargetMode="External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img_url=www.alltime.ru/obj/catalog/watch/balmain/img/big/B32553212.jpg&amp;iorient=&amp;icolor=&amp;site=&amp;text=&#1095;&#1072;&#1089;&#1099;%20&#1089;%20&#1089;&#1072;&#1087;&#1092;&#1080;&#1088;&#1086;&#1074;&#1099;&#1084;&#1080;%20&#1089;&#1090;&#1105;&#1082;&#1083;&#1072;&#1084;&#1080;%20&#1082;&#1072;&#1088;&#1090;&#1080;&#1085;&#1082;&#1080;&amp;wp=&amp;pos=19&amp;isize=&amp;type=&amp;recent=&amp;rpt=simage&amp;itype=&amp;nojs=1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yandex.ru/yandsearch?img_url=www.watcharoo.co.uk/prodims/Mido/19_resize.jpg&amp;iorient=&amp;icolor=&amp;p=1&amp;site=&amp;text=&#1095;&#1072;&#1089;&#1099;%20&#1089;%20&#1089;&#1072;&#1087;&#1092;&#1080;&#1088;&#1086;&#1074;&#1099;&#1084;&#1080;%20&#1089;&#1090;&#1105;&#1082;&#1083;&#1072;&#1084;&#1080;%20&#1082;&#1072;&#1088;&#1090;&#1080;&#1085;&#1082;&#1080;&amp;wp=&amp;pos=57&amp;isize=&amp;type=&amp;recent=&amp;rpt=simage&amp;itype=&amp;nojs=1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images.yandex.ru/yandsearch?img_url=vip-watch.com.ua/logo.php?id=29930&amp;num=1.jpg&amp;iorient=&amp;icolor=&amp;p=3&amp;site=&amp;text=&#1095;&#1072;&#1089;&#1099;%20&#1089;%20&#1089;&#1072;&#1087;&#1092;&#1080;&#1088;&#1086;&#1074;&#1099;&#1084;&#1080;%20&#1089;&#1090;&#1105;&#1082;&#1083;&#1072;&#1084;&#1080;%20&#1082;&#1072;&#1088;&#1090;&#1080;&#1085;&#1082;&#1080;&amp;wp=&amp;pos=119&amp;isize=&amp;type=&amp;recent=&amp;rpt=simage&amp;itype=&amp;nojs=1" TargetMode="External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img_url=i02.i.aliimg.com/img/pb/471/516/247/1273218492683_hz-myalibaba-web13.hst.dsl.en.alidc.net_1696.jpg&amp;iorient=&amp;icolor=&amp;site=&amp;text=&#1095;&#1072;&#1089;&#1099;%20&#1074;&#1086;&#1076;&#1086;&#1089;&#1090;&#1086;&#1081;&#1082;&#1080;&#1077;%20&#1082;&#1072;&#1088;&#1090;&#1080;&#1085;&#1082;&#1080;&amp;wp=&amp;pos=3&amp;isize=&amp;type=&amp;recent=&amp;rpt=simage&amp;itype=&amp;nojs=1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images.yandex.ru/yandsearch?img_url=i.gsmmaniak.pl/2010/08/garmin-forerunner-110.jpg&amp;iorient=&amp;icolor=&amp;site=&amp;text=&#1095;&#1072;&#1089;&#1099;%20&#1074;&#1086;&#1076;&#1086;&#1089;&#1090;&#1086;&#1081;&#1082;&#1080;&#1077;%20&#1082;&#1072;&#1088;&#1090;&#1080;&#1085;&#1082;&#1080;&amp;wp=&amp;pos=22&amp;isize=&amp;type=&amp;recent=&amp;rpt=simage&amp;itype=&amp;nojs=1" TargetMode="External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D:\Каталог картинок\Часы\clip39.jpg"/>
          <p:cNvPicPr/>
          <p:nvPr/>
        </p:nvPicPr>
        <p:blipFill>
          <a:blip r:embed="rId1">
            <a:lum bright="52000"/>
          </a:blip>
          <a:stretch/>
        </p:blipFill>
        <p:spPr>
          <a:xfrm>
            <a:off x="0" y="0"/>
            <a:ext cx="9667800" cy="6961320"/>
          </a:xfrm>
          <a:prstGeom prst="rect">
            <a:avLst/>
          </a:prstGeom>
          <a:ln w="0">
            <a:noFill/>
          </a:ln>
        </p:spPr>
      </p:pic>
      <p:pic>
        <p:nvPicPr>
          <p:cNvPr id="255" name="Прямоугольник 2" descr=""/>
          <p:cNvPicPr/>
          <p:nvPr/>
        </p:nvPicPr>
        <p:blipFill>
          <a:blip r:embed="rId2"/>
          <a:stretch/>
        </p:blipFill>
        <p:spPr>
          <a:xfrm>
            <a:off x="-414360" y="712800"/>
            <a:ext cx="10753920" cy="3451320"/>
          </a:xfrm>
          <a:prstGeom prst="rect">
            <a:avLst/>
          </a:prstGeom>
          <a:ln w="0">
            <a:noFill/>
          </a:ln>
        </p:spPr>
      </p:pic>
      <p:pic>
        <p:nvPicPr>
          <p:cNvPr id="256" name="1.mp3" descr=""/>
          <p:cNvPicPr/>
          <p:nvPr/>
        </p:nvPicPr>
        <p:blipFill>
          <a:blip r:embed="rId3"/>
          <a:stretch/>
        </p:blipFill>
        <p:spPr>
          <a:xfrm>
            <a:off x="8991720" y="-3049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57" name="часы.mp3" descr=""/>
          <p:cNvPicPr/>
          <p:nvPr/>
        </p:nvPicPr>
        <p:blipFill>
          <a:blip r:embed="rId4"/>
          <a:stretch/>
        </p:blipFill>
        <p:spPr>
          <a:xfrm>
            <a:off x="821520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59" fill="hold"/>
                                        <p:tgtEl>
                                          <p:spTgt spid="2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959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44408" fill="hold"/>
                                        <p:tgtEl>
                                          <p:spTgt spid="2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Можно ли    носить часы в баню, сауну, на пляже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26708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Ответ:                        Нет , так как чрезмерное тепло негативно влияет на корпус часов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Где ремонтировать дорогие часы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26708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Ответ: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Только в специализи-рованных сервисных центрах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2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WordArt 2"/>
          <p:cNvSpPr txBox="1"/>
          <p:nvPr/>
        </p:nvSpPr>
        <p:spPr>
          <a:xfrm>
            <a:off x="0" y="404640"/>
            <a:ext cx="727236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ОЛОДЦЫ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92" name="Picture 3" descr="2">
            <a:hlinkClick r:id="" action="ppaction://hlinkshowjump?jump=next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6360" y="2205000"/>
            <a:ext cx="316872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2" descr="D:\Диски с картинками\Предметы вокруг нас\Время\SETI0003 П.gif"/>
          <p:cNvPicPr/>
          <p:nvPr/>
        </p:nvPicPr>
        <p:blipFill>
          <a:blip r:embed="rId1"/>
          <a:stretch/>
        </p:blipFill>
        <p:spPr>
          <a:xfrm>
            <a:off x="3857760" y="571680"/>
            <a:ext cx="5929200" cy="5929200"/>
          </a:xfrm>
          <a:prstGeom prst="rect">
            <a:avLst/>
          </a:prstGeom>
          <a:ln w="0">
            <a:noFill/>
          </a:ln>
        </p:spPr>
      </p:pic>
      <p:pic>
        <p:nvPicPr>
          <p:cNvPr id="294" name="Заголовок 5" descr=""/>
          <p:cNvPicPr/>
          <p:nvPr/>
        </p:nvPicPr>
        <p:blipFill>
          <a:blip r:embed="rId2"/>
          <a:stretch/>
        </p:blipFill>
        <p:spPr>
          <a:xfrm>
            <a:off x="-6480" y="4761000"/>
            <a:ext cx="6943680" cy="153036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/>
          </p:nvPr>
        </p:nvSpPr>
        <p:spPr>
          <a:xfrm rot="19723800">
            <a:off x="-205200" y="164268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КОНЕЦ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1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D:\Диски с картинками\Предметы вокруг нас\Время\OLDCLCK П.gif"/>
          <p:cNvPicPr/>
          <p:nvPr/>
        </p:nvPicPr>
        <p:blipFill>
          <a:blip r:embed="rId1"/>
          <a:stretch/>
        </p:blipFill>
        <p:spPr>
          <a:xfrm>
            <a:off x="5715000" y="2928960"/>
            <a:ext cx="3714840" cy="3714840"/>
          </a:xfrm>
          <a:prstGeom prst="rect">
            <a:avLst/>
          </a:prstGeom>
          <a:ln w="0">
            <a:noFill/>
          </a:ln>
        </p:spPr>
      </p:pic>
      <p:pic>
        <p:nvPicPr>
          <p:cNvPr id="259" name="Sound 8.mp3" descr=""/>
          <p:cNvPicPr/>
          <p:nvPr/>
        </p:nvPicPr>
        <p:blipFill>
          <a:blip r:embed="rId2"/>
          <a:stretch/>
        </p:blipFill>
        <p:spPr>
          <a:xfrm>
            <a:off x="8839080" y="-3049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1"/>
          <p:cNvSpPr/>
          <p:nvPr/>
        </p:nvSpPr>
        <p:spPr>
          <a:xfrm>
            <a:off x="571680" y="1149480"/>
            <a:ext cx="785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Не зависимо от того, хотите вы купить мужские часы или женские, вам необходимо знать правила ухода за этим аксессуаром, чтобы они служили вам как можно дольш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да их внешний вид оставался безупречны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2403" fill="hold"/>
                                        <p:tgtEl>
                                          <p:spTgt spid="2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еханические часы необходимо в обязательном порядке 3-4 раз в год чистить и регулировать точность хода. Делать самостоятельно это не стоит, лучше свои часы доверить сервисному центру, так как любая пылинка, попавшая в механизм, может привести к нарушению точности хода. Заводить механические часы следует только сняв их с руки. Часы, которые заводятся вручную, следует заводить в одно и тоже время ежедневно, часы с автоматическим заводом следует заводить 1 раз в неделю. В механических часах, особенно если они дорогие, не стоит заниматься спортом и домашним хозяйств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Franklin Gothic Book"/>
              </a:rPr>
              <a:t>Уход за механическими часами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3" name="Содержимое 7" descr="http://www.7zyczen.com/img/mid/171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00920" y="1428840"/>
            <a:ext cx="1733400" cy="2168280"/>
          </a:xfrm>
          <a:prstGeom prst="rect">
            <a:avLst/>
          </a:prstGeom>
          <a:ln w="0">
            <a:noFill/>
          </a:ln>
        </p:spPr>
      </p:pic>
      <p:pic>
        <p:nvPicPr>
          <p:cNvPr id="264" name="Рисунок 8" descr="http://www.m4k.ru/products_pictures/big_5df4727eeca3fbb2dd9cdc0675bb23bf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4920" y="3357720"/>
            <a:ext cx="189216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2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Franklin Gothic Book"/>
              </a:rPr>
              <a:t>Уход за кварцевыми часами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варцевые часы, в отличии от механических, требуют меньшего внимания, однако в систематическом уходе и чистке они также нуждаются. Так же как и механические, кварцевые часы для чистки лучше отдать в сервисный центр. Менять дату в кварцевых часах необходимо между 22 и 02 часами ночи, чтобы не повредить календарный механиз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Содержимое 4" descr="http://im2-tub-ru.yandex.net/i?id=398124578-00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00720" y="2000160"/>
            <a:ext cx="1976400" cy="2143080"/>
          </a:xfrm>
          <a:prstGeom prst="rect">
            <a:avLst/>
          </a:prstGeom>
          <a:ln w="0">
            <a:noFill/>
          </a:ln>
        </p:spPr>
      </p:pic>
      <p:pic>
        <p:nvPicPr>
          <p:cNvPr id="268" name="Рисунок 5" descr="http://www.oromio.ru/f/products/96b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143840" y="1143000"/>
            <a:ext cx="1625400" cy="1935000"/>
          </a:xfrm>
          <a:prstGeom prst="rect">
            <a:avLst/>
          </a:prstGeom>
          <a:ln w="0">
            <a:noFill/>
          </a:ln>
        </p:spPr>
      </p:pic>
      <p:pic>
        <p:nvPicPr>
          <p:cNvPr id="269" name="Рисунок 6" descr="http://im5-tub-ru.yandex.net/i?id=311819896-62-72&amp;n=2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29240" y="4714920"/>
            <a:ext cx="200052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2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Franklin Gothic Book"/>
              </a:rPr>
              <a:t>Уход за часами с сапфировыми стёклами. 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апфировые стёкла – неотъемлемая часть швейцарских часов. Такие стёкла очень прочные и чтобы их поцарапать, надо постараться. Но несмотря на это, часы с сапфировыми стёклами необходимо хранить в специальной коробке (либо в которой они продавались, либо в шкатулке для украшений). Чистить часы с сапфировыми стёклами следует в сервисном центр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Содержимое 4" descr="http://im6-tub-ru.yandex.net/i?id=201976963-31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7840" y="1928880"/>
            <a:ext cx="1571400" cy="1785960"/>
          </a:xfrm>
          <a:prstGeom prst="rect">
            <a:avLst/>
          </a:prstGeom>
          <a:ln w="0">
            <a:noFill/>
          </a:ln>
        </p:spPr>
      </p:pic>
      <p:pic>
        <p:nvPicPr>
          <p:cNvPr id="273" name="Рисунок 5" descr="http://im6-tub-ru.yandex.net/i?id=463739825-60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43800" y="2857680"/>
            <a:ext cx="1643040" cy="2500200"/>
          </a:xfrm>
          <a:prstGeom prst="rect">
            <a:avLst/>
          </a:prstGeom>
          <a:ln w="0">
            <a:noFill/>
          </a:ln>
        </p:spPr>
      </p:pic>
      <p:pic>
        <p:nvPicPr>
          <p:cNvPr id="274" name="Рисунок 6" descr="http://im6-tub-ru.yandex.net/i?id=446973853-00-72&amp;n=2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857760" y="4357800"/>
            <a:ext cx="20714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Franklin Gothic Book"/>
              </a:rPr>
              <a:t>Уход за водостойкими часами</a:t>
            </a: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. 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достойкие часы можно чистить самостоятельно, немного намочив тряпочку в мыльном растворе, после чего их насухо вытереть. Различайте такие понятия, как водостойкие и водозащитные часы. Водостойкие часы – часы, для которых неопасно попадание на корпус небольшого количества воды (мытьё рук, например). Водозащитные часы –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часы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для плавания и долгого нахождения под вод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Содержимое 4" descr="http://im6-tub-ru.yandex.net/i?id=452264510-24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4920" y="2643120"/>
            <a:ext cx="1857240" cy="2071800"/>
          </a:xfrm>
          <a:prstGeom prst="rect">
            <a:avLst/>
          </a:prstGeom>
          <a:ln w="0">
            <a:noFill/>
          </a:ln>
        </p:spPr>
      </p:pic>
      <p:pic>
        <p:nvPicPr>
          <p:cNvPr id="278" name="Рисунок 5" descr="http://im5-tub-ru.yandex.net/i?id=446934652-46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29240" y="1000080"/>
            <a:ext cx="2214720" cy="178596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6" descr="http://im0-tub-ru.yandex.net/i?id=595195268-60-72&amp;n=21"/>
          <p:cNvPicPr/>
          <p:nvPr/>
        </p:nvPicPr>
        <p:blipFill>
          <a:blip r:embed="rId5"/>
          <a:stretch/>
        </p:blipFill>
        <p:spPr>
          <a:xfrm>
            <a:off x="6715080" y="4572000"/>
            <a:ext cx="2071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42640" y="9284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Franklin Gothic Book"/>
              </a:rPr>
              <a:t>Блиц- опрос</a:t>
            </a:r>
            <a:endParaRPr b="0" lang="en-US" sz="8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1" name="Picture 2" descr="D:\Диски с картинками\Предметы вокруг нас\Время\STPWT04 П.gif"/>
          <p:cNvPicPr/>
          <p:nvPr/>
        </p:nvPicPr>
        <p:blipFill>
          <a:blip r:embed="rId1"/>
          <a:stretch/>
        </p:blipFill>
        <p:spPr>
          <a:xfrm>
            <a:off x="2762280" y="2433600"/>
            <a:ext cx="356724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            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Можно ли хранить часы в холоде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267080" y="1599840"/>
            <a:ext cx="3657600" cy="33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Ответ:                             Нет, так как это может привести к загустению смазочного масла и остановке механизма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Можно ли спать в часах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267080" y="1599840"/>
            <a:ext cx="3657600" cy="35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Ответ:                         Нет , так как пот может привести к повреждению корпуса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1T16:24:27Z</dcterms:created>
  <dc:creator>FoM</dc:creator>
  <dc:description/>
  <dc:language>en-US</dc:language>
  <cp:lastModifiedBy>JT</cp:lastModifiedBy>
  <dcterms:modified xsi:type="dcterms:W3CDTF">2012-09-12T16:38:21Z</dcterms:modified>
  <cp:revision>65</cp:revision>
  <dc:subject/>
  <dc:title>Слайд 1</dc:title>
</cp:coreProperties>
</file>