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9.png" ContentType="image/png"/>
  <Override PartName="/ppt/media/image17.gif" ContentType="image/gif"/>
  <Override PartName="/ppt/media/image3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B969-964B-4B9F-AF50-9C0E3B9B4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D148-D4E7-447F-9770-C60B3009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B59C-6C62-4378-BDD0-985F9A572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91A2-3669-447A-9026-A4949024B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0834-044A-48B1-ACAC-7B32BB831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1EF8-0F79-4E88-BEB7-C88566AE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F4F2-72DD-4628-AC88-12FDB375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C4A4-EFB9-4A7B-946B-575E78A5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6D25-7C61-4AC5-9EB8-01909884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6AD7-007F-4A53-9D7B-D39FD921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DF34-6291-412B-95D3-668CAE3A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1632-7A50-40F8-83E6-C1066020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708B-4292-4D7A-8F12-39A9EEF9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7A52-BBF2-4648-8F33-2D80B789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CE90-FF36-4DC9-A93A-58D600AF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4A41-00A0-468D-AEC1-A8602C338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6DF0-228B-46D7-B466-C0B811494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EB149-BC25-45DA-AA9C-0AD3C906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00D14-63C8-4757-8ACA-E402FCC7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BDA5C-9179-489F-84FB-1A6FBA3E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F8192-5B98-447B-94A2-68C26BF1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58449-288F-4E59-BFA2-E48E8D5A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44BC-0354-44CE-98A5-45EB8A17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502AD-40A7-47A0-8FE6-C67CC454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72E9D-B935-4FD4-80FB-F82AF324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B9F27-088E-47AD-A1A1-7EB1A24D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EECF6-6A3F-49DE-ABDA-D6592793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42F7E-0463-477E-BFE3-A220CD4C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DF38E-7DDE-470E-B129-53072310C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27E2B-DC08-453D-AA51-6409D9D22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E80BC-D05B-4CF9-88EF-75C27B74B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EB1E3-A24D-4381-B9F8-AE97215E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A1890-9323-4A4D-929A-3AE9D419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DACD-8B99-4103-A901-A3361BAB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642C8-A60A-4C3F-86DE-B3123180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539AF-CCB3-4F98-A6ED-CCF6014B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321BF-9D69-43EE-BC6E-4033C8AD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A6861-8D7C-434F-A16E-365FD286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32451-EBCC-46C8-9507-448D1321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06AC6-2409-4DE6-9559-23BCE1ED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C410A-8F6A-4FD8-B1CC-CB49654E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BCB63-32DF-4C7B-8EDB-40BE84BEB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19DCD-F85E-48FC-BCC6-91F05F242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B2C29-03E9-4430-9404-681F64E6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E3AA-CC52-4295-AB1B-8276DFD9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133D6-E9EE-41E9-BF44-69235807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767EA-5029-4B58-A8E0-1F3DD29E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F5C38-3D16-4220-A311-A57B4774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47139-C43E-4423-9AD5-C4664939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4F3C4-7586-4E8F-AD2B-157F33BD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5A8FB-C403-4237-AF0B-C41005F6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88BE2-8DC4-4CCE-8C0A-39BF00A0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E872B-D01E-4E26-9F2A-237857FD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0B0F0-3AE0-4C88-AE0C-2815EADF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E4F65-36D8-4C0A-B002-EA2E4004A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A113-DA89-4C70-AF3A-4114114E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D4DF4-0F23-4084-8826-ABEBF868C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6F22D-8667-468C-855E-D2A50B16B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D941E-123C-45AF-AF9A-09A6125D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AA2F3-827C-4A42-8345-88943B8E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B36DC-A30F-4307-98F2-2AA7ED0F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48DA9-9B92-4E0F-B999-1D6753EA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DEB9E-DCF0-4264-877C-AF75795A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91B90-8A38-49B5-B6DA-75AF95D3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F3838-A529-4B30-8E3B-B97DD4E6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FC9D8-5AA6-4345-9F88-106ACF5D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3279-3887-4B3F-AD53-289FF7C0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B8788-D50B-42DB-ACF8-91CF6A0F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CDC03-8160-4583-AC19-97A12AD3C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20516-6090-44E0-A9FA-C55B35001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0FC1-7482-4E87-831E-BF8C61AB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362F-B906-488E-ADD1-5FEFA05B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04CF-B5BA-4F76-8336-72A3B8520138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9572-92DE-426A-8536-3F04C483FDC4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C3C3-6997-4804-B350-6280A86B5A4C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B323-106A-4175-8776-41E698DDD572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F608-A943-4EDB-B842-C68DC2AE3889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EED1-3BC8-426E-A752-47E096B82016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7zyczen.com/img/mid/1715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m4k.ru/products_pictures/big_5df4727eeca3fbb2dd9cdc0675bb23bf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dic.academic.ru/pictures/wiki/files/67/Clock_lock.jpg&amp;iorient=&amp;icolor=&amp;site=&amp;text=&#1082;&#1074;&#1072;&#1088;&#1094;&#1077;&#1074;&#1099;&#1077;%20&#1095;&#1072;&#1089;&#1099;%20&#1082;&#1072;&#1088;&#1090;&#1080;&#1085;&#1082;&#1080;&amp;wp=&amp;pos=13&amp;isize=&amp;type=&amp;recent=&amp;rpt=simage&amp;itype=&amp;nojs=1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oromio.ru/f/products/96b.jp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yandex.ru/yandsearch?img_url=www.superprices.ru/published/publicdata/SUPERDVDPRICES/attachments/SC/products_pictures/YW837W_enl.JPG&amp;iorient=&amp;icolor=&amp;site=&amp;text=&#1082;&#1074;&#1072;&#1088;&#1094;&#1077;&#1074;&#1099;&#1077;%20&#1095;&#1072;&#1089;&#1099;%20&#1082;&#1072;&#1088;&#1090;&#1080;&#1085;&#1082;&#1080;&amp;wp=&amp;pos=3&amp;isize=&amp;type=&amp;recent=&amp;rpt=simage&amp;itype=&amp;nojs=1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www.alltime.ru/obj/catalog/watch/balmain/img/big/B32553212.jpg&amp;iorient=&amp;icolor=&amp;site=&amp;text=&#1095;&#1072;&#1089;&#1099;%20&#1089;%20&#1089;&#1072;&#1087;&#1092;&#1080;&#1088;&#1086;&#1074;&#1099;&#1084;&#1080;%20&#1089;&#1090;&#1105;&#1082;&#1083;&#1072;&#1084;&#1080;%20&#1082;&#1072;&#1088;&#1090;&#1080;&#1085;&#1082;&#1080;&amp;wp=&amp;pos=19&amp;isize=&amp;type=&amp;recent=&amp;rpt=simage&amp;itype=&amp;nojs=1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yandex.ru/yandsearch?img_url=www.watcharoo.co.uk/prodims/Mido/19_resize.jpg&amp;iorient=&amp;icolor=&amp;p=1&amp;site=&amp;text=&#1095;&#1072;&#1089;&#1099;%20&#1089;%20&#1089;&#1072;&#1087;&#1092;&#1080;&#1088;&#1086;&#1074;&#1099;&#1084;&#1080;%20&#1089;&#1090;&#1105;&#1082;&#1083;&#1072;&#1084;&#1080;%20&#1082;&#1072;&#1088;&#1090;&#1080;&#1085;&#1082;&#1080;&amp;wp=&amp;pos=57&amp;isize=&amp;type=&amp;recent=&amp;rpt=simage&amp;itype=&amp;nojs=1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yandex.ru/yandsearch?img_url=vip-watch.com.ua/logo.php?id=29930&amp;num=1.jpg&amp;iorient=&amp;icolor=&amp;p=3&amp;site=&amp;text=&#1095;&#1072;&#1089;&#1099;%20&#1089;%20&#1089;&#1072;&#1087;&#1092;&#1080;&#1088;&#1086;&#1074;&#1099;&#1084;&#1080;%20&#1089;&#1090;&#1105;&#1082;&#1083;&#1072;&#1084;&#1080;%20&#1082;&#1072;&#1088;&#1090;&#1080;&#1085;&#1082;&#1080;&amp;wp=&amp;pos=119&amp;isize=&amp;type=&amp;recent=&amp;rpt=simage&amp;itype=&amp;nojs=1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i02.i.aliimg.com/img/pb/471/516/247/1273218492683_hz-myalibaba-web13.hst.dsl.en.alidc.net_1696.jpg&amp;iorient=&amp;icolor=&amp;site=&amp;text=&#1095;&#1072;&#1089;&#1099;%20&#1074;&#1086;&#1076;&#1086;&#1089;&#1090;&#1086;&#1081;&#1082;&#1080;&#1077;%20&#1082;&#1072;&#1088;&#1090;&#1080;&#1085;&#1082;&#1080;&amp;wp=&amp;pos=3&amp;isize=&amp;type=&amp;recent=&amp;rpt=simage&amp;itype=&amp;nojs=1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yandex.ru/yandsearch?img_url=i.gsmmaniak.pl/2010/08/garmin-forerunner-110.jpg&amp;iorient=&amp;icolor=&amp;site=&amp;text=&#1095;&#1072;&#1089;&#1099;%20&#1074;&#1086;&#1076;&#1086;&#1089;&#1090;&#1086;&#1081;&#1082;&#1080;&#1077;%20&#1082;&#1072;&#1088;&#1090;&#1080;&#1085;&#1082;&#1080;&amp;wp=&amp;pos=22&amp;isize=&amp;type=&amp;recent=&amp;rpt=simage&amp;itype=&amp;nojs=1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D:\Каталог картинок\Часы\clip39.jpg"/>
          <p:cNvPicPr/>
          <p:nvPr/>
        </p:nvPicPr>
        <p:blipFill>
          <a:blip r:embed="rId1">
            <a:lum bright="52000"/>
          </a:blip>
          <a:stretch/>
        </p:blipFill>
        <p:spPr>
          <a:xfrm>
            <a:off x="0" y="0"/>
            <a:ext cx="9667800" cy="696132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2" descr=""/>
          <p:cNvPicPr/>
          <p:nvPr/>
        </p:nvPicPr>
        <p:blipFill>
          <a:blip r:embed="rId2"/>
          <a:stretch/>
        </p:blipFill>
        <p:spPr>
          <a:xfrm>
            <a:off x="-414360" y="712800"/>
            <a:ext cx="10753920" cy="3451320"/>
          </a:xfrm>
          <a:prstGeom prst="rect">
            <a:avLst/>
          </a:prstGeom>
          <a:ln w="0">
            <a:noFill/>
          </a:ln>
        </p:spPr>
      </p:pic>
      <p:pic>
        <p:nvPicPr>
          <p:cNvPr id="256" name="1.mp3" descr=""/>
          <p:cNvPicPr/>
          <p:nvPr/>
        </p:nvPicPr>
        <p:blipFill>
          <a:blip r:embed="rId3"/>
          <a:stretch/>
        </p:blipFill>
        <p:spPr>
          <a:xfrm>
            <a:off x="899172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57" name="часы.mp3" descr=""/>
          <p:cNvPicPr/>
          <p:nvPr/>
        </p:nvPicPr>
        <p:blipFill>
          <a:blip r:embed="rId4"/>
          <a:stretch/>
        </p:blipFill>
        <p:spPr>
          <a:xfrm>
            <a:off x="821520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59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95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4408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ожно ли    носить часы в баню, сауну, на пляже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2670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твет:                        Нет , так как чрезмерное тепло негативно влияет на корпус часов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Где ремонтировать дорогие часы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2670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твет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олько в специализи-рованных сервисных центра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WordArt 2"/>
          <p:cNvSpPr txBox="1"/>
          <p:nvPr/>
        </p:nvSpPr>
        <p:spPr>
          <a:xfrm>
            <a:off x="0" y="404640"/>
            <a:ext cx="727236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92" name="Picture 3" descr="2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2205000"/>
            <a:ext cx="316872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D:\Диски с картинками\Предметы вокруг нас\Время\SETI0003 П.gif"/>
          <p:cNvPicPr/>
          <p:nvPr/>
        </p:nvPicPr>
        <p:blipFill>
          <a:blip r:embed="rId1"/>
          <a:stretch/>
        </p:blipFill>
        <p:spPr>
          <a:xfrm>
            <a:off x="3857760" y="571680"/>
            <a:ext cx="5929200" cy="5929200"/>
          </a:xfrm>
          <a:prstGeom prst="rect">
            <a:avLst/>
          </a:prstGeom>
          <a:ln w="0">
            <a:noFill/>
          </a:ln>
        </p:spPr>
      </p:pic>
      <p:pic>
        <p:nvPicPr>
          <p:cNvPr id="294" name="Заголовок 5" descr=""/>
          <p:cNvPicPr/>
          <p:nvPr/>
        </p:nvPicPr>
        <p:blipFill>
          <a:blip r:embed="rId2"/>
          <a:stretch/>
        </p:blipFill>
        <p:spPr>
          <a:xfrm>
            <a:off x="-6480" y="4761000"/>
            <a:ext cx="6943680" cy="153036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/>
          </p:nvPr>
        </p:nvSpPr>
        <p:spPr>
          <a:xfrm rot="19723800">
            <a:off x="-205200" y="164268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КОНЕЦ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D:\Диски с картинками\Предметы вокруг нас\Время\OLDCLCK П.gif"/>
          <p:cNvPicPr/>
          <p:nvPr/>
        </p:nvPicPr>
        <p:blipFill>
          <a:blip r:embed="rId1"/>
          <a:stretch/>
        </p:blipFill>
        <p:spPr>
          <a:xfrm>
            <a:off x="5715000" y="2928960"/>
            <a:ext cx="3714840" cy="3714840"/>
          </a:xfrm>
          <a:prstGeom prst="rect">
            <a:avLst/>
          </a:prstGeom>
          <a:ln w="0">
            <a:noFill/>
          </a:ln>
        </p:spPr>
      </p:pic>
      <p:pic>
        <p:nvPicPr>
          <p:cNvPr id="259" name="Sound 8.mp3" descr=""/>
          <p:cNvPicPr/>
          <p:nvPr/>
        </p:nvPicPr>
        <p:blipFill>
          <a:blip r:embed="rId2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1"/>
          <p:cNvSpPr/>
          <p:nvPr/>
        </p:nvSpPr>
        <p:spPr>
          <a:xfrm>
            <a:off x="571680" y="114948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Не зависимо от того, хотите вы купить мужские часы или женские, вам необходимо знать правила ухода за этим аксессуаром, чтобы они служили вам как можно дольш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да их внешний вид оставался безупреч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2403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еханические часы необходимо в обязательном порядке 3-4 раз в год чистить и регулировать точность хода. Делать самостоятельно это не стоит, лучше свои часы доверить сервисному центру, так как любая пылинка, попавшая в механизм, может привести к нарушению точности хода. Заводить механические часы следует только сняв их с руки. Часы, которые заводятся вручную, следует заводить в одно и тоже время ежедневно, часы с автоматическим заводом следует заводить 1 раз в неделю. В механических часах, особенно если они дорогие, не стоит заниматься спортом и домашним хозяйств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Franklin Gothic Book"/>
              </a:rPr>
              <a:t>Уход за механическими часами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3" name="Содержимое 7" descr="http://www.7zyczen.com/img/mid/171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00920" y="1428840"/>
            <a:ext cx="1733400" cy="216828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8" descr="http://www.m4k.ru/products_pictures/big_5df4727eeca3fbb2dd9cdc0675bb23bf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4920" y="3357720"/>
            <a:ext cx="18921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Franklin Gothic Book"/>
              </a:rPr>
              <a:t>Уход за кварцевыми часами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варцевые часы, в отличии от механических, требуют меньшего внимания, однако в систематическом уходе и чистке они также нуждаются. Так же как и механические, кварцевые часы для чистки лучше отдать в сервисный центр. Менять дату в кварцевых часах необходимо между 22 и 02 часами ночи, чтобы не повредить календарный механиз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Содержимое 4" descr="http://im2-tub-ru.yandex.net/i?id=398124578-00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2000160"/>
            <a:ext cx="1976400" cy="214308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5" descr="http://www.oromio.ru/f/products/96b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43840" y="1143000"/>
            <a:ext cx="1625400" cy="193500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6" descr="http://im5-tub-ru.yandex.net/i?id=311819896-62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29240" y="4714920"/>
            <a:ext cx="200052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Franklin Gothic Book"/>
              </a:rPr>
              <a:t>Уход за часами с сапфировыми стёклами. 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пфировые стёкла – неотъемлемая часть швейцарских часов. Такие стёкла очень прочные и чтобы их поцарапать, надо постараться. Но несмотря на это, часы с сапфировыми стёклами необходимо хранить в специальной коробке (либо в которой они продавались, либо в шкатулке для украшений). Чистить часы с сапфировыми стёклами следует в сервисном центр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Содержимое 4" descr="http://im6-tub-ru.yandex.net/i?id=201976963-31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1928880"/>
            <a:ext cx="1571400" cy="178596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5" descr="http://im6-tub-ru.yandex.net/i?id=463739825-60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43800" y="2857680"/>
            <a:ext cx="1643040" cy="250020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6" descr="http://im6-tub-ru.yandex.net/i?id=446973853-00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57760" y="4357800"/>
            <a:ext cx="2071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Franklin Gothic Book"/>
              </a:rPr>
              <a:t>Уход за водостойкими часами</a:t>
            </a: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. 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достойкие часы можно чистить самостоятельно, немного намочив тряпочку в мыльном растворе, после чего их насухо вытереть. Различайте такие понятия, как водостойкие и водозащитные часы. Водостойкие часы – часы, для которых неопасно попадание на корпус небольшого количества воды (мытьё рук, например). Водозащитные часы –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час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для плавания и долгого нахождения под вод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Содержимое 4" descr="http://im6-tub-ru.yandex.net/i?id=452264510-24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4920" y="2643120"/>
            <a:ext cx="1857240" cy="207180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5" descr="http://im5-tub-ru.yandex.net/i?id=446934652-46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29240" y="1000080"/>
            <a:ext cx="2214720" cy="178596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6" descr="http://im0-tub-ru.yandex.net/i?id=595195268-60-72&amp;n=21"/>
          <p:cNvPicPr/>
          <p:nvPr/>
        </p:nvPicPr>
        <p:blipFill>
          <a:blip r:embed="rId5"/>
          <a:stretch/>
        </p:blipFill>
        <p:spPr>
          <a:xfrm>
            <a:off x="6715080" y="4572000"/>
            <a:ext cx="2071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2640" y="9284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Franklin Gothic Book"/>
              </a:rPr>
              <a:t>Блиц- опрос</a:t>
            </a:r>
            <a:endParaRPr b="0" lang="en-US" sz="8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1" name="Picture 2" descr="D:\Диски с картинками\Предметы вокруг нас\Время\STPWT04 П.gif"/>
          <p:cNvPicPr/>
          <p:nvPr/>
        </p:nvPicPr>
        <p:blipFill>
          <a:blip r:embed="rId1"/>
          <a:stretch/>
        </p:blipFill>
        <p:spPr>
          <a:xfrm>
            <a:off x="2762280" y="2433600"/>
            <a:ext cx="356724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           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ожно ли хранить часы в холоде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267080" y="1599840"/>
            <a:ext cx="365760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твет:                             Нет, так как это может привести к загустению смазочного масла и остановке механизма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ожно ли спать в часах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267080" y="1599840"/>
            <a:ext cx="365760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твет:                         Нет , так как пот может привести к повреждению корпуса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16:24:27Z</dcterms:created>
  <dc:creator>FoM</dc:creator>
  <dc:description/>
  <dc:language>en-US</dc:language>
  <cp:lastModifiedBy>JT</cp:lastModifiedBy>
  <dcterms:modified xsi:type="dcterms:W3CDTF">2012-09-12T16:38:21Z</dcterms:modified>
  <cp:revision>65</cp:revision>
  <dc:subject/>
  <dc:title>Слайд 1</dc:title>
</cp:coreProperties>
</file>