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0F5-E836-49C3-B05D-FFAFEA44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CA9-2096-4F7D-9760-E05F8E9D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163-A3E5-480B-8F77-F3C6D4CE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47A-0571-4F44-A142-B6902D90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D1D4-63DD-44C2-9DC5-255EE0F1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45FA-CB53-4498-B700-2A752811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70B-AE0A-409B-943E-FA61707D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3FA2-4961-42EA-8992-886B2029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DC6-2EE8-4271-99C7-A9DD2A7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2736-8EA6-49F3-815B-5B5596B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5B3E-2120-4326-8F70-8860D20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F70-D99C-44AA-AA7F-9E87AF4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A12C-F408-4A5C-9CF9-7D38A53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BCE3-E178-4C75-9F63-F5A515C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3C3-CFCA-4DD2-8ACB-F75BB701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F3C7-6BB6-42C2-8228-DDC6BF11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0389-060B-4D82-AAED-08B75DD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FCC08-15CE-4E58-ACC6-16702F18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87B8-B9C9-4346-81C9-FF32D01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A43F-5660-4FB0-BEB0-75C510A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857C-4522-4E1D-BAEE-2CA6F88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CF91-AC44-457F-8E96-53B69A8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95F-D957-4C5D-89A7-55855D46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4C49-EFAF-465B-8084-E47EB81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9B10-909B-4D38-B176-BD5FC34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2302-940C-4BA5-B55A-975376D7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BE3A-D151-46CA-A649-F51F136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AEE5-21EB-4635-BD08-66B7545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BC20-7B45-48EC-A0A1-9582C93B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6383-FB0E-4755-92FA-3EAD51CA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723C-0170-45B1-BF4D-57CDFEC4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5FC3-CC60-48DF-A5D2-C4C1884B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A28B-FFDB-4768-A73C-FD8BFB16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FC5-10DE-4AD1-94C7-90EF0E3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DD48-9ACC-4BC5-AAD2-0F15C19C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16CB-DBF7-43B5-8678-C96D393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E2CF-AACA-44AC-9D49-ED6E5B4C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C5820-8D4F-4502-965F-87C8C43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100E-3F42-48F3-BD5A-A9B2BD7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7918-4146-48C5-9787-F8C9439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DD2E-F6E2-4C71-9DAD-473A1CE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462D2-D6BC-4367-AA4B-E01E8908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9151-F51D-4CE6-B5DB-2154E6CB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A1EB-4533-4B6E-82E3-DA7FF593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B85-C3E8-41CD-A40A-7536CF1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EC91-ABFB-4B37-BA2F-7E75D460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F3E6-C279-4AD9-A8CC-96682471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CA2C-C336-4516-B497-7A155F7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FFE7-25B8-4A5C-AD5C-BF23246A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8E1A6-C338-406F-A6C1-E7D9BA83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B9C4B-777F-4CC9-ACA3-25E231C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AB2B-4197-40E5-95C2-EA22354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3EE0-6E5A-4095-A837-B48F56A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109A-DF96-459F-A8FE-B9D9DA84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F3CF-7C98-4643-8A98-8173141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D02-E61F-4447-9013-A8B1DD78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9D63-13FE-4EE0-8AD5-7B60B795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F47E-90D8-4C2E-B671-DF839D15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9C18-BA1D-4EA3-A769-A55C7FD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7863A-0B9E-466F-8FF9-00C9EB8D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2BD2-3ED4-43D3-8C18-57224E3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F2C2-AF0B-417E-8038-739136D0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C6B9-16CD-45E7-A507-FDAC7A52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B8BD8-6DD7-4E5A-ACED-42BE3B0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613A-356A-4DC8-95F5-C59EBF40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827BC-4DE2-4147-9ACF-1F7A557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53A-9DA3-463B-A72A-194422F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8694-B9DE-4E3C-8363-45BC803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2205-4574-41E6-9FB2-2639C15D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CB88-B7DE-47DA-B3EB-2A6CFC7F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80D-A8EF-4A7C-98CA-9F4B1BF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535-10AC-43C9-98EE-BE0D653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367D-128A-430F-BBC9-A968B73A678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6AD-1600-476E-8583-6715E346106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5AD6-2551-434F-A1FF-ABE2DFD7B6A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1D53-DD24-4274-8A31-057C5FB5474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2BB8-E5BB-48A8-8CC6-065323B9919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99D-313C-45D6-AE4B-129456292DA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7zyczen.com/img/mid/1715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4k.ru/products_pictures/big_5df4727eeca3fbb2dd9cdc0675bb23bf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dic.academic.ru/pictures/wiki/files/67/Clock_lock.jpg&amp;iorient=&amp;icolor=&amp;site=&amp;text=&#1082;&#1074;&#1072;&#1088;&#1094;&#1077;&#1074;&#1099;&#1077;%20&#1095;&#1072;&#1089;&#1099;%20&#1082;&#1072;&#1088;&#1090;&#1080;&#1085;&#1082;&#1080;&amp;wp=&amp;pos=13&amp;isize=&amp;type=&amp;recent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oromio.ru/f/products/96b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www.superprices.ru/published/publicdata/SUPERDVDPRICES/attachments/SC/products_pictures/YW837W_enl.JPG&amp;iorient=&amp;icolor=&amp;site=&amp;text=&#1082;&#1074;&#1072;&#1088;&#1094;&#1077;&#1074;&#1099;&#1077;%20&#1095;&#1072;&#1089;&#1099;%20&#1082;&#1072;&#1088;&#1090;&#1080;&#1085;&#1082;&#1080;&amp;wp=&amp;pos=3&amp;isize=&amp;type=&amp;recent=&amp;rpt=simage&amp;itype=&amp;nojs=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www.alltime.ru/obj/catalog/watch/balmain/img/big/B32553212.jpg&amp;iorient=&amp;icolor=&amp;site=&amp;text=&#1095;&#1072;&#1089;&#1099;%20&#1089;%20&#1089;&#1072;&#1087;&#1092;&#1080;&#1088;&#1086;&#1074;&#1099;&#1084;&#1080;%20&#1089;&#1090;&#1105;&#1082;&#1083;&#1072;&#1084;&#1080;%20&#1082;&#1072;&#1088;&#1090;&#1080;&#1085;&#1082;&#1080;&amp;wp=&amp;pos=19&amp;isize=&amp;type=&amp;recent=&amp;rpt=simage&amp;itype=&amp;nojs=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img_url=www.watcharoo.co.uk/prodims/Mido/19_resize.jpg&amp;iorient=&amp;icolor=&amp;p=1&amp;site=&amp;text=&#1095;&#1072;&#1089;&#1099;%20&#1089;%20&#1089;&#1072;&#1087;&#1092;&#1080;&#1088;&#1086;&#1074;&#1099;&#1084;&#1080;%20&#1089;&#1090;&#1105;&#1082;&#1083;&#1072;&#1084;&#1080;%20&#1082;&#1072;&#1088;&#1090;&#1080;&#1085;&#1082;&#1080;&amp;wp=&amp;pos=57&amp;isize=&amp;type=&amp;recent=&amp;rpt=simage&amp;itype=&amp;nojs=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img_url=vip-watch.com.ua/logo.php?id=29930&amp;num=1.jpg&amp;iorient=&amp;icolor=&amp;p=3&amp;site=&amp;text=&#1095;&#1072;&#1089;&#1099;%20&#1089;%20&#1089;&#1072;&#1087;&#1092;&#1080;&#1088;&#1086;&#1074;&#1099;&#1084;&#1080;%20&#1089;&#1090;&#1105;&#1082;&#1083;&#1072;&#1084;&#1080;%20&#1082;&#1072;&#1088;&#1090;&#1080;&#1085;&#1082;&#1080;&amp;wp=&amp;pos=119&amp;isize=&amp;type=&amp;recent=&amp;rpt=simage&amp;itype=&amp;nojs=1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i02.i.aliimg.com/img/pb/471/516/247/1273218492683_hz-myalibaba-web13.hst.dsl.en.alidc.net_1696.jpg&amp;iorient=&amp;icolor=&amp;site=&amp;text=&#1095;&#1072;&#1089;&#1099;%20&#1074;&#1086;&#1076;&#1086;&#1089;&#1090;&#1086;&#1081;&#1082;&#1080;&#1077;%20&#1082;&#1072;&#1088;&#1090;&#1080;&#1085;&#1082;&#1080;&amp;wp=&amp;pos=3&amp;isize=&amp;type=&amp;recent=&amp;rpt=simage&amp;itype=&amp;nojs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img_url=i.gsmmaniak.pl/2010/08/garmin-forerunner-110.jpg&amp;iorient=&amp;icolor=&amp;site=&amp;text=&#1095;&#1072;&#1089;&#1099;%20&#1074;&#1086;&#1076;&#1086;&#1089;&#1090;&#1086;&#1081;&#1082;&#1080;&#1077;%20&#1082;&#1072;&#1088;&#1090;&#1080;&#1085;&#1082;&#1080;&amp;wp=&amp;pos=22&amp;isize=&amp;type=&amp;recent=&amp;rpt=simage&amp;itype=&amp;nojs=1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Каталог картинок\Часы\clip39.jp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0" y="0"/>
            <a:ext cx="9667800" cy="69613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2"/>
          <a:stretch/>
        </p:blipFill>
        <p:spPr>
          <a:xfrm>
            <a:off x="-414360" y="712800"/>
            <a:ext cx="10753920" cy="3451320"/>
          </a:xfrm>
          <a:prstGeom prst="rect">
            <a:avLst/>
          </a:prstGeom>
          <a:ln w="0">
            <a:noFill/>
          </a:ln>
        </p:spPr>
      </p:pic>
      <p:pic>
        <p:nvPicPr>
          <p:cNvPr id="256" name="1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часы.mp3" descr=""/>
          <p:cNvPicPr/>
          <p:nvPr/>
        </p:nvPicPr>
        <p:blipFill>
          <a:blip r:embed="rId4"/>
          <a:stretch/>
        </p:blipFill>
        <p:spPr>
          <a:xfrm>
            <a:off x="8215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40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   носить часы в баню, сауну, на пляж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Нет , так как чрезмерное тепло негативно влияет на корпус час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де ремонтировать дорогие часы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олько в специализи-рованных сервисных центр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0" y="404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92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D:\Диски с картинками\Предметы вокруг нас\Время\SETI0003 П.gif"/>
          <p:cNvPicPr/>
          <p:nvPr/>
        </p:nvPicPr>
        <p:blipFill>
          <a:blip r:embed="rId1"/>
          <a:stretch/>
        </p:blipFill>
        <p:spPr>
          <a:xfrm>
            <a:off x="3857760" y="571680"/>
            <a:ext cx="5929200" cy="5929200"/>
          </a:xfrm>
          <a:prstGeom prst="rect">
            <a:avLst/>
          </a:prstGeom>
          <a:ln w="0">
            <a:noFill/>
          </a:ln>
        </p:spPr>
      </p:pic>
      <p:pic>
        <p:nvPicPr>
          <p:cNvPr id="294" name="Заголовок 5" descr=""/>
          <p:cNvPicPr/>
          <p:nvPr/>
        </p:nvPicPr>
        <p:blipFill>
          <a:blip r:embed="rId2"/>
          <a:stretch/>
        </p:blipFill>
        <p:spPr>
          <a:xfrm>
            <a:off x="-6480" y="4761000"/>
            <a:ext cx="6943680" cy="153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 rot="19723800">
            <a:off x="-205200" y="16426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Диски с картинками\Предметы вокруг нас\Время\OLDCLCK П.gif"/>
          <p:cNvPicPr/>
          <p:nvPr/>
        </p:nvPicPr>
        <p:blipFill>
          <a:blip r:embed="rId1"/>
          <a:stretch/>
        </p:blipFill>
        <p:spPr>
          <a:xfrm>
            <a:off x="5715000" y="292896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259" name="Sound 8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571680" y="11494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зависимо от того, хотите вы купить мужские часы или женские, вам необходимо знать правила ухода за этим аксессуаром, чтобы они служили вам как можно дол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 их внешний вид оставался безупреч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403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ханические часы необходимо в обязательном порядке 3-4 раз в год чистить и регулировать точность хода. Делать самостоятельно это не стоит, лучше свои часы доверить сервисному центру, так как любая пылинка, попавшая в механизм, может привести к нарушению точности хода. Заводить механические часы следует только сняв их с руки. Часы, которые заводятся вручную, следует заводить в одно и тоже время ежедневно, часы с автоматическим заводом следует заводить 1 раз в неделю. В механических часах, особенно если они дорогие, не стоит заниматься спортом и домашн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Franklin Gothic Book"/>
              </a:rPr>
              <a:t>Уход за механическими часам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Содержимое 7" descr="http://www.7zyczen.com/img/mid/17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1428840"/>
            <a:ext cx="1733400" cy="2168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8" descr="http://www.m4k.ru/products_pictures/big_5df4727eeca3fbb2dd9cdc0675bb23b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357720"/>
            <a:ext cx="189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кварцевыми часами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цевые часы, в отличии от механических, требуют меньшего внимания, однако в систематическом уходе и чистке они также нуждаются. Так же как и механические, кварцевые часы для чистки лучше отдать в сервисный центр. Менять дату в кварцевых часах необходимо между 22 и 02 часами ночи, чтобы не повредить календарный механ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Содержимое 4" descr="http://im2-tub-ru.yandex.net/i?id=398124578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000160"/>
            <a:ext cx="1976400" cy="21430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http://www.oromio.ru/f/products/96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1143000"/>
            <a:ext cx="1625400" cy="19350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http://im5-tub-ru.yandex.net/i?id=311819896-6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240" y="4714920"/>
            <a:ext cx="20005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часами с сапфировыми стёклами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пфировые стёкла – неотъемлемая часть швейцарских часов. Такие стёкла очень прочные и чтобы их поцарапать, надо постараться. Но несмотря на это, часы с сапфировыми стёклами необходимо хранить в специальной коробке (либо в которой они продавались, либо в шкатулке для украшений). Чистить часы с сапфировыми стёклами следует в сервисном цен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Содержимое 4" descr="http://im6-tub-ru.yandex.net/i?id=201976963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928880"/>
            <a:ext cx="1571400" cy="17859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http://im6-tub-ru.yandex.net/i?id=463739825-6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285768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http://im6-tub-ru.yandex.net/i?id=446973853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4357800"/>
            <a:ext cx="207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водостойкими часами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стойкие часы можно чистить самостоятельно, немного намочив тряпочку в мыльном растворе, после чего их насухо вытереть. Различайте такие понятия, как водостойкие и водозащитные часы. Водостойкие часы – часы, для которых неопасно попадание на корпус небольшого количества воды (мытьё рук, например). Водозащитные часы –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ас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плавания и долгого нахождения под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одержимое 4" descr="http://im6-tub-ru.yandex.net/i?id=452264510-2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264312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http://im5-tub-ru.yandex.net/i?id=446934652-4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100008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http://im0-tub-ru.yandex.net/i?id=595195268-60-72&amp;n=21"/>
          <p:cNvPicPr/>
          <p:nvPr/>
        </p:nvPicPr>
        <p:blipFill>
          <a:blip r:embed="rId5"/>
          <a:stretch/>
        </p:blipFill>
        <p:spPr>
          <a:xfrm>
            <a:off x="6715080" y="4572000"/>
            <a:ext cx="207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Franklin Gothic Book"/>
              </a:rPr>
              <a:t>Блиц- опрос</a:t>
            </a:r>
            <a:endParaRPr b="0" lang="en-US" sz="8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D:\Диски с картинками\Предметы вокруг нас\Время\STPWT04 П.gif"/>
          <p:cNvPicPr/>
          <p:nvPr/>
        </p:nvPicPr>
        <p:blipFill>
          <a:blip r:embed="rId1"/>
          <a:stretch/>
        </p:blipFill>
        <p:spPr>
          <a:xfrm>
            <a:off x="2762280" y="2433600"/>
            <a:ext cx="35672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хранить часы в холод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67080" y="1599840"/>
            <a:ext cx="3657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    Нет, так как это может привести к загустению смазочного масла и остановке механизм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спать в часах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67080" y="1599840"/>
            <a:ext cx="36576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Нет , так как пот может привести к повреждению корпус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24:27Z</dcterms:created>
  <dc:creator>FoM</dc:creator>
  <dc:description/>
  <dc:language>en-US</dc:language>
  <cp:lastModifiedBy>JT</cp:lastModifiedBy>
  <dcterms:modified xsi:type="dcterms:W3CDTF">2012-09-12T16:38:21Z</dcterms:modified>
  <cp:revision>65</cp:revision>
  <dc:subject/>
  <dc:title>Слайд 1</dc:title>
</cp:coreProperties>
</file>