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14.wmf" ContentType="image/x-wmf"/>
  <Override PartName="/ppt/media/image2.jpeg" ContentType="image/jpeg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10.gif" ContentType="image/gif"/>
  <Override PartName="/ppt/media/image6.wmf" ContentType="image/x-wmf"/>
  <Override PartName="/ppt/media/image3.png" ContentType="image/png"/>
  <Override PartName="/ppt/media/image11.wmf" ContentType="image/x-wm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0F5-6E2A-4525-B8C3-88496C91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1D4-430D-4A2C-9946-0EEB937F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809-58B3-4027-92A7-31F261E9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268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92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268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92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248-14FD-4740-9F2C-833486D9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1B21-B7A1-4BB7-9BE2-E39D67D1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273B-7342-4A59-B400-AC2CF791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AB6A-2B0A-4831-AC95-CA527FDA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F52A-425F-4BA3-91FC-CFDB0EA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2470-FFC8-47C9-8B45-EB915FD7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4582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D5AC-8062-4AFA-B993-B2C3B92B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7C8B-6AA3-4D5E-9F83-CA92F22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0AC-9378-4CD3-810C-889E665B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1E9D-9ECB-4AFF-A3B6-5B3EA69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9925-6E4E-461C-AED8-5A2F913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E0E9-D5C8-44B6-AF01-A2B77491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72ED-C312-4482-8C2D-15C8FA34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268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92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268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92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B522-4CFA-4912-BF6B-F4376F90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F5A-3942-44DE-B481-33FFD08D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A3B-ED5E-40BE-B649-8D30D676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859-88BB-4AEB-95DA-799CCC25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4582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97B-93F2-4289-8211-34C3267C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732-72A3-48AD-B54E-E658EE8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19E-7AE0-4E49-9093-7F8F199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D5E-5B05-4DC2-82CE-B12A221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PPP_SDESI_PRT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66760" y="6610320"/>
            <a:ext cx="73454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0DCA-BE7B-4F55-A758-7D5119174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4" descr="PPP_SDESI_TLE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166760" y="6610320"/>
            <a:ext cx="74138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E6C3-FD95-4AC4-BDE6-F3052152E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9,4,&#1041;&#1099;&#1089;&#1090;&#1088;&#1086;&#1090;&#1072; " TargetMode="External"/><Relationship Id="rId2" Type="http://schemas.openxmlformats.org/officeDocument/2006/relationships/hyperlink" Target="271,7,&#1057;&#1080;&#1083;&#1072; " TargetMode="External"/><Relationship Id="rId3" Type="http://schemas.openxmlformats.org/officeDocument/2006/relationships/hyperlink" Target="270,5,&#1042;&#1099;&#1085;&#1086;&#1089;&#1083;&#1080;&#1074;&#1086;&#1089;&#1090;&#1100; " TargetMode="External"/><Relationship Id="rId4" Type="http://schemas.openxmlformats.org/officeDocument/2006/relationships/hyperlink" Target="268,3,&#1051;&#1086;&#1074;&#1082;&#1086;&#1089;&#1090;&#1100; " TargetMode="External"/><Relationship Id="rId5" Type="http://schemas.openxmlformats.org/officeDocument/2006/relationships/hyperlink" Target="274,6,&#1043;&#1080;&#1073;&#1082;&#1086;&#1089;&#1090;&#1100;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60093"/>
                </a:solidFill>
                <a:latin typeface="Tw Cen MT Condensed Extra Bold"/>
              </a:rPr>
              <a:t>Развитие физических </a:t>
            </a:r>
            <a:br>
              <a:rPr sz="5000"/>
            </a:br>
            <a:r>
              <a:rPr b="1" lang="ru-RU" sz="5000" spc="-1" strike="noStrike">
                <a:solidFill>
                  <a:srgbClr val="d60093"/>
                </a:solidFill>
                <a:latin typeface="Tw Cen MT Condensed Extra Bold"/>
              </a:rPr>
              <a:t>качеств с помощью игровых технологий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03280" y="4005000"/>
            <a:ext cx="4032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физической культуры МБОУ О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анова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806400" y="2852640"/>
            <a:ext cx="2862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Вы многое узнал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809360" y="2283120"/>
            <a:ext cx="5326200" cy="3277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Читай, рассматривай рисунки - и ты больше узнаешь о себе и о своем здоровье! С удовольствием выполняй упражнения, играй в подвижные игры, занимайся спортом - и ты будешь сильным, ловким, быстры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ыносливым – первым с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одноклассник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Значение двигательной активности и физической культуры для здоровь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д двигательной активностью понимается сумма всех движений, производимых человеком в процессе своей жизнедеятельности. Это эффективное средство сохранения и укрепления здоровья, гармонического развития личности, профилактики заболеваний. Непременной составляющей двигательной активности являются регулярные занятия физической культурой и спо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Рисунок1"/>
          <p:cNvPicPr/>
          <p:nvPr/>
        </p:nvPicPr>
        <p:blipFill>
          <a:blip r:embed="rId1"/>
          <a:stretch/>
        </p:blipFill>
        <p:spPr>
          <a:xfrm>
            <a:off x="7451640" y="1211400"/>
            <a:ext cx="13129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Подвижные игры, влияющие на укрепление физических каче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Космонавты» В игре принимает участие любое количество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Анаконда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Шмель»-принимает участие 10-12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Липкие пень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Ловкие умел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Перестрелка» В каждой команде по два мя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Зайцы, белки, мыш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Лап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Снайп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 многие-многие друг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d60093"/>
                </a:solidFill>
                <a:latin typeface="Bookman Old Style"/>
              </a:rPr>
              <a:t>Физические качества человека: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1"/>
              </a:rPr>
              <a:t>Быст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2"/>
              </a:rPr>
              <a:t>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3"/>
              </a:rPr>
              <a:t>Вынослив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4"/>
              </a:rPr>
              <a:t>Ловкость</a:t>
            </a:r>
            <a:r>
              <a:rPr b="0" lang="ru-RU" sz="4400" spc="-1" strike="noStrike">
                <a:solidFill>
                  <a:srgbClr val="008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5"/>
              </a:rPr>
              <a:t>Гибкость</a:t>
            </a:r>
            <a:r>
              <a:rPr b="0" lang="ru-RU" sz="4400" spc="-1" strike="noStrike">
                <a:solidFill>
                  <a:srgbClr val="008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115"/>
          <p:cNvPicPr/>
          <p:nvPr/>
        </p:nvPicPr>
        <p:blipFill>
          <a:blip r:embed="rId6"/>
          <a:stretch/>
        </p:blipFill>
        <p:spPr>
          <a:xfrm>
            <a:off x="5796000" y="3213000"/>
            <a:ext cx="1224000" cy="1131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tretch/>
        </p:blipFill>
        <p:spPr>
          <a:xfrm>
            <a:off x="6084720" y="1773360"/>
            <a:ext cx="24879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Способность правильно, быстро овладевать новыми движениями и рационально перестраивать двигательную деятельность  в соответствии с обстано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арианты челночного бе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ег с изменением направл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ет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ередача, ведение мя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олейб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аскетб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имнаст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портив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16ed511876222ccdeaae5a4f41cc86c"/>
          <p:cNvPicPr/>
          <p:nvPr/>
        </p:nvPicPr>
        <p:blipFill>
          <a:blip r:embed="rId1"/>
          <a:stretch/>
        </p:blipFill>
        <p:spPr>
          <a:xfrm>
            <a:off x="7020000" y="2781360"/>
            <a:ext cx="2009880" cy="253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4397b6011aacb6f8985dc5c4aa2c70e3"/>
          <p:cNvPicPr/>
          <p:nvPr/>
        </p:nvPicPr>
        <p:blipFill>
          <a:blip r:embed="rId2"/>
          <a:stretch/>
        </p:blipFill>
        <p:spPr>
          <a:xfrm>
            <a:off x="4643280" y="4221000"/>
            <a:ext cx="24958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Быст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Способность перемещать тело и его звенья в пространстве за минимально коротк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пециально-беговые упраж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ег с ускорением от 30-4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легкая атлет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лосип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нькобежный сп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лы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коростной бег до 40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2190960" cy="22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50fcae6f1b1225df61a26dc8b9d1db99"/>
          <p:cNvPicPr/>
          <p:nvPr/>
        </p:nvPicPr>
        <p:blipFill>
          <a:blip r:embed="rId2"/>
          <a:stretch/>
        </p:blipFill>
        <p:spPr>
          <a:xfrm>
            <a:off x="7308720" y="2060640"/>
            <a:ext cx="14353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75 -0.00416 E">
                                      <p:cBhvr>
                                        <p:cTn id="10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Вынослив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Способность противостоять утомлению в процессе какой-либо деятельности, длительно выполнять мышечную работу без снижения ее мощ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г в равномерном темпе от 6-10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ительный б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ос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одьба на лыж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уговая трен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ыжный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лосипедный спор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гкая атлет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ькобежный спорт,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1947960" cy="2416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2552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Гиб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Морфофункциональные свойства опорно-двигательного аппарата, определяющие степень подвижности его звеньев или способность выполнять движения с максимальной большой амплитуд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щеразвивающие упражнения с повышенной амплитудой для плечевых, локтевых, тазобедренных коленных суставов и позвоночн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художественн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портивн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игурное ка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нхронное пла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j0428415"/>
          <p:cNvPicPr/>
          <p:nvPr/>
        </p:nvPicPr>
        <p:blipFill>
          <a:blip r:embed="rId1"/>
          <a:stretch/>
        </p:blipFill>
        <p:spPr>
          <a:xfrm>
            <a:off x="6588000" y="4797360"/>
            <a:ext cx="2016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Си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Способность человека воздействовать на внешние силы или противодействовать им с помощью мышечных напря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тяг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пражнения в висах и уп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пражнения с ган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бивание мя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яжелая атл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егкая атле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динобо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23558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BD06529_"/>
          <p:cNvPicPr/>
          <p:nvPr/>
        </p:nvPicPr>
        <p:blipFill>
          <a:blip r:embed="rId2"/>
          <a:stretch/>
        </p:blipFill>
        <p:spPr>
          <a:xfrm>
            <a:off x="6372360" y="2492280"/>
            <a:ext cx="266364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2:24:55Z</dcterms:created>
  <dc:creator/>
  <dc:description/>
  <dc:language>en-US</dc:language>
  <cp:lastModifiedBy>Gosha</cp:lastModifiedBy>
  <dcterms:modified xsi:type="dcterms:W3CDTF">2013-01-27T13:34:50Z</dcterms:modified>
  <cp:revision>8</cp:revision>
  <dc:subject/>
  <dc:title>Развитие физических  качеств</dc:title>
</cp:coreProperties>
</file>