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wmf" ContentType="image/x-wmf"/>
  <Override PartName="/ppt/media/image14.wmf" ContentType="image/x-wmf"/>
  <Override PartName="/ppt/media/image2.jpeg" ContentType="image/jpeg"/>
  <Override PartName="/ppt/media/image7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12.wmf" ContentType="image/x-wmf"/>
  <Override PartName="/ppt/media/image5.gif" ContentType="image/gif"/>
  <Override PartName="/ppt/media/image10.gif" ContentType="image/gif"/>
  <Override PartName="/ppt/media/image6.wmf" ContentType="image/x-wmf"/>
  <Override PartName="/ppt/media/image3.png" ContentType="image/png"/>
  <Override PartName="/ppt/media/image11.wmf" ContentType="image/x-wm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793-73E3-450E-930A-754A4006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08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498-BA55-4A89-88C7-BCF3E06B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396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79D9-C5CD-4FFF-9B4B-3B67DE7B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42680" y="15238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99200" y="15238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08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42680" y="41508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99200" y="41508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691-C6AD-4155-A359-26C8ADA5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C7FE-8E33-4828-9B0A-2C4DD666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5775-CC66-4271-9D91-77FD95B1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5C73-AB58-463E-A924-E9E03758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86AB-DCF7-41A0-9504-63166F98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5201-8F72-4B34-9715-1AAA70C3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4582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BCC0-B11D-4339-BCF4-C8E86310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D4B9-CC86-40CB-94CB-DE8ED19E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B59-F8F0-46E8-BB08-E736BABE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6396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45E4-EDEA-412C-9593-76483DA9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508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7EE4-271F-4829-97F8-75275C77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508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658B-BDC1-4343-A4BE-8C5BE205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6396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A829-E9B9-418D-9AE8-E2EC8968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42680" y="15238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99200" y="15238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508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42680" y="41508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99200" y="41508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EEC0-F474-49EB-BEEB-4892D372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C88-80D7-4570-B1EC-7F2F9128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1C9-45E7-44F0-9127-C88A8197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C1FB-3777-4D8D-9562-59E86E82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4582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12A-ACAB-4CDF-A9C8-DDDC8CA3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7824-EAEC-490B-88C1-BD9B2871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3960" y="41508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FC5-58A8-4066-975B-6B5BF50E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08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D89-437A-462E-BA8E-5441B7F4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PPP_SDESI_PRT_Shawshan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0320"/>
            <a:ext cx="11667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166760" y="6610320"/>
            <a:ext cx="734544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48640" y="6610320"/>
            <a:ext cx="4953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C6AC-0A55-46C9-A779-552AE9EC8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4" descr="PPP_SDESI_TLE_Shawshank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-360" y="6610320"/>
            <a:ext cx="11667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1166760" y="6610320"/>
            <a:ext cx="741384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48640" y="6610320"/>
            <a:ext cx="495360" cy="2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AD73-97BE-4F2E-B3BC-E71ADC971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69,4,&#1041;&#1099;&#1089;&#1090;&#1088;&#1086;&#1090;&#1072; " TargetMode="External"/><Relationship Id="rId2" Type="http://schemas.openxmlformats.org/officeDocument/2006/relationships/hyperlink" Target="271,7,&#1057;&#1080;&#1083;&#1072; " TargetMode="External"/><Relationship Id="rId3" Type="http://schemas.openxmlformats.org/officeDocument/2006/relationships/hyperlink" Target="270,5,&#1042;&#1099;&#1085;&#1086;&#1089;&#1083;&#1080;&#1074;&#1086;&#1089;&#1090;&#1100; " TargetMode="External"/><Relationship Id="rId4" Type="http://schemas.openxmlformats.org/officeDocument/2006/relationships/hyperlink" Target="268,3,&#1051;&#1086;&#1074;&#1082;&#1086;&#1089;&#1090;&#1100; " TargetMode="External"/><Relationship Id="rId5" Type="http://schemas.openxmlformats.org/officeDocument/2006/relationships/hyperlink" Target="274,6,&#1043;&#1080;&#1073;&#1082;&#1086;&#1089;&#1090;&#1100;" TargetMode="External"/><Relationship Id="rId6" Type="http://schemas.openxmlformats.org/officeDocument/2006/relationships/image" Target="../media/image5.gi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705636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d60093"/>
                </a:solidFill>
                <a:latin typeface="Tw Cen MT Condensed Extra Bold"/>
              </a:rPr>
              <a:t>Развитие физических </a:t>
            </a:r>
            <a:br>
              <a:rPr sz="5000"/>
            </a:br>
            <a:r>
              <a:rPr b="1" lang="ru-RU" sz="5000" spc="-1" strike="noStrike">
                <a:solidFill>
                  <a:srgbClr val="d60093"/>
                </a:solidFill>
                <a:latin typeface="Tw Cen MT Condensed Extra Bold"/>
              </a:rPr>
              <a:t>качеств с помощью игровых технологий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03280" y="4005000"/>
            <a:ext cx="40323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физической культуры МБОУ ООШ №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санова Е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806400" y="2852640"/>
            <a:ext cx="28623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Вы многое узнали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809360" y="2283120"/>
            <a:ext cx="5326200" cy="3277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Читай, рассматривай рисунки - и ты больше узнаешь о себе и о своем здоровье! С удовольствием выполняй упражнения, играй в подвижные игры, занимайся спортом - и ты будешь сильным, ловким, быстрым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выносливым – первым ср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одноклассник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Значение двигательной активности и физической культуры для здоровья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од двигательной активностью понимается сумма всех движений, производимых человеком в процессе своей жизнедеятельности. Это эффективное средство сохранения и укрепления здоровья, гармонического развития личности, профилактики заболеваний. Непременной составляющей двигательной активности являются регулярные занятия физической культурой и спор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Рисунок1"/>
          <p:cNvPicPr/>
          <p:nvPr/>
        </p:nvPicPr>
        <p:blipFill>
          <a:blip r:embed="rId1"/>
          <a:stretch/>
        </p:blipFill>
        <p:spPr>
          <a:xfrm>
            <a:off x="7451640" y="1211400"/>
            <a:ext cx="131292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Подвижные игры, влияющие на укрепление физических каче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гра «Космонавты» В игре принимает участие любое количество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гра «Анаконда»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гра «Шмель»-принимает участие 10-12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гра «Липкие пень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гра «Ловкие умелы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гра «Перестрелка» В каждой команде по два мя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гра «Зайцы, белки, мыш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гра «Лап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гра «Снайп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И многие-многие другие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d60093"/>
                </a:solidFill>
                <a:latin typeface="Bookman Old Style"/>
              </a:rPr>
              <a:t>Физические качества человека: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ccff"/>
                </a:solidFill>
                <a:uFillTx/>
                <a:latin typeface="Bookman Old Style"/>
                <a:hlinkClick r:id="rId1"/>
              </a:rPr>
              <a:t>Быстр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ccff"/>
                </a:solidFill>
                <a:uFillTx/>
                <a:latin typeface="Bookman Old Style"/>
                <a:hlinkClick r:id="rId2"/>
              </a:rPr>
              <a:t>С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ccff"/>
                </a:solidFill>
                <a:uFillTx/>
                <a:latin typeface="Bookman Old Style"/>
                <a:hlinkClick r:id="rId3"/>
              </a:rPr>
              <a:t>Выносливо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ccff"/>
                </a:solidFill>
                <a:uFillTx/>
                <a:latin typeface="Bookman Old Style"/>
                <a:hlinkClick r:id="rId4"/>
              </a:rPr>
              <a:t>Ловкость</a:t>
            </a:r>
            <a:r>
              <a:rPr b="0" lang="ru-RU" sz="4400" spc="-1" strike="noStrike">
                <a:solidFill>
                  <a:srgbClr val="0080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ccff"/>
                </a:solidFill>
                <a:uFillTx/>
                <a:latin typeface="Bookman Old Style"/>
                <a:hlinkClick r:id="rId5"/>
              </a:rPr>
              <a:t>Гибкость</a:t>
            </a:r>
            <a:r>
              <a:rPr b="0" lang="ru-RU" sz="4400" spc="-1" strike="noStrike">
                <a:solidFill>
                  <a:srgbClr val="0080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115"/>
          <p:cNvPicPr/>
          <p:nvPr/>
        </p:nvPicPr>
        <p:blipFill>
          <a:blip r:embed="rId6"/>
          <a:stretch/>
        </p:blipFill>
        <p:spPr>
          <a:xfrm>
            <a:off x="5796000" y="3213000"/>
            <a:ext cx="1224000" cy="1131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7"/>
          <a:stretch/>
        </p:blipFill>
        <p:spPr>
          <a:xfrm>
            <a:off x="6084720" y="1773360"/>
            <a:ext cx="24879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Bookman Old Style"/>
              </a:rPr>
              <a:t>Ловк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Bookman Old Style"/>
              </a:rPr>
              <a:t>Способность правильно, быстро овладевать новыми движениями и рационально перестраивать двигательную деятельность  в соответствии с обстанов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Bookman Old Style"/>
              </a:rPr>
              <a:t>Упражнения для разви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арианты челночного бег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бег с изменением направл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мет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ередача, ведение мя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Bookman Old Style"/>
              </a:rPr>
              <a:t>Виды спорта: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олейбо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баскетбо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гимнаст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портив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016ed511876222ccdeaae5a4f41cc86c"/>
          <p:cNvPicPr/>
          <p:nvPr/>
        </p:nvPicPr>
        <p:blipFill>
          <a:blip r:embed="rId1"/>
          <a:stretch/>
        </p:blipFill>
        <p:spPr>
          <a:xfrm>
            <a:off x="7020000" y="2781360"/>
            <a:ext cx="2009880" cy="253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4397b6011aacb6f8985dc5c4aa2c70e3"/>
          <p:cNvPicPr/>
          <p:nvPr/>
        </p:nvPicPr>
        <p:blipFill>
          <a:blip r:embed="rId2"/>
          <a:stretch/>
        </p:blipFill>
        <p:spPr>
          <a:xfrm>
            <a:off x="4643280" y="4221000"/>
            <a:ext cx="24958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Bookman Old Style"/>
              </a:rPr>
              <a:t>Быстр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Bookman Old Style"/>
              </a:rPr>
              <a:t>Способность перемещать тело и его звенья в пространстве за минимально коротко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Bookman Old Style"/>
              </a:rPr>
              <a:t>Упражнения для развит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пециально-беговые упражн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ег с ускорением от 30-40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Bookman Old Style"/>
              </a:rPr>
              <a:t>Виды спорта:</a:t>
            </a: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легкая атлети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елосипе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нькобежный спор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лы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коростной бег до 40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6300720" y="4076640"/>
            <a:ext cx="2190960" cy="2210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50fcae6f1b1225df61a26dc8b9d1db99"/>
          <p:cNvPicPr/>
          <p:nvPr/>
        </p:nvPicPr>
        <p:blipFill>
          <a:blip r:embed="rId2"/>
          <a:stretch/>
        </p:blipFill>
        <p:spPr>
          <a:xfrm>
            <a:off x="7308720" y="2060640"/>
            <a:ext cx="14353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475 -0.00416 E">
                                      <p:cBhvr>
                                        <p:cTn id="10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Bookman Old Style"/>
              </a:rPr>
              <a:t>Вынослив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Bookman Old Style"/>
              </a:rPr>
              <a:t>Способность противостоять утомлению в процессе какой-либо деятельности, длительно выполнять мышечную работу без снижения ее мощ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Bookman Old Style"/>
              </a:rPr>
              <a:t>Упражнения для развит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бег в равномерном темпе от 6-10 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ительный бе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рос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ходьба на лыж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руговая трениро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Bookman Old Style"/>
              </a:rPr>
              <a:t>Виды спорта:</a:t>
            </a: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ыжный 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лосипедный спор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легкая атлети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нькобежный спорт, спортив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6877080" y="4149720"/>
            <a:ext cx="1947960" cy="2416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4500720" y="3429000"/>
            <a:ext cx="2552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Bookman Old Style"/>
              </a:rPr>
              <a:t>Гибк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Bookman Old Style"/>
              </a:rPr>
              <a:t>Морфофункциональные свойства опорно-двигательного аппарата, определяющие степень подвижности его звеньев или способность выполнять движения с максимальной большой амплитуд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Bookman Old Style"/>
              </a:rPr>
              <a:t>Упражнения для разви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бщеразвивающие упражнения с повышенной амплитудой для плечевых, локтевых, тазобедренных коленных суставов и позвоночни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Bookman Old Style"/>
              </a:rPr>
              <a:t>Виды спорта: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художественная гимн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портивная гимна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фигурное ка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инхронное пла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j0428415"/>
          <p:cNvPicPr/>
          <p:nvPr/>
        </p:nvPicPr>
        <p:blipFill>
          <a:blip r:embed="rId1"/>
          <a:stretch/>
        </p:blipFill>
        <p:spPr>
          <a:xfrm>
            <a:off x="6588000" y="4797360"/>
            <a:ext cx="20163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Bookman Old Style"/>
              </a:rPr>
              <a:t>Си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Bookman Old Style"/>
              </a:rPr>
              <a:t>Способность человека воздействовать на внешние силы или противодействовать им с помощью мышечных напря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Bookman Old Style"/>
              </a:rPr>
              <a:t>Упражнения для разви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дтяг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пражнения в висах и упо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пражнения с ган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абивание мяч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Bookman Old Style"/>
              </a:rPr>
              <a:t>Виды спорта: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тяжелая атл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легкая атлет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динобо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067280" y="4437000"/>
            <a:ext cx="2355840" cy="223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BD06529_"/>
          <p:cNvPicPr/>
          <p:nvPr/>
        </p:nvPicPr>
        <p:blipFill>
          <a:blip r:embed="rId2"/>
          <a:stretch/>
        </p:blipFill>
        <p:spPr>
          <a:xfrm>
            <a:off x="6372360" y="2492280"/>
            <a:ext cx="266364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2:24:55Z</dcterms:created>
  <dc:creator/>
  <dc:description/>
  <dc:language>en-US</dc:language>
  <cp:lastModifiedBy>Gosha</cp:lastModifiedBy>
  <dcterms:modified xsi:type="dcterms:W3CDTF">2013-01-27T13:34:50Z</dcterms:modified>
  <cp:revision>8</cp:revision>
  <dc:subject/>
  <dc:title>Развитие физических  качеств</dc:title>
</cp:coreProperties>
</file>