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A64-FFC9-409E-82B9-1FEEE8FA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4A0-D0AB-4AE3-A3E2-471BD47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135-D364-4518-A826-C4FA10A4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1BA-AAB7-4B23-A362-2FC56CC0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D90-3219-4ADC-AB02-1DA02030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148-D43E-402D-9565-686345E7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260-9D8F-43B5-8A1D-271721D3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9D6-4C82-43CE-BBA2-372A36A8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0A5-9D28-427B-85DA-729A4F1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D06-C923-4801-B3EB-5514D43D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66DA-0E05-4CCE-9A7C-5A64B2BC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69D-CC9B-4608-9F4E-CADE4F6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5BBF-04EC-48C4-998E-AEF69D250E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84807"/>
                </a:solidFill>
                <a:latin typeface="Calibri"/>
              </a:rPr>
              <a:t>Потешки, прибаутки, побас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1670040"/>
            <a:ext cx="7871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5520" y="1571760"/>
            <a:ext cx="79009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Я медведя поймал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медведя поймал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к веди сюд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идё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к сам ид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 он меня не пуска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откий, занимательный рассказ, анекдот, а также вообще выдумка, бай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оварь русского языка С.И. Ожег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14616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571400" y="1500120"/>
            <a:ext cx="6972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нь, тень, потетень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ше города плет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плетнём маль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жёг пальчи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бежал на база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у миру рассказ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лянулся назад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опеечки леж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14616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71400" y="1500120"/>
            <a:ext cx="6972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копеечки подня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ичке отд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ичка-мол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ачей напек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лачи горя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окошко м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хали торгач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обрали кала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1865160" y="14616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71400" y="1357200"/>
            <a:ext cx="69721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дарили в дос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ехали в Москв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али гребён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сали Матрё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ши, чеши гладк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хал Заха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 на лошад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расной шапке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крипочку играе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трёнку забавля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Прямоугольник 3" descr=""/>
          <p:cNvPicPr/>
          <p:nvPr/>
        </p:nvPicPr>
        <p:blipFill>
          <a:blip r:embed="rId1"/>
          <a:stretch/>
        </p:blipFill>
        <p:spPr>
          <a:xfrm>
            <a:off x="1884240" y="6480"/>
            <a:ext cx="50961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" descr=""/>
          <p:cNvPicPr/>
          <p:nvPr/>
        </p:nvPicPr>
        <p:blipFill>
          <a:blip r:embed="rId1"/>
          <a:stretch/>
        </p:blipFill>
        <p:spPr>
          <a:xfrm>
            <a:off x="938160" y="1682640"/>
            <a:ext cx="3846600" cy="17798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2749680" y="5254560"/>
            <a:ext cx="5943600" cy="177948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3" descr=""/>
          <p:cNvPicPr/>
          <p:nvPr/>
        </p:nvPicPr>
        <p:blipFill>
          <a:blip r:embed="rId3"/>
          <a:stretch/>
        </p:blipFill>
        <p:spPr>
          <a:xfrm>
            <a:off x="5735520" y="1895400"/>
            <a:ext cx="3451320" cy="17812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4"/>
          <a:stretch/>
        </p:blipFill>
        <p:spPr>
          <a:xfrm>
            <a:off x="4522680" y="3181320"/>
            <a:ext cx="439596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5" descr=""/>
          <p:cNvPicPr/>
          <p:nvPr/>
        </p:nvPicPr>
        <p:blipFill>
          <a:blip r:embed="rId5"/>
          <a:stretch/>
        </p:blipFill>
        <p:spPr>
          <a:xfrm>
            <a:off x="590400" y="2828880"/>
            <a:ext cx="355464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6"/>
          <a:stretch/>
        </p:blipFill>
        <p:spPr>
          <a:xfrm>
            <a:off x="219240" y="42840"/>
            <a:ext cx="8832600" cy="14511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8" descr=""/>
          <p:cNvPicPr/>
          <p:nvPr/>
        </p:nvPicPr>
        <p:blipFill>
          <a:blip r:embed="rId7"/>
          <a:stretch/>
        </p:blipFill>
        <p:spPr>
          <a:xfrm>
            <a:off x="212760" y="3968640"/>
            <a:ext cx="44751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99800"/>
            <a:ext cx="8186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Отдыхай да на ус мотай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Прямоугольник 3" descr=""/>
          <p:cNvPicPr/>
          <p:nvPr/>
        </p:nvPicPr>
        <p:blipFill>
          <a:blip r:embed="rId1"/>
          <a:stretch/>
        </p:blipFill>
        <p:spPr>
          <a:xfrm>
            <a:off x="2670120" y="146160"/>
            <a:ext cx="3657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еха - забава, развлеч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оварь русского языка С.И. Ожег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3" descr=""/>
          <p:cNvPicPr/>
          <p:nvPr/>
        </p:nvPicPr>
        <p:blipFill>
          <a:blip r:embed="rId1"/>
          <a:stretch/>
        </p:blipFill>
        <p:spPr>
          <a:xfrm>
            <a:off x="2225520" y="146160"/>
            <a:ext cx="43833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а пчела около чела -ж-ж-ж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а оса около носа - дз-дз-дз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а мушка около ушка - бз-бз-бз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тел жук - в голову - бу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2225520" y="146160"/>
            <a:ext cx="43833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85600" y="1714320"/>
            <a:ext cx="6900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хали мы, еха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 белке за орех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кочкам, по кочк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 маленьким пенёчка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в ямку бу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давили сорок му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2225520" y="146160"/>
            <a:ext cx="43833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85520" y="1999800"/>
            <a:ext cx="7900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авная, остроумная, обычно рифмованная поговорка, вставляемая в реч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Словарь русского языка С.И. Ожег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85520" y="1643040"/>
            <a:ext cx="79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ро гвозд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ед, дай молотка гвоздь заби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д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адный ты! Придется свои забива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1643040"/>
            <a:ext cx="79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могать пришё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делаеш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че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он ч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 помогать пришёл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146160"/>
            <a:ext cx="50479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1:19:42Z</dcterms:created>
  <dc:creator>Admin</dc:creator>
  <dc:description/>
  <dc:language>en-US</dc:language>
  <cp:lastModifiedBy>Admin</cp:lastModifiedBy>
  <dcterms:modified xsi:type="dcterms:W3CDTF">2010-04-07T19:33:21Z</dcterms:modified>
  <cp:revision>21</cp:revision>
  <dc:subject/>
  <dc:title>Слайд 1</dc:title>
</cp:coreProperties>
</file>