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603-6F9B-41DF-B9C4-20D7A7EA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5F6-272D-4045-96DA-6027E58A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9C6-5B17-4E9B-8CA0-5945F222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EF9-2734-4C15-BBB6-F7E59A57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8D1-1DCC-47E2-96F9-F9263850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F9C-8D98-40EB-B7B7-05CD307B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359-9BD8-4B54-ADAA-8E0976E1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A90-E61B-46FD-B2F3-6084A863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360-6BD6-4E24-B29E-1B049BCC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7DB-CDF9-4C55-80B8-26BE8A2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437-FE10-4675-BD5D-F8FD527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365-A49D-4D57-AA90-0CF419B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7B03-D80A-4EEC-9789-1DF208CDF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Потешки, прибаутки, побасе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1670040"/>
            <a:ext cx="7871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85520" y="1571760"/>
            <a:ext cx="7900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Я медведя поймал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медведя поймал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к веди сюд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идё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к сам ид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 он меня не пускае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146160"/>
            <a:ext cx="50479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85520" y="1999800"/>
            <a:ext cx="7900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откий, занимательный рассказ, анекдот, а также вообще выдумка, бай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оварь русского языка С.И. Ожег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1865160" y="146160"/>
            <a:ext cx="50961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71400" y="1500120"/>
            <a:ext cx="6972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нь, тень, потетен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ше города плет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плетнём маль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жёг пальчи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бежал на база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у миру рассказ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лянулся назад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копеечки леж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3" descr=""/>
          <p:cNvPicPr/>
          <p:nvPr/>
        </p:nvPicPr>
        <p:blipFill>
          <a:blip r:embed="rId1"/>
          <a:stretch/>
        </p:blipFill>
        <p:spPr>
          <a:xfrm>
            <a:off x="1865160" y="146160"/>
            <a:ext cx="50961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71400" y="1500120"/>
            <a:ext cx="6972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копеечки подня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дичке отд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дичка-мол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ачей напек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ачи горя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окошко м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хали торгач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брали кал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Прямоугольник 3" descr=""/>
          <p:cNvPicPr/>
          <p:nvPr/>
        </p:nvPicPr>
        <p:blipFill>
          <a:blip r:embed="rId1"/>
          <a:stretch/>
        </p:blipFill>
        <p:spPr>
          <a:xfrm>
            <a:off x="1865160" y="146160"/>
            <a:ext cx="50961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71400" y="1357200"/>
            <a:ext cx="6972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арили в дос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ехали в Москв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али гребён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сали Матрё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ши, чеши гладк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хал Заха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 на лошад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расной шап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крипочку игра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рёнку забавля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1884240" y="6480"/>
            <a:ext cx="50961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938160" y="1682640"/>
            <a:ext cx="3846600" cy="17798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2749680" y="5254560"/>
            <a:ext cx="5943600" cy="17794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3"/>
          <a:stretch/>
        </p:blipFill>
        <p:spPr>
          <a:xfrm>
            <a:off x="5735520" y="1895400"/>
            <a:ext cx="3451320" cy="17812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4"/>
          <a:stretch/>
        </p:blipFill>
        <p:spPr>
          <a:xfrm>
            <a:off x="4522680" y="3181320"/>
            <a:ext cx="4395960" cy="17812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5" descr=""/>
          <p:cNvPicPr/>
          <p:nvPr/>
        </p:nvPicPr>
        <p:blipFill>
          <a:blip r:embed="rId5"/>
          <a:stretch/>
        </p:blipFill>
        <p:spPr>
          <a:xfrm>
            <a:off x="590400" y="2828880"/>
            <a:ext cx="355464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6"/>
          <a:stretch/>
        </p:blipFill>
        <p:spPr>
          <a:xfrm>
            <a:off x="219240" y="42840"/>
            <a:ext cx="8832600" cy="14511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7"/>
          <a:stretch/>
        </p:blipFill>
        <p:spPr>
          <a:xfrm>
            <a:off x="212760" y="3968640"/>
            <a:ext cx="447516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99800"/>
            <a:ext cx="81867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Отдыхай да на ус мотай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2670120" y="146160"/>
            <a:ext cx="3657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85520" y="1999800"/>
            <a:ext cx="7900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еха - забава, развлеч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оварь русского языка С.И. Ожег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2225520" y="146160"/>
            <a:ext cx="43833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ела пчела около чела -ж-ж-ж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ела оса около носа - дз-дз-дз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ела мушка около ушка - бз-бз-бз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ел жук - в голову - бу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2225520" y="146160"/>
            <a:ext cx="43833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85600" y="1714320"/>
            <a:ext cx="6900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хали мы, еха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 белке за орех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кочкам, по кочк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маленьким пенёчк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в ямку бу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давили сорок му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2225520" y="146160"/>
            <a:ext cx="43833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5520" y="1999800"/>
            <a:ext cx="7900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бавная, остроумная, обычно рифмованная поговорка, вставляемая в реч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оварь русского языка С.И. Ожег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146160"/>
            <a:ext cx="50479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85520" y="1643040"/>
            <a:ext cx="79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о гвозд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ед, дай молотка гвоздь заби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д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адный ты! Придется свои забив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146160"/>
            <a:ext cx="50479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85520" y="1643040"/>
            <a:ext cx="79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могать пришё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делаеш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че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он ч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 помогать пришёл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146160"/>
            <a:ext cx="50479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1:19:42Z</dcterms:created>
  <dc:creator>Admin</dc:creator>
  <dc:description/>
  <dc:language>en-US</dc:language>
  <cp:lastModifiedBy>Admin</cp:lastModifiedBy>
  <dcterms:modified xsi:type="dcterms:W3CDTF">2010-04-07T19:33:21Z</dcterms:modified>
  <cp:revision>21</cp:revision>
  <dc:subject/>
  <dc:title>Слайд 1</dc:title>
</cp:coreProperties>
</file>