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4.gif" ContentType="image/gif"/>
  <Override PartName="/ppt/media/image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29.png" ContentType="image/png"/>
  <Override PartName="/ppt/media/image36.gif" ContentType="image/gif"/>
  <Override PartName="/ppt/media/image53.png" ContentType="image/png"/>
  <Override PartName="/ppt/media/image42.png" ContentType="image/png"/>
  <Override PartName="/ppt/media/image37.gif" ContentType="image/gif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2.png" ContentType="image/png"/>
  <Override PartName="/ppt/media/image7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3CCB-9A7F-4732-B4D1-F1D2A5B6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A09A-2E54-4814-A4DB-AF7E2337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CB29-AEF5-4E70-AF18-3484C956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3084-7AE1-481E-BABF-AB68E764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CFC-FC94-4823-8A02-67E40C9A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7972-B2CE-4FA9-B093-6AF49461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81F4-CBAE-416F-9D9C-5461D83A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1EB6-0FF7-41AA-AA76-2E34FEA9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7BF4-8B76-42BE-BB19-9AA6ED1A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66C6-90D6-4DB5-A566-5703067F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42F4-E8A3-4832-9152-D290A2E4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813F-DCE4-437E-AD77-DF6C606E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2A0C-5AA4-46ED-B680-712D12D55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gif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4.gif"/><Relationship Id="rId8" Type="http://schemas.openxmlformats.org/officeDocument/2006/relationships/image" Target="../media/image34.gif"/><Relationship Id="rId9" Type="http://schemas.openxmlformats.org/officeDocument/2006/relationships/image" Target="../media/image36.gif"/><Relationship Id="rId10" Type="http://schemas.openxmlformats.org/officeDocument/2006/relationships/image" Target="../media/image37.gif"/><Relationship Id="rId11" Type="http://schemas.openxmlformats.org/officeDocument/2006/relationships/image" Target="../media/image38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41.png"/><Relationship Id="rId16" Type="http://schemas.openxmlformats.org/officeDocument/2006/relationships/image" Target="../media/image34.gif"/><Relationship Id="rId17" Type="http://schemas.openxmlformats.org/officeDocument/2006/relationships/image" Target="../media/image34.gif"/><Relationship Id="rId18" Type="http://schemas.openxmlformats.org/officeDocument/2006/relationships/image" Target="../media/image34.gif"/><Relationship Id="rId19" Type="http://schemas.openxmlformats.org/officeDocument/2006/relationships/image" Target="../media/image34.gif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7701120" cy="1512720"/>
          </a:xfrm>
          <a:prstGeom prst="rect">
            <a:avLst/>
          </a:prstGeom>
          <a:solidFill>
            <a:srgbClr val="fdeada"/>
          </a:solidFill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МАТЕМАТИКА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14200" y="2000160"/>
            <a:ext cx="5981760" cy="464364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4"/>
          <p:cNvSpPr/>
          <p:nvPr/>
        </p:nvSpPr>
        <p:spPr>
          <a:xfrm>
            <a:off x="3348000" y="1989000"/>
            <a:ext cx="271476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Равнобедренный треугольник 5"/>
          <p:cNvSpPr/>
          <p:nvPr/>
        </p:nvSpPr>
        <p:spPr>
          <a:xfrm rot="19303200">
            <a:off x="1939680" y="3208320"/>
            <a:ext cx="785520" cy="1000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Равнобедренный треугольник 6"/>
          <p:cNvGrpSpPr/>
          <p:nvPr/>
        </p:nvGrpSpPr>
        <p:grpSpPr>
          <a:xfrm>
            <a:off x="4657680" y="4224240"/>
            <a:ext cx="1182600" cy="854280"/>
            <a:chOff x="4657680" y="4224240"/>
            <a:chExt cx="1182600" cy="854280"/>
          </a:xfrm>
        </p:grpSpPr>
        <p:pic>
          <p:nvPicPr>
            <p:cNvPr id="182" name="Равнобедренный треугольник 6" descr=""/>
            <p:cNvPicPr/>
            <p:nvPr/>
          </p:nvPicPr>
          <p:blipFill>
            <a:blip r:embed="rId2"/>
            <a:stretch/>
          </p:blipFill>
          <p:spPr>
            <a:xfrm>
              <a:off x="4657680" y="4224240"/>
              <a:ext cx="118260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 rot="4231800">
              <a:off x="4883400" y="4299480"/>
              <a:ext cx="393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Равнобедренный треугольник 7"/>
          <p:cNvSpPr/>
          <p:nvPr/>
        </p:nvSpPr>
        <p:spPr>
          <a:xfrm rot="4715400">
            <a:off x="5032800" y="4555080"/>
            <a:ext cx="785880" cy="1000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1484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Равнобедренный треугольник 8"/>
          <p:cNvSpPr/>
          <p:nvPr/>
        </p:nvSpPr>
        <p:spPr>
          <a:xfrm rot="1590600">
            <a:off x="4325760" y="2979720"/>
            <a:ext cx="785880" cy="1000080"/>
          </a:xfrm>
          <a:prstGeom prst="triangle">
            <a:avLst>
              <a:gd name="adj" fmla="val 5000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Равнобедренный треугольник 9"/>
          <p:cNvSpPr/>
          <p:nvPr/>
        </p:nvSpPr>
        <p:spPr>
          <a:xfrm rot="20290200">
            <a:off x="2468160" y="2755800"/>
            <a:ext cx="824040" cy="1138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7508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Равнобедренный треугольник 10"/>
          <p:cNvGrpSpPr/>
          <p:nvPr/>
        </p:nvGrpSpPr>
        <p:grpSpPr>
          <a:xfrm>
            <a:off x="4443480" y="3475080"/>
            <a:ext cx="1122120" cy="1066680"/>
            <a:chOff x="4443480" y="3475080"/>
            <a:chExt cx="1122120" cy="1066680"/>
          </a:xfrm>
        </p:grpSpPr>
        <p:pic>
          <p:nvPicPr>
            <p:cNvPr id="188" name="Равнобедренный треугольник 10" descr=""/>
            <p:cNvPicPr/>
            <p:nvPr/>
          </p:nvPicPr>
          <p:blipFill>
            <a:blip r:embed="rId3"/>
            <a:stretch/>
          </p:blipFill>
          <p:spPr>
            <a:xfrm>
              <a:off x="4443480" y="3475080"/>
              <a:ext cx="11221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 rot="2936400">
              <a:off x="4750920" y="3753000"/>
              <a:ext cx="39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Равнобедренный треугольник 11"/>
          <p:cNvSpPr/>
          <p:nvPr/>
        </p:nvSpPr>
        <p:spPr>
          <a:xfrm rot="21073200">
            <a:off x="3017880" y="2476080"/>
            <a:ext cx="714240" cy="1214640"/>
          </a:xfrm>
          <a:prstGeom prst="triangle">
            <a:avLst>
              <a:gd name="adj" fmla="val 48616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728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Равнобедренный треугольник 12"/>
          <p:cNvGrpSpPr/>
          <p:nvPr/>
        </p:nvGrpSpPr>
        <p:grpSpPr>
          <a:xfrm>
            <a:off x="3444840" y="2481120"/>
            <a:ext cx="1017720" cy="1420920"/>
            <a:chOff x="3444840" y="2481120"/>
            <a:chExt cx="1017720" cy="1420920"/>
          </a:xfrm>
        </p:grpSpPr>
        <p:pic>
          <p:nvPicPr>
            <p:cNvPr id="192" name="Равнобедренный треугольник 12" descr=""/>
            <p:cNvPicPr/>
            <p:nvPr/>
          </p:nvPicPr>
          <p:blipFill>
            <a:blip r:embed="rId4"/>
            <a:stretch/>
          </p:blipFill>
          <p:spPr>
            <a:xfrm>
              <a:off x="3444840" y="2481120"/>
              <a:ext cx="10177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646800">
              <a:off x="3781080" y="3124080"/>
              <a:ext cx="4636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TextBox 13"/>
          <p:cNvSpPr/>
          <p:nvPr/>
        </p:nvSpPr>
        <p:spPr>
          <a:xfrm>
            <a:off x="3357720" y="2928960"/>
            <a:ext cx="500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Прямоугольник 14" descr=""/>
          <p:cNvPicPr/>
          <p:nvPr/>
        </p:nvPicPr>
        <p:blipFill>
          <a:blip r:embed="rId5"/>
          <a:stretch/>
        </p:blipFill>
        <p:spPr>
          <a:xfrm>
            <a:off x="1657440" y="3090960"/>
            <a:ext cx="1493640" cy="138420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15" descr=""/>
          <p:cNvPicPr/>
          <p:nvPr/>
        </p:nvPicPr>
        <p:blipFill>
          <a:blip r:embed="rId6"/>
          <a:stretch/>
        </p:blipFill>
        <p:spPr>
          <a:xfrm>
            <a:off x="2664000" y="2610000"/>
            <a:ext cx="1444320" cy="132228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16" descr=""/>
          <p:cNvPicPr/>
          <p:nvPr/>
        </p:nvPicPr>
        <p:blipFill>
          <a:blip r:embed="rId7"/>
          <a:stretch/>
        </p:blipFill>
        <p:spPr>
          <a:xfrm>
            <a:off x="2077920" y="2700360"/>
            <a:ext cx="1573200" cy="148104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17" descr=""/>
          <p:cNvPicPr/>
          <p:nvPr/>
        </p:nvPicPr>
        <p:blipFill>
          <a:blip r:embed="rId8"/>
          <a:stretch/>
        </p:blipFill>
        <p:spPr>
          <a:xfrm>
            <a:off x="3260880" y="2597040"/>
            <a:ext cx="1482480" cy="1365480"/>
          </a:xfrm>
          <a:prstGeom prst="rect">
            <a:avLst/>
          </a:prstGeom>
          <a:ln w="0">
            <a:noFill/>
          </a:ln>
        </p:spPr>
      </p:pic>
      <p:pic>
        <p:nvPicPr>
          <p:cNvPr id="199" name="Прямоугольник 18" descr=""/>
          <p:cNvPicPr/>
          <p:nvPr/>
        </p:nvPicPr>
        <p:blipFill>
          <a:blip r:embed="rId9"/>
          <a:stretch/>
        </p:blipFill>
        <p:spPr>
          <a:xfrm>
            <a:off x="3840120" y="2766960"/>
            <a:ext cx="1585800" cy="1494000"/>
          </a:xfrm>
          <a:prstGeom prst="rect">
            <a:avLst/>
          </a:prstGeom>
          <a:ln w="0">
            <a:noFill/>
          </a:ln>
        </p:spPr>
      </p:pic>
      <p:pic>
        <p:nvPicPr>
          <p:cNvPr id="200" name="Прямоугольник 19" descr=""/>
          <p:cNvPicPr/>
          <p:nvPr/>
        </p:nvPicPr>
        <p:blipFill>
          <a:blip r:embed="rId10"/>
          <a:stretch/>
        </p:blipFill>
        <p:spPr>
          <a:xfrm>
            <a:off x="4187880" y="3139920"/>
            <a:ext cx="1682640" cy="1633680"/>
          </a:xfrm>
          <a:prstGeom prst="rect">
            <a:avLst/>
          </a:prstGeom>
          <a:ln w="0">
            <a:noFill/>
          </a:ln>
        </p:spPr>
      </p:pic>
      <p:pic>
        <p:nvPicPr>
          <p:cNvPr id="201" name="Прямоугольник 21" descr=""/>
          <p:cNvPicPr/>
          <p:nvPr/>
        </p:nvPicPr>
        <p:blipFill>
          <a:blip r:embed="rId11"/>
          <a:stretch/>
        </p:blipFill>
        <p:spPr>
          <a:xfrm>
            <a:off x="4309920" y="3651120"/>
            <a:ext cx="1689120" cy="171288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22" descr=""/>
          <p:cNvPicPr/>
          <p:nvPr/>
        </p:nvPicPr>
        <p:blipFill>
          <a:blip r:embed="rId12"/>
          <a:stretch/>
        </p:blipFill>
        <p:spPr>
          <a:xfrm>
            <a:off x="4413240" y="4218120"/>
            <a:ext cx="1652760" cy="169524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5"/>
          <p:cNvSpPr/>
          <p:nvPr/>
        </p:nvSpPr>
        <p:spPr>
          <a:xfrm>
            <a:off x="4427640" y="0"/>
            <a:ext cx="3787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 -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3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 -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 -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Равнобедренный треугольник 26"/>
          <p:cNvGrpSpPr/>
          <p:nvPr/>
        </p:nvGrpSpPr>
        <p:grpSpPr>
          <a:xfrm>
            <a:off x="5364000" y="0"/>
            <a:ext cx="1042920" cy="676080"/>
            <a:chOff x="5364000" y="0"/>
            <a:chExt cx="1042920" cy="676080"/>
          </a:xfrm>
        </p:grpSpPr>
        <p:pic>
          <p:nvPicPr>
            <p:cNvPr id="205" name="Равнобедренный треугольник 26" descr=""/>
            <p:cNvPicPr/>
            <p:nvPr/>
          </p:nvPicPr>
          <p:blipFill>
            <a:blip r:embed="rId13"/>
            <a:stretch/>
          </p:blipFill>
          <p:spPr>
            <a:xfrm>
              <a:off x="5364000" y="0"/>
              <a:ext cx="104292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655960" y="320400"/>
              <a:ext cx="4622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" name="Равнобедренный треугольник 27"/>
          <p:cNvSpPr/>
          <p:nvPr/>
        </p:nvSpPr>
        <p:spPr>
          <a:xfrm>
            <a:off x="5508720" y="765000"/>
            <a:ext cx="718920" cy="524160"/>
          </a:xfrm>
          <a:prstGeom prst="triangle">
            <a:avLst>
              <a:gd name="adj" fmla="val 48616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Равнобедренный треугольник 28"/>
          <p:cNvSpPr/>
          <p:nvPr/>
        </p:nvSpPr>
        <p:spPr>
          <a:xfrm>
            <a:off x="5508720" y="1341360"/>
            <a:ext cx="817560" cy="642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Равнобедренный треугольник 29"/>
          <p:cNvSpPr/>
          <p:nvPr/>
        </p:nvSpPr>
        <p:spPr>
          <a:xfrm>
            <a:off x="5580000" y="2205000"/>
            <a:ext cx="720720" cy="6112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0"/>
          <p:cNvSpPr/>
          <p:nvPr/>
        </p:nvSpPr>
        <p:spPr>
          <a:xfrm>
            <a:off x="5724360" y="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31"/>
          <p:cNvSpPr/>
          <p:nvPr/>
        </p:nvSpPr>
        <p:spPr>
          <a:xfrm>
            <a:off x="5651640" y="76500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2"/>
          <p:cNvSpPr/>
          <p:nvPr/>
        </p:nvSpPr>
        <p:spPr>
          <a:xfrm>
            <a:off x="5651640" y="1413000"/>
            <a:ext cx="43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3"/>
          <p:cNvSpPr/>
          <p:nvPr/>
        </p:nvSpPr>
        <p:spPr>
          <a:xfrm flipH="1">
            <a:off x="5723640" y="2133720"/>
            <a:ext cx="5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Равнобедренный треугольник 34"/>
          <p:cNvSpPr/>
          <p:nvPr/>
        </p:nvSpPr>
        <p:spPr>
          <a:xfrm>
            <a:off x="1643040" y="928800"/>
            <a:ext cx="785880" cy="1714320"/>
          </a:xfrm>
          <a:prstGeom prst="triangle">
            <a:avLst>
              <a:gd name="adj" fmla="val 50000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5"/>
          <p:cNvSpPr/>
          <p:nvPr/>
        </p:nvSpPr>
        <p:spPr>
          <a:xfrm>
            <a:off x="1785960" y="171468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7375e"/>
                </a:solidFill>
                <a:latin typeface="Calibri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29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19"/>
          <p:cNvSpPr/>
          <p:nvPr/>
        </p:nvSpPr>
        <p:spPr>
          <a:xfrm>
            <a:off x="428760" y="6215040"/>
            <a:ext cx="8572320" cy="14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577960" cy="2428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2143080"/>
            <a:ext cx="1714680" cy="1625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6357960" y="214200"/>
            <a:ext cx="2421000" cy="1824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tretch/>
        </p:blipFill>
        <p:spPr>
          <a:xfrm>
            <a:off x="7000920" y="221472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5"/>
          <a:stretch/>
        </p:blipFill>
        <p:spPr>
          <a:xfrm>
            <a:off x="4857840" y="2643120"/>
            <a:ext cx="1857240" cy="2346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6"/>
          <a:stretch/>
        </p:blipFill>
        <p:spPr>
          <a:xfrm>
            <a:off x="1285920" y="3357720"/>
            <a:ext cx="1214280" cy="155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7"/>
          <a:stretch/>
        </p:blipFill>
        <p:spPr>
          <a:xfrm>
            <a:off x="2786040" y="2000160"/>
            <a:ext cx="1792440" cy="2536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10"/>
          <p:cNvSpPr/>
          <p:nvPr/>
        </p:nvSpPr>
        <p:spPr>
          <a:xfrm>
            <a:off x="1928880" y="150012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500040" y="2214720"/>
            <a:ext cx="35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6429240" y="92880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7429680" y="350028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4857840" y="2643120"/>
            <a:ext cx="5000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857160" y="3929040"/>
            <a:ext cx="4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3786120" y="250020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8"/>
          <a:stretch/>
        </p:blipFill>
        <p:spPr>
          <a:xfrm>
            <a:off x="3000240" y="285840"/>
            <a:ext cx="2619360" cy="17334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3"/>
          <p:cNvSpPr/>
          <p:nvPr/>
        </p:nvSpPr>
        <p:spPr>
          <a:xfrm>
            <a:off x="4429080" y="142920"/>
            <a:ext cx="57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20"/>
          <p:cNvSpPr/>
          <p:nvPr/>
        </p:nvSpPr>
        <p:spPr>
          <a:xfrm>
            <a:off x="285840" y="6143760"/>
            <a:ext cx="142920" cy="142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21"/>
          <p:cNvSpPr/>
          <p:nvPr/>
        </p:nvSpPr>
        <p:spPr>
          <a:xfrm>
            <a:off x="1143000" y="6143760"/>
            <a:ext cx="142920" cy="142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Овал 22"/>
          <p:cNvSpPr/>
          <p:nvPr/>
        </p:nvSpPr>
        <p:spPr>
          <a:xfrm>
            <a:off x="4714920" y="6143760"/>
            <a:ext cx="142920" cy="142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23"/>
          <p:cNvSpPr/>
          <p:nvPr/>
        </p:nvSpPr>
        <p:spPr>
          <a:xfrm>
            <a:off x="5500800" y="6143760"/>
            <a:ext cx="142920" cy="142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вал 24"/>
          <p:cNvSpPr/>
          <p:nvPr/>
        </p:nvSpPr>
        <p:spPr>
          <a:xfrm>
            <a:off x="6429240" y="6143760"/>
            <a:ext cx="142920" cy="142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25"/>
          <p:cNvSpPr/>
          <p:nvPr/>
        </p:nvSpPr>
        <p:spPr>
          <a:xfrm>
            <a:off x="8358120" y="6143760"/>
            <a:ext cx="142920" cy="142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26"/>
          <p:cNvSpPr/>
          <p:nvPr/>
        </p:nvSpPr>
        <p:spPr>
          <a:xfrm>
            <a:off x="1928880" y="6143760"/>
            <a:ext cx="142920" cy="142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27"/>
          <p:cNvSpPr/>
          <p:nvPr/>
        </p:nvSpPr>
        <p:spPr>
          <a:xfrm>
            <a:off x="2857680" y="6143760"/>
            <a:ext cx="142560" cy="142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Овал 28"/>
          <p:cNvSpPr/>
          <p:nvPr/>
        </p:nvSpPr>
        <p:spPr>
          <a:xfrm>
            <a:off x="3786120" y="6143760"/>
            <a:ext cx="142920" cy="142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29"/>
          <p:cNvSpPr/>
          <p:nvPr/>
        </p:nvSpPr>
        <p:spPr>
          <a:xfrm>
            <a:off x="7358040" y="6143760"/>
            <a:ext cx="142920" cy="142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Прямоугольник 34" descr=""/>
          <p:cNvPicPr/>
          <p:nvPr/>
        </p:nvPicPr>
        <p:blipFill>
          <a:blip r:embed="rId9"/>
          <a:stretch/>
        </p:blipFill>
        <p:spPr>
          <a:xfrm>
            <a:off x="628560" y="5162400"/>
            <a:ext cx="1333440" cy="181152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35" descr=""/>
          <p:cNvPicPr/>
          <p:nvPr/>
        </p:nvPicPr>
        <p:blipFill>
          <a:blip r:embed="rId10"/>
          <a:stretch/>
        </p:blipFill>
        <p:spPr>
          <a:xfrm>
            <a:off x="1414440" y="5162400"/>
            <a:ext cx="1305000" cy="181152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36" descr=""/>
          <p:cNvPicPr/>
          <p:nvPr/>
        </p:nvPicPr>
        <p:blipFill>
          <a:blip r:embed="rId11"/>
          <a:stretch/>
        </p:blipFill>
        <p:spPr>
          <a:xfrm>
            <a:off x="2273400" y="5162400"/>
            <a:ext cx="1305000" cy="181152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37" descr=""/>
          <p:cNvPicPr/>
          <p:nvPr/>
        </p:nvPicPr>
        <p:blipFill>
          <a:blip r:embed="rId12"/>
          <a:stretch/>
        </p:blipFill>
        <p:spPr>
          <a:xfrm>
            <a:off x="3273480" y="5162400"/>
            <a:ext cx="1219320" cy="181152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38" descr=""/>
          <p:cNvPicPr/>
          <p:nvPr/>
        </p:nvPicPr>
        <p:blipFill>
          <a:blip r:embed="rId13"/>
          <a:stretch/>
        </p:blipFill>
        <p:spPr>
          <a:xfrm>
            <a:off x="4127400" y="5162400"/>
            <a:ext cx="1382760" cy="181152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40" descr=""/>
          <p:cNvPicPr/>
          <p:nvPr/>
        </p:nvPicPr>
        <p:blipFill>
          <a:blip r:embed="rId14"/>
          <a:stretch/>
        </p:blipFill>
        <p:spPr>
          <a:xfrm>
            <a:off x="5846760" y="5162400"/>
            <a:ext cx="1255680" cy="181152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41" descr=""/>
          <p:cNvPicPr/>
          <p:nvPr/>
        </p:nvPicPr>
        <p:blipFill>
          <a:blip r:embed="rId15"/>
          <a:stretch/>
        </p:blipFill>
        <p:spPr>
          <a:xfrm>
            <a:off x="6724800" y="5181480"/>
            <a:ext cx="1492200" cy="180504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39" descr=""/>
          <p:cNvPicPr/>
          <p:nvPr/>
        </p:nvPicPr>
        <p:blipFill>
          <a:blip r:embed="rId16"/>
          <a:stretch/>
        </p:blipFill>
        <p:spPr>
          <a:xfrm>
            <a:off x="4986360" y="5162400"/>
            <a:ext cx="1255680" cy="1811520"/>
          </a:xfrm>
          <a:prstGeom prst="rect">
            <a:avLst/>
          </a:prstGeom>
          <a:ln w="0">
            <a:noFill/>
          </a:ln>
        </p:spPr>
      </p:pic>
      <p:sp>
        <p:nvSpPr>
          <p:cNvPr id="79" name="TextBox 42"/>
          <p:cNvSpPr/>
          <p:nvPr/>
        </p:nvSpPr>
        <p:spPr>
          <a:xfrm>
            <a:off x="0" y="60721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47 0.04583 C -0.10209 0.1456 -0.17153 0.24537 -0.18716 0.35046 C -0.20278 0.45556 -0.13681 0.62153 -0.12657 0.6757 E">
                                      <p:cBhvr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 0.02569 C -0.0217 0.13194 -0.0408 0.23819 -0.04427 0.30347 C -0.04774 0.36875 -0.05451 0.37523 -0.02396 0.41782 C 0.0066 0.46041 0.07275 0.50972 0.13906 0.55903 E">
                                      <p:cBhvr>
                                        <p:cTn id="1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2.22222E-006 C 0.01406 0.03426 0.0283 0.06898 -0.00104 0.12477 C -0.03021 0.18078 -0.13264 0.27245 -0.17569 0.33565 C -0.21875 0.39884 -0.22031 0.43379 -0.25937 0.5044 C -0.29861 0.575 -0.35503 0.66713 -0.41146 0.75926 E">
                                      <p:cBhvr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3.7037E-006 C 0.00331 0.0757 0.00659 0.15139 8.33333E-006 0.21435 C -0.00659 0.27708 -0.03159 0.32037 -0.03924 0.37778 C -0.04688 0.43495 -0.04202 0.50278 -0.04635 0.55695 C -0.05069 0.61157 -0.05624 0.65509 -0.06545 0.70463 C -0.07465 0.75417 -0.08802 0.80394 -0.10122 0.85394 E">
                                      <p:cBhvr>
                                        <p:cTn id="30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0.01666 C -0.00504 0.05069 -0.00504 0.08495 -0.01806 0.10879 C -0.03108 0.13264 -0.04601 0.14097 -0.08351 0.15949 C -0.12101 0.17801 -0.20295 0.18403 -0.24306 0.21991 C -0.28316 0.25578 -0.30365 0.31551 -0.32396 0.37546 E">
                                      <p:cBhvr>
                                        <p:cTn id="3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6 0.04722 C -0.01563 0.08403 -0.0191 0.12083 -0.01216 0.15671 C -0.00521 0.19259 0.01927 0.23102 0.02951 0.26319 C 0.03975 0.29537 0.04566 0.31481 0.04965 0.35046 C 0.05364 0.38611 0.0533 0.45254 0.0533 0.47731 C 0.0533 0.50208 0.05156 0.49653 0.04965 0.49953 C 0.04774 0.50254 0.04444 0.49861 0.04132 0.49491 E">
                                      <p:cBhvr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22222E-006 C 0.05659 0.01412 0.11337 0.02847 0.17448 0.04305 C 0.23559 0.05764 0.30816 0.07916 0.36684 0.08657 C 0.42552 0.09375 0.49375 0.06574 0.52673 0.08657 C 0.55972 0.10741 0.55104 0.17384 0.56389 0.21134 C 0.57656 0.24861 0.58975 0.27963 0.6033 0.31111 E">
                                      <p:cBhvr>
                                        <p:cTn id="51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45 0.0051 C 0.03975 0.05417 0.03906 0.10325 0.05607 0.14167 C 0.07309 0.1801 0.09791 0.21528 0.14288 0.23519 C 0.18784 0.2551 0.28507 0.23612 0.32621 0.26065 C 0.36736 0.28519 0.38264 0.34075 0.38941 0.38287 C 0.39618 0.425 0.38142 0.46899 0.36666 0.51297 E">
                                      <p:cBhvr>
                                        <p:cTn id="5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82560" y="857160"/>
            <a:ext cx="7461360" cy="579276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4286160" y="857160"/>
            <a:ext cx="371484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Равнобедренный треугольник 5"/>
          <p:cNvSpPr/>
          <p:nvPr/>
        </p:nvSpPr>
        <p:spPr>
          <a:xfrm rot="19303200">
            <a:off x="3153960" y="2494080"/>
            <a:ext cx="785880" cy="1000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Равнобедренный треугольник 6"/>
          <p:cNvGrpSpPr/>
          <p:nvPr/>
        </p:nvGrpSpPr>
        <p:grpSpPr>
          <a:xfrm>
            <a:off x="6156360" y="3297240"/>
            <a:ext cx="1182600" cy="853920"/>
            <a:chOff x="6156360" y="3297240"/>
            <a:chExt cx="1182600" cy="853920"/>
          </a:xfrm>
        </p:grpSpPr>
        <p:pic>
          <p:nvPicPr>
            <p:cNvPr id="84" name="Равнобедренный треугольник 6" descr=""/>
            <p:cNvPicPr/>
            <p:nvPr/>
          </p:nvPicPr>
          <p:blipFill>
            <a:blip r:embed="rId2"/>
            <a:stretch/>
          </p:blipFill>
          <p:spPr>
            <a:xfrm>
              <a:off x="6156360" y="3297240"/>
              <a:ext cx="118260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 rot="4231800">
              <a:off x="6383520" y="3371040"/>
              <a:ext cx="3934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Равнобедренный треугольник 7"/>
          <p:cNvSpPr/>
          <p:nvPr/>
        </p:nvSpPr>
        <p:spPr>
          <a:xfrm rot="4715400">
            <a:off x="6533640" y="3769560"/>
            <a:ext cx="785520" cy="1000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1484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Равнобедренный треугольник 8"/>
          <p:cNvSpPr/>
          <p:nvPr/>
        </p:nvSpPr>
        <p:spPr>
          <a:xfrm rot="1590600">
            <a:off x="5540400" y="2193840"/>
            <a:ext cx="785880" cy="1000080"/>
          </a:xfrm>
          <a:prstGeom prst="triangle">
            <a:avLst>
              <a:gd name="adj" fmla="val 5000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Равнобедренный треугольник 9"/>
          <p:cNvSpPr/>
          <p:nvPr/>
        </p:nvSpPr>
        <p:spPr>
          <a:xfrm rot="20290200">
            <a:off x="3558960" y="2041560"/>
            <a:ext cx="825480" cy="1138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7508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Равнобедренный треугольник 10"/>
          <p:cNvGrpSpPr/>
          <p:nvPr/>
        </p:nvGrpSpPr>
        <p:grpSpPr>
          <a:xfrm>
            <a:off x="5797440" y="2567160"/>
            <a:ext cx="1036800" cy="1139760"/>
            <a:chOff x="5797440" y="2567160"/>
            <a:chExt cx="1036800" cy="1139760"/>
          </a:xfrm>
        </p:grpSpPr>
        <p:pic>
          <p:nvPicPr>
            <p:cNvPr id="90" name="Равнобедренный треугольник 10" descr=""/>
            <p:cNvPicPr/>
            <p:nvPr/>
          </p:nvPicPr>
          <p:blipFill>
            <a:blip r:embed="rId3"/>
            <a:stretch/>
          </p:blipFill>
          <p:spPr>
            <a:xfrm>
              <a:off x="5797440" y="2567160"/>
              <a:ext cx="103680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 rot="2278800">
              <a:off x="6124320" y="2940120"/>
              <a:ext cx="3934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Равнобедренный треугольник 11"/>
          <p:cNvSpPr/>
          <p:nvPr/>
        </p:nvSpPr>
        <p:spPr>
          <a:xfrm rot="21073200">
            <a:off x="4160880" y="1690200"/>
            <a:ext cx="714240" cy="1214640"/>
          </a:xfrm>
          <a:prstGeom prst="triangle">
            <a:avLst>
              <a:gd name="adj" fmla="val 48616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728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Равнобедренный треугольник 12"/>
          <p:cNvGrpSpPr/>
          <p:nvPr/>
        </p:nvGrpSpPr>
        <p:grpSpPr>
          <a:xfrm>
            <a:off x="4657680" y="1695600"/>
            <a:ext cx="1017720" cy="1425600"/>
            <a:chOff x="4657680" y="1695600"/>
            <a:chExt cx="1017720" cy="1425600"/>
          </a:xfrm>
        </p:grpSpPr>
        <p:pic>
          <p:nvPicPr>
            <p:cNvPr id="94" name="Равнобедренный треугольник 12" descr=""/>
            <p:cNvPicPr/>
            <p:nvPr/>
          </p:nvPicPr>
          <p:blipFill>
            <a:blip r:embed="rId4"/>
            <a:stretch/>
          </p:blipFill>
          <p:spPr>
            <a:xfrm>
              <a:off x="4657680" y="1695600"/>
              <a:ext cx="10177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 rot="646800">
              <a:off x="4995360" y="2338560"/>
              <a:ext cx="4636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TextBox 13"/>
          <p:cNvSpPr/>
          <p:nvPr/>
        </p:nvSpPr>
        <p:spPr>
          <a:xfrm>
            <a:off x="3357720" y="2928960"/>
            <a:ext cx="500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Прямоугольник 14" descr=""/>
          <p:cNvPicPr/>
          <p:nvPr/>
        </p:nvPicPr>
        <p:blipFill>
          <a:blip r:embed="rId5"/>
          <a:stretch/>
        </p:blipFill>
        <p:spPr>
          <a:xfrm>
            <a:off x="2803680" y="2305080"/>
            <a:ext cx="1493640" cy="138276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15" descr=""/>
          <p:cNvPicPr/>
          <p:nvPr/>
        </p:nvPicPr>
        <p:blipFill>
          <a:blip r:embed="rId6"/>
          <a:stretch/>
        </p:blipFill>
        <p:spPr>
          <a:xfrm>
            <a:off x="3754440" y="1639800"/>
            <a:ext cx="1446120" cy="132876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16" descr=""/>
          <p:cNvPicPr/>
          <p:nvPr/>
        </p:nvPicPr>
        <p:blipFill>
          <a:blip r:embed="rId7"/>
          <a:stretch/>
        </p:blipFill>
        <p:spPr>
          <a:xfrm>
            <a:off x="3164040" y="1925640"/>
            <a:ext cx="1573200" cy="148284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17" descr=""/>
          <p:cNvPicPr/>
          <p:nvPr/>
        </p:nvPicPr>
        <p:blipFill>
          <a:blip r:embed="rId8"/>
          <a:stretch/>
        </p:blipFill>
        <p:spPr>
          <a:xfrm>
            <a:off x="4535640" y="1768320"/>
            <a:ext cx="1481040" cy="136548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18" descr=""/>
          <p:cNvPicPr/>
          <p:nvPr/>
        </p:nvPicPr>
        <p:blipFill>
          <a:blip r:embed="rId9"/>
          <a:stretch/>
        </p:blipFill>
        <p:spPr>
          <a:xfrm>
            <a:off x="5065560" y="1994040"/>
            <a:ext cx="1584360" cy="149220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9" descr=""/>
          <p:cNvPicPr/>
          <p:nvPr/>
        </p:nvPicPr>
        <p:blipFill>
          <a:blip r:embed="rId10"/>
          <a:stretch/>
        </p:blipFill>
        <p:spPr>
          <a:xfrm>
            <a:off x="5651640" y="2298600"/>
            <a:ext cx="1554120" cy="145116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21" descr=""/>
          <p:cNvPicPr/>
          <p:nvPr/>
        </p:nvPicPr>
        <p:blipFill>
          <a:blip r:embed="rId11"/>
          <a:stretch/>
        </p:blipFill>
        <p:spPr>
          <a:xfrm>
            <a:off x="6012000" y="2708280"/>
            <a:ext cx="1695240" cy="171936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22" descr=""/>
          <p:cNvPicPr/>
          <p:nvPr/>
        </p:nvPicPr>
        <p:blipFill>
          <a:blip r:embed="rId12"/>
          <a:stretch/>
        </p:blipFill>
        <p:spPr>
          <a:xfrm>
            <a:off x="6012000" y="3500280"/>
            <a:ext cx="1652400" cy="16876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23"/>
          <p:cNvSpPr/>
          <p:nvPr/>
        </p:nvSpPr>
        <p:spPr>
          <a:xfrm>
            <a:off x="0" y="4572000"/>
            <a:ext cx="3071880" cy="178596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Равнобедренный треугольник 24"/>
          <p:cNvSpPr/>
          <p:nvPr/>
        </p:nvSpPr>
        <p:spPr>
          <a:xfrm rot="10800000">
            <a:off x="0" y="4571640"/>
            <a:ext cx="3000240" cy="857160"/>
          </a:xfrm>
          <a:prstGeom prst="triangle">
            <a:avLst>
              <a:gd name="adj" fmla="val 50000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reeform 48"/>
          <p:cNvSpPr/>
          <p:nvPr/>
        </p:nvSpPr>
        <p:spPr>
          <a:xfrm rot="21473400">
            <a:off x="-393480" y="5222520"/>
            <a:ext cx="9864720" cy="2884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0" descr="718217"/>
          <p:cNvPicPr/>
          <p:nvPr/>
        </p:nvPicPr>
        <p:blipFill>
          <a:blip r:embed="rId2">
            <a:lum bright="12000"/>
          </a:blip>
          <a:srcRect l="0" t="0" r="0" b="25625"/>
          <a:stretch/>
        </p:blipFill>
        <p:spPr>
          <a:xfrm>
            <a:off x="900000" y="836640"/>
            <a:ext cx="7129440" cy="332568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3"/>
          <p:cNvSpPr/>
          <p:nvPr/>
        </p:nvSpPr>
        <p:spPr>
          <a:xfrm rot="280200">
            <a:off x="1692360" y="189000"/>
            <a:ext cx="5761080" cy="2016000"/>
          </a:xfrm>
          <a:prstGeom prst="cloudCallout">
            <a:avLst>
              <a:gd name="adj1" fmla="val -22134"/>
              <a:gd name="adj2" fmla="val 31115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3" descr="b39"/>
          <p:cNvPicPr/>
          <p:nvPr/>
        </p:nvPicPr>
        <p:blipFill>
          <a:blip r:embed="rId4"/>
          <a:stretch/>
        </p:blipFill>
        <p:spPr>
          <a:xfrm>
            <a:off x="1403280" y="5661000"/>
            <a:ext cx="865080" cy="874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7" descr="klever"/>
          <p:cNvPicPr/>
          <p:nvPr/>
        </p:nvPicPr>
        <p:blipFill>
          <a:blip r:embed="rId5"/>
          <a:stretch/>
        </p:blipFill>
        <p:spPr>
          <a:xfrm>
            <a:off x="2411280" y="4724280"/>
            <a:ext cx="1522440" cy="1976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" descr="klever"/>
          <p:cNvPicPr/>
          <p:nvPr/>
        </p:nvPicPr>
        <p:blipFill>
          <a:blip r:embed="rId6"/>
          <a:stretch/>
        </p:blipFill>
        <p:spPr>
          <a:xfrm flipH="1" rot="57600">
            <a:off x="5363280" y="4723920"/>
            <a:ext cx="1371600" cy="1976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9" descr="b39"/>
          <p:cNvPicPr/>
          <p:nvPr/>
        </p:nvPicPr>
        <p:blipFill>
          <a:blip r:embed="rId7"/>
          <a:stretch/>
        </p:blipFill>
        <p:spPr>
          <a:xfrm>
            <a:off x="4067280" y="5300640"/>
            <a:ext cx="1292040" cy="1306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0" descr="b39"/>
          <p:cNvPicPr/>
          <p:nvPr/>
        </p:nvPicPr>
        <p:blipFill>
          <a:blip r:embed="rId8"/>
          <a:stretch/>
        </p:blipFill>
        <p:spPr>
          <a:xfrm>
            <a:off x="6948360" y="5661000"/>
            <a:ext cx="865440" cy="874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Ins02"/>
          <p:cNvPicPr/>
          <p:nvPr/>
        </p:nvPicPr>
        <p:blipFill>
          <a:blip r:embed="rId9"/>
          <a:stretch/>
        </p:blipFill>
        <p:spPr>
          <a:xfrm flipH="1">
            <a:off x="-1297440" y="2565360"/>
            <a:ext cx="1297080" cy="7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Ins31"/>
          <p:cNvPicPr/>
          <p:nvPr/>
        </p:nvPicPr>
        <p:blipFill>
          <a:blip r:embed="rId10">
            <a:lum bright="-12000"/>
          </a:blip>
          <a:stretch/>
        </p:blipFill>
        <p:spPr>
          <a:xfrm rot="20881200">
            <a:off x="5292720" y="2349000"/>
            <a:ext cx="961920" cy="96228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36"/>
          <p:cNvSpPr/>
          <p:nvPr/>
        </p:nvSpPr>
        <p:spPr>
          <a:xfrm rot="289800">
            <a:off x="971640" y="3715920"/>
            <a:ext cx="2376360" cy="863640"/>
          </a:xfrm>
          <a:prstGeom prst="cloudCallout">
            <a:avLst>
              <a:gd name="adj1" fmla="val -30495"/>
              <a:gd name="adj2" fmla="val 38421"/>
            </a:avLst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37"/>
          <p:cNvSpPr/>
          <p:nvPr/>
        </p:nvSpPr>
        <p:spPr>
          <a:xfrm rot="289800">
            <a:off x="5651640" y="3644640"/>
            <a:ext cx="2376360" cy="863640"/>
          </a:xfrm>
          <a:prstGeom prst="cloudCallout">
            <a:avLst>
              <a:gd name="adj1" fmla="val -30495"/>
              <a:gd name="adj2" fmla="val 38421"/>
            </a:avLst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38"/>
          <p:cNvSpPr/>
          <p:nvPr/>
        </p:nvSpPr>
        <p:spPr>
          <a:xfrm rot="197400">
            <a:off x="1763280" y="333360"/>
            <a:ext cx="2448000" cy="1152720"/>
          </a:xfrm>
          <a:prstGeom prst="cloudCallout">
            <a:avLst>
              <a:gd name="adj1" fmla="val -29509"/>
              <a:gd name="adj2" fmla="val 38157"/>
            </a:avLst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utoShape 21"/>
          <p:cNvSpPr/>
          <p:nvPr/>
        </p:nvSpPr>
        <p:spPr>
          <a:xfrm>
            <a:off x="6516720" y="115920"/>
            <a:ext cx="2303280" cy="2374920"/>
          </a:xfrm>
          <a:prstGeom prst="sun">
            <a:avLst>
              <a:gd name="adj" fmla="val 25000"/>
            </a:avLst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40"/>
          <p:cNvSpPr/>
          <p:nvPr/>
        </p:nvSpPr>
        <p:spPr>
          <a:xfrm flipH="1">
            <a:off x="2410920" y="1989000"/>
            <a:ext cx="1081080" cy="345600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41"/>
          <p:cNvSpPr/>
          <p:nvPr/>
        </p:nvSpPr>
        <p:spPr>
          <a:xfrm flipH="1">
            <a:off x="3850920" y="2060640"/>
            <a:ext cx="289080" cy="280836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42"/>
          <p:cNvSpPr/>
          <p:nvPr/>
        </p:nvSpPr>
        <p:spPr>
          <a:xfrm>
            <a:off x="4789440" y="2205000"/>
            <a:ext cx="69840" cy="302436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43"/>
          <p:cNvSpPr/>
          <p:nvPr/>
        </p:nvSpPr>
        <p:spPr>
          <a:xfrm>
            <a:off x="5867280" y="1989000"/>
            <a:ext cx="1150920" cy="3168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44"/>
          <p:cNvSpPr/>
          <p:nvPr/>
        </p:nvSpPr>
        <p:spPr>
          <a:xfrm>
            <a:off x="6516720" y="1844640"/>
            <a:ext cx="1511280" cy="30970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46"/>
          <p:cNvSpPr/>
          <p:nvPr/>
        </p:nvSpPr>
        <p:spPr>
          <a:xfrm flipH="1">
            <a:off x="1402920" y="1916280"/>
            <a:ext cx="1513080" cy="33130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9" descr=""/>
          <p:cNvPicPr/>
          <p:nvPr/>
        </p:nvPicPr>
        <p:blipFill>
          <a:blip r:embed="rId15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0" descr="b39"/>
          <p:cNvPicPr/>
          <p:nvPr/>
        </p:nvPicPr>
        <p:blipFill>
          <a:blip r:embed="rId16"/>
          <a:stretch/>
        </p:blipFill>
        <p:spPr>
          <a:xfrm>
            <a:off x="324000" y="6021360"/>
            <a:ext cx="865080" cy="874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1" descr="b39"/>
          <p:cNvPicPr/>
          <p:nvPr/>
        </p:nvPicPr>
        <p:blipFill>
          <a:blip r:embed="rId17"/>
          <a:stretch/>
        </p:blipFill>
        <p:spPr>
          <a:xfrm>
            <a:off x="3059280" y="5950080"/>
            <a:ext cx="865080" cy="874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2" descr="b39"/>
          <p:cNvPicPr/>
          <p:nvPr/>
        </p:nvPicPr>
        <p:blipFill>
          <a:blip r:embed="rId18"/>
          <a:stretch/>
        </p:blipFill>
        <p:spPr>
          <a:xfrm>
            <a:off x="5508720" y="5950080"/>
            <a:ext cx="865080" cy="874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3" descr="b39"/>
          <p:cNvPicPr/>
          <p:nvPr/>
        </p:nvPicPr>
        <p:blipFill>
          <a:blip r:embed="rId19"/>
          <a:stretch/>
        </p:blipFill>
        <p:spPr>
          <a:xfrm>
            <a:off x="7812000" y="6165720"/>
            <a:ext cx="86544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5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9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-0.0787 L 0.41336 0.25718 E">
                                      <p:cBhvr>
                                        <p:cTn id="189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1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 -0.06366 C 0.04115 -0.08912 0.11059 -0.03796 0.12969 0.05046 C 0.14844 0.13866 0.11007 0.23125 0.0441 0.25671 C -0.02204 0.28264 -0.09166 0.23148 -0.11059 0.14259 C -0.12951 0.05486 -0.09132 -0.03819 -0.025 -0.06366 Z">
                                      <p:cBhvr>
                                        <p:cTn id="192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94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9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7000"/>
                            </p:stCondLst>
                            <p:childTnLst>
                              <p:par>
                                <p:cTn id="2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9000"/>
                            </p:stCondLst>
                            <p:childTnLst>
                              <p:par>
                                <p:cTn id="2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95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2500"/>
                            </p:stCondLst>
                            <p:childTnLst>
                              <p:par>
                                <p:cTn id="216" nodeType="afterEffect" fill="hold" presetClass="entr" presetID="3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75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9500"/>
                            </p:stCondLst>
                            <p:childTnLst>
                              <p:par>
                                <p:cTn id="238" nodeType="afterEffect" fill="hold" presetClass="path" presetID="3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45 0.0419 L -0.00174 0.14259 C 0.0177 0.16551 0.04687 0.17847 0.07725 0.17847 C 0.11198 0.17847 0.13958 0.16551 0.15902 0.14259 L 0.25208 0.0419 E">
                                      <p:cBhvr>
                                        <p:cTn id="239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6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65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7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75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8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85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714240" y="642960"/>
            <a:ext cx="3635640" cy="4000320"/>
          </a:xfrm>
          <a:prstGeom prst="rect">
            <a:avLst/>
          </a:prstGeom>
          <a:ln w="0">
            <a:noFill/>
          </a:ln>
        </p:spPr>
      </p:pic>
      <p:grpSp>
        <p:nvGrpSpPr>
          <p:cNvPr id="133" name="Группа 31"/>
          <p:cNvGrpSpPr/>
          <p:nvPr/>
        </p:nvGrpSpPr>
        <p:grpSpPr>
          <a:xfrm>
            <a:off x="6392880" y="571680"/>
            <a:ext cx="1393920" cy="571320"/>
            <a:chOff x="6392880" y="571680"/>
            <a:chExt cx="1393920" cy="571320"/>
          </a:xfrm>
        </p:grpSpPr>
        <p:sp>
          <p:nvSpPr>
            <p:cNvPr id="134" name="Прямая соединительная линия 6"/>
            <p:cNvSpPr/>
            <p:nvPr/>
          </p:nvSpPr>
          <p:spPr>
            <a:xfrm>
              <a:off x="6392880" y="571680"/>
              <a:ext cx="820800" cy="63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Прямая соединительная линия 7"/>
            <p:cNvSpPr/>
            <p:nvPr/>
          </p:nvSpPr>
          <p:spPr>
            <a:xfrm>
              <a:off x="7213680" y="635040"/>
              <a:ext cx="573120" cy="5079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Группа 32"/>
          <p:cNvGrpSpPr/>
          <p:nvPr/>
        </p:nvGrpSpPr>
        <p:grpSpPr>
          <a:xfrm>
            <a:off x="5428440" y="571320"/>
            <a:ext cx="963720" cy="1643400"/>
            <a:chOff x="5428440" y="571320"/>
            <a:chExt cx="963720" cy="1643400"/>
          </a:xfrm>
        </p:grpSpPr>
        <p:sp>
          <p:nvSpPr>
            <p:cNvPr id="137" name="Прямая соединительная линия 5"/>
            <p:cNvSpPr/>
            <p:nvPr/>
          </p:nvSpPr>
          <p:spPr>
            <a:xfrm flipV="1">
              <a:off x="5428440" y="571320"/>
              <a:ext cx="963720" cy="93492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Прямая соединительная линия 9"/>
            <p:cNvSpPr/>
            <p:nvPr/>
          </p:nvSpPr>
          <p:spPr>
            <a:xfrm>
              <a:off x="5429160" y="1506600"/>
              <a:ext cx="642960" cy="70812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Прямая соединительная линия 13"/>
          <p:cNvSpPr/>
          <p:nvPr/>
        </p:nvSpPr>
        <p:spPr>
          <a:xfrm>
            <a:off x="6071400" y="2214720"/>
            <a:ext cx="785880" cy="235728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ая соединительная линия 14"/>
          <p:cNvSpPr/>
          <p:nvPr/>
        </p:nvSpPr>
        <p:spPr>
          <a:xfrm flipH="1">
            <a:off x="7786800" y="2210760"/>
            <a:ext cx="714240" cy="2430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ая соединительная линия 15"/>
          <p:cNvSpPr/>
          <p:nvPr/>
        </p:nvSpPr>
        <p:spPr>
          <a:xfrm>
            <a:off x="6858000" y="4572000"/>
            <a:ext cx="911160" cy="7128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7"/>
          <p:cNvSpPr/>
          <p:nvPr/>
        </p:nvSpPr>
        <p:spPr>
          <a:xfrm>
            <a:off x="4929120" y="107172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9"/>
          <p:cNvSpPr/>
          <p:nvPr/>
        </p:nvSpPr>
        <p:spPr>
          <a:xfrm>
            <a:off x="5643720" y="20718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6357960" y="450072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21"/>
          <p:cNvSpPr/>
          <p:nvPr/>
        </p:nvSpPr>
        <p:spPr>
          <a:xfrm>
            <a:off x="7786800" y="450072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22"/>
          <p:cNvSpPr/>
          <p:nvPr/>
        </p:nvSpPr>
        <p:spPr>
          <a:xfrm>
            <a:off x="8501040" y="185724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24"/>
          <p:cNvSpPr/>
          <p:nvPr/>
        </p:nvSpPr>
        <p:spPr>
          <a:xfrm>
            <a:off x="7715160" y="5716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25"/>
          <p:cNvSpPr/>
          <p:nvPr/>
        </p:nvSpPr>
        <p:spPr>
          <a:xfrm>
            <a:off x="7072200" y="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26"/>
          <p:cNvSpPr/>
          <p:nvPr/>
        </p:nvSpPr>
        <p:spPr>
          <a:xfrm>
            <a:off x="5929200" y="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ая соединительная линия 25"/>
          <p:cNvSpPr/>
          <p:nvPr/>
        </p:nvSpPr>
        <p:spPr>
          <a:xfrm>
            <a:off x="7572240" y="1643040"/>
            <a:ext cx="928800" cy="568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ая соединительная линия 33"/>
          <p:cNvSpPr/>
          <p:nvPr/>
        </p:nvSpPr>
        <p:spPr>
          <a:xfrm flipV="1">
            <a:off x="7572240" y="1142640"/>
            <a:ext cx="214560" cy="5000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4"/>
          <p:cNvSpPr/>
          <p:nvPr/>
        </p:nvSpPr>
        <p:spPr>
          <a:xfrm>
            <a:off x="7143840" y="1285920"/>
            <a:ext cx="4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Овал 41"/>
          <p:cNvSpPr/>
          <p:nvPr/>
        </p:nvSpPr>
        <p:spPr>
          <a:xfrm>
            <a:off x="5357880" y="1428840"/>
            <a:ext cx="142920" cy="14292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Овал 43"/>
          <p:cNvSpPr/>
          <p:nvPr/>
        </p:nvSpPr>
        <p:spPr>
          <a:xfrm>
            <a:off x="6286680" y="500040"/>
            <a:ext cx="142560" cy="14292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 44"/>
          <p:cNvSpPr/>
          <p:nvPr/>
        </p:nvSpPr>
        <p:spPr>
          <a:xfrm>
            <a:off x="7143840" y="571680"/>
            <a:ext cx="142920" cy="14256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Овал 45"/>
          <p:cNvSpPr/>
          <p:nvPr/>
        </p:nvSpPr>
        <p:spPr>
          <a:xfrm>
            <a:off x="6000840" y="2071800"/>
            <a:ext cx="142920" cy="14292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Овал 46"/>
          <p:cNvSpPr/>
          <p:nvPr/>
        </p:nvSpPr>
        <p:spPr>
          <a:xfrm>
            <a:off x="7715160" y="1071720"/>
            <a:ext cx="142920" cy="14256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Овал 47"/>
          <p:cNvSpPr/>
          <p:nvPr/>
        </p:nvSpPr>
        <p:spPr>
          <a:xfrm>
            <a:off x="7500960" y="1571760"/>
            <a:ext cx="142920" cy="14292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Овал 48"/>
          <p:cNvSpPr/>
          <p:nvPr/>
        </p:nvSpPr>
        <p:spPr>
          <a:xfrm>
            <a:off x="8429760" y="2143080"/>
            <a:ext cx="142920" cy="14292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Овал 49"/>
          <p:cNvSpPr/>
          <p:nvPr/>
        </p:nvSpPr>
        <p:spPr>
          <a:xfrm>
            <a:off x="7715160" y="4572000"/>
            <a:ext cx="142920" cy="14292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Овал 50"/>
          <p:cNvSpPr/>
          <p:nvPr/>
        </p:nvSpPr>
        <p:spPr>
          <a:xfrm>
            <a:off x="6786720" y="4500720"/>
            <a:ext cx="142560" cy="14256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Прямоугольник 51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347976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Cloud"/>
          <p:cNvSpPr/>
          <p:nvPr/>
        </p:nvSpPr>
        <p:spPr>
          <a:xfrm>
            <a:off x="0" y="0"/>
            <a:ext cx="8675640" cy="3384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755640" y="692280"/>
            <a:ext cx="7129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Тема урока 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«Число 9. Цифра 9.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"/>
          <p:cNvSpPr/>
          <p:nvPr/>
        </p:nvSpPr>
        <p:spPr>
          <a:xfrm>
            <a:off x="5651640" y="260280"/>
            <a:ext cx="31683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0" spc="-1" strike="noStrike">
                <a:solidFill>
                  <a:srgbClr val="953735"/>
                </a:solidFill>
                <a:latin typeface="Calibri"/>
              </a:rPr>
              <a:t>9</a:t>
            </a:r>
            <a:endParaRPr b="0" lang="en-US" sz="4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-757080" y="-5716440"/>
            <a:ext cx="31683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0" spc="-1" strike="noStrike">
                <a:solidFill>
                  <a:srgbClr val="953735"/>
                </a:solidFill>
                <a:latin typeface="Calibri"/>
              </a:rPr>
              <a:t>6</a:t>
            </a:r>
            <a:endParaRPr b="0" lang="en-US" sz="4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5572080" y="357120"/>
            <a:ext cx="31687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0" spc="-1" strike="noStrike">
                <a:solidFill>
                  <a:srgbClr val="254061"/>
                </a:solidFill>
                <a:latin typeface="Calibri"/>
              </a:rPr>
              <a:t>9</a:t>
            </a:r>
            <a:endParaRPr b="0" lang="en-US" sz="4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4.91329E-006 C -0.00069 0.00394 0.00017 0.00856 -0.00208 0.01157 C -0.00486 0.0155 -0.0099 0.01596 -0.01354 0.0185 C -0.02083 0.02359 -0.0283 0.02821 -0.03472 0.03446 C -0.05451 0.05388 -0.07448 0.06914 -0.09983 0.07353 C -0.17257 0.10613 -0.36944 0.07816 -0.37222 0.07816 C -0.41267 0.07122 -0.45226 0.0659 -0.49306 0.0622 C -0.52795 0.05527 -0.56389 0.05342 -0.59844 0.0437 C -0.61875 0.03792 -0.63819 0.03099 -0.65799 0.02313 C -0.66615 0.01989 -0.675 0.01989 -0.68281 0.01619 C -0.69184 0.01226 -0.69705 0.00925 -0.70625 0.00694 C -0.71528 0.00116 -0.72274 -0.00416 -0.73299 -0.0067 C -0.73854 -0.01086 -0.74462 -0.01364 -0.75017 -0.01826 C -0.7625 -0.0289 -0.74879 -0.02312 -0.76354 -0.02751 C -0.77066 -0.03167 -0.77795 -0.03445 -0.78472 -0.03884 C -0.79201 -0.04369 -0.79722 -0.04947 -0.80556 -0.05271 C -0.81302 -0.06612 -0.80486 -0.05456 -0.81719 -0.06196 C -0.82344 -0.06566 -0.83472 -0.07468 -0.8401 -0.08023 C -0.85174 -0.09225 -0.84306 -0.08739 -0.85347 -0.09179 C -0.85486 -0.0941 -0.85556 -0.09687 -0.85729 -0.09872 C -0.85885 -0.10057 -0.86181 -0.10104 -0.8632 -0.10312 C -0.86771 -0.11028 -0.87031 -0.11907 -0.87465 -0.12624 C -0.8776 -0.13734 -0.88455 -0.1452 -0.88802 -0.15606 C -0.89028 -0.16346 -0.88993 -0.17202 -0.89375 -0.17895 C -0.89792 -0.18635 -0.90382 -0.19167 -0.90712 -0.19976 C -0.91129 -0.20994 -0.91649 -0.21942 -0.92066 -0.22959 C -0.9217 -0.23167 -0.92153 -0.23445 -0.92257 -0.2363 C -0.92587 -0.24138 -0.9309 -0.24485 -0.93403 -0.25017 C -0.93837 -0.25803 -0.94097 -0.2652 -0.94566 -0.27306 C -0.94826 -0.27768 -0.9533 -0.28716 -0.9533 -0.2867 C -0.95608 -0.29965 -0.95833 -0.30867 -0.96476 -0.31907 C -0.9724 -0.34705 -0.96528 -0.31745 -0.97049 -0.35815 C -0.97205 -0.36971 -0.97639 -0.3926 -0.97639 -0.39237 C -0.97396 -0.5993 -0.97431 -0.50289 -0.97431 -0.68184 E">
                                      <p:cBhvr>
                                        <p:cTn id="303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736 0.19977 C 0.26962 0.20209 0.27188 0.20463 0.27431 0.20625 C 0.2757 0.2074 0.27743 0.20717 0.27899 0.20833 C 0.28472 0.21295 0.28941 0.21989 0.29549 0.22336 C 0.30035 0.23237 0.30313 0.23908 0.30712 0.24902 C 0.30747 0.2511 0.30781 0.25365 0.30833 0.25596 C 0.3092 0.25873 0.31111 0.26105 0.31198 0.26405 C 0.31458 0.27492 0.3132 0.28602 0.31771 0.29411 C 0.31806 0.29781 0.31806 0.30197 0.31893 0.30474 C 0.31979 0.30798 0.32153 0.30868 0.32257 0.31168 C 0.32327 0.31307 0.32327 0.31561 0.32361 0.31769 C 0.32448 0.33249 0.32465 0.34844 0.32726 0.36278 C 0.32795 0.38058 0.32882 0.39284 0.33073 0.40948 C 0.33212 0.43908 0.33542 0.46868 0.33889 0.49758 C 0.34097 0.51353 0.34167 0.5311 0.34479 0.54659 C 0.34688 0.5785 0.34809 0.62567 0.33785 0.65365 C 0.33386 0.67631 0.33038 0.6992 0.32726 0.72232 C 0.32604 0.73087 0.32656 0.73989 0.32483 0.74798 C 0.32413 0.75145 0.32222 0.7533 0.32118 0.75654 C 0.31806 0.76717 0.31493 0.78012 0.31198 0.79076 C 0.31181 0.79145 0.3099 0.8044 0.30955 0.80579 C 0.30313 0.82359 0.30851 0.8 0.30365 0.82081 C 0.29948 0.83885 0.30903 0.81064 0.29549 0.8444 C 0.29375 0.84856 0.29306 0.85434 0.2908 0.85711 C 0.28507 0.86382 0.28854 0.86058 0.28021 0.8659 C 0.27448 0.86937 0.27031 0.87839 0.26476 0.88278 C 0.25469 0.89087 0.24653 0.89457 0.23559 0.89781 C 0.22049 0.90243 0.2283 0.9022 0.22136 0.9022 E">
                                      <p:cBhvr>
                                        <p:cTn id="30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1"/>
          <p:cNvSpPr/>
          <p:nvPr/>
        </p:nvSpPr>
        <p:spPr>
          <a:xfrm>
            <a:off x="285840" y="642960"/>
            <a:ext cx="4857840" cy="514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Овал 3"/>
          <p:cNvSpPr/>
          <p:nvPr/>
        </p:nvSpPr>
        <p:spPr>
          <a:xfrm rot="637800">
            <a:off x="2614680" y="631440"/>
            <a:ext cx="2477880" cy="3016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Дуга 4"/>
          <p:cNvSpPr/>
          <p:nvPr/>
        </p:nvSpPr>
        <p:spPr>
          <a:xfrm rot="6264000">
            <a:off x="1286280" y="2386440"/>
            <a:ext cx="4108320" cy="2744640"/>
          </a:xfrm>
          <a:prstGeom prst="pi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Дуга 10"/>
          <p:cNvSpPr/>
          <p:nvPr/>
        </p:nvSpPr>
        <p:spPr>
          <a:xfrm rot="11272800">
            <a:off x="2559960" y="4812840"/>
            <a:ext cx="461880" cy="906480"/>
          </a:xfrm>
          <a:prstGeom prst="pi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ая соединительная линия 24"/>
          <p:cNvSpPr/>
          <p:nvPr/>
        </p:nvSpPr>
        <p:spPr>
          <a:xfrm flipV="1">
            <a:off x="4668840" y="2368080"/>
            <a:ext cx="403200" cy="173196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Рисунок 36" descr="22.png"/>
          <p:cNvPicPr/>
          <p:nvPr/>
        </p:nvPicPr>
        <p:blipFill>
          <a:blip r:embed="rId2"/>
          <a:stretch/>
        </p:blipFill>
        <p:spPr>
          <a:xfrm>
            <a:off x="2643120" y="928800"/>
            <a:ext cx="1652760" cy="1298520"/>
          </a:xfrm>
          <a:prstGeom prst="rect">
            <a:avLst/>
          </a:prstGeom>
          <a:ln w="0">
            <a:noFill/>
          </a:ln>
        </p:spPr>
      </p:pic>
      <p:sp>
        <p:nvSpPr>
          <p:cNvPr id="177" name="Овал 37"/>
          <p:cNvSpPr/>
          <p:nvPr/>
        </p:nvSpPr>
        <p:spPr>
          <a:xfrm>
            <a:off x="4929120" y="2357280"/>
            <a:ext cx="214560" cy="2145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219 0.07031 C 0.09462 0.0458 0.09705 0.02128 0.09635 0.00093 C 0.09566 -0.01942 0.09184 -0.03677 0.08819 -0.05203 C 0.08455 -0.06729 0.07864 -0.07863 0.07448 -0.09042 C 0.07031 -0.10222 0.06857 -0.11332 0.06354 -0.12326 C 0.0585 -0.13321 0.05104 -0.14338 0.04427 -0.15055 C 0.0375 -0.15772 0.02899 -0.16188 0.02239 -0.16697 C 0.0158 -0.17206 0.01232 -0.17784 0.00451 -0.18154 C -0.0033 -0.18524 -0.01441 -0.18778 -0.02413 -0.18894 C -0.03386 -0.1901 -0.04549 -0.19056 -0.05434 -0.18894 C -0.0632 -0.18732 -0.07049 -0.18385 -0.07761 -0.17969 C -0.08472 -0.17553 -0.08941 -0.16975 -0.0967 -0.16327 C -0.104 -0.15679 -0.11493 -0.14847 -0.12153 -0.1413 C -0.12813 -0.13413 -0.1316 -0.12742 -0.13646 -0.11956 C -0.14132 -0.1117 -0.14531 -0.1036 -0.15018 -0.09389 C -0.15504 -0.08418 -0.16077 -0.07354 -0.16528 -0.06105 C -0.16979 -0.04856 -0.17552 -0.03122 -0.17761 -0.01919 C -0.17969 -0.00716 -0.17674 0.00186 -0.17761 0.0118 C -0.17847 0.02174 -0.18229 0.03123 -0.18316 0.04117 C -0.18403 0.05111 -0.18472 0.05944 -0.18316 0.07216 C -0.1816 0.08488 -0.17604 0.10616 -0.17344 0.11772 C -0.17084 0.12928 -0.17101 0.13298 -0.16806 0.14154 C -0.16511 0.1501 -0.16094 0.15889 -0.15573 0.16883 C -0.15052 0.17877 -0.14497 0.19103 -0.13646 0.20167 C -0.12795 0.21231 -0.11615 0.22572 -0.10504 0.23266 C -0.09393 0.2396 -0.08316 0.24168 -0.06945 0.24353 C -0.05573 0.24538 -0.03785 0.24769 -0.02275 0.24353 C -0.00764 0.23937 0.00989 0.22757 0.021 0.21809 C 0.03212 0.20861 0.03767 0.19774 0.04427 0.1871 C 0.05087 0.17646 0.0559 0.16559 0.06076 0.15426 C 0.06562 0.14293 0.06927 0.13044 0.07309 0.11957 C 0.07691 0.1087 0.0809 0.09852 0.08403 0.08858 C 0.08715 0.07864 0.09305 0.05042 0.09219 0.05944 C 0.09132 0.06846 0.08663 0.09829 0.07847 0.14316 C 0.07031 0.18803 0.05746 0.27591 0.04288 0.32933 C 0.0283 0.38275 0.0092 0.43062 -0.00903 0.46439 C -0.02726 0.49815 -0.04931 0.51642 -0.06667 0.53192 C -0.08403 0.54741 -0.09844 0.55366 -0.1132 0.55759 C -0.12795 0.56152 -0.1434 0.5606 -0.15573 0.55574 C -0.16806 0.55088 -0.18195 0.54048 -0.18715 0.52822 C -0.19236 0.51596 -0.18785 0.49075 -0.18715 0.48266 E">
                                      <p:cBhvr>
                                        <p:cTn id="349" dur="5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1:30:43Z</dcterms:created>
  <dc:creator>Admin</dc:creator>
  <dc:description/>
  <dc:language>en-US</dc:language>
  <cp:lastModifiedBy>1</cp:lastModifiedBy>
  <dcterms:modified xsi:type="dcterms:W3CDTF">2010-11-16T13:32:46Z</dcterms:modified>
  <cp:revision>24</cp:revision>
  <dc:subject/>
  <dc:title>Математика </dc:title>
</cp:coreProperties>
</file>