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E82-F36E-4756-A42F-B543E087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E96-04DE-41D2-98AA-14BD5896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483-8BAC-4645-A2E1-4419654A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B70-ACEB-45C4-9BDE-C7D11D0B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8EC9D-2183-4D82-A7E4-5C8A3E63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D117B-CE29-412A-B661-32538857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DF0DB-B6D0-49E1-B5B7-D9F10EC7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D18B3-DA65-4E1B-9329-A3B45C63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02F50-A6DE-420F-8F9A-66A36BB2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4EE9D-BAAE-4730-8B02-B639E804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44B80-A1B0-4BD5-8B07-C196392E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F7D-ABD8-414C-AC17-3B1F8624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3650F-1A01-41AE-A88C-AC675381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0520D-D27D-49F4-B560-50D9A8E8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318AE-5061-4A78-8442-67CF3E34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6DA08-7F2C-4122-B1BE-CEAF1866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AA4C2-E06D-4705-96C2-2CABC273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FA1-E7BC-4E60-98B6-488AD748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4E4-D5D1-4ED6-918F-FA0A9EED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0F0-389E-458E-AEEE-3DF17042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342-C5BB-46ED-B95D-50600036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25C-6AFF-4364-B6CD-898D7C80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CA9-FBE2-44A1-B8B3-1D814BF6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BAE-8221-4DB6-9A7F-BD89B0E7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5EA7-88C6-4D5D-B32B-8516146EC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9E62-090C-4456-A5E7-B35628E0C8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tefan_Chisinau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990099"/>
                </a:solidFill>
                <a:latin typeface="BankGothic Lt BT"/>
              </a:rPr>
              <a:t>Молдов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692280"/>
            <a:ext cx="6400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ца 11 класс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риенко Александ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069 -0.0051 C 0.06823 -0.0051 0.12431 0.02338 0.12431 0.05879 C 0.12431 0.09398 0.06823 0.12268 -0.00069 0.12268 C -0.06979 0.12268 -0.12569 0.09398 -0.12569 0.05879 C -0.12569 0.02338 -0.06979 -0.0051 0.0092 0.0081 E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381 0.39884 L 0.04619 0.39884 L 0.04619 0.73171 L -0.20381 0.73171 L -0.20381 0.39884 Z">
                                      <p:cBhvr>
                                        <p:cTn id="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381 0.39884 L 0.04619 0.39884 L 0.04619 0.73171 L -0.20381 0.73171 L -0.20381 0.39884 Z">
                                      <p:cBhvr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Blackadder ITC"/>
              </a:rPr>
              <a:t>Банк –казино-банк</a:t>
            </a:r>
            <a:r>
              <a:rPr b="1" i="1" lang="ru-RU" sz="6600" spc="-1" strike="noStrike">
                <a:solidFill>
                  <a:srgbClr val="ffff00"/>
                </a:solidFill>
                <a:latin typeface="Arial Rounded MT Bold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лавное удивление на кишинёвских улицах- огромное количество банков и казино. Банк-казино-бан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2010 г общий объём переводов в Молдову составил 1,24 млрд дол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c600"/>
                </a:solidFill>
                <a:latin typeface="Arial Rounded MT Bold"/>
              </a:rPr>
              <a:t>Популярный политик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популярный политик Молдове- Владимир Путин, 70% граждан нравится , как он рулит и 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правительством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России, и истребителем , и «Ладой-Калиной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ff"/>
                </a:solidFill>
                <a:latin typeface="Tahoma"/>
              </a:rPr>
              <a:t>Монументальный символ                             суверенитет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Stefan Chisinau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3360"/>
            <a:ext cx="7775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ишинёв . Памятник Стефану Великому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ник установлен у главного входа в городской парк Кишинёва со стороны  площади Великого Национального собрания на бульваре Штефана чел Маре. На месте памятника в разные годы стояли скульптурные изображения российского императора  Александра 2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фан3 изображён в короне и богатом одеянии молдавского господаря. На его голове- корона , в правой руке он держит опущенный меч , в левой – четырёхконечный крест . Голова Стефана изображена на молдавских банкнотах разного достоинст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мятник создан молдавским скульптором А. Плэмэдялэ на основе миниатюры с портретом Стефана Великого, написанной в 1475 г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Swis721 BlkEx BT"/>
              </a:rPr>
              <a:t>Численность</a:t>
            </a:r>
            <a:r>
              <a:rPr b="1" i="1" lang="ru-RU" sz="5400" spc="-1" strike="noStrike">
                <a:solidFill>
                  <a:srgbClr val="ffffff"/>
                </a:solidFill>
                <a:latin typeface="Swis721 BlkEx BT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лдова в 1991 и 2011 гг.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91г. Молдове проживало 4,5 млн. граждан ,  сейчас – по данным на 1января 2011г. – 3 млн. 560 тыс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Tahoma"/>
              </a:rPr>
              <a:t>Русский – язык цивилизации.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официальной статистике ,Молдова –самая бедная страна в Европе. Здесь по старинке чистят зубы солью.  По неофициальным ощущениям- самая в ней приветливая и оптимистичная. Тут средняя зарплата 3000 лей(250 дол.),зато в троллейбусах включают арии Биешу и вальсы До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етверть страны выстроилась в очередь за румынскими загранпаспортами и одновременно с этим более 40% населения – за воссоединение с Росси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351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opperplate Gothic Bold"/>
              </a:rPr>
              <a:t>Занятость населени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лдаване строят дома всему миру, а в Кишинёве на строительстве крупных объектов работают …турки!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есколько раз в день вещание на национальных каналах на молдавском прерывается выпусками русскоязычных  новостей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давия, когда СССР развалился, потеряла две трети части экономики. Они перестали быть частью ядерной державы- и растерялись: надо же всё было создавать с нуля - от Нацбанка  до полиции. Масло подсолнечное входит в десятку мировых  брендов . Винная промышленность в порядке: эмбарго со стороны России не навредило рынку , а очистило от слабых производителей. Молдавской промышленности сломали хребет, разрубили по частям крупнейшие корпорации союзного зн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ff00"/>
                </a:solidFill>
                <a:latin typeface="GreekC"/>
              </a:rPr>
              <a:t>Молдавские цифр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редняя цена за 1 квадратный метр жилья в Кишинёве-600-700 евр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Картошка на Центральном рынке-7 лей за 1 кг, окорочка куриные-25 лей за 1 кг, яблоки-10 лей за 1 кг,батон-3,5 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рплата в селе-100 дол., пенсия-5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09:26:52Z</dcterms:created>
  <dc:creator>SEC</dc:creator>
  <dc:description/>
  <dc:language>en-US</dc:language>
  <cp:lastModifiedBy>User</cp:lastModifiedBy>
  <dcterms:modified xsi:type="dcterms:W3CDTF">2012-01-26T04:14:20Z</dcterms:modified>
  <cp:revision>12</cp:revision>
  <dc:subject/>
  <dc:title>Молдова</dc:title>
</cp:coreProperties>
</file>