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8179-F048-4C03-944E-B32A0594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73B-F30A-4012-AA01-12B8EE3E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2A4E-8886-42E9-A69F-EED9DD02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571-AFD6-4819-91FA-1F3F9B84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CBDBF-B841-4679-8B64-08CDA098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A9734-D877-497E-A84E-F9DD7680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6249B-3D9D-42A7-BC5D-7FFC4EE3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B289B-E622-43FB-A525-81B01015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27F7F-FCAA-40F5-860A-20CE61D9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F66BC-FCD0-4FD7-82BB-51BA8E93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EFD51-13D6-46F8-8DB7-2EF70455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769-DFF9-4637-A924-DB34DBC5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A4476-63E7-401C-9A48-C54E6A81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546F2-1D0F-46F7-A424-31647C9A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85642-57C9-4E82-92AB-9402CADC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03237-F441-48BE-B46A-59B3FE42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32881-CCCA-46A9-816E-A7FFE53B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92C-494F-496F-8233-F6A16E3D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D05-5D42-4E5F-981E-A0C123A1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8588-37ED-474A-B84A-D872F601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2789-4944-47A1-BFB4-E307DEFD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CEE6-7427-41AA-BE3B-B1B86433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5550-5D06-4338-A30F-1F8002D9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84A9-90A2-4E39-8555-6ECC16E2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E797-0277-44A5-8ABC-A6BFE7FBF7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6C5B-7A1F-42BF-8A9F-5C9B6896C8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tefan_Chisinau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28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990099"/>
                </a:solidFill>
                <a:latin typeface="BankGothic Lt BT"/>
              </a:rPr>
              <a:t>Молдова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692280"/>
            <a:ext cx="64008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ница 11 класс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риенко Александ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0.00069 -0.0051 C 0.06823 -0.0051 0.12431 0.02338 0.12431 0.05879 C 0.12431 0.09398 0.06823 0.12268 -0.00069 0.12268 C -0.06979 0.12268 -0.12569 0.09398 -0.12569 0.05879 C -0.12569 0.02338 -0.06979 -0.0051 0.0092 0.0081 E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381 0.39884 L 0.04619 0.39884 L 0.04619 0.73171 L -0.20381 0.73171 L -0.20381 0.39884 Z">
                                      <p:cBhvr>
                                        <p:cTn id="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381 0.39884 L 0.04619 0.39884 L 0.04619 0.73171 L -0.20381 0.73171 L -0.20381 0.39884 Z">
                                      <p:cBhvr>
                                        <p:cTn id="12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00"/>
                </a:solidFill>
                <a:latin typeface="Blackadder ITC"/>
              </a:rPr>
              <a:t>Банк –казино-банк</a:t>
            </a:r>
            <a:r>
              <a:rPr b="1" i="1" lang="ru-RU" sz="6600" spc="-1" strike="noStrike">
                <a:solidFill>
                  <a:srgbClr val="ffff00"/>
                </a:solidFill>
                <a:latin typeface="Arial Rounded MT Bold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Главное удивление на кишинёвских улицах- огромное количество банков и казино. Банк-казино-бан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2010 г общий объём переводов в Молдову составил 1,24 млрд долл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c600"/>
                </a:solidFill>
                <a:latin typeface="Arial Rounded MT Bold"/>
              </a:rPr>
              <a:t>Популярный политик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популярный политик Молдове- Владимир Путин, 70% граждан нравится , как он рулит и </a:t>
            </a: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правительством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России, и истребителем , и «Ладой-Калиной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ff"/>
                </a:solidFill>
                <a:latin typeface="Tahoma"/>
              </a:rPr>
              <a:t>Монументальный символ                             суверенитет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Stefan Chisinau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33360"/>
            <a:ext cx="77752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0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ишинёв . Памятник Стефану Великому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мятник установлен у главного входа в городской парк Кишинёва со стороны  площади Великого Национального собрания на бульваре Штефана чел Маре. На месте памятника в разные годы стояли скульптурные изображения российского императора  Александра 2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фан3 изображён в короне и богатом одеянии молдавского господаря. На его голове- корона , в правой руке он держит опущенный меч , в левой – четырёхконечный крест . Голова Стефана изображена на молдавских банкнотах разного достоинств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мятник создан молдавским скульптором А. Плэмэдялэ на основе миниатюры с портретом Стефана Великого, написанной в 1475 г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Swis721 BlkEx BT"/>
              </a:rPr>
              <a:t>Численность</a:t>
            </a:r>
            <a:r>
              <a:rPr b="1" i="1" lang="ru-RU" sz="5400" spc="-1" strike="noStrike">
                <a:solidFill>
                  <a:srgbClr val="ffffff"/>
                </a:solidFill>
                <a:latin typeface="Swis721 BlkEx BT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лдова в 1991 и 2011 гг.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991г. Молдове проживало 4,5 млн. граждан ,  сейчас – по данным на 1января 2011г. – 3 млн. 560 тыс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Tahoma"/>
              </a:rPr>
              <a:t>Русский – язык цивилизации.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официальной статистике ,Молдова –самая бедная страна в Европе. Здесь по старинке чистят зубы солью.  По неофициальным ощущениям- самая в ней приветливая и оптимистичная. Тут средняя зарплата 3000 лей(250 дол.),зато в троллейбусах включают арии Биешу и вальсы Дог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етверть страны выстроилась в очередь за румынскими загранпаспортами и одновременно с этим более 40% населения – за воссоединение с Росси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3516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opperplate Gothic Bold"/>
              </a:rPr>
              <a:t>Занятость населения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лдаване строят дома всему миру, а в Кишинёве на строительстве крупных объектов работают …турки!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есколько раз в день вещание на национальных каналах на молдавском прерывается выпусками русскоязычных  новостей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лдавия, когда СССР развалился, потеряла две трети части экономики. Они перестали быть частью ядерной державы- и растерялись: надо же всё было создавать с нуля - от Нацбанка  до полиции. Масло подсолнечное входит в десятку мировых  брендов . Винная промышленность в порядке: эмбарго со стороны России не навредило рынку , а очистило от слабых производителей. Молдавской промышленности сломали хребет, разрубили по частям крупнейшие корпорации союзного зн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ff00"/>
                </a:solidFill>
                <a:latin typeface="GreekC"/>
              </a:rPr>
              <a:t>Молдавские цифр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редняя цена за 1 квадратный метр жилья в Кишинёве-600-700 евр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Картошка на Центральном рынке-7 лей за 1 кг, окорочка куриные-25 лей за 1 кг, яблоки-10 лей за 1 кг,батон-3,5 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Зарплата в селе-100 дол., пенсия-50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9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09:26:52Z</dcterms:created>
  <dc:creator>SEC</dc:creator>
  <dc:description/>
  <dc:language>en-US</dc:language>
  <cp:lastModifiedBy>User</cp:lastModifiedBy>
  <dcterms:modified xsi:type="dcterms:W3CDTF">2012-01-26T04:14:20Z</dcterms:modified>
  <cp:revision>12</cp:revision>
  <dc:subject/>
  <dc:title>Молдова</dc:title>
</cp:coreProperties>
</file>