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.wmf" ContentType="image/x-wmf"/>
  <Override PartName="/ppt/media/image2.png" ContentType="image/png"/>
  <Override PartName="/ppt/media/image9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3E2-8F79-4420-BE4F-84E58C7C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12C-BA4F-41DC-8788-68B020D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EE57F-EA09-4199-90C9-1658AAF6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6D0E2-5423-4641-A9CC-95756875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D954-6CBE-48D1-99D5-C0902915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701C7-EA5E-47A4-B8F4-1DDB8C81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DA92B-3B50-4C54-B806-B16D33A8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7B79D-35C6-4BB2-A335-09EE5A9F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B435A-34A0-40B4-9574-371C355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8332A-73A8-4FEE-AAB1-A8C5FA6D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3890A-B7A8-46DA-A7EC-E7664AC0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4247C-BA13-4EF3-B2BA-335E4579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807-AC79-4904-BECE-9D0B3622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62EAD-119C-4E33-BDE2-549A3EB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76DCC-6218-4996-949E-42CF4137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F1AF9-6EE2-4CBE-B227-7BED648C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FF2A7-120B-4A3D-A17F-F436CD69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ED33A-90E1-4C50-8136-9147CE44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578AC-6312-4FBE-930F-6279BFD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2890C-ED58-4F1D-B055-59A414A6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DA1E1-E379-4D6C-83F4-2CBE072D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518B1-F2FD-48EE-9E95-74C273D8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DE3E4-C8C9-4541-A9D1-B43D815C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2F4-61F5-4ACB-91A8-B3AC0388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97A36-ACB9-4A89-B0E4-44A4C20C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5BD18-8272-4F0A-AEC5-D0DF6A92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4EE9B-C867-4A6B-AA5D-6AADA3A5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2E146-43F7-4EB0-8F0C-F23B6BFF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351B1-21E6-4036-8599-9B32ACA8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C3BB9-D52B-4BCA-B8CB-3E593607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84ECD-2F64-40FD-83AE-C0856336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B7943-F414-4557-AD28-79FC1917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528AD-99A4-422A-8740-3CCAF30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E738B-D283-47A1-B036-6C56681B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F319-1D46-4259-A567-67A9777D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3B070-B80B-4458-A483-B52CA5D2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C5181-7254-4460-A3C9-D59A97FB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4A369-26C8-4168-8FF2-8BADFCDD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597B1-CD2A-4ACC-97F1-CF314876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812EE-0FC6-4A6D-A4E8-5D36288D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BAC29-98DA-4FA9-A523-1C90EF6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C89F9-8E28-45E0-8A0E-32B49BE0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08F75-6DD3-4765-8D03-103C40E8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389FA-9AD4-471A-8D67-8B23BB58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1C52B-0B95-4966-8EE2-7F0E367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A153-B869-4E76-A1F3-D95FCE96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D45DE-4981-4616-82D0-4989A3E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D5986-BF4B-42AF-8EC6-BCAC1C9A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E4C3D-8546-44FD-9AE3-EF5D1A3C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3EED2-B808-48DF-8785-EE2350E7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16D16-0068-45D7-896A-31BECE47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8532C-9326-4FC2-A7F9-1F57C6F5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A1E249-D851-4C8B-AE55-028F3E90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D6FCEF-7149-440C-9E8E-97765EE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D3DB2D-B02B-4001-AF10-584D520E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84AA6B-DB52-4226-B468-CE42303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9709-DB0A-4EAD-A05A-4ABA43A8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83232A-61FC-45E2-A7B8-950119C9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73E812-8E3D-4A11-B65E-A05B2C1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17019C-CF34-4142-9EC2-A13B24C2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8B9FA9-5218-40E5-9923-1EF2FC8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707CD2-6785-412A-A729-766DB6CE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746958-AD7F-47CE-95E5-6D079BFA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ADFEC6-4547-4B7C-823D-BB6D50B2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39DA6-A0D6-4940-A666-F6A4E937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9F510-4516-4CCB-8DF8-A3DAFCD7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2E9CE-CBAD-4CAF-8E78-C4A93C1D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234E-EE61-4089-8B3C-54BDA1F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D57D6-0CE2-4321-829C-D43D346F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DF8CC-0D30-4915-A258-A11D750D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38C6E-1203-421F-8B80-434CAB3C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E9D22-3E93-4E6B-B633-591F1F11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D2CF0-F25A-4B74-B54A-26A4B83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2AEFF-2F2D-428E-9E59-F76CDF4C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D4EF1-AFB5-4A6F-9158-62992220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9DE52-C82F-4DF0-88E0-6B260E79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C5644-5BBE-45C3-AAD1-924B7E40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3466F-193B-4B7D-9B95-6CEAE988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F481-D27A-4762-B126-36BEB619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188CE-5C95-4A72-83C4-DE6C4B13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31017-3992-433E-9C7C-FB93A25D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4DC22A-383A-463C-AA04-4558C68F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518BC-3F6E-4D22-A2D9-4F2E314D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AA4F3-E76C-487B-B444-180D35E5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F5BE2-6619-44A7-AE4F-E2926B6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7EA4C-8191-40D8-86A3-D924408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E9CFB-25E5-49B3-AE86-080270F3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291D8-297A-43C0-9D96-20647266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C27AC-4FE4-4F23-87B9-6EA030CF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550F-8615-4A0B-A613-E2E806F3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83B22-3296-43BD-A732-84BC2C9C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F1476-1286-4265-B3C8-4936B9AC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B0667-9B50-45B0-9AFE-9B9A7367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436FF-9B6A-4764-8564-9A84BE87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33354-2F8F-43C6-82E5-BF65DE62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21CD1-12CE-4646-BA37-A604693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3D0FFF-A072-4A8F-A506-05735581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B7BBD-8957-447B-8CC8-8DC016E7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5A26C-63E6-454E-8AA0-4C9B1FF7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33AD5-49E1-43EF-8152-9B8AEEB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5A4E-0811-40F1-A4B2-4160B3A6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C946A8-2009-46B4-B798-8CF3B95F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A060A-918C-4699-B536-9663ABCF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36B0D-6922-4220-85DE-7BF384B6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D320D-5F3C-4C67-BEE1-00C79CD6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567B6-DF0A-49B9-A77D-9AB21157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544C7-1BB4-4025-9A4D-E45D4553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D2D9B-B941-4608-9843-5E77C11C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DD01F-2F06-432C-8865-CB70F010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2AF8B-A926-48C4-82E6-5ED47336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DC170-D33D-4EC6-B452-17B04684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CA3-44B6-431F-B141-1A47612A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EDD4-C44B-4472-836A-BE4C8F05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7332E-EF1F-4E5F-9ADF-599F0D0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DCACD-518A-4ED3-9DEA-F8D9C9D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73C75C-1DE7-4746-BF0D-7026A11A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D3857-9DEE-4936-8A2B-72009957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0BF77-21BA-4157-A825-EA55FFB6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47E412-13D5-4ED0-8F50-3CD542AC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7E29B-7A6C-4FE7-AE39-B92F0CE2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86112-B902-41C3-9814-5DAC50D0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A9619-A969-45BC-9C0D-B32F9DA6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4F2AEE-D051-4EAE-BEBF-F08A2EFA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D3D9-EE5B-4556-99DB-78E5ACE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892908-32BB-4586-9356-CEA80F4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9E8DC-464F-43E6-8B92-47378D3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16555B-A2B0-4096-AFCC-83C3A536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83FD7-3CEC-4612-80B9-BDE163A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F0B03-CE27-4F71-B5E8-CF38BAB3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8C7D8-AE71-4E6A-917C-9484287D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86725-EAC7-4616-B22D-58B7813B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44671-7EE6-4670-9385-BFEB3BD4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023DB-C2E9-4B11-8EF9-AAA4609B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DBACE-ABBD-417C-8C51-7D86604E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47CB-75CF-4CB1-BC88-622F6D9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4C6F2-9763-42EC-9C35-3F1D4328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3130F-CA8B-4991-910F-8FAC7889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B9E2E-78D8-4409-9C71-AA8AA13D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76D3F-B552-4192-B41F-412C2BD5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A59C4-6594-4960-98B6-F85BE29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A858B-410C-4ED1-B2F8-F151265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764043-6104-4F19-967E-B545943F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60FE0-D84C-461B-B732-63F7C148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A4347-8A97-4E55-B898-A303B0AB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665880-1FF7-4A18-96BA-71AA1056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1B28-46E2-4BB1-815E-287502C0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EEEB4-9706-4CCB-AAA2-53B0152A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AEEDE-A04E-4479-B078-7F1516C8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05531-C7B1-4733-9B78-B1CBE381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44776-D733-41A2-9336-AA624212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4B6F17-792B-4589-8B28-8AFBFF03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960FF-C26D-4C4A-9E6D-40FAA43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37B421-DEFE-4C85-A4D0-414A499B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122550-41C6-48E3-B320-713C79EC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76922-DF72-4A96-87B0-8E526505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05394-2730-42F8-9277-EAEFC860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8A71-A918-4635-9D0C-F3763BEB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17614-2F97-4478-AF09-2B62CBA3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FA0E8-625F-4679-995A-C4A70678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BF374-1ABA-434A-8A83-3B909243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F8CC2-BD19-4F33-B99A-0560CBD0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0DE01E-1165-4012-8CEB-2D6C1606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5FF70-1744-46FA-AADF-11061B7A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FAB919-4779-4D20-B4F5-892D08F3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059EDE-DF0F-4729-8144-C81AD89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E8F0B-17F2-4D7B-A451-A6AE7C04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C3DB6-2BA4-4138-B707-A8C05031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F0F9-E18E-42FD-BA8F-0598952D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0577F-DAEA-4B62-B509-042A0AD3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412EA6-9282-4D2C-9A23-33207BAD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EDBAD-F333-4304-B2F9-3EE0DBA6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368ACF-40AC-4DCF-8477-780F0A50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1DC5DD-759A-4801-87FB-DC179538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295F2-C32F-4EF4-89B8-56AD841A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D0303-B816-44AE-8D94-045FA2F5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0D866C-AEBF-4F33-96E5-41BCAFB4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39A7AE-691D-4A41-96B5-C9212FFF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456FB4-C820-42CB-855B-F004DB94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8B62-3AD7-48FA-BEC7-24E1A35E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C62F4B-325D-4D4D-9DA6-41C2455E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70C1CA-C2AA-4E83-81B2-CD3146FA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101098-262A-4541-BE16-544428E8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103779-FA13-4958-8942-1A9D7D68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6A429-C914-4CE2-B0D8-17FF4749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519E4B-488F-4771-A450-A09BD33F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05C7DF-F2C2-432A-9353-CFD53C6B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8AE2AC-E6AA-40FA-B5EB-EE79A1FC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8407BA-6935-458D-83D4-BCC647BB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B3FBC0-52B9-4C8A-ACF3-CB430F4A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2865-7DD2-4585-B454-C6F6E8A5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4189DF-7282-4597-9770-85C7F856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130B17-AA22-49FB-8B1C-9CF6E78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0385D3-A102-485E-AE02-1B676F0B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A4EB38-9FB5-4199-924D-F4C7338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6DDEE-99E6-4827-8E3A-0F130C7A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7A84CB-ECDC-455A-B749-2647184D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D6BF13-A469-4D41-8FCC-1DD5521F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39A9B1-6DF5-4D2D-ACE2-3605510C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3F2D73-0814-4A46-BBFD-6D66D70E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E3184D-D11F-41A7-870A-B4B1A7BC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31B2-6DF1-454C-9E84-A2982CE3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E91E0C-6BF4-4B32-A186-CBD072C8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58DFFD-6BC8-4831-B41D-E053856F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6D346C-1B0B-4FB8-A46E-82A1CE77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BC217E-607D-4AB6-A001-A9DF6E7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300FA-8FB0-4D3A-A4F0-DAB36CF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C9C6E7-953F-4968-8FFB-C5BE408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F34A48-F8EA-4830-BFE9-21EA0376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88FF39-EB9D-4B7B-8AFF-FC5F3AC3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5C1060-31F8-4275-ADB6-0BCB9CC4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DCE2D9-4608-405B-9D9E-5C221567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E562-8A74-4622-91CE-6A21030B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702892-B96E-40F9-B15D-FBF6EE69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F95A59-2004-47C7-B83C-34DC9B99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531357-9C18-4700-8301-AE969BF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F000D5-9B11-4391-A942-98D55CDE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CA2BBD-79DD-4A17-BBE8-45724667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33F1DE-4B68-4D1C-B3D7-F364811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A2D5E9-44D9-4B52-B076-C2752BB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4E8986-D708-4347-A67C-AB441863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9AABC4-E40E-4ABD-A333-23CAACE6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C93515-C4BA-46F8-879F-D78290C3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9B8-409E-409F-86D4-549FC39F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5D27-089B-4694-A754-DEE994B0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9C6C6E-9FA2-4F0D-A612-1FA12687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5CC9DD-AF8F-48A5-B749-4DA8AC27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1A57AB-FD48-4C60-BA14-76D8C1D5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1853B1-C85A-4D4E-853E-38287BB7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7AF479-F0A5-485F-B0F5-82787CF6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B2CBE2-FA36-4BE3-A383-192FEFB9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AB2A6C-DB23-4C58-A23E-F100E942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24CA73-B7B3-498C-A5C3-F3C001B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0B6508-8734-4937-A920-854F60F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C92125-7041-46B2-B147-6A04A69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CE6F-5798-4B42-B266-060CE008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5966B2-FACE-4770-8109-15CC3119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DAE53E-E85F-4480-9ED4-E85FA717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338068-5B19-4386-9FC4-E8F3404C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138A0C-1C43-4592-AA7C-0B5A5C39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07EB07-8241-48B4-9579-786729F5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7226CF-2002-4D90-965B-20C4A377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67D2B9-1C09-4E07-A5E7-EDC69530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0ABEEE-5965-45CD-B5CD-DF824257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DB03FF-600D-4D8F-9DDB-7DE22750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36F33F-4A4B-43CC-B0E4-EC5E8B0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63CF-63C5-4E43-8F3D-7A079625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162D13-4D22-45E1-B27A-D04DEDF8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2C328B-7F9E-4F1D-A56A-9A8BB13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683232-5501-4111-A966-3CB47AF3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C8C59B-EDF9-4576-AB40-CFB41C69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064542-835B-4C59-AF5B-9E7DF2C2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9661E9-1088-4540-84D8-DFE4E52D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9A8F53-531E-4E00-8DD3-53193C85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196DF0-1CD5-44B5-B641-47B8474F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A183E0-E914-4162-96E2-13FEF12F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C5D880-FE62-4F21-98C7-AD3B8C1B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2502-0ECA-493B-88F2-F53D28AE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C6C4CA-DB3F-42BE-B976-CB85603E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8EA070-36ED-49F7-8BA2-02C40E9E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EA5A10-F6BC-4FD4-9432-1C6AD2AD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FD8540-814E-4666-9D87-3DFB7194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2EA3B9-3E3C-41CA-B063-88A0FC5B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AC90B6-10A4-4BCB-AC9F-878FC8F2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74B22B-6F21-42F7-B399-6D20E544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8E5AE0-7826-42E8-AA18-DF5CC83B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EED1CC-8674-4E9A-A905-67F35FA7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2AFEEA-CFB4-4B9A-B314-F07EDF5A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A7B5-AE72-4CD7-8BB8-9D8A0C4B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58F1C5-E796-4B1B-9FF2-B294B935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E5BC02-2CF5-4DF3-8EBC-63BD49C5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BA4AB6-19A5-468B-8CC9-18AA9CE1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A7A94C-1813-473A-B612-3ADD3B6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97AB2F-BAE1-4568-8463-0A692FC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094DD5-48D9-4F6B-846A-48796D78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C116ED-85CA-47F8-A339-314EC4F4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E5544E-174E-4ED9-8EB0-0F06D477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BFFFC9-6D56-45B0-8E33-58E3E2DF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1C522D-ADC8-47C1-AB24-201BA002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F8A0D-4103-454A-B7C0-4405D3EC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562DCE-8F8F-44E1-8804-EE3CBD3D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3813E3-1853-43C6-9FC6-E3053A3B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E8A2B2-D04B-4C2C-BC3D-2996A46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4BD871-2CFF-499A-84C0-43D462BF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9A2DE5-46C0-440D-B50F-B8656373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54FCE6-0FFD-42A3-9B63-E8EA7ABD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9DEB34-B544-496B-A7D6-6AFB46E2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961DAB-851C-41E3-A74E-546ABC6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8F7D99-495A-477D-8820-7DF6F54F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CE6579-B04B-42E6-82F9-73BDCC66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F92B-510D-404E-8CA5-39716329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853D7D-922B-4444-97F1-4AA7D6FF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E11D-2413-4F8F-9D9C-1C663FF8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B7C3-E255-4A5C-B9D8-5FFAF63D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F92D3-877D-413B-854C-9445019D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65F-BE70-4BFA-8327-02A35829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DFA4-9F48-4F2A-B2C9-84091736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657A-3C4C-429E-8332-9DE39B1F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80DA-1752-4C82-9EC4-01C1216B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01C9-458A-408B-AF8B-7216C757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DE8AD-0AA4-4F25-9BB6-DB3C054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0930-F177-43C1-8CFD-547039F2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550A-E9DF-4884-83AC-AB5EE000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2FCF-1B59-4D70-B54B-9F63AB2A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8647-1CA4-4A68-A491-A8B43E75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A536A-3C8C-4475-A3B5-26D003DF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1C7-535E-4A7E-88FD-63FEFFF2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4DEFE-BF59-47A2-B812-EFE1939D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3F91D-CAEE-4EAC-80CC-C812D94C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7D1E7-3117-4349-B4C3-9C4D2608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F9EC9-5AA2-4FE7-B7BD-77E67ADE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3D15-FBE8-400E-A6B6-8EDCE20B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042AD-279D-40A5-AB19-8463FCBF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C1231-746B-4EFA-A21F-3FC62E08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9380-3BFC-4DA5-A0C4-29D289C7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AD904-FF1F-4539-AD1B-E8AEFCDC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1AB32-5F14-462B-B5EC-F03DB050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14F-0F00-4800-8F3B-1062197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F47DC-6B36-49E2-B04F-806A7C40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8CF6-0FFA-4527-8F41-322086D6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6B9EF-A858-477E-8E75-3252FB38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1DA56-397E-4E7C-B476-470964D8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5D3A-790B-4FC5-9D9C-EF8A5FD8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08F12-670D-40FF-9088-1A575B74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7B7AB-1004-4CE2-95ED-D87354E7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5126F-281C-43F3-A0BB-2F81635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3678A-68C6-4B46-9FBF-C733D89F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90AF2-A3A6-429A-8D2A-FEAAA32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1F5-C9DC-4959-B33E-7AC05EA0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06F8-A0BA-4ACA-AE81-B26F709A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62991-A6B7-4FB6-A224-E62EA297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FA99E-679F-459F-8DAF-B478C1D6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15774-F203-400C-8DD4-00D193D3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81C60-298D-4A01-B2C4-8D131D45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CACDF-E587-4095-9F51-C47EB9B8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D6ABC-1B97-4A37-8EEC-92C76F37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E00D0-F65E-4559-99A4-DE965ECF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D210-F239-4B00-8122-E0AC68E7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5748F-0205-41CA-AEF0-C60916C5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674-E5ED-4CD2-929A-5EAC6BCE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69ABE-63EA-43FF-93A3-81FF9C12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BDFE1-E607-46D1-86E0-A8036169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C14EC-F11E-4648-8EE7-A7909509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AE7B2-EA63-4544-B94C-4168D4A9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1FD2E-3DB4-4EAD-B99D-2A43A1D4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9A903-D817-449B-BF3E-407E887C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0E41A-CD83-4ADB-B907-006C30C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8C646-590E-4F8C-AD01-DF550A95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C8847-D99D-4E9E-8540-A9E967EC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3823E-92FA-4B28-81A2-63FB98D9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0A7-1605-4CC1-BAE7-982A4B2A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DC890-6E21-4E49-B020-A4E43A6B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7C09-7ACF-4BC4-8CC8-8CD9381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0C847-6ABE-4F13-983E-1D6220A7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38F65-77E2-4F7F-8E0B-9D091349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27EF1-7F49-4E66-B086-1A720FE8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B787-4B36-4A49-A08F-57A4ABBA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ECF1C-C207-4872-871C-D2720B36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7578-93AB-4BD0-A9D4-82DCBC8F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FDC02-0864-4B9F-BB0D-A140DDDD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42F8E-9F51-4318-B673-279FA5E9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75E6-5AD2-4442-9ADD-13194AD0F0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231A-6F6C-46B2-A4CB-3319EF56E5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2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2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4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6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2F1A-13D8-4D72-B07F-1E8838AC33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1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2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2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3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4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4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6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EACE-5196-4288-AABA-BD5D0067E2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6BFD-3D22-4445-A59D-C7F8BF58C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2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977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F809-568E-4A7A-99F2-747299DFE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CA04-850E-434B-9536-026786745C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023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7B14-0E3B-4627-AD11-27B9261A4B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070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11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11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12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2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3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3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3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63C3-0741-4D30-8174-E7B07F639C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19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19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21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21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22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22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22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38" name="PlaceHolder 1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ABEF-F8AD-4695-AF33-4FD9E72E3B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7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5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5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5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12C0-1629-436B-8186-6C1225A0D0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94DB-4A42-4759-90C2-89819D9828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2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3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32" name="PlaceHolder 1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4D24-60AF-4651-86BA-901CBD7D17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dt" idx="6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DD85-BF2F-4679-B1FF-D20E0452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dt" idx="6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A95B-0FA2-4C62-B042-ACD1C2BAC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5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5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6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dt" idx="6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7BE-1396-448B-82AC-100CDDAF57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4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4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6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dt" idx="7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621B-E0EC-4639-93CB-A191A0DA83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F51F-4CDA-4A86-B5E0-49405DBB8A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8B6D-0103-43AF-88C7-F7A6B34B39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886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2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9A1E-DB98-4A4E-9D77-14BDB210A3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8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3533-49A4-46BC-84F9-DC34EC464B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3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4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4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05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6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06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07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8202-4581-466F-9665-E741C97D344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589F-5DAD-445C-A15F-7DE3C9903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11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2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12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3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4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14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7BE4-C67E-4EFD-A218-A4088A1A5B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E075-F79F-461E-8E0F-0E2B60A8C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6743-4187-4AC6-B93B-90DC2BCC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1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6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AA80-EF1A-40B9-8C80-EE4A3E654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128D-72A4-4D96-BED6-2F5FC0FD4D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2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5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5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6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6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B09F-0AAF-4DBA-A2A1-3DF2756207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1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1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2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2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BCEB-ED0D-4801-8081-C9FC4D9FA1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4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7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МОЯ</a:t>
            </a:r>
            <a:r>
              <a:rPr b="1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КОНВЕНЦИЯ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Verdana"/>
              </a:rPr>
              <a:t>Есть ли права у детей?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MS Mincho"/>
              </a:rPr>
              <a:t>«Ребёнком является каждое человеческое существо до достижения 18-летнего возраста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2215" name="" descr=""/>
          <p:cNvPicPr/>
          <p:nvPr/>
        </p:nvPicPr>
        <p:blipFill>
          <a:blip r:embed="rId2"/>
          <a:stretch/>
        </p:blipFill>
        <p:spPr>
          <a:xfrm>
            <a:off x="5433840" y="1616040"/>
            <a:ext cx="3168720" cy="3338640"/>
          </a:xfrm>
          <a:prstGeom prst="rect">
            <a:avLst/>
          </a:prstGeom>
          <a:ln w="0">
            <a:noFill/>
          </a:ln>
        </p:spPr>
      </p:pic>
      <p:pic>
        <p:nvPicPr>
          <p:cNvPr id="2216" name="" descr=""/>
          <p:cNvPicPr/>
          <p:nvPr/>
        </p:nvPicPr>
        <p:blipFill>
          <a:blip r:embed="rId3"/>
          <a:stretch/>
        </p:blipFill>
        <p:spPr>
          <a:xfrm>
            <a:off x="2195640" y="4076640"/>
            <a:ext cx="3168360" cy="25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нвенция даёт ребёнку самое главное –  право на жиз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3888000" cy="430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сударства – участники признают, что каждый ребёнок имеет неотъемлемое право на жиз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во дышать воздухом, ходить по земле, плавать по морям, летать в небе, учиться и заводить себе друз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632720" cy="998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2106"/>
                </a:solidFill>
                <a:latin typeface="Verdana"/>
              </a:rPr>
              <a:t>Как помочь детям с физическими недостаткам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90884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Принять как равных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Не замечать их дефектов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Помочь им не чувствовать своей беды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7" dur="20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73960" cy="793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 Black"/>
              </a:rPr>
              <a:t>Ситуация 1</a:t>
            </a:r>
            <a:endParaRPr b="1" lang="en-US" sz="2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8218440" cy="532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17035f"/>
                </a:solidFill>
                <a:latin typeface="ParkAvenue BT"/>
              </a:rPr>
              <a:t>Родители Васи часто выпивали, а когда у них заканчивались деньги они заставляли его идти на улицу и просить милостыню. Если мальчик возвращался домой без денег, родители били его и говорили, что он обуза для них. Соседке, которая видела это стало жалко Васю, и она рассказала всё участковому милиционеру. На все вопросы родители отвечали, что так они воспитывают у Васи чувство долга и готовят его к взрослой трудной жизни, это их ребёнок, и они воспитывают его как хотя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9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467480" cy="86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Ситуация 2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solidFill>
            <a:srgbClr val="9e99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c2106"/>
                </a:solidFill>
                <a:latin typeface="ParkAvenue BT"/>
              </a:rPr>
              <a:t>Света всегда приходила в школу в рваных кроссовках, в старой куртке она ходила весь год. У неё не было тетрадей, а ручку ей подарила одноклассница. На вопрос учителя, почему она не носит школьные принадлежности, она ответила, что их нет, мама с папой ничего не покупают, всё тратят на водку. Тогда учительница пошла вместе со Светой к ней домой, чтобы поговорить с родителями. От них она услышала, что у них нет денег на «побрякушки», которые хочет их до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2" dur="2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1258920" y="1916280"/>
            <a:ext cx="7056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туация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7d47d"/>
                </a:solidFill>
                <a:latin typeface="Estrangelo Edessa"/>
              </a:rPr>
              <a:t>Получив права</a:t>
            </a:r>
            <a:endParaRPr b="0" lang="en-US" sz="4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f1311"/>
                </a:solidFill>
                <a:latin typeface="바탕"/>
              </a:rPr>
              <a:t>Надо пользоваться ими тактично, вежливо, не огорчать своих родителей</a:t>
            </a:r>
            <a:endParaRPr b="0" lang="en-US" sz="4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5" dur="2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8675640" cy="554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Оставшиеся без родителей дети, пользуются защитой и помощью, предоставленными государством. Государства – участники Конвенции разрешают существование системы усыновления, признают опекунство. Конвенция требует гуманного отношения к ребён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481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바탕"/>
              </a:rPr>
              <a:t>Опекунство</a:t>
            </a:r>
            <a:r>
              <a:rPr b="0" lang="en-US" sz="4400" spc="-1" strike="noStrike">
                <a:solidFill>
                  <a:srgbClr val="006699"/>
                </a:solidFill>
                <a:latin typeface="바탕"/>
              </a:rPr>
              <a:t> </a:t>
            </a:r>
            <a:r>
              <a:rPr b="1" lang="en-US" sz="4400" spc="-1" strike="noStrike">
                <a:solidFill>
                  <a:srgbClr val="006699"/>
                </a:solidFill>
                <a:latin typeface="바탕"/>
              </a:rPr>
              <a:t>– это когда чужие люди или близкие родственники берут на воспитание детей оставшихся без родителе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Рисунок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075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Times New Roman"/>
              </a:rPr>
              <a:t>Все дети могут рассчитывать на всё, что изложено в Деклара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98" fill="hold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229600" cy="2735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a4"/>
                </a:solidFill>
                <a:latin typeface="Arial"/>
              </a:rPr>
              <a:t>ДЕКЛАРАЦ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a4"/>
                </a:solidFill>
                <a:latin typeface="Arial"/>
              </a:rPr>
              <a:t>ПРАВ РЕБЁН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79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aramond"/>
              </a:rPr>
              <a:t>Рисунок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Verdana"/>
              </a:rPr>
              <a:t>Каждый ребёнок имеет право на собственное имя</a:t>
            </a:r>
            <a:r>
              <a:rPr b="0" lang="en-US" sz="54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98" fill="hold"/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aramond"/>
              </a:rPr>
              <a:t>Рисунок 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Verdana"/>
              </a:rPr>
              <a:t>Государство должно позаботиться о больных детях и о здоровье детей</a:t>
            </a:r>
            <a:r>
              <a:rPr b="0" lang="en-US" sz="54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98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aramond"/>
              </a:rPr>
              <a:t>Рисунок 4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66"/>
                </a:solidFill>
                <a:latin typeface="Verdana"/>
              </a:rPr>
              <a:t>Государство должно позаботиться о детях сиротах</a:t>
            </a:r>
            <a:r>
              <a:rPr b="0" lang="en-US" sz="60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"/>
          <p:cNvSpPr txBox="1"/>
          <p:nvPr/>
        </p:nvSpPr>
        <p:spPr>
          <a:xfrm>
            <a:off x="539640" y="620640"/>
            <a:ext cx="67676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я конв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387360" y="-52095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23640" y="549000"/>
            <a:ext cx="8569080" cy="6119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Права и обязанности неразрывны между собо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.М. Достоев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2480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частье всего мира не стоит одной слезы на щеке невинного ребён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0" name="" descr=""/>
          <p:cNvPicPr/>
          <p:nvPr/>
        </p:nvPicPr>
        <p:blipFill>
          <a:blip r:embed="rId1"/>
          <a:stretch/>
        </p:blipFill>
        <p:spPr>
          <a:xfrm>
            <a:off x="5373720" y="1932120"/>
            <a:ext cx="247176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2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Статист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силие в семье – 2 млн. детей. (возраст до 14 лет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бегают из дома – 50 тыс. детей. (ежегодно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падают в спец-интернаты – 60% сирот (достигшие 3-х лет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учёте в ПДН – 348 тыс. сем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13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ParkAvenue BT"/>
              </a:rPr>
              <a:t>Благополучие детей и их права всегда вызывали интерес и пристальное внимание международного сообществ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7313760" cy="44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924г (Лига наций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Женевская декларация прав ребёнка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959г (ООН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Декларация прав ребёнка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979г (Комиссия ООН по правам человека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Разработка проекта Конвенции о правах ребёнка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20.11.1989г(Генеральная Ассамблея ООН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Принята Конвенция о правах ребёнк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990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Конвенция была ратифицирована Россией и вступила в силу 01.10.1990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2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2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2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2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616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anklin Gothic Medium"/>
              </a:rPr>
              <a:t>Что мы думаем о правах ребёнка, изложенных в деклар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357360" cy="2873520"/>
          </a:xfrm>
          <a:prstGeom prst="rect">
            <a:avLst/>
          </a:prstGeom>
          <a:ln w="0">
            <a:noFill/>
          </a:ln>
        </p:spPr>
      </p:pic>
      <p:pic>
        <p:nvPicPr>
          <p:cNvPr id="2207" name="" descr=""/>
          <p:cNvPicPr/>
          <p:nvPr/>
        </p:nvPicPr>
        <p:blipFill>
          <a:blip r:embed="rId2"/>
          <a:stretch/>
        </p:blipFill>
        <p:spPr>
          <a:xfrm>
            <a:off x="2195640" y="4292640"/>
            <a:ext cx="2724120" cy="2206440"/>
          </a:xfrm>
          <a:prstGeom prst="rect">
            <a:avLst/>
          </a:prstGeom>
          <a:ln w="0">
            <a:noFill/>
          </a:ln>
        </p:spPr>
      </p:pic>
      <p:pic>
        <p:nvPicPr>
          <p:cNvPr id="2208" name="" descr=""/>
          <p:cNvPicPr/>
          <p:nvPr/>
        </p:nvPicPr>
        <p:blipFill>
          <a:blip r:embed="rId3"/>
          <a:stretch/>
        </p:blipFill>
        <p:spPr>
          <a:xfrm>
            <a:off x="5651640" y="1197000"/>
            <a:ext cx="2520720" cy="2984400"/>
          </a:xfrm>
          <a:prstGeom prst="rect">
            <a:avLst/>
          </a:prstGeom>
          <a:ln w="0">
            <a:noFill/>
          </a:ln>
        </p:spPr>
      </p:pic>
      <p:pic>
        <p:nvPicPr>
          <p:cNvPr id="2209" name="" descr=""/>
          <p:cNvPicPr/>
          <p:nvPr/>
        </p:nvPicPr>
        <p:blipFill>
          <a:blip r:embed="rId4"/>
          <a:stretch/>
        </p:blipFill>
        <p:spPr>
          <a:xfrm>
            <a:off x="6372360" y="4292640"/>
            <a:ext cx="1915920" cy="22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0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имеет право на всё, что изложено в Декла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законах любого государства, главным должно быть наилучшее соблюдение интересов ребё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ы любого государства должны обеспечивать социальную защиту ребё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со дня своего рождения имеет право на гражданство и собственное им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имеет право на достойное медицинское обслуживание, достойное жилище, питание и развле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и его мать имеют право на особую заботу об охране их здоровь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бёнок с физическими и психическими недостатками имеет право на заботу, а также специальное образование и медицинский уход со стороны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нуждается в любви и вним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сли дети лишились семьи, то государство должно о них позаботить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онвенция включает в себ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сновные права – на жизнь, на им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беспеченное семейное благополучие ребёнка (обязывает родителей заботиться о детях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вободное развитие личности ребёнка (свобода мысли, совести, религи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доровье детей (право на медицинское обслуживание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бразование детей и их культурное развит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щита ребёнка от экономической и др. эксплуат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1:44:26Z</dcterms:created>
  <dc:creator>Андрей</dc:creator>
  <dc:description/>
  <dc:language>en-US</dc:language>
  <cp:lastModifiedBy>Андрей</cp:lastModifiedBy>
  <dcterms:modified xsi:type="dcterms:W3CDTF">2008-12-13T08:12:06Z</dcterms:modified>
  <cp:revision>14</cp:revision>
  <dc:subject/>
  <dc:title>МОЯ КОНВЕНЦИЯ</dc:title>
</cp:coreProperties>
</file>