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8.jpeg" ContentType="image/jpeg"/>
  <Override PartName="/ppt/media/image18.jpeg" ContentType="image/jpeg"/>
  <Override PartName="/ppt/media/image7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1.wmf" ContentType="image/x-wmf"/>
  <Override PartName="/ppt/media/image2.png" ContentType="image/png"/>
  <Override PartName="/ppt/media/image9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  <p:sldId id="274" r:id="rId50"/>
    <p:sldId id="275" r:id="rId51"/>
    <p:sldId id="276" r:id="rId52"/>
    <p:sldId id="277" r:id="rId53"/>
    <p:sldId id="278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slide" Target="slides/slide19.xml"/><Relationship Id="rId51" Type="http://schemas.openxmlformats.org/officeDocument/2006/relationships/slide" Target="slides/slide20.xml"/><Relationship Id="rId52" Type="http://schemas.openxmlformats.org/officeDocument/2006/relationships/slide" Target="slides/slide21.xml"/><Relationship Id="rId53" Type="http://schemas.openxmlformats.org/officeDocument/2006/relationships/slide" Target="slides/slide22.xml"/><Relationship Id="rId54" Type="http://schemas.openxmlformats.org/officeDocument/2006/relationships/slide" Target="slides/slide23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1FC-193C-4173-B4E6-E5216E15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74A-829B-4BC4-8229-94D0988D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73BB9-3DDD-4DBD-86BC-18A302E3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26E4D-AE0C-4BF5-9B17-AB4EA54F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849A3-9C0D-4E01-BEC2-17D7F3D6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FEF82-2E41-48E6-8EAD-00745F5E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531B3-9041-4FE0-83D3-FD86B2D9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5C4FE-D951-454A-94C7-38BD954F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5D7DE-C7EB-4C29-9F0D-263ECD70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1B7F7-40A3-46FA-8F60-F2AAE1FC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3896E-5E16-4702-ADF8-1E2BE77C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A0661-EC28-4DE6-AD24-F3CCBD1D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C8E-E04A-4C76-9918-E3C9B059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28354-9757-46DA-A6DC-C835DB5E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4786F-366F-4E17-9DB5-A6EA0831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D67CC-E968-4232-980E-29EE95B2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76A7D-FBC1-4D01-983E-FF99A5E7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8F81B-0DBD-4F5C-9601-0A96D60E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421A1-8A1C-47B3-BA6F-05538538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7F7A9-DCFA-422D-9471-4D30FB1B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0B7E8-33D8-4C89-943D-6D642712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5B814-7E2C-40B3-8B1D-3890EB27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CE0BD-3E63-47D1-A19D-6A5416AA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950-C85B-4F46-9DC8-CB6A6EAB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FCD52-3532-4300-9197-FC8A1762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06264-3B76-4880-83A5-3BB8268C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556B8-4539-4FEF-968A-EC6B49B0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C9142-0C7D-4924-B1C1-F5286D10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2AA87-71E3-4F2B-8FE3-250046A5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96479-11A2-474D-A7D2-0AAD9A40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C40FB-62C5-4C17-AF80-E248EC34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375BC-42A7-42FC-9EBE-93280DD6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B895A-4C46-4771-AFB9-1085FF87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CB91D-8C90-40C5-94F6-2ACD2318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CECC-DD19-45D7-9A66-77B0B65E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FC0E1-C957-41A3-ADA0-5DA37D40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15D57-7BCA-4BD8-A6FC-BB3D9BC7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B5F55-6618-4503-8B55-DE47A404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0E30F-F306-4936-B526-412B0D42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AAC6D-003E-463B-B60C-6365F957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E1B2B-54A6-469E-8CA0-A92003E3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AEAB8-9C48-4F0B-94D1-D3A98A5D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3E7BF-7854-4609-9AD6-A56A1D62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0E668-6E86-4427-B86A-7FDEEB0D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03ACD-B681-4B4C-894E-CA35690C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3635-757F-445D-934F-41C4D83D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877E0-BAE6-4936-A63B-A7B2D4E1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4E51A-02BB-402F-970B-B4B07D40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55C7C-2EA3-427C-A686-AFF0D2F7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588A6-A853-4371-A8CD-B2D05357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F9F6D-5261-4960-AEAD-8398C795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A7D584-7CC8-4654-B088-B38EA733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09AC7F-00A7-43A9-A57C-1C81379D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0E509E-20BB-4722-942E-F69525B8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92A5ED-CAA4-4E8F-97B0-EEDDF4A4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8A8BA6-34ED-4211-9153-29F97E1A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D9C4-9B27-4692-87A4-D4F23551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76F157-1464-4A59-A380-17137A59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52B9B7-54AB-4F7A-A1CF-F1F91F4B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3F8BB1-16BE-4DB5-AC93-1737D26B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DF9485-B996-4C12-9C05-98F849F4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C571AC-9EFA-455D-8CC7-C4D4AEE5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F5EB57-E5D9-4520-B0F5-0E17308B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FA4C58-9A61-4258-8D45-F7C9022F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022A82-9FBC-4312-BE14-6E5A74FE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033FF9-F2DD-4B6A-8328-D57E2CCB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9E195-7FF0-497B-99AF-FE2FA82F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244B-AAFB-47AF-89D3-0A080393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203F60-9762-4E4C-9E7F-88492E52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4B651-D3A7-4E7E-9032-5E6C49F1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62B20-8EE5-4AC2-B6F4-EBBF3F6B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B719CC-8069-4C4E-86F0-BCCFD86C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E9E887-2724-443F-9BD7-2F476D58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2BD312-0151-48A9-86DD-A7B9D6D3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9DBB7-BB8F-4683-97E3-ED4AAEF6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21EBC5-9225-4BE3-927D-43A69D49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34FAC-21F7-4CD1-BBE4-89D0006D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7414C3-535D-40AB-BBDF-89DD0057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24D7-C777-4C89-90ED-187490CF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1A18DB-DD85-448B-9435-BEAD0849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8A8D83-FC2F-4CA5-8A6A-396B7491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57EA70-D32F-4676-91D2-1F3EFC88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BD4626-3D14-480E-877A-DDD28BA6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14636-84C0-4309-81B8-1391D9B0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15AEC9-32E5-4AFC-9D11-6CAFE45D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BDA98-A5AA-4F46-B148-6887B66A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0FECC8-BAB8-4660-BBF8-02002819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1A2E73-1207-4A76-9D62-F9DB3AAD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ADE8C1-B8C3-4937-A544-E11F229A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24B3-04A3-4A4E-98D9-F2DA1320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7FCF0D-D2D5-489A-A8F7-AC6453B8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68890A-6BAD-4E30-8271-67FEBB5A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710BE-8183-4DA8-A00A-31AE8F98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30DCC-2B18-42E1-8D9D-F4909649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A9AA29-15A0-4366-A376-2C93DA3F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ABCF0-CC5D-4A1E-B7FD-3714413B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B1A2FC-B643-45A8-84B6-66BAD9B2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C61D11-38EE-49EC-BDF4-11F0580F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8626D8-DC41-4ECC-85A0-806A4430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3C752C-351E-4C4A-BB8F-E98FB31D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D9DE-4969-4B47-BACE-C34F66B5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6EB8E9-6CC2-45C0-9EDF-B77BF4F1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9B4CB3-5B64-4BB7-B29A-A7E6C5FF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A5C358-9792-4FD7-856D-0BFFE7768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ABFD19-2C9C-4A8F-8B9F-942D1D6B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601103-4592-4C7C-B8B2-2A23CF54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AE5D6A-284F-4C56-869B-03D0EA63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FB0861-1070-4EF5-9E6F-6A7765DE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4CCAAE-3CD6-4EDC-A404-4261B5BB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92146A-5B70-40DE-9AFD-46336E4A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BDA85E-C513-4580-8D86-9AEF0B11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004-97B8-489D-861F-293D63DD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C1FE-58D2-4672-B205-881FFD54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767784-1605-4B7A-A60D-CDD8D096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856CC-BE15-45A2-AD9E-2658B148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9617AF-D7D6-4689-8BA8-862D5CD9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34567C-3DF8-4CF3-B36A-665A3975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9B24E7-BBAB-46F4-8F49-7B451F76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561904-3FA9-411C-B6CE-09BCB348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069EA8-929F-46DD-B3A2-EA739CF8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72C05B-1E53-485B-809B-8C802AA1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39C711-5663-4AEB-A11D-E8A8F526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306B63-63DC-4774-B418-A5DE3B5C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614C-AC45-4F5A-B2B8-319C9F6E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E66782-EEE2-4F12-9AC0-D3E09EFE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23288F-CE39-4C73-8CAE-295B5C47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43C51-6B4C-43C3-ADF9-736BD980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DE1DAA-94EA-44A3-8F7E-3182097A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ECBD8D-CA71-4AA6-A0C3-3D3F2051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C1679A-7DC1-454B-8D2F-24F70FD0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C88F28-3FB3-4FF4-8F4A-85CFE11A2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C18BC2-352E-4AA4-A0BC-2B882050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6769DD-E616-4108-84A0-065DF7FB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F85625-1249-4C46-9472-DA5AF461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40A8-B822-429C-951C-C8DA184B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A6A3BE-1C95-4858-9F0D-5398D909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3F8CD1-0987-4C26-AF57-7DFA8445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CC2808-707F-4CC2-A6B5-72441BE2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956FB8-821B-4546-BC51-F1B0E5FD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F06611-619E-426C-BAC6-0C4FE83D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A84821-B05F-4054-9CF1-B2159014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0E6552-1348-4D37-A380-9D2CF28B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ED975C-FFE2-496F-94A3-81E81D50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179EEA-ED60-463D-8E42-EEA1E477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D3BC5A-C1C7-415E-97BC-C451A5FD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979E-E035-4471-BC13-D2619DB1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4995E4-072B-49CE-A8E3-6C887F55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C25387-BE4D-4050-8A4A-3110D2D4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03EC59-5CB5-4CF5-95FC-C3D22AC1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CB3674-5CA7-4F38-95BD-7BE0EAD9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DAA62D-BD10-4B1D-92C9-6C32BBFB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B68A38-DFA4-4333-8DE8-170D6C18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A841F9-0005-4B89-B605-8FE59926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38E656-8102-483C-9078-E03D3598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745679-E2EF-4945-A3F1-5956C3C3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612609-2F0B-446C-A6F0-DB47E941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B20C-55CE-4D8F-8CB4-783ABE03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766CAF-1995-4DDE-B420-6082F389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49D81E-F486-4259-B985-B015FCC8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709041-E3E8-4020-804E-7A223BF2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28BE91-CDD7-497B-8A20-8580E079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4C215D-2136-4743-8DDD-1B6D56B5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F0DD84-3FEA-47AF-A806-247B3835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EDD6DD-5AD3-4486-9EF0-6478E7EA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154B9E-22E8-4DDD-AE5A-53F5A03D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6CE5E5-E573-4C9A-9AD7-F52375D1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3E566E-372F-4D8B-9D8E-D1175671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3A878-DD77-4FF7-A929-AE841FCF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1665F9-D6E6-4F24-8AFD-5572A37D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C67437-CB82-4D0E-8D53-98D1C553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1379BB-FE6A-47C1-8E53-DA25D548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37DC66-9C7D-4717-B86B-FCA2D908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065A07-8D03-4C66-AA4C-E15878E4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D88654-7302-4B23-B5C6-A9D3636D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F41738-B12F-4EFB-81B5-50478293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FB4527-65DE-4745-AA23-C312926D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EBFC6E-24BB-4596-9914-4AAFF427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EEA529-B5B2-47B3-9006-A04E6E3D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2DA8B-68E0-4CCE-902F-534769C1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6F8A3A-4F61-4641-A30F-C744C010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22D7B0-4BB3-4914-95C4-7223D48E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A995FB-2E46-48A1-AD30-7120E484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D5BB14-5ED0-417E-B4E7-E96F1DD9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4AA602-2873-4C83-9716-9F8544F5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37E57E-2D9F-477C-A646-7067BFCD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CB6C99-6153-49C6-A9A2-7A09E8C0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97279B-789F-4F03-A801-03D69792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126711-1BD0-46EA-837F-132DEB5E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A82A1E-2804-4BAF-AA0A-96732046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ECD6-DD49-46D8-9B83-C4B1A11F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8D8B4F-25BE-4B97-AD1F-82F95D12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4895D2-3618-442E-B8C6-95C359FB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CC6EB8-084C-4517-970C-CF9D3ED4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8DC3C7-BF46-4264-B0A1-33D18129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8F0A4E-1166-4757-BC34-2984EB46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AD3A98-39A7-4C82-89F4-15C0DC7F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40D86A-FFAD-41D4-B028-9F0071B1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C6FCBC-2CBA-4C33-8681-9A7A36B1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3697E8-27F5-43C9-8D07-D7D80A7C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F05114-32C4-42CA-8BE9-0664BBC2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33653-ABF8-4BDA-B898-7138D643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1E90EB-0D8A-40DB-B363-1A398A40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5EB2F4-47AE-4672-91E7-89311C67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94298E-9630-42F2-AE92-0A584D31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885F01-0E00-4B8E-9AD5-04525382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AFDEB1-662F-4D71-826C-D775E0A6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3D3896-062A-4F5C-B32F-D2D35FAC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B5F338-AA0B-4973-A41E-31B80657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D4E061-A468-4599-8B71-CD368A96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474070-2397-4A20-9AAF-B1962D7E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50ADCE-6F64-4DF8-9FA1-9246CA25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A533-AF55-4547-BFDA-62A3CF41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9C4D5E-52A5-4631-A592-AF063B1E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D31779-9B37-47E8-99A2-312DB8E6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A6B94E-0AAF-436F-9DDD-B310D525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0D0C6B-4DC1-4460-A3F3-D30B3793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232E13-75D4-4755-8291-749B4EF4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2981A0-9B73-46E6-BB5D-E83CB505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8214ED-42C2-4E89-BDCB-6415DCFA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ED31D7-F563-4058-85A4-2C04A91F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0CF5E7-CC4A-4A6F-90B2-66B97AAE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3D145A-8F4F-4C07-A05B-98AB208E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3FAA-A52C-444F-B688-947EDCBF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E1477-AB4F-4A21-9D31-93DB680F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9DCD06-304A-44E6-80F6-F52731EF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012925-A9FA-4EFC-8054-306087EE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ABCB74-DD0E-4172-B76E-A0553184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D1E2F9-DB20-4E4F-A7E9-565691DD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D339C8-FD3A-4060-809E-BEDE75F4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13E57A-AA1C-4853-888B-C8B1C67A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0B8B24-0D71-4AC2-8340-D8F1AEC9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776D4A-8EF9-4227-B467-64B4DDE2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F4B4A9-5C8F-4880-9072-9B1285C8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3B48CB-14DF-4300-8889-509D7230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14C9-04D2-4E4F-BFCC-BA804D78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C7F77C-CBD9-43D7-BB1A-0104A4BE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01FF4A-A255-4EDE-AC56-40BA9B27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8AF0DF-BE1E-47DA-9136-EB061A86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472014-7203-4ACA-B8BE-524E885E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1168A1-7F17-44CF-AA39-1900C806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5A7431-36FB-4645-ABE7-079AAE35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E3CBED-B877-4261-8ED1-9A2EC861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F63E5B-468F-4C69-8A7A-DD45C006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3B67B0-4281-428A-A90B-7632AF4A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4FD5EB-7056-426B-9190-07CC87F0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19A06-D792-4155-9F71-E161EFDD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CCEA4E-CAD4-4685-B9DA-EE6455F4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A90D93-EE65-4CA3-92AC-D1988FC4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0CED0F-002E-4369-ABAA-A789CF16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AB7455-28EB-4D69-BBC0-B2CED656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437E8B-0790-47E5-B938-831C6763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932DD6-FF7C-4E04-A549-49D4EBC5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92DD12-4FE5-4A73-8EED-9E19ACB1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81866F-6EC4-4B3B-8D40-3EEFCCA0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149049-8B32-44CC-B4E9-F81D6FAB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E75947-BC61-4115-8716-791BD6C5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D0F22-2616-4423-A597-C7E57704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20F389-C535-465C-A8AB-FA451C35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7E7497-FDE7-49B1-A61D-0FCDFD34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4945AF-B511-41F2-933C-30861F9E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75FCCA-6B00-4AED-8AB8-AF78AD0C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3E2357-E710-472B-B123-D696DD6E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3F610D-CAC0-4C49-921E-BE365703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872FF5-3A76-4D02-B779-2F76E497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26DB91-962E-412C-A3B8-BEC4D545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152D00-828F-485F-BBCF-9D290123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6C3BFF-C40D-4961-B736-DECFEFFD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652C4-7D00-478B-86A2-9B06B48D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DCB273-EDB1-4A92-8F19-AFEB64AA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2AF2AA-AFFE-41B6-AEF7-F61981D3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D18EE0-36D6-481F-97D1-E1C6A018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3CC9DA-49DC-4236-AA27-18053E96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116487-F079-4F7A-A024-CE4FD3F5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0E18EF-F8D9-43B2-AE54-C530EF55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06FDE2-332C-4039-8E80-65F028C3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BE5E41-AA43-4AFC-B745-67192C82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E82C85-8105-47A1-967F-B2F50FC4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CCA51C-FED7-4847-B5E6-6439834D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D0E7C-BCF7-4B72-BD11-4E2B1ACC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432F8F-0B95-4CAF-B97B-C88231E2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7D1068-BFE9-4F6C-9F32-483382EC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0DEB73-2388-4C5C-A041-42C3AA4F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4D75B8-3D28-4B22-B211-A6E03C77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A5D85D-C9F7-4657-A83B-641914D8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E8B83E-F338-4FA6-9345-27245B33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B7C796-5D8F-4AB9-9F62-41629A2D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7541DA-A9C7-42BF-BD2B-3DC6C5AB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40EA05-704E-40FA-A844-0A284BF0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5EB1B9-551F-4772-8658-04CF3E4D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DDA81-32C4-49F1-9F1A-FE557F33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7EAC54-FDAE-4470-AFDC-F7A1B883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B3D25-DE71-4D43-AFC8-D8976C33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60B40-3E70-4C60-B595-BD027E76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DDD54-2A62-439D-A7BC-77607C1C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6CA-D6A3-46ED-A035-1F1836D8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D490A-6C84-44CE-AEC2-58DD9F9B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A5281-8C1D-43A8-943A-E128E035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77A8A-7DBF-404D-A6C2-B2DB8686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2B06E-4E6B-424C-8419-E48200F1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F5A4F-1199-4B91-AA79-A3BDC28B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DC9FE-7945-4338-AADB-134F0D56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92EB8-04E6-469C-86CC-989964C8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E6AF1-B3D8-43E4-B735-BE8C9DEE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4D6F9-F283-4648-8091-351CCC95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E96E8-6CBE-4537-8210-8D0D5799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D44-AF43-4E94-9193-1C1DD24E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E4E57-5908-46F3-9E7F-FF6B1603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B1847-7E20-4FEE-9EC3-CD2438F2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EC5F5-3A94-4A9B-98D7-C8B8FBA7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217B9-EC8E-4044-A120-E4DD083C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5FFC2-5CC6-455C-9AD5-A519125C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E4990-B992-4D33-BC00-E6206287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42616-088E-4871-AD08-29CE5E2C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73AF1-8D55-43E3-8948-69B7939A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0599D-43AE-4157-9CDD-DF8A55CC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27144-3157-4E60-8951-96A182A5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8F2-4702-47DE-A1CC-3BB8F31E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3C133-B4F2-4B1B-9B65-06C2F5ED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3270B-08F6-437D-BF56-3E910E90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BF956-DC0B-4D9A-9910-85F06F00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7E1FE-19CF-4763-8752-BB22C79F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761A9-C14F-4E2C-AAB9-19798517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444CB-D3AE-4FDF-B942-C1C60E5F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E67C8-362D-4D68-BAE6-51796416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50049-5222-4ECF-95C3-5051B023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F3285-5BB7-464C-9C64-B30795B9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03F07-F085-4C1F-9425-56147A20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9B1D-6B53-48E5-A30D-D2D964A7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9ED2B-0D38-4369-981B-12F298E2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49168-FCFC-46B1-8C84-DA79CB13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950C6-5C06-4FF6-8D3B-6F786DB5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4E45C-A274-4FCB-8F02-6F78C3B3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CD5E4-5F6B-419C-951F-0DCCB210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82663-2F02-4D5A-8AB3-C3D08481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999F8-505A-4522-AD1B-0504ACA2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54715-D7E2-44DC-8724-D3BDC55F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8D616-60D8-4726-AD8D-B4D9DA20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0BAF5-34F6-4375-ACE9-183B914D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03D-E146-44BF-A467-3FBB32EF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1086B-8DE0-4301-ACF7-E3D3782C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2164D-415B-4141-BB43-0D5D1C6D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CAAA1-83A0-461D-94F6-A562B901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A6E79-026F-437E-804F-350AF44F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715A4-0B15-4124-9F9B-8D1C9F74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13679-B305-49F5-9B06-0F1D4FC3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0FD72-4BBF-4FE0-BF40-9EB63976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4E922-7D35-4DE5-B23B-CB63A75F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19909-ADF5-4DDA-8EFE-B9B0227A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2DAD4-46ED-4F52-A52C-DF9AC8A7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770-BF4E-4601-A5DB-3DE45FC5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71F3F-D197-4369-9C7B-D0ED13C8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61D04-5265-477B-8AE9-5446D710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2B1E5-6D9E-4DA3-8215-0A0220E7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C331E-7C75-4CA1-803F-C40835D0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78011-395A-4703-89E6-B045CE65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B4144-8856-43B5-8D77-A8526FAC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7F532-3511-47FE-A6E1-33ED4BBA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F2B41-6145-46B2-99EB-D2B7B0E3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CD9A3-7056-4335-80F8-57B0B04B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B2B0A-451C-4798-BBB3-18AFB248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40E2-83AD-4B06-ACA4-C15C7F95F9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6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FD96-ED3F-4CF9-935A-BE42B1DCB0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2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2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3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4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4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6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3C12-6038-47DA-A222-3780175869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1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2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2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2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3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4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4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6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1DDA-2ACE-4A36-AB16-2951A821E0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B716-EC1E-422B-BEC3-C54641CBCA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2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977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3970-43CA-4CD7-814E-26184E581B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99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5E4E-E6A2-4A48-B684-1660BDA414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023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67DE-B1DB-4EF1-BF4E-A2C37902FA5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070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11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1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11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11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12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12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13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3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3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5CEB-BB7E-46E6-9CC1-A5E3335BA5D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19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19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20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21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21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21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22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22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22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23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38" name="PlaceHolder 1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B82F-E5C4-4722-8C62-B0E8622CCC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27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280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283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 type="dt" idx="5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 type="ftr" idx="5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 type="sldNum" idx="5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320E-BE99-4458-AE5C-C2AE045348B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C7EB-97F8-4A25-8266-7AC9299CA4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2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3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332" name="PlaceHolder 1"/>
          <p:cNvSpPr>
            <a:spLocks noGrp="1"/>
          </p:cNvSpPr>
          <p:nvPr>
            <p:ph type="dt" idx="5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ftr" idx="5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sldNum" idx="6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2935-B3C6-4998-A35E-768BCE6CF38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 type="dt" idx="6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5FBF-D8FB-4291-AF31-AE137B35C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dt" idx="6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1F5F-F04E-4730-8FE8-43375B336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5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5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46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46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dt" idx="6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491F-90A6-4DE6-8CBC-777E4DE934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64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64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66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6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dt" idx="7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7E6C-D86A-4A05-8957-A67B9B7BB7E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8212-8196-4368-BD7F-3B923F8CB8F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0371-E7D2-4F90-A77F-A7A52EFBDCA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886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92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8263-0C00-423E-9B3D-EDECBC7F081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98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70EF-162B-4EC3-9393-0085923DE26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03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04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04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05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06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06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07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 type="dt" idx="8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 type="sldNum" idx="8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1A62-2808-40C5-9035-235949D954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D483-A0F4-48F4-8AE4-539A25B93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11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12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12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13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14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14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15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 type="dt" idx="8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 type="sldNum" idx="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370F-9D84-42AE-8F8D-42EEF30A36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4E76-AFB5-450D-AC6A-C578B5E9A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B6F4-63CF-4D43-981C-A1B3FE7AE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1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6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8D80-9194-4F71-9291-D0D135C26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6297-896F-4D08-95E6-F23BAD22C9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2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5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5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6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6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FF0F-160F-404E-8D0A-5703F717FA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1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1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52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2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2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7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9C1A-F465-4D3D-8BD2-8E2C4310FA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4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7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4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Arial"/>
              </a:rPr>
              <a:t>МОЯ</a:t>
            </a:r>
            <a:r>
              <a:rPr b="1" lang="en-US" sz="5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ffffcc"/>
                </a:solidFill>
                <a:latin typeface="Arial"/>
              </a:rPr>
              <a:t>КОНВЕНЦИЯ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Verdana"/>
              </a:rPr>
              <a:t>Есть ли права у детей?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2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99"/>
                </a:solidFill>
                <a:latin typeface="MS Mincho"/>
              </a:rPr>
              <a:t>«Ребёнком является каждое человеческое существо до достижения 18-летнего возраста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4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313080" cy="2232000"/>
          </a:xfrm>
          <a:prstGeom prst="rect">
            <a:avLst/>
          </a:prstGeom>
          <a:ln w="0">
            <a:noFill/>
          </a:ln>
        </p:spPr>
      </p:pic>
      <p:pic>
        <p:nvPicPr>
          <p:cNvPr id="2215" name="" descr=""/>
          <p:cNvPicPr/>
          <p:nvPr/>
        </p:nvPicPr>
        <p:blipFill>
          <a:blip r:embed="rId2"/>
          <a:stretch/>
        </p:blipFill>
        <p:spPr>
          <a:xfrm>
            <a:off x="5433840" y="1616040"/>
            <a:ext cx="3168720" cy="3338640"/>
          </a:xfrm>
          <a:prstGeom prst="rect">
            <a:avLst/>
          </a:prstGeom>
          <a:ln w="0">
            <a:noFill/>
          </a:ln>
        </p:spPr>
      </p:pic>
      <p:pic>
        <p:nvPicPr>
          <p:cNvPr id="2216" name="" descr=""/>
          <p:cNvPicPr/>
          <p:nvPr/>
        </p:nvPicPr>
        <p:blipFill>
          <a:blip r:embed="rId3"/>
          <a:stretch/>
        </p:blipFill>
        <p:spPr>
          <a:xfrm>
            <a:off x="2195640" y="4076640"/>
            <a:ext cx="3168360" cy="253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23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Конвенция даёт ребёнку самое главное –  право на жиз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3888000" cy="430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сударства – участники признают, что каждый ребёнок имеет неотъемлемое право на жизн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аво дышать воздухом, ходить по земле, плавать по морям, летать в небе, учиться и заводить себе друз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632720" cy="99828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2106"/>
                </a:solidFill>
                <a:latin typeface="Verdana"/>
              </a:rPr>
              <a:t>Как помочь детям с физическими недостаткам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684000" y="2491920"/>
            <a:ext cx="7908840" cy="37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Принять как равных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Не замечать их дефектов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Помочь им не чувствовать своей беды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27" dur="2000" fill="hold"/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373960" cy="793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 Black"/>
              </a:rPr>
              <a:t>Ситуация 1</a:t>
            </a:r>
            <a:endParaRPr b="1" lang="en-US" sz="2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8218440" cy="5329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17035f"/>
                </a:solidFill>
                <a:latin typeface="ParkAvenue BT"/>
              </a:rPr>
              <a:t>Родители Васи часто выпивали, а когда у них заканчивались деньги они заставляли его идти на улицу и просить милостыню. Если мальчик возвращался домой без денег, родители били его и говорили, что он обуза для них. Соседке, которая видела это стало жалко Васю, и она рассказала всё участковому милиционеру. На все вопросы родители отвечали, что так они воспитывают у Васи чувство долга и готовят его к взрослой трудной жизни, это их ребёнок, и они воспитывают его как хотя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9" dur="2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2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467480" cy="865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Ситуация 2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solidFill>
            <a:srgbClr val="9e99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c2106"/>
                </a:solidFill>
                <a:latin typeface="ParkAvenue BT"/>
              </a:rPr>
              <a:t>Света всегда приходила в школу в рваных кроссовках, в старой куртке она ходила весь год. У неё не было тетрадей, а ручку ей подарила одноклассница. На вопрос учителя, почему она не носит школьные принадлежности, она ответила, что их нет, мама с папой ничего не покупают, всё тратят на водку. Тогда учительница пошла вместе со Светой к ней домой, чтобы поговорить с родителями. От них она услышала, что у них нет денег на «побрякушки», которые хочет их доч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82" dur="20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1258920" y="1916280"/>
            <a:ext cx="7056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итуация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7d47d"/>
                </a:solidFill>
                <a:latin typeface="Estrangelo Edessa"/>
              </a:rPr>
              <a:t>Получив права</a:t>
            </a:r>
            <a:endParaRPr b="0" lang="en-US" sz="4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f1311"/>
                </a:solidFill>
                <a:latin typeface="바탕"/>
              </a:rPr>
              <a:t>Надо пользоваться ими тактично, вежливо, не огорчать своих родителей</a:t>
            </a:r>
            <a:endParaRPr b="0" lang="en-US" sz="45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5" dur="2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68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8675640" cy="554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Оставшиеся без родителей дети, пользуются защитой и помощью, предоставленными государством. Государства – участники Конвенции разрешают существование системы усыновления, признают опекунство. Конвенция требует гуманного отношения к ребён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229600" cy="4815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바탕"/>
              </a:rPr>
              <a:t>Опекунство</a:t>
            </a:r>
            <a:r>
              <a:rPr b="0" lang="en-US" sz="4400" spc="-1" strike="noStrike">
                <a:solidFill>
                  <a:srgbClr val="006699"/>
                </a:solidFill>
                <a:latin typeface="바탕"/>
              </a:rPr>
              <a:t> </a:t>
            </a:r>
            <a:r>
              <a:rPr b="1" lang="en-US" sz="4400" spc="-1" strike="noStrike">
                <a:solidFill>
                  <a:srgbClr val="006699"/>
                </a:solidFill>
                <a:latin typeface="바탕"/>
              </a:rPr>
              <a:t>– это когда чужие люди или близкие родственники берут на воспитание детей оставшихся без родителей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Рисунок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11280" y="2204640"/>
            <a:ext cx="80755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66"/>
                </a:solidFill>
                <a:latin typeface="Times New Roman"/>
              </a:rPr>
              <a:t>Все дети могут рассчитывать на всё, что изложено в Декларац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1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98" fill="hold"/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/>
          </p:nvPr>
        </p:nvSpPr>
        <p:spPr>
          <a:xfrm>
            <a:off x="324000" y="2133720"/>
            <a:ext cx="8229600" cy="2735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a4"/>
                </a:solidFill>
                <a:latin typeface="Arial"/>
              </a:rPr>
              <a:t>ДЕКЛАРАЦИ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0000a4"/>
                </a:solidFill>
                <a:latin typeface="Arial"/>
              </a:rPr>
              <a:t>ПРАВ РЕБЁНК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079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aramond"/>
              </a:rPr>
              <a:t>Рисунок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66"/>
                </a:solidFill>
                <a:latin typeface="Verdana"/>
              </a:rPr>
              <a:t>Каждый ребёнок имеет право на собственное имя</a:t>
            </a:r>
            <a:r>
              <a:rPr b="0" lang="en-US" sz="54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3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98" fill="hold"/>
                                        <p:tgtEl>
                                          <p:spTgt spid="2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aramond"/>
              </a:rPr>
              <a:t>Рисунок 3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66"/>
                </a:solidFill>
                <a:latin typeface="Verdana"/>
              </a:rPr>
              <a:t>Государство должно позаботиться о больных детях и о здоровье детей</a:t>
            </a:r>
            <a:r>
              <a:rPr b="0" lang="en-US" sz="54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4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98" fill="hold"/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aramond"/>
              </a:rPr>
              <a:t>Рисунок 4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66"/>
                </a:solidFill>
                <a:latin typeface="Verdana"/>
              </a:rPr>
              <a:t>Государство должно позаботиться о детях сиротах</a:t>
            </a:r>
            <a:r>
              <a:rPr b="0" lang="en-US" sz="60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"/>
          <p:cNvSpPr txBox="1"/>
          <p:nvPr/>
        </p:nvSpPr>
        <p:spPr>
          <a:xfrm>
            <a:off x="539640" y="620640"/>
            <a:ext cx="676764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я конвен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387360" y="-52095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23640" y="549000"/>
            <a:ext cx="8569080" cy="6119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Права и обязанности неразрывны между собо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2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.М. Достоевск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2480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частье всего мира не стоит одной слезы на щеке невинного ребён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0" name="" descr=""/>
          <p:cNvPicPr/>
          <p:nvPr/>
        </p:nvPicPr>
        <p:blipFill>
          <a:blip r:embed="rId1"/>
          <a:stretch/>
        </p:blipFill>
        <p:spPr>
          <a:xfrm>
            <a:off x="5373720" y="1932120"/>
            <a:ext cx="247176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2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99"/>
                </a:solidFill>
                <a:latin typeface="Arial"/>
              </a:rPr>
              <a:t>Статист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силие в семье – 2 млн. детей. (возраст до 14 лет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бегают из дома – 50 тыс. детей. (ежегодно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падают в спец-интернаты – 60% сирот (достигшие 3-х лет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учёте в ПДН – 348 тыс. сем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13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ParkAvenue BT"/>
              </a:rPr>
              <a:t>Благополучие детей и их права всегда вызывали интерес и пристальное внимание международного сообществ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187280" y="1700280"/>
            <a:ext cx="7313760" cy="44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1924г (Лига наций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Женевская декларация прав ребёнка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1959г (ООН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Декларация прав ребёнка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1979г (Комиссия ООН по правам человека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Разработка проекта Конвенции о правах ребёнка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20.11.1989г(Генеральная Ассамблея ООН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Принята Конвенция о правах ребёнка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1990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Конвенция была ратифицирована Россией и вступила в силу 01.10.1990г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2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2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2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2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2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2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2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2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616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Franklin Gothic Medium"/>
              </a:rPr>
              <a:t>Что мы думаем о правах ребёнка, изложенных в деклар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6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357360" cy="2873520"/>
          </a:xfrm>
          <a:prstGeom prst="rect">
            <a:avLst/>
          </a:prstGeom>
          <a:ln w="0">
            <a:noFill/>
          </a:ln>
        </p:spPr>
      </p:pic>
      <p:pic>
        <p:nvPicPr>
          <p:cNvPr id="2207" name="" descr=""/>
          <p:cNvPicPr/>
          <p:nvPr/>
        </p:nvPicPr>
        <p:blipFill>
          <a:blip r:embed="rId2"/>
          <a:stretch/>
        </p:blipFill>
        <p:spPr>
          <a:xfrm>
            <a:off x="2195640" y="4292640"/>
            <a:ext cx="2724120" cy="2206440"/>
          </a:xfrm>
          <a:prstGeom prst="rect">
            <a:avLst/>
          </a:prstGeom>
          <a:ln w="0">
            <a:noFill/>
          </a:ln>
        </p:spPr>
      </p:pic>
      <p:pic>
        <p:nvPicPr>
          <p:cNvPr id="2208" name="" descr=""/>
          <p:cNvPicPr/>
          <p:nvPr/>
        </p:nvPicPr>
        <p:blipFill>
          <a:blip r:embed="rId3"/>
          <a:stretch/>
        </p:blipFill>
        <p:spPr>
          <a:xfrm>
            <a:off x="5651640" y="1197000"/>
            <a:ext cx="2520720" cy="2984400"/>
          </a:xfrm>
          <a:prstGeom prst="rect">
            <a:avLst/>
          </a:prstGeom>
          <a:ln w="0">
            <a:noFill/>
          </a:ln>
        </p:spPr>
      </p:pic>
      <p:pic>
        <p:nvPicPr>
          <p:cNvPr id="2209" name="" descr=""/>
          <p:cNvPicPr/>
          <p:nvPr/>
        </p:nvPicPr>
        <p:blipFill>
          <a:blip r:embed="rId4"/>
          <a:stretch/>
        </p:blipFill>
        <p:spPr>
          <a:xfrm>
            <a:off x="6372360" y="4292640"/>
            <a:ext cx="1915920" cy="222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20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ждый ребёнок имеет право на всё, что изложено в Деклар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законах любого государства, главным должно быть наилучшее соблюдение интересов ребё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аконы любого государства должны обеспечивать социальную защиту ребён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ждый ребёнок со дня своего рождения имеет право на гражданство и собственное им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ждый ребёнок имеет право на достойное медицинское обслуживание, достойное жилище, питание и развлеч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ждый ребёнок и его мать имеют право на особую заботу об охране их здоровь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бёнок с физическими и психическими недостатками имеет право на заботу, а также специальное образование и медицинский уход со стороны государ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ждый ребёнок нуждается в любви и внима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Если дети лишились семьи, то государство должно о них позаботить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Конвенция включает в себ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Основные права – на жизнь, на им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Обеспеченное семейное благополучие ребёнка (обязывает родителей заботиться о детях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Свободное развитие личности ребёнка (свобода мысли, совести, религи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доровье детей (право на медицинское обслуживание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Образование детей и их культурное развити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щита ребёнка от экономической и др. эксплуат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1:44:26Z</dcterms:created>
  <dc:creator>Андрей</dc:creator>
  <dc:description/>
  <dc:language>en-US</dc:language>
  <cp:lastModifiedBy>Андрей</cp:lastModifiedBy>
  <dcterms:modified xsi:type="dcterms:W3CDTF">2008-12-13T08:12:06Z</dcterms:modified>
  <cp:revision>14</cp:revision>
  <dc:subject/>
  <dc:title>МОЯ КОНВЕНЦИЯ</dc:title>
</cp:coreProperties>
</file>