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F485-2299-412C-A5A2-436C1027FE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1F85-BFA8-4F9C-865D-8B2C9A761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D0A-FCBA-49FC-BAB1-F171B3C5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764-3937-49F9-B69A-66FEC07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69F-2C06-4EBA-AAF5-9AAB4CE6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4B1-D61A-433E-8E9C-30AE24A0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D49C-F10A-4FFE-A316-554A29AF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D3F-A2D2-4D88-AB95-3F41A85F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7703-9292-42CC-9DD8-0005A1A2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5CC7-DFCC-4048-8048-EC6EC7A7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4E41-1892-4367-87B3-4D87FE9A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354C-858E-4ACF-9D9E-CC4624DF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0C27-C5D1-40D2-8B54-D175420E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AE7-1527-4AC4-9F3E-606F172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F3F9-C206-4CE9-9BFA-3D3F92C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796F-BDEC-4D3C-A8BB-081A5D0E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5DA6-D350-4FB7-ADB6-9993CC7E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D16E-28BE-47F5-8852-A8A9488F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8E41-2C7E-43E0-8A5C-29A66415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0D9B-887B-4BB9-9192-5C86EF7F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93CA-CEC7-4C6F-AA27-7484A988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96B07-CFA2-42C1-AF95-57F5C20C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C1B2-0875-4AB4-8B41-26EFCA6A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D870-00E7-4AA8-BCE1-BA55DD6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E07-05E4-496B-9F29-D6735AFA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4798-1C71-48B1-A39C-7BEEFF35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B9EA-7521-41C1-AB5E-6680AB5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8D08-FD04-4666-A432-4AA364A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CEC6-573B-46C7-88F7-DD6F5BDA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5CB7-F2C8-43EE-A332-0D0D516F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91D0-3DAF-466F-9E65-ED65CB66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BBD7-9A60-4AFD-ADE4-13ED86BA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0A09F-69EA-40E4-8825-D5038E1E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17F3C-FCAB-494A-9CBF-930DA073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6DAA-DD9A-4A25-A825-A4DEF6D0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79E-AAC4-4F66-AA8F-BFCDB5DC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B8B7-B93A-49A0-9B1A-12F4DB73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5010-C92E-4190-97F9-F1D76A8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A75B-01F6-40B6-B453-E33F028D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80FF9-9431-41C8-94EF-1821E8C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749F-AFA0-414A-9DDB-0D3FDF3A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482C-C5E7-4A62-9182-C180648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94E86-396D-4A88-AD49-2FBA995F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2F69-9454-42EC-80B9-BC9B5602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C7F51-6594-4BFF-B5EA-E1204C30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3AB6-38D7-48B1-B849-F3B85B71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D63-76C9-4116-83F1-29520BB4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D719A-402E-4929-B1BC-F40B0001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2023-05FF-4374-B48C-F2343E5F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2A3F-5C09-4DA1-90B9-59C84F19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1CB86-18BE-48FD-BB3B-102E92E6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8BC1-8FAA-495B-BBDF-A0584FE1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D3C46-A098-4059-8593-0898CD3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16C1F-620F-494F-B005-7370888E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1CCC2-74D1-47B4-87BB-7AD94F5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A9CC-C2D7-490C-84F5-D058B88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1DF3-25E6-4DBC-95B3-BB464E52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F81-DEC9-439C-B0EA-A86091B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C46AE-C0EE-4F7D-9773-1E55868E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916F-BD2E-4D7E-BC99-7AB0DF27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E0C80-40D7-4926-933C-112779D8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99E9-D84C-4DA5-A0CC-94241338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0C9ED-37BB-4EF2-B23D-37CA710E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6092-8B3A-45DA-8447-2A142840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D62E9-E754-4731-B472-993BCE0F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79E83-1999-4731-A835-4198AE4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1E69D-7B1F-40DD-B22F-2FF8E94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329E3-BA88-42B7-924D-76915BF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B7A-B5EA-4ED9-BD97-689E4FC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02E7-7130-4B6C-89BA-B18AEF83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473E3-E490-4B18-B8AF-A3F7DAFF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1C3B-D141-4F5C-9963-9FFB0F4E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1C9B-A096-40FB-AC57-10145DAD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0B0D-B8AA-4084-9801-8489C164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A7CCD-37AD-4A4A-8FE8-21808AD9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8E70-2BEF-4CC6-89A8-C22BE254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E39D0-EAB6-487C-961B-8BAC33A2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37161-DC91-4543-80E7-4D7D7A6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8531-9490-4932-92B4-28A8A5E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B9A-99DB-48B7-BEBE-172097E2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CF21-AE7E-4533-A790-E9C05BA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46776-5C73-49D6-ACB7-2AB197F5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718B5-76F7-4095-93F8-4EB9A5E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33826-14C2-42D9-8AD5-EAE7F5E0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F9BC6-7F62-45D1-BFE9-241B9A23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338E-FF2F-453E-BD06-4201E610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DADF2-8892-482E-9EA7-3CD1B052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18840-5E23-4251-B9B6-620F36B0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4687F-57D7-4377-848F-A51DA41B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92457-17B4-4091-BCE1-27E33006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B6A-FDE7-4D1E-8EC7-A1CAB3D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CFA39-04FE-4EE9-885C-448C93C1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C514-2877-43A3-9AF6-731F923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AB621-CDF8-4BB5-B2AE-9894F9F6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2D0B-577D-42D6-BFF8-89F272D2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0E39-967B-4E4B-8F79-5B44AD9D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61951-0E15-42DE-BCD2-A0F48A06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14B9D-7A4C-42A8-957C-5D33B380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6A64-CB04-41D3-8ED5-39AC68DEC5B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371-EDDF-4DA7-BAC5-3B01D03E6B4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3943-DD67-4BA3-BE59-8F58FBB6FC4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DD0F-3F57-4404-B8DE-92CC44E34F3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7354-FC0C-4FC4-9C4F-FFAF97D1596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3C3F-1B60-4D3D-A3FE-C6CDA8D33A6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AB49-3FE7-4846-BABE-1F2BC7B1F65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23A2-5DF9-4202-BD01-D0146DF10AC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33440" y="1749600"/>
            <a:ext cx="8442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57192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464646"/>
                </a:solidFill>
                <a:latin typeface="Lucida Sans Unicode"/>
              </a:rPr>
              <a:t>Диагностическая кар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Допускают объективный и однозначный контроль степени их достиж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зволяют прогнозировать результаты деятельности учеников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071440"/>
            <a:ext cx="822960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аг 1: формулируем проблему изучаемой темы (например, концепцию произведения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аг 2: формулируем цели в диагностической форм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то смогут узнать ученики из наших уроков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ие понятия будут осваивать на уроках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му научатся? Какие умения будут осваивать и на каком уровн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акой самостоятельной деятельности учеников проявятся их знания, понимания, умения? Что они смогут сделать во время урока и после него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500040" y="1785960"/>
          <a:ext cx="8229600" cy="4792680"/>
        </p:xfrm>
        <a:graphic>
          <a:graphicData uri="http://schemas.openxmlformats.org/drawingml/2006/table">
            <a:tbl>
              <a:tblPr/>
              <a:tblGrid>
                <a:gridCol w="4043520"/>
                <a:gridCol w="2786040"/>
                <a:gridCol w="1400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Диагностические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Форма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Уровень усв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ние истории создания рома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ес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ние составлять характеристику персонаж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исьменная работа (составление характеристики геро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ние определять роль описаний в тек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актическая работа с текстом «Роль интерьера и пейзажа в создании образа геро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ценка психологизма изображаемых автором событий путем анализа эпизодов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ыразительное чтение эпиз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ние определять тему, проблематику и идею произведения и интерпретировать эти знания в творческой работ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очинение по произвед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4679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Содержимое 3" descr=""/>
          <p:cNvPicPr/>
          <p:nvPr/>
        </p:nvPicPr>
        <p:blipFill>
          <a:blip r:embed="rId1"/>
          <a:stretch/>
        </p:blipFill>
        <p:spPr>
          <a:xfrm>
            <a:off x="426960" y="1414440"/>
            <a:ext cx="8461440" cy="4638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3" descr=""/>
          <p:cNvPicPr/>
          <p:nvPr/>
        </p:nvPicPr>
        <p:blipFill>
          <a:blip r:embed="rId1"/>
          <a:stretch/>
        </p:blipFill>
        <p:spPr>
          <a:xfrm>
            <a:off x="-749160" y="255600"/>
            <a:ext cx="10575720" cy="597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09:47:22Z</dcterms:created>
  <dc:creator>1</dc:creator>
  <dc:description/>
  <dc:language>en-US</dc:language>
  <cp:lastModifiedBy>1</cp:lastModifiedBy>
  <dcterms:modified xsi:type="dcterms:W3CDTF">2012-03-27T04:30:23Z</dcterms:modified>
  <cp:revision>16</cp:revision>
  <dc:subject/>
  <dc:title>Нестандартные системы оценивания</dc:title>
</cp:coreProperties>
</file>