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6A2B-5DD8-44B4-8F1A-DDD4E63404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F137-071B-4B41-9927-03E7E6DA4B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15DB-633C-4612-ACB8-7B6FAE88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13A8-3C7D-4A85-95B2-B66CF2E5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13E5-129B-48FC-8396-6296AED5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F74-A3AD-4046-B98C-3A3D99CC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1E3C-7121-4558-874F-168DBFF7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FDEF-A12E-4A77-A5DB-6DF8F244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82BD-0406-40D0-BD50-87EB25C8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DF8A-7A08-4616-A489-BF8F6419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529C-DF7E-4A21-8ADF-2CE4D0FB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476D-CDE8-4E48-8D6C-9638653E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BA5D-9C75-42D8-9BB3-2C3306FF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9C0B-DD0E-45B4-A980-396400EC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F291-92D0-4EA6-BDD0-A78140C9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9A58-D95D-4350-9961-845A584F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A8BD-D08A-4A0A-AA2E-B1515640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842B-2F57-4DEC-9B6A-52F81AEA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24C1-1604-4F8D-852E-B436797A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5EB9C-C632-4EFD-A8A6-2606C779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275A1-ACB1-4F9A-9537-C29FADAE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F8BED-AC0B-4B89-AFBE-43428CD6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78204-7EF0-4F73-B4F9-58DC616F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55C5A-026F-4491-98C1-BE3ED724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8885-323E-4345-8759-9B90FCE9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14642-58BE-42B9-B310-382CA10A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FAD0F-1FA6-4B21-A8DB-8CE5A5FA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8586E-8BA5-4509-BFE4-2F08F404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BEB88-82E0-4B49-BDBA-995C26C1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3E8EC-DE08-4453-B36A-70A18443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AB2F9-F759-4205-AD25-FD23BF45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63F5C-2F85-4BAE-9454-75738E8F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3942E-48D0-425B-9A8B-45DE9A5C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06557-E2DC-4852-9F77-718D539A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A00B3-4BEF-43AC-A507-7AEB698C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7CD2-E2BC-4F3C-AC33-C76DE381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315B5-9A57-4E8C-BA83-69A80132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3C728-B096-4C81-92AE-0104CA8D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8F558-CA87-4DD4-965A-7931E1F0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3BD74-E74E-4C39-801F-28368C72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FC017-D3C9-4F2C-844B-023B67FC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49B23-DBB0-4EB2-A145-F8E70E5B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6BBAE-7A28-4169-A358-27E79459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C0E39-8330-48BE-87B6-B01DDFF3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DD8A2-FE56-493A-BFA4-7F9AC524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00B04-7434-46EB-AD55-3955A28D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4795-63C0-4B2D-B77C-55047E88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68F65-68D7-4DF1-9A29-DC0A8196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306A9-DE02-4ACB-B72E-F05E59B6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45604-E3E7-426A-ABB1-74FB2C64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9232B-6C23-4BB6-BFBB-FF5E4ABA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33DD6-D435-4689-AEEA-F1307374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83F3C-6543-4297-B2FD-702DB79A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1E0BE-B45E-4F5C-9106-38732719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307A0-C455-484C-AEAC-2C34B54B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CDEE7-19B9-4A3F-9198-4C278B8B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EAC59-B2D9-47E9-A6BE-751B3807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9893-B39E-4ED1-8FD2-F45912BC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3B8E4-C5F7-441B-B5D0-DB051E2B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C310F-2AF3-4ADB-8EA0-A9218093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666F1-390E-4E01-980D-2F744601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60231-54D5-4E7C-8E1B-EC446D03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95741-4C09-4DD9-A39E-D8669232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07C6B-5A67-412D-8C2A-D8330A36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C2468-7C56-4B27-9400-7C158B0C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E3184-C717-4FBA-A496-22355555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55CE0-A255-48B0-ABCC-654FA9BC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45F49-C3AA-4D4E-A115-45E1D8C9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9FE-9A01-49B3-9AF2-BA4341EC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1F462-123E-4E29-923C-E51CB2F8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51A8D-D977-4206-B70B-2BFF081B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7EBA3-9953-4670-AD22-6BA8D6F7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CC73D-3F01-4919-A441-397566DF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4B450-2433-48C6-BB2A-F7787BEE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E62FC-4BA4-41CD-A2F9-E875E755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2ACD8-A018-445E-9D0C-8FB95883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431AA-62A0-4EBB-9B13-12F17ADD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F13CF-100A-4DCD-A4A7-6E933CF2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62D41-0721-422E-8C2F-31745D99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D40E-D54A-4128-99DB-5DF2FDA8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E3139-DAB3-440F-B1C0-7C29A820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153EE-8DAD-49B1-901C-5F7B4827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5E88B-AE72-4932-93E3-3E77C3ED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12A79-3AE2-4B6F-8320-A9AE73FD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81764-4644-44F6-9490-FADC98D8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B0A8A-BF35-4DD9-BEA8-2EAF0DCA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8177A-8E5D-4F3C-B9E5-4FA2432A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137BD-4D4F-402F-8A52-418DA269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70FBA-E727-4604-AC71-A59AAAB1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4C1EA-5967-42F9-A2B5-471C023E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56C5-14E6-48AE-B464-4189806E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ED259-764F-4C11-A257-0AFA7D24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C1703-67C3-425E-9CD2-5658F6DB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85241-8A96-4C43-A2CB-0C27FCCF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2A9F6-B91F-41DF-A99C-4DE65172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14BEB-ACAC-4699-A3F5-141CBCC7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6FC4E-A100-4985-BCCB-3345F544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C958C-4BBE-4415-A5EB-FC0E5419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2DDE-BEB9-48DA-8DC8-C1FF024F5F9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E24A-7899-4233-864D-9BA7F54E4B3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654F-BEEF-4574-A626-07BC414FC65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0314-0BE4-42FF-807F-7F8294AFB45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1AEF-A718-407A-8B79-8CA463C1D78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DE9A-1ADB-4FD7-A455-335BD74E9C8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87A1-9CC8-462B-806F-946EC4E739D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3AFA-CDD4-4774-8765-835DE06EA90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433440" y="1749600"/>
            <a:ext cx="844236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57192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464646"/>
                </a:solidFill>
                <a:latin typeface="Lucida Sans Unicode"/>
              </a:rPr>
              <a:t>Диагностическая карт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Допускают объективный и однозначный контроль степени их достижения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Позволяют прогнозировать результаты деятельности учеников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2071440"/>
            <a:ext cx="822960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Шаг 1: формулируем проблему изучаемой темы (например, концепцию произведения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Шаг 2: формулируем цели в диагностической форм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то смогут узнать ученики из наших уроков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кие понятия будут осваивать на уроках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ему научатся? Какие умения будут осваивать и на каком уровн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какой самостоятельной деятельности учеников проявятся их знания, понимания, умения? Что они смогут сделать во время урока и после него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500040" y="1785960"/>
          <a:ext cx="8229600" cy="4792680"/>
        </p:xfrm>
        <a:graphic>
          <a:graphicData uri="http://schemas.openxmlformats.org/drawingml/2006/table">
            <a:tbl>
              <a:tblPr/>
              <a:tblGrid>
                <a:gridCol w="4043520"/>
                <a:gridCol w="2786040"/>
                <a:gridCol w="1400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Диагностические ц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Форма контр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Уровень усво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Знание истории создания роман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Тес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Умение составлять характеристику персонаж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исьменная работа (составление характеристики геро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Умение определять роль описаний в текс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актическая работа с текстом «Роль интерьера и пейзажа в создании образа геро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Оценка психологизма изображаемых автором событий путем анализа эпизодов тек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ыразительное чтение эпиз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Умение определять тему, проблематику и идею произведения и интерпретировать эти знания в творческой работ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очинение по произвед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846792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Содержимое 3" descr=""/>
          <p:cNvPicPr/>
          <p:nvPr/>
        </p:nvPicPr>
        <p:blipFill>
          <a:blip r:embed="rId1"/>
          <a:stretch/>
        </p:blipFill>
        <p:spPr>
          <a:xfrm>
            <a:off x="426960" y="1414440"/>
            <a:ext cx="8461440" cy="46386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Содержимое 3" descr=""/>
          <p:cNvPicPr/>
          <p:nvPr/>
        </p:nvPicPr>
        <p:blipFill>
          <a:blip r:embed="rId1"/>
          <a:stretch/>
        </p:blipFill>
        <p:spPr>
          <a:xfrm>
            <a:off x="-749160" y="255600"/>
            <a:ext cx="10575720" cy="5979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09:47:22Z</dcterms:created>
  <dc:creator>1</dc:creator>
  <dc:description/>
  <dc:language>en-US</dc:language>
  <cp:lastModifiedBy>1</cp:lastModifiedBy>
  <dcterms:modified xsi:type="dcterms:W3CDTF">2012-03-27T04:30:23Z</dcterms:modified>
  <cp:revision>16</cp:revision>
  <dc:subject/>
  <dc:title>Нестандартные системы оценивания</dc:title>
</cp:coreProperties>
</file>