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9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1.gif" ContentType="image/gif"/>
  <Override PartName="/ppt/media/image2.png" ContentType="image/png"/>
  <Override PartName="/ppt/media/image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7EC-D012-4CDE-BB21-E6E2FEE3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4AB-A343-47BF-BF23-C39D7C52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026-9949-4E2F-8DD8-FD58606F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73D-B6B8-44A2-969F-EAC39A59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BD9-428B-4346-98CE-AEBA4392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93B-4704-4293-8829-BDF0E025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BF7-2409-4DCB-9D77-4CDA441F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D39-A09B-44A8-BE40-24E6BECF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EA8-66D7-4A9D-9091-058AC74D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C19-9CFB-4678-9E1C-C48550A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F8C-5C20-41B2-8C29-04C7A585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BE0-C871-4070-B96A-03DA63CF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3653-A65D-4074-B30B-4733E19CD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iki.pskovedu.ru/images/a/ac/000083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0/Pifago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бщающий урок по теме: «Арифметическая и геометрическая прогресс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2567160" y="2786040"/>
            <a:ext cx="4674960" cy="259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nrcrljj5hj4tpzum.detsk-dworets.narod2.ru/professor.gif?rand=64120952685808"/>
          <p:cNvPicPr/>
          <p:nvPr/>
        </p:nvPicPr>
        <p:blipFill>
          <a:blip r:embed="rId2"/>
          <a:stretch/>
        </p:blipFill>
        <p:spPr>
          <a:xfrm>
            <a:off x="6800760" y="3789360"/>
            <a:ext cx="2343240" cy="290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000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141720"/>
            <a:ext cx="2525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br>
              <a:rPr sz="1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йти пятый член арифметической прогрессии: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йти шестой член геометрической прогресси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жно ли указать последовательность, являющуюся одновременно геометрической и арифметической прогресси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блако 8"/>
          <p:cNvSpPr/>
          <p:nvPr/>
        </p:nvSpPr>
        <p:spPr>
          <a:xfrm>
            <a:off x="539640" y="5084640"/>
            <a:ext cx="1079640" cy="482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9"/>
          <p:cNvSpPr/>
          <p:nvPr/>
        </p:nvSpPr>
        <p:spPr>
          <a:xfrm>
            <a:off x="4067280" y="5805360"/>
            <a:ext cx="1009440" cy="5540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блако 10"/>
          <p:cNvSpPr/>
          <p:nvPr/>
        </p:nvSpPr>
        <p:spPr>
          <a:xfrm>
            <a:off x="2627280" y="4653000"/>
            <a:ext cx="936720" cy="4824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блако 10"/>
          <p:cNvSpPr/>
          <p:nvPr/>
        </p:nvSpPr>
        <p:spPr>
          <a:xfrm>
            <a:off x="6877080" y="5229360"/>
            <a:ext cx="1150920" cy="842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блако 10"/>
          <p:cNvSpPr/>
          <p:nvPr/>
        </p:nvSpPr>
        <p:spPr>
          <a:xfrm>
            <a:off x="2340000" y="5661000"/>
            <a:ext cx="936720" cy="482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10"/>
          <p:cNvSpPr/>
          <p:nvPr/>
        </p:nvSpPr>
        <p:spPr>
          <a:xfrm>
            <a:off x="5292720" y="4724280"/>
            <a:ext cx="1079640" cy="77148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 данных последовательностей выберите ту, среди членов которой есть число (-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-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5680" y="333000"/>
            <a:ext cx="869796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авносторонний треугольник, сторона которого равна 16 см, вписан другой треугольник, вершинами которого являются середины сторон первого. Во второй треугольник таким же способом вписан третий и т.д. Найдите периметр восьмого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реугольника.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539640" y="2421000"/>
            <a:ext cx="2378160" cy="2198520"/>
          </a:xfrm>
          <a:prstGeom prst="triangle">
            <a:avLst>
              <a:gd name="adj" fmla="val 53144"/>
            </a:avLst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3665400">
            <a:off x="1356120" y="3309120"/>
            <a:ext cx="1157400" cy="1032120"/>
          </a:xfrm>
          <a:prstGeom prst="triangle">
            <a:avLst>
              <a:gd name="adj" fmla="val 48426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5"/>
          <p:cNvSpPr/>
          <p:nvPr/>
        </p:nvSpPr>
        <p:spPr>
          <a:xfrm rot="7181400">
            <a:off x="1532160" y="3705840"/>
            <a:ext cx="574920" cy="465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 rot="18151200">
            <a:off x="1572480" y="3788280"/>
            <a:ext cx="287280" cy="216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14240" y="642960"/>
          <a:ext cx="3619800" cy="3746520"/>
        </p:xfrm>
        <a:graphic>
          <a:graphicData uri="http://schemas.openxmlformats.org/drawingml/2006/table">
            <a:tbl>
              <a:tblPr/>
              <a:tblGrid>
                <a:gridCol w="452520"/>
                <a:gridCol w="452520"/>
                <a:gridCol w="452520"/>
                <a:gridCol w="452160"/>
                <a:gridCol w="452520"/>
                <a:gridCol w="452520"/>
                <a:gridCol w="452520"/>
                <a:gridCol w="4525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7" name="Прямая со стрелкой 4"/>
          <p:cNvCxnSpPr/>
          <p:nvPr/>
        </p:nvCxnSpPr>
        <p:spPr>
          <a:xfrm>
            <a:off x="713880" y="3429000"/>
            <a:ext cx="3644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6"/>
          <p:cNvCxnSpPr/>
          <p:nvPr/>
        </p:nvCxnSpPr>
        <p:spPr>
          <a:xfrm flipV="1">
            <a:off x="1641960" y="642240"/>
            <a:ext cx="1080" cy="371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9" name="Прямоугольник 13" descr=""/>
          <p:cNvPicPr/>
          <p:nvPr/>
        </p:nvPicPr>
        <p:blipFill>
          <a:blip r:embed="rId1"/>
          <a:stretch/>
        </p:blipFill>
        <p:spPr>
          <a:xfrm>
            <a:off x="1573200" y="3432240"/>
            <a:ext cx="2571840" cy="7682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4" descr=""/>
          <p:cNvPicPr/>
          <p:nvPr/>
        </p:nvPicPr>
        <p:blipFill>
          <a:blip r:embed="rId2"/>
          <a:stretch/>
        </p:blipFill>
        <p:spPr>
          <a:xfrm>
            <a:off x="1139760" y="2571840"/>
            <a:ext cx="433440" cy="585720"/>
          </a:xfrm>
          <a:prstGeom prst="rect">
            <a:avLst/>
          </a:prstGeom>
          <a:ln w="0">
            <a:noFill/>
          </a:ln>
        </p:spPr>
      </p:pic>
      <p:sp>
        <p:nvSpPr>
          <p:cNvPr id="91" name="Овал 16"/>
          <p:cNvSpPr/>
          <p:nvPr/>
        </p:nvSpPr>
        <p:spPr>
          <a:xfrm>
            <a:off x="3786120" y="428616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7"/>
          <p:cNvSpPr/>
          <p:nvPr/>
        </p:nvSpPr>
        <p:spPr>
          <a:xfrm>
            <a:off x="3286080" y="3286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8"/>
          <p:cNvSpPr/>
          <p:nvPr/>
        </p:nvSpPr>
        <p:spPr>
          <a:xfrm>
            <a:off x="2857680" y="2428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9"/>
          <p:cNvSpPr/>
          <p:nvPr/>
        </p:nvSpPr>
        <p:spPr>
          <a:xfrm>
            <a:off x="2428920" y="1500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0"/>
          <p:cNvSpPr/>
          <p:nvPr/>
        </p:nvSpPr>
        <p:spPr>
          <a:xfrm>
            <a:off x="1928880" y="571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3857760" y="3429000"/>
                <a:ext cx="51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1143000" y="571680"/>
                <a:ext cx="517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TextBox 23"/>
          <p:cNvSpPr/>
          <p:nvPr/>
        </p:nvSpPr>
        <p:spPr>
          <a:xfrm>
            <a:off x="4572000" y="836640"/>
            <a:ext cx="42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лены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жно изображать точками на координатной плоскости. Для этого по горизонтальной оси откладывают номер члена, а по вертикальной – соответствующий член 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142920" y="4857840"/>
            <a:ext cx="8858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 рисунке изображены точками первые пять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рифметической прогрессии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первый член прогрессии и разность про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на формулой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611280" y="836640"/>
                <a:ext cx="2820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Прямоугольник 3"/>
          <p:cNvSpPr/>
          <p:nvPr/>
        </p:nvSpPr>
        <p:spPr>
          <a:xfrm>
            <a:off x="539640" y="126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номер члена последовательности, равного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еометрической прогрессии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, 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4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&gt; 0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8000" y="476280"/>
            <a:ext cx="45356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ФИЗМИНУ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оризонтальные движения глаз: направо - нал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вижение глазными яблоками вертикально вверх-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руговые движения глазами: по часовой стрелке и в противополож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Интенсивные сжимания и разжимания глаз в быстром тем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вижение глаз по диагонали: скосить глаза в левый нижний угол, затем по прямой перевести взгляд вверх. Аналогично в противополож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ведение глаз к носу. Для этого к переносице поставьте палец и посмотрите на него - глаза легко "соединятся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астое моргание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Прогрессии в жизни, в быту и не толь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395280" y="1773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сборнике по подготовке к экзамену-240 задач. Ученик планирует начать их   решение 2 мая, а закончить 16 мая, решая  каждый день на две задачи больше, чем в предыдущий день. Сколько задач ученик запланировал решить 12 м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14240" y="642960"/>
          <a:ext cx="3619800" cy="3746520"/>
        </p:xfrm>
        <a:graphic>
          <a:graphicData uri="http://schemas.openxmlformats.org/drawingml/2006/table">
            <a:tbl>
              <a:tblPr/>
              <a:tblGrid>
                <a:gridCol w="452520"/>
                <a:gridCol w="452520"/>
                <a:gridCol w="452520"/>
                <a:gridCol w="452160"/>
                <a:gridCol w="452520"/>
                <a:gridCol w="452520"/>
                <a:gridCol w="452520"/>
                <a:gridCol w="4525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9" name="Прямая со стрелкой 4"/>
          <p:cNvCxnSpPr/>
          <p:nvPr/>
        </p:nvCxnSpPr>
        <p:spPr>
          <a:xfrm>
            <a:off x="713880" y="3429000"/>
            <a:ext cx="3644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6"/>
          <p:cNvCxnSpPr/>
          <p:nvPr/>
        </p:nvCxnSpPr>
        <p:spPr>
          <a:xfrm flipV="1">
            <a:off x="1641960" y="642240"/>
            <a:ext cx="1080" cy="371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1" name="Прямоугольник 13" descr=""/>
          <p:cNvPicPr/>
          <p:nvPr/>
        </p:nvPicPr>
        <p:blipFill>
          <a:blip r:embed="rId1"/>
          <a:stretch/>
        </p:blipFill>
        <p:spPr>
          <a:xfrm>
            <a:off x="1573200" y="3432240"/>
            <a:ext cx="2571840" cy="7682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4" descr=""/>
          <p:cNvPicPr/>
          <p:nvPr/>
        </p:nvPicPr>
        <p:blipFill>
          <a:blip r:embed="rId2"/>
          <a:stretch/>
        </p:blipFill>
        <p:spPr>
          <a:xfrm>
            <a:off x="1139760" y="2571840"/>
            <a:ext cx="433440" cy="585720"/>
          </a:xfrm>
          <a:prstGeom prst="rect">
            <a:avLst/>
          </a:prstGeom>
          <a:ln w="0">
            <a:noFill/>
          </a:ln>
        </p:spPr>
      </p:pic>
      <p:sp>
        <p:nvSpPr>
          <p:cNvPr id="113" name="Овал 16"/>
          <p:cNvSpPr/>
          <p:nvPr/>
        </p:nvSpPr>
        <p:spPr>
          <a:xfrm>
            <a:off x="3786120" y="428616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7"/>
          <p:cNvSpPr/>
          <p:nvPr/>
        </p:nvSpPr>
        <p:spPr>
          <a:xfrm>
            <a:off x="3286080" y="3286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8"/>
          <p:cNvSpPr/>
          <p:nvPr/>
        </p:nvSpPr>
        <p:spPr>
          <a:xfrm>
            <a:off x="2857680" y="2428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9"/>
          <p:cNvSpPr/>
          <p:nvPr/>
        </p:nvSpPr>
        <p:spPr>
          <a:xfrm>
            <a:off x="2428920" y="1500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0"/>
          <p:cNvSpPr/>
          <p:nvPr/>
        </p:nvSpPr>
        <p:spPr>
          <a:xfrm>
            <a:off x="1928880" y="571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3857760" y="3429000"/>
                <a:ext cx="51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1143000" y="571680"/>
                <a:ext cx="517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TextBox 23"/>
          <p:cNvSpPr/>
          <p:nvPr/>
        </p:nvSpPr>
        <p:spPr>
          <a:xfrm>
            <a:off x="4572000" y="836640"/>
            <a:ext cx="42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лены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жно изображать точками на координатной плоскости. Для этого по горизонтальной оси откладывают номер члена, а по вертикальной – соответствующий член 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142920" y="4857840"/>
            <a:ext cx="8858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 рисунке изображены точками первые пять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рифметической прогрессии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первый член прогрессии и разность про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В амфитеатре расположены 10 рядов, причем в каждом следующем ряду на 20 мест больше чем в предыдущем, а в последнем ряду 280 мест. Сколько человек вмещает амфитеатр?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4008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мин «прогрессия» имеет латинское происхождение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rogress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что означает «движение вперёд») и был введён римским автором Боэцием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.), и понимал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есконечная числовая последова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Файл:Pifag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421000"/>
            <a:ext cx="5256360" cy="388944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45320"/>
            <a:ext cx="7920000" cy="14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1. Последовательность арифметическая прогрессия. Найдите сумму первых  четырех  ее членов, если а</a:t>
            </a:r>
            <a:r>
              <a:rPr b="0" lang="ru-RU" sz="2800" spc="-1" strike="noStrike" baseline="-30000">
                <a:solidFill>
                  <a:srgbClr val="0070c0"/>
                </a:solidFill>
                <a:latin typeface="Times New Roman"/>
                <a:ea typeface="Calibri"/>
              </a:rPr>
              <a:t>1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=8, а</a:t>
            </a:r>
            <a:r>
              <a:rPr b="0" lang="ru-RU" sz="2800" spc="-1" strike="noStrike" baseline="-30000">
                <a:solidFill>
                  <a:srgbClr val="0070c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=1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 rot="1499400">
            <a:off x="7178760" y="4409640"/>
            <a:ext cx="13572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468360" y="263880"/>
            <a:ext cx="8028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фметические прогрессии(а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даны формулами п-го чле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 rot="20719800">
            <a:off x="242640" y="4615920"/>
            <a:ext cx="1396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Арифметическая прогрессия а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дана несколькими  членами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дите ее 2012 член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C:\Documents and Settings\Admin\Мои документы\Мои рисунки\img262.jpg"/>
          <p:cNvPicPr/>
          <p:nvPr/>
        </p:nvPicPr>
        <p:blipFill>
          <a:blip r:embed="rId1"/>
          <a:stretch/>
        </p:blipFill>
        <p:spPr>
          <a:xfrm rot="18723600">
            <a:off x="592920" y="4256640"/>
            <a:ext cx="1709640" cy="235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4643280" y="907920"/>
                <a:ext cx="2449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4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колько надо сложить последовательных натуральных чисел, кратных 7, что бы их сумма была равна 546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 rot="1938600">
            <a:off x="7294320" y="4547880"/>
            <a:ext cx="1396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торить формулы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олнить тест из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едставления об арифметической и геометрической прогрессиях были еще у древних народов. В клинописных вавилонских табличках и египетских папирусах встречаются задачи на прогрессии и указания, как их реш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103640" cy="4014720"/>
          </a:xfrm>
          <a:prstGeom prst="rect">
            <a:avLst/>
          </a:prstGeom>
          <a:ln w="28440">
            <a:solidFill>
              <a:srgbClr val="4e75a3"/>
            </a:solidFill>
            <a:miter/>
          </a:ln>
        </p:spPr>
      </p:pic>
      <p:pic>
        <p:nvPicPr>
          <p:cNvPr id="49" name="Рисунок 3" descr="http://www.paneuro.ru/pics/pic_2005629_15mn21s39mls705.jpg"/>
          <p:cNvPicPr/>
          <p:nvPr/>
        </p:nvPicPr>
        <p:blipFill>
          <a:blip r:embed="rId2"/>
          <a:stretch/>
        </p:blipFill>
        <p:spPr>
          <a:xfrm>
            <a:off x="4932360" y="2565360"/>
            <a:ext cx="4033800" cy="401472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933720"/>
            <a:ext cx="8569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rchimedes; около 287 - 212 до н. э.), древнегреческий учёный, математик и механик. В ходе своих исследований он нашёл сумму бесконечной геометрической прогрессии со знаменателем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явилось первым примером появления в математике бесконечного ря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0956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самостоятельным математиком Западной Европы был итальянец Леонардо Пизанский (1180—1240), известный также под именем Фибоначчи. Основной труд Леонардо — «Книга абака» — написан им в 1202 г. и переработан в 1228 г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II главе приводятся задачи на применение арифметической и геометрической прогрессий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,2,3,5,8,13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8163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грессии знали китайские и индийские ученые . Об этом  говорит известная легенда об изобретателе шах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5627520" cy="463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дийский царь Жерами позвал к себе изобретателя шахматной игры, своего подручного Сету, чтобы наградить его за остроумную выдумку. Сета, издеваясь над царем, потребовал за первую  клетку шахматной доски 1 пшеничное зерно, за вторую – 2, за третью- 4 и т.д. Увеличивая в 2 раза до 64 клетки. Оказалось, что царь был не в состоянии выполнить его просьбу.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020000" y="1413000"/>
            <a:ext cx="1701720" cy="23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6372360" y="4221000"/>
            <a:ext cx="23828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оха Пет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формы, начатые Петр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ц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ч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ов, коснулись и образования. 14 января 1701 года подписан указ об учреждении в Москве Математико-навигационной школы. В школу принимались дети разных сословий. Магницкий Л.Ф. -лучший математик Москвы, по приказу Пет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назначен учителем школы. Им был написан учебник «Арифметика». Материал, излагаемый в книге, был доступным и интересным. А теперь послушайте саму задачу и давайте ее реш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0" y="188640"/>
            <a:ext cx="590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то продавал коня и попросил за него 1000р. Купец сказал, что  за  коня запрошена слишком большая цена. «Хорошо»,- ответил продавец,- если ты говоришь, что конь дорого стоит, то возьми его себе даром, а заплати мне только за одни гвозди в его подковах. А гвоздей во всех подковах по 6 штук. И будешь  ты мне  за них платить таким образом: за один гвоздь- полушку(0,25 копеек),за второй-2 полушки, за третий- 4 полушки…и т.д., за все гвозди ; за каждый в 2 раза больше, чем за предыдущий. Купец же, думая, что заплатит намного меньше чем 1000 рублей,  согласился. Проторговался ли купец? На сколько ошибся покупател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Танюша\Мои документы\Презентации\открытый урок\289.gif"/>
          <p:cNvPicPr/>
          <p:nvPr/>
        </p:nvPicPr>
        <p:blipFill>
          <a:blip r:embed="rId1"/>
          <a:stretch/>
        </p:blipFill>
        <p:spPr>
          <a:xfrm>
            <a:off x="684360" y="3357720"/>
            <a:ext cx="1726920" cy="29001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www.archives21.ru/home/989/pics/galereya_pamyati/magniskii_v_k_1000.jpg"/>
          <p:cNvPicPr/>
          <p:nvPr/>
        </p:nvPicPr>
        <p:blipFill>
          <a:blip r:embed="rId2"/>
          <a:stretch/>
        </p:blipFill>
        <p:spPr>
          <a:xfrm>
            <a:off x="3203640" y="3141720"/>
            <a:ext cx="2303280" cy="2698560"/>
          </a:xfrm>
          <a:prstGeom prst="rect">
            <a:avLst/>
          </a:prstGeom>
          <a:ln w="28440">
            <a:solidFill>
              <a:srgbClr val="4e75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24000" y="260280"/>
          <a:ext cx="8496000" cy="6218280"/>
        </p:xfrm>
        <a:graphic>
          <a:graphicData uri="http://schemas.openxmlformats.org/drawingml/2006/table">
            <a:tbl>
              <a:tblPr/>
              <a:tblGrid>
                <a:gridCol w="2376360"/>
                <a:gridCol w="2879640"/>
                <a:gridCol w="32400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ифметическая прогре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еометрическая прогре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предел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зность или знаменатель прогр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Формула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го чл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войства прогр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зность или знаменатель прогр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ая из последовательностей является прогрессией, укажите – какой, найти разность и знаменател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, 5, 8, 11, 14, 17, …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3, 9, 27, 81,  243,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, 6, 11, 20, 25,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-4, -8, -16, -32, …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C:\Documents and Settings\Slushatel-1-2\Мои документы\ksenya\site\image\740a73b396965654d5e45d53b47d4e2b[1].gif"/>
          <p:cNvPicPr/>
          <p:nvPr/>
        </p:nvPicPr>
        <p:blipFill>
          <a:blip r:embed="rId1"/>
          <a:stretch/>
        </p:blipFill>
        <p:spPr>
          <a:xfrm>
            <a:off x="7023240" y="4443480"/>
            <a:ext cx="1590480" cy="3384360"/>
          </a:xfrm>
          <a:prstGeom prst="rect">
            <a:avLst/>
          </a:prstGeom>
          <a:ln w="0">
            <a:noFill/>
          </a:ln>
        </p:spPr>
      </p:pic>
      <p:sp>
        <p:nvSpPr>
          <p:cNvPr id="67" name="Овал 3"/>
          <p:cNvSpPr/>
          <p:nvPr/>
        </p:nvSpPr>
        <p:spPr>
          <a:xfrm>
            <a:off x="468360" y="3429000"/>
            <a:ext cx="4464000" cy="28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ифметическ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=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6"/>
          <p:cNvSpPr/>
          <p:nvPr/>
        </p:nvSpPr>
        <p:spPr>
          <a:xfrm>
            <a:off x="2050920" y="4724280"/>
            <a:ext cx="4464360" cy="287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метрическ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7"/>
          <p:cNvSpPr/>
          <p:nvPr/>
        </p:nvSpPr>
        <p:spPr>
          <a:xfrm>
            <a:off x="4356000" y="2781360"/>
            <a:ext cx="4464000" cy="287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метрическ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 =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826920" y="5732640"/>
            <a:ext cx="4608720" cy="288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ифметическ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01:10Z</dcterms:created>
  <dc:creator>Настя</dc:creator>
  <dc:description/>
  <dc:language>en-US</dc:language>
  <cp:lastModifiedBy>Людмила</cp:lastModifiedBy>
  <dcterms:modified xsi:type="dcterms:W3CDTF">2013-04-15T15:16:10Z</dcterms:modified>
  <cp:revision>38</cp:revision>
  <dc:subject/>
  <dc:title>Обобщающий урок по теме: «Арифметическая и геометрическая прогрессии»</dc:title>
</cp:coreProperties>
</file>