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6.png" ContentType="image/png"/>
  <Override PartName="/ppt/media/image25.png" ContentType="image/png"/>
  <Override PartName="/ppt/media/image2.gif" ContentType="image/gif"/>
  <Override PartName="/ppt/media/image24.png" ContentType="image/png"/>
  <Override PartName="/ppt/media/image1.gif" ContentType="image/gif"/>
  <Override PartName="/ppt/media/image11.jpeg" ContentType="image/jpeg"/>
  <Override PartName="/ppt/media/image22.png" ContentType="image/png"/>
  <Override PartName="/ppt/media/image3.jpeg" ContentType="image/jpeg"/>
  <Override PartName="/ppt/media/image30.png" ContentType="image/png"/>
  <Override PartName="/ppt/media/image10.jpeg" ContentType="image/jpeg"/>
  <Override PartName="/ppt/media/image8.gif" ContentType="image/gif"/>
  <Override PartName="/ppt/media/image36.png" ContentType="image/png"/>
  <Override PartName="/ppt/media/image9.gif" ContentType="image/gif"/>
  <Override PartName="/ppt/media/image37.png" ContentType="image/png"/>
  <Override PartName="/ppt/media/image31.png" ContentType="image/png"/>
  <Override PartName="/ppt/media/image32.png" ContentType="image/png"/>
  <Override PartName="/ppt/media/image13.jpeg" ContentType="image/jpeg"/>
  <Override PartName="/ppt/media/image23.png" ContentType="image/png"/>
  <Override PartName="/ppt/media/image33.png" ContentType="image/png"/>
  <Override PartName="/ppt/media/image14.jpeg" ContentType="image/jpeg"/>
  <Override PartName="/ppt/media/image35.png" ContentType="image/png"/>
  <Override PartName="/ppt/media/image34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5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6.jpeg" ContentType="image/jpeg"/>
  <Override PartName="/ppt/media/image4.gif" ContentType="image/gif"/>
  <Override PartName="/ppt/media/image27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B3D1E-0C30-4CED-94ED-F1E4BFAFC9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68A86-45CC-495C-9114-5C8B92FA3F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C4CDC-9D4E-4604-A04C-4CAA5BEA33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FC285-6C20-43BF-A01B-7B393D5B89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FA26D-6CC5-43BD-B294-1E3B7B337A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8A1F2-E240-4BB8-B4DC-10DD4C5AE3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C44E2-0752-4D4D-A3FC-5D7B143ECC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D71E4-D769-4F1E-92CA-6AAB8B0398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4ECBF-BB34-4131-BEBD-AD3EDB8FA8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3DF34-C7D0-4877-8D88-A316A21F44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0BFA2-0A46-41D1-B655-8AFC02A2A9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2A607-D21D-4772-936A-767A213CC7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85B80-37EA-4F3D-A466-136A20386C4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4360" y="620640"/>
            <a:ext cx="7920000" cy="1513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99"/>
                    </a:gs>
                    <a:gs pos="100000">
                      <a:srgbClr val="ffffcc"/>
                    </a:gs>
                  </a:gsLst>
                  <a:lin ang="5400000"/>
                </a:gradFill>
                <a:latin typeface="Times New Roman"/>
              </a:rPr>
              <a:t>методический семина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99"/>
                  </a:gs>
                  <a:gs pos="100000">
                    <a:srgbClr val="ffffcc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6760" y="2421000"/>
            <a:ext cx="887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БЕРЕЖНАЯ НАТАЛЬЯ ВИКТ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432560" y="3789360"/>
            <a:ext cx="1711440" cy="2217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3500280"/>
            <a:ext cx="2362320" cy="18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419640" y="1890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МБОУ «СОШ№5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29280" y="5402160"/>
            <a:ext cx="2971080" cy="119124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иморский кр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Надеждинский рай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.Таврича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9640" y="630000"/>
            <a:ext cx="842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дущая технология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формационно - комуникационна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4844880"/>
            <a:ext cx="7848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Мыслительны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(представлен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2060640"/>
            <a:ext cx="789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Работа с источни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учебный словарь, учебник и т.д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3429000"/>
            <a:ext cx="87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Моделир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изображение, величины с помощь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хемы, рисунк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9280" y="2320920"/>
            <a:ext cx="1162080" cy="563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476360" y="2376360"/>
            <a:ext cx="1090800" cy="165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987640" y="2355840"/>
            <a:ext cx="1090800" cy="165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633920" y="2303640"/>
            <a:ext cx="1162080" cy="563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6443640" y="2303640"/>
            <a:ext cx="1162080" cy="563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7740720" y="2303640"/>
            <a:ext cx="1162080" cy="563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771640" y="2354400"/>
            <a:ext cx="1800" cy="1627200"/>
          </a:xfrm>
          <a:prstGeom prst="line">
            <a:avLst/>
          </a:prstGeom>
          <a:ln w="2844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83280" y="2367000"/>
            <a:ext cx="1440" cy="1612800"/>
          </a:xfrm>
          <a:prstGeom prst="line">
            <a:avLst/>
          </a:prstGeom>
          <a:ln w="2844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3240000"/>
            <a:ext cx="8723520" cy="1800"/>
          </a:xfrm>
          <a:prstGeom prst="line">
            <a:avLst/>
          </a:prstGeom>
          <a:ln w="2844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56000" y="2376360"/>
            <a:ext cx="1800" cy="1605240"/>
          </a:xfrm>
          <a:prstGeom prst="line">
            <a:avLst/>
          </a:prstGeom>
          <a:ln w="2844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3981600"/>
            <a:ext cx="8748720" cy="1440"/>
          </a:xfrm>
          <a:prstGeom prst="line">
            <a:avLst/>
          </a:prstGeom>
          <a:ln w="2844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3168720"/>
            <a:ext cx="1800" cy="1627200"/>
          </a:xfrm>
          <a:prstGeom prst="line">
            <a:avLst/>
          </a:prstGeom>
          <a:ln w="2844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83280" y="3181320"/>
            <a:ext cx="1440" cy="1612800"/>
          </a:xfrm>
          <a:prstGeom prst="line">
            <a:avLst/>
          </a:prstGeom>
          <a:ln w="2844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56000" y="3189240"/>
            <a:ext cx="1800" cy="1604880"/>
          </a:xfrm>
          <a:prstGeom prst="line">
            <a:avLst/>
          </a:prstGeom>
          <a:ln w="2844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4794120"/>
            <a:ext cx="8748720" cy="1800"/>
          </a:xfrm>
          <a:prstGeom prst="line">
            <a:avLst/>
          </a:prstGeom>
          <a:ln w="2844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9600" y="4070520"/>
            <a:ext cx="577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07240" y="4084560"/>
            <a:ext cx="577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81880" y="4081320"/>
            <a:ext cx="577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26720" y="4071960"/>
            <a:ext cx="378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6560" y="5626080"/>
            <a:ext cx="293760" cy="1440"/>
          </a:xfrm>
          <a:prstGeom prst="line">
            <a:avLst/>
          </a:prstGeom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6560" y="5765760"/>
            <a:ext cx="293760" cy="1800"/>
          </a:xfrm>
          <a:prstGeom prst="line">
            <a:avLst/>
          </a:prstGeom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6560" y="5905440"/>
            <a:ext cx="293760" cy="1800"/>
          </a:xfrm>
          <a:prstGeom prst="line">
            <a:avLst/>
          </a:prstGeom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6560" y="6046920"/>
            <a:ext cx="293760" cy="1440"/>
          </a:xfrm>
          <a:prstGeom prst="line">
            <a:avLst/>
          </a:prstGeom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83680" y="5626080"/>
            <a:ext cx="293760" cy="1440"/>
          </a:xfrm>
          <a:prstGeom prst="line">
            <a:avLst/>
          </a:prstGeom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3680" y="5765760"/>
            <a:ext cx="293760" cy="1800"/>
          </a:xfrm>
          <a:prstGeom prst="line">
            <a:avLst/>
          </a:prstGeom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3680" y="5905440"/>
            <a:ext cx="293760" cy="1800"/>
          </a:xfrm>
          <a:prstGeom prst="line">
            <a:avLst/>
          </a:prstGeom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3680" y="6046920"/>
            <a:ext cx="293760" cy="1440"/>
          </a:xfrm>
          <a:prstGeom prst="line">
            <a:avLst/>
          </a:prstGeom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6560" y="5516640"/>
            <a:ext cx="293760" cy="1440"/>
          </a:xfrm>
          <a:prstGeom prst="line">
            <a:avLst/>
          </a:prstGeom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6560" y="5411880"/>
            <a:ext cx="293760" cy="1440"/>
          </a:xfrm>
          <a:prstGeom prst="line">
            <a:avLst/>
          </a:prstGeom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3680" y="5516640"/>
            <a:ext cx="293760" cy="1440"/>
          </a:xfrm>
          <a:prstGeom prst="line">
            <a:avLst/>
          </a:prstGeom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3680" y="5411880"/>
            <a:ext cx="293760" cy="1440"/>
          </a:xfrm>
          <a:prstGeom prst="line">
            <a:avLst/>
          </a:prstGeom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09520" y="4537080"/>
            <a:ext cx="293760" cy="1440"/>
          </a:xfrm>
          <a:prstGeom prst="line">
            <a:avLst/>
          </a:prstGeom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98960" y="4537080"/>
            <a:ext cx="293400" cy="1440"/>
          </a:xfrm>
          <a:prstGeom prst="line">
            <a:avLst/>
          </a:prstGeom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16360" y="4537080"/>
            <a:ext cx="293760" cy="1440"/>
          </a:xfrm>
          <a:prstGeom prst="line">
            <a:avLst/>
          </a:prstGeom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41880" y="4537080"/>
            <a:ext cx="293760" cy="1440"/>
          </a:xfrm>
          <a:prstGeom prst="line">
            <a:avLst/>
          </a:prstGeom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33760" y="4556160"/>
            <a:ext cx="293760" cy="1440"/>
          </a:xfrm>
          <a:prstGeom prst="line">
            <a:avLst/>
          </a:prstGeom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76360" y="4546440"/>
            <a:ext cx="293760" cy="1800"/>
          </a:xfrm>
          <a:prstGeom prst="line">
            <a:avLst/>
          </a:prstGeom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24560" y="4537080"/>
            <a:ext cx="293760" cy="1440"/>
          </a:xfrm>
          <a:prstGeom prst="line">
            <a:avLst/>
          </a:prstGeom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840" y="4809960"/>
            <a:ext cx="11818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cc00cc"/>
                </a:solidFill>
                <a:latin typeface="Arial Narrow"/>
              </a:rPr>
              <a:t>деся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823160" y="4824360"/>
            <a:ext cx="12034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cc00cc"/>
                </a:solidFill>
                <a:latin typeface="Arial Narrow"/>
              </a:rPr>
              <a:t>еди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71760" y="5775480"/>
            <a:ext cx="19195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ВЕР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6160" y="44280"/>
            <a:ext cx="44863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рок 86. Числа от 10 до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07280" y="142920"/>
            <a:ext cx="1692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Times New Roman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80" y="590400"/>
            <a:ext cx="874872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ебята нарисовали модели чисел. Запиши их в порядке убывания.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дчеркни    в записи числа цифры в разряде десятков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зелёным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цветом, а цифры в разряде единиц – 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син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 fill="hold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 fill="hold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 fill="hold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 fill="hold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 fill="hold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21040" y="2622600"/>
            <a:ext cx="378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81480" y="2622600"/>
            <a:ext cx="378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81480" y="4070520"/>
            <a:ext cx="378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94040" y="4070520"/>
            <a:ext cx="378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97320" y="5654520"/>
            <a:ext cx="378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9280" y="765000"/>
            <a:ext cx="84963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.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омоги Кате найти значение выражений. Объясни ей, как надо счит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1917720"/>
            <a:ext cx="149400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8  + 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118880" y="2332080"/>
            <a:ext cx="835920" cy="802800"/>
            <a:chOff x="1118880" y="2332080"/>
            <a:chExt cx="835920" cy="802800"/>
          </a:xfrm>
        </p:grpSpPr>
        <p:sp>
          <p:nvSpPr>
            <p:cNvPr id="147" name=""/>
            <p:cNvSpPr/>
            <p:nvPr/>
          </p:nvSpPr>
          <p:spPr>
            <a:xfrm>
              <a:off x="1118880" y="2617920"/>
              <a:ext cx="37872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00206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76080" y="2617920"/>
              <a:ext cx="37872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00206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1309680" y="2332080"/>
              <a:ext cx="428760" cy="28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"/>
          <p:cNvSpPr/>
          <p:nvPr/>
        </p:nvSpPr>
        <p:spPr>
          <a:xfrm>
            <a:off x="539640" y="3357720"/>
            <a:ext cx="194940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7  +  4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116720" y="3862440"/>
            <a:ext cx="855720" cy="730440"/>
            <a:chOff x="1116720" y="3862440"/>
            <a:chExt cx="855720" cy="730440"/>
          </a:xfrm>
        </p:grpSpPr>
        <p:sp>
          <p:nvSpPr>
            <p:cNvPr id="152" name=""/>
            <p:cNvSpPr/>
            <p:nvPr/>
          </p:nvSpPr>
          <p:spPr>
            <a:xfrm>
              <a:off x="1593720" y="4075920"/>
              <a:ext cx="37872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00206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16720" y="4075920"/>
              <a:ext cx="37872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00206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1339200" y="3862440"/>
              <a:ext cx="426240" cy="27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"/>
          <p:cNvSpPr/>
          <p:nvPr/>
        </p:nvSpPr>
        <p:spPr>
          <a:xfrm>
            <a:off x="539640" y="4940280"/>
            <a:ext cx="20383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6  +  5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093320" y="5445000"/>
            <a:ext cx="907560" cy="732960"/>
            <a:chOff x="1093320" y="5445000"/>
            <a:chExt cx="907560" cy="732960"/>
          </a:xfrm>
        </p:grpSpPr>
        <p:sp>
          <p:nvSpPr>
            <p:cNvPr id="157" name=""/>
            <p:cNvSpPr/>
            <p:nvPr/>
          </p:nvSpPr>
          <p:spPr>
            <a:xfrm>
              <a:off x="1093320" y="5661000"/>
              <a:ext cx="37872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00206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2160" y="5661000"/>
              <a:ext cx="37872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2800" spc="-1" strike="noStrike">
                  <a:solidFill>
                    <a:srgbClr val="00206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3"/>
            <a:stretch/>
          </p:blipFill>
          <p:spPr>
            <a:xfrm>
              <a:off x="1360440" y="5445000"/>
              <a:ext cx="428760" cy="28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"/>
          <p:cNvSpPr/>
          <p:nvPr/>
        </p:nvSpPr>
        <p:spPr>
          <a:xfrm>
            <a:off x="530640" y="1909800"/>
            <a:ext cx="378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83920" y="1916280"/>
            <a:ext cx="388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71600" y="1917720"/>
            <a:ext cx="388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98520" y="1917720"/>
            <a:ext cx="388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0640" y="3357720"/>
            <a:ext cx="378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83920" y="3363840"/>
            <a:ext cx="388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73040" y="3365640"/>
            <a:ext cx="388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98520" y="3365640"/>
            <a:ext cx="388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27640" y="1917720"/>
            <a:ext cx="270180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0  +  1  =  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00720" y="3365640"/>
            <a:ext cx="270180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0  +  1  =  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0640" y="4940280"/>
            <a:ext cx="378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85720" y="4948200"/>
            <a:ext cx="388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22840" y="5654520"/>
            <a:ext cx="378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73040" y="4948200"/>
            <a:ext cx="388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00720" y="4948200"/>
            <a:ext cx="270180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0  +  1  =  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98520" y="4948200"/>
            <a:ext cx="388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1760" y="77760"/>
            <a:ext cx="521496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рок 88. Табличное с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018200" y="115920"/>
            <a:ext cx="1863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Times New Roman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 fill="hold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 -6 L 6.35838 -7 L 0.16145 0.00509 E">
                                      <p:cBhvr>
                                        <p:cTn id="78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 fill="hold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 fill="hold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 -7 L -4.39306 -6 L 0.18351 -0.09872 E">
                                      <p:cBhvr>
                                        <p:cTn id="90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 fill="hold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 fill="hold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 -6 L -4.39306 -6 L 0.21979 -0.09872 E">
                                      <p:cBhvr>
                                        <p:cTn id="102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 fill="hold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3000" fill="hold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 fill="hold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dur="indefinite" fill="hold">
                      <p:stCondLst>
                        <p:cond delay="indefinite"/>
                      </p:stCondLst>
                      <p:childTnLst>
                        <p:par>
                          <p:cTn id="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 fill="hold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 -6 L 6.35838 -7 L 0.16145 0.00509 E">
                                      <p:cBhvr>
                                        <p:cTn id="126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 fill="hold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 fill="hold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26 -0.00139 L 0.18577 -0.1 E">
                                      <p:cBhvr>
                                        <p:cTn id="138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 fill="hold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 -6 L -4.39306 -6 L 0.21979 -0.09872 E">
                                      <p:cBhvr>
                                        <p:cTn id="150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 fill="hold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dur="indefinite" fill="hold">
                      <p:stCondLst>
                        <p:cond delay="indefinite"/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3000" fill="hold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 fill="hold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dur="indefinite" fill="hold">
                      <p:stCondLst>
                        <p:cond delay="indefinite"/>
                      </p:stCondLst>
                      <p:childTnLst>
                        <p:par>
                          <p:cTn id="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 -6 L 6.35838 -7 L 0.16145 0.00509 E">
                                      <p:cBhvr>
                                        <p:cTn id="174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dur="indefinite" fill="hold">
                      <p:stCondLst>
                        <p:cond delay="indefinite"/>
                      </p:stCondLst>
                      <p:childTnLst>
                        <p:par>
                          <p:cTn id="1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 fill="hold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dur="indefinite" fill="hold">
                      <p:stCondLst>
                        <p:cond delay="indefinite"/>
                      </p:stCondLst>
                      <p:childTnLst>
                        <p:par>
                          <p:cTn id="1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 fill="hold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 -7 L -1.11111 -6 L 0.18351 -0.09861 E">
                                      <p:cBhvr>
                                        <p:cTn id="186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dur="indefinite" fill="hold">
                      <p:stCondLst>
                        <p:cond delay="indefinite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 fill="hold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dur="indefinite" fill="hold">
                      <p:stCondLst>
                        <p:cond delay="indefinite"/>
                      </p:stCondLst>
                      <p:childTnLst>
                        <p:par>
                          <p:cTn id="1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 -6 L -4.39306 -6 L 0.21979 -0.09872 E">
                                      <p:cBhvr>
                                        <p:cTn id="198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dur="indefinite" fill="hold">
                      <p:stCondLst>
                        <p:cond delay="indefinite"/>
                      </p:stCondLst>
                      <p:childTnLst>
                        <p:par>
                          <p:cTn id="2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 fill="hold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dur="indefinite" fill="hold">
                      <p:stCondLst>
                        <p:cond delay="indefinite"/>
                      </p:stCondLst>
                      <p:childTnLst>
                        <p:par>
                          <p:cTn id="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3000" fill="hold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932360" y="6032520"/>
            <a:ext cx="3887640" cy="13176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685800" cy="19256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581120" y="2522520"/>
            <a:ext cx="685800" cy="19256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20640" y="5013360"/>
            <a:ext cx="560520" cy="10191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1276200" y="5013360"/>
            <a:ext cx="560520" cy="10191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1924200" y="5013360"/>
            <a:ext cx="560160" cy="10191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2571840" y="5013360"/>
            <a:ext cx="560160" cy="1019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7"/>
          <a:stretch/>
        </p:blipFill>
        <p:spPr>
          <a:xfrm>
            <a:off x="3219480" y="5013360"/>
            <a:ext cx="560520" cy="10191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 flipH="1">
            <a:off x="4206960" y="2917800"/>
            <a:ext cx="17280" cy="3247920"/>
          </a:xfrm>
          <a:prstGeom prst="line">
            <a:avLst/>
          </a:prstGeom>
          <a:ln w="1908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63960" y="3911760"/>
            <a:ext cx="3888000" cy="13176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2022480"/>
            <a:ext cx="11509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4581360"/>
            <a:ext cx="11509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757920" y="3224160"/>
            <a:ext cx="18147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968720" y="3224160"/>
            <a:ext cx="1521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ЛЬЗ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975360" y="5373720"/>
            <a:ext cx="1376640" cy="576360"/>
          </a:xfrm>
          <a:prstGeom prst="rect">
            <a:avLst/>
          </a:prstGeom>
          <a:solidFill>
            <a:srgbClr val="00ffff">
              <a:alpha val="70000"/>
            </a:srgbClr>
          </a:solidFill>
          <a:ln w="1152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75360" y="5423040"/>
            <a:ext cx="1379520" cy="576000"/>
          </a:xfrm>
          <a:prstGeom prst="rect">
            <a:avLst/>
          </a:prstGeom>
          <a:solidFill>
            <a:srgbClr val="00ffff">
              <a:alpha val="70000"/>
            </a:srgbClr>
          </a:solidFill>
          <a:ln w="1152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4200" y="808200"/>
            <a:ext cx="86439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.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етя  просит тебя сравнить объём двух банок. В одну входит 5 стаканов, а в другую 2 бутылки. Можно ли выполнить задание Пе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19560" y="1998720"/>
            <a:ext cx="47401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анное задание можно выполнить интерактивно. Для этого презентацию надо перевести в режим редактиро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367160" y="4540320"/>
            <a:ext cx="47181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cc00cc"/>
                </a:solidFill>
                <a:latin typeface="Arial"/>
              </a:rPr>
              <a:t>Закрой неправильный отв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3440" y="44280"/>
            <a:ext cx="59389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рок 80. Величины. Объём. Ли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26360" y="142920"/>
            <a:ext cx="1692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Times New Roman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932360" y="6032520"/>
            <a:ext cx="3887640" cy="13176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685800" cy="19256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581120" y="2522520"/>
            <a:ext cx="685800" cy="1925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620640" y="5013360"/>
            <a:ext cx="560520" cy="1019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1276200" y="5013360"/>
            <a:ext cx="560520" cy="10191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1924200" y="5013360"/>
            <a:ext cx="560160" cy="10191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6"/>
          <a:stretch/>
        </p:blipFill>
        <p:spPr>
          <a:xfrm>
            <a:off x="2571840" y="5013360"/>
            <a:ext cx="560160" cy="10191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7"/>
          <a:stretch/>
        </p:blipFill>
        <p:spPr>
          <a:xfrm>
            <a:off x="3219480" y="5013360"/>
            <a:ext cx="560520" cy="10191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211640" y="2071800"/>
            <a:ext cx="1440" cy="4093920"/>
          </a:xfrm>
          <a:prstGeom prst="line">
            <a:avLst/>
          </a:prstGeom>
          <a:ln w="1908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63960" y="3911760"/>
            <a:ext cx="3888000" cy="13176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2022480"/>
            <a:ext cx="11509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4581360"/>
            <a:ext cx="11509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757920" y="3224160"/>
            <a:ext cx="18147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68720" y="3224160"/>
            <a:ext cx="1521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ЛЬЗ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75360" y="5373720"/>
            <a:ext cx="1376640" cy="576360"/>
          </a:xfrm>
          <a:prstGeom prst="rect">
            <a:avLst/>
          </a:prstGeom>
          <a:solidFill>
            <a:srgbClr val="00ffff">
              <a:alpha val="70000"/>
            </a:srgbClr>
          </a:solidFill>
          <a:ln w="1152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975360" y="5373720"/>
            <a:ext cx="1379520" cy="576360"/>
          </a:xfrm>
          <a:prstGeom prst="rect">
            <a:avLst/>
          </a:prstGeom>
          <a:solidFill>
            <a:srgbClr val="00ffff">
              <a:alpha val="75000"/>
            </a:srgbClr>
          </a:solidFill>
          <a:ln w="1152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367160" y="4540320"/>
            <a:ext cx="47181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cc00cc"/>
                </a:solidFill>
                <a:latin typeface="Arial"/>
              </a:rPr>
              <a:t>Закрой неправильный отв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3440" y="44280"/>
            <a:ext cx="59389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рок 80. Величины. Объём. Ли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326360" y="142920"/>
            <a:ext cx="1692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Times New Roman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4200" y="808200"/>
            <a:ext cx="86439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.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етя  просит тебя сравнить объём двух банок. В одну входит 5 стаканов, а в другую 2 бутылки. Можно ли выполнить задание Пе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dur="indefinite" fill="hold">
                      <p:stCondLst>
                        <p:cond delay="indefinite"/>
                      </p:stCondLst>
                      <p:childTnLst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 -6 L -2.96296 -6 L -0.03107 -0.32546 E">
                                      <p:cBhvr>
                                        <p:cTn id="214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77840" y="662040"/>
            <a:ext cx="8067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?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Что нужно сделать, чтобы выполнить это зада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685800" cy="19256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992240" y="3338640"/>
            <a:ext cx="560520" cy="10191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24000" y="2022480"/>
            <a:ext cx="11509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95600" y="2906640"/>
            <a:ext cx="11509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68360" y="1339920"/>
            <a:ext cx="53276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ыбрать одинаковую мерк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32000" y="2011320"/>
            <a:ext cx="6120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Arial"/>
              </a:rPr>
              <a:t>!</a:t>
            </a: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дна из мерок объёма -  1 литр (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7380360" y="2590920"/>
            <a:ext cx="1089000" cy="2709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3246480" y="2719440"/>
            <a:ext cx="1709640" cy="2481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5510160" y="2789280"/>
            <a:ext cx="1292400" cy="23414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928960" y="1870200"/>
            <a:ext cx="1440" cy="3431880"/>
          </a:xfrm>
          <a:prstGeom prst="line">
            <a:avLst/>
          </a:prstGeom>
          <a:ln w="2844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920" y="5351400"/>
            <a:ext cx="907416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Arial"/>
              </a:rPr>
              <a:t>!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Число, которое получаем при измерении объёма, - мера объё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63440" y="44280"/>
            <a:ext cx="59389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рок 80. Величины. Объём. Ли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326360" y="142920"/>
            <a:ext cx="1692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Times New Roman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 fill="hold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dur="indefinite" fill="hold">
                      <p:stCondLst>
                        <p:cond delay="indefinite"/>
                      </p:stCondLst>
                      <p:childTnLst>
                        <p:par>
                          <p:cTn id="2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 fill="hold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 fill="hold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dur="indefinite" fill="hold">
                      <p:stCondLst>
                        <p:cond delay="indefinite"/>
                      </p:stCondLst>
                      <p:childTnLst>
                        <p:par>
                          <p:cTn id="2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 fill="hold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dur="indefinite" fill="hold">
                      <p:stCondLst>
                        <p:cond delay="indefinite"/>
                      </p:stCondLst>
                      <p:childTnLst>
                        <p:par>
                          <p:cTn id="2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 fill="hold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dur="indefinite" fill="hold">
                      <p:stCondLst>
                        <p:cond delay="indefinite"/>
                      </p:stCondLst>
                      <p:childTnLst>
                        <p:par>
                          <p:cTn id="2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 fill="hold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16000" y="2276640"/>
            <a:ext cx="1440" cy="1152360"/>
          </a:xfrm>
          <a:prstGeom prst="line">
            <a:avLst/>
          </a:prstGeom>
          <a:ln w="76320">
            <a:solidFill>
              <a:srgbClr val="d163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16000" y="3645000"/>
            <a:ext cx="1440" cy="1152360"/>
          </a:xfrm>
          <a:prstGeom prst="line">
            <a:avLst/>
          </a:prstGeom>
          <a:ln w="76320">
            <a:solidFill>
              <a:srgbClr val="d163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36600" y="2232000"/>
            <a:ext cx="1152720" cy="1440"/>
          </a:xfrm>
          <a:prstGeom prst="line">
            <a:avLst/>
          </a:prstGeom>
          <a:ln w="76320">
            <a:solidFill>
              <a:srgbClr val="d163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58920" y="3500280"/>
            <a:ext cx="1152360" cy="1800"/>
          </a:xfrm>
          <a:prstGeom prst="line">
            <a:avLst/>
          </a:prstGeom>
          <a:ln w="76320">
            <a:solidFill>
              <a:srgbClr val="d163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58920" y="4797360"/>
            <a:ext cx="1152360" cy="1800"/>
          </a:xfrm>
          <a:prstGeom prst="line">
            <a:avLst/>
          </a:prstGeom>
          <a:ln w="76320">
            <a:solidFill>
              <a:srgbClr val="d163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2281320"/>
            <a:ext cx="1440" cy="1152360"/>
          </a:xfrm>
          <a:prstGeom prst="line">
            <a:avLst/>
          </a:prstGeom>
          <a:ln w="76320">
            <a:solidFill>
              <a:srgbClr val="d163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82920" y="3649680"/>
            <a:ext cx="1440" cy="1152360"/>
          </a:xfrm>
          <a:prstGeom prst="line">
            <a:avLst/>
          </a:prstGeom>
          <a:ln w="76320">
            <a:solidFill>
              <a:srgbClr val="d163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627280" y="2232000"/>
            <a:ext cx="1152720" cy="1440"/>
          </a:xfrm>
          <a:prstGeom prst="line">
            <a:avLst/>
          </a:prstGeom>
          <a:ln w="76320">
            <a:solidFill>
              <a:srgbClr val="d163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49600" y="3502080"/>
            <a:ext cx="1152360" cy="1440"/>
          </a:xfrm>
          <a:prstGeom prst="line">
            <a:avLst/>
          </a:prstGeom>
          <a:ln w="76320">
            <a:solidFill>
              <a:srgbClr val="d163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73600" y="2282760"/>
            <a:ext cx="1440" cy="1152720"/>
          </a:xfrm>
          <a:prstGeom prst="line">
            <a:avLst/>
          </a:prstGeom>
          <a:ln w="76320">
            <a:solidFill>
              <a:srgbClr val="d163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1760" y="77760"/>
            <a:ext cx="521496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рок 88. Табличное с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018200" y="115920"/>
            <a:ext cx="1863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Times New Roman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14200" y="5380200"/>
            <a:ext cx="871560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анное задание можно выполнить интерактивно. Для этого презентацию надо перевести в режим редактиро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08000" y="739800"/>
            <a:ext cx="8856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8*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ак переложить две палочки так, чтобы получилось два квад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170000" y="2254320"/>
            <a:ext cx="2637000" cy="2514600"/>
          </a:xfrm>
          <a:prstGeom prst="rect">
            <a:avLst/>
          </a:prstGeom>
          <a:solidFill>
            <a:srgbClr val="ffff00"/>
          </a:solidFill>
          <a:ln w="32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8000" y="739800"/>
            <a:ext cx="8856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8*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ак переложить две палочки так, чтобы получилось два квад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16000" y="2276640"/>
            <a:ext cx="1440" cy="1152360"/>
          </a:xfrm>
          <a:prstGeom prst="line">
            <a:avLst/>
          </a:prstGeom>
          <a:ln w="7632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16000" y="3645000"/>
            <a:ext cx="1440" cy="1152360"/>
          </a:xfrm>
          <a:prstGeom prst="line">
            <a:avLst/>
          </a:prstGeom>
          <a:ln w="7632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36600" y="2232000"/>
            <a:ext cx="1152720" cy="1440"/>
          </a:xfrm>
          <a:prstGeom prst="line">
            <a:avLst/>
          </a:prstGeom>
          <a:ln w="7632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58920" y="3500280"/>
            <a:ext cx="1152360" cy="1800"/>
          </a:xfrm>
          <a:prstGeom prst="line">
            <a:avLst/>
          </a:prstGeom>
          <a:ln w="7632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58920" y="4797360"/>
            <a:ext cx="1152360" cy="1800"/>
          </a:xfrm>
          <a:prstGeom prst="line">
            <a:avLst/>
          </a:prstGeom>
          <a:ln w="7632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82920" y="2281320"/>
            <a:ext cx="1440" cy="1152360"/>
          </a:xfrm>
          <a:prstGeom prst="line">
            <a:avLst/>
          </a:prstGeom>
          <a:ln w="7632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82920" y="3649680"/>
            <a:ext cx="1440" cy="1152360"/>
          </a:xfrm>
          <a:prstGeom prst="line">
            <a:avLst/>
          </a:prstGeom>
          <a:ln w="7632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627280" y="2232000"/>
            <a:ext cx="1152720" cy="1440"/>
          </a:xfrm>
          <a:prstGeom prst="line">
            <a:avLst/>
          </a:prstGeom>
          <a:ln w="7632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649600" y="3502080"/>
            <a:ext cx="1152360" cy="1440"/>
          </a:xfrm>
          <a:prstGeom prst="line">
            <a:avLst/>
          </a:prstGeom>
          <a:ln w="7632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73600" y="2282760"/>
            <a:ext cx="1440" cy="1152720"/>
          </a:xfrm>
          <a:prstGeom prst="line">
            <a:avLst/>
          </a:prstGeom>
          <a:ln w="7632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141560" y="2254320"/>
            <a:ext cx="1325520" cy="1201680"/>
          </a:xfrm>
          <a:prstGeom prst="rect">
            <a:avLst/>
          </a:prstGeom>
          <a:solidFill>
            <a:srgbClr val="92d050"/>
          </a:solidFill>
          <a:ln w="115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1760" y="77760"/>
            <a:ext cx="521496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рок 88. Табличное с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018200" y="115920"/>
            <a:ext cx="1863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Times New Roman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96120" y="4365720"/>
            <a:ext cx="19191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ВЕР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dur="indefinite" fill="hold">
                      <p:stCondLst>
                        <p:cond delay="indefinite"/>
                      </p:stCondLst>
                      <p:childTnLst>
                        <p:par>
                          <p:cTn id="2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 -6 L 1.85185 -6 L -0.00243 0.18889 E">
                                      <p:cBhvr>
                                        <p:cTn id="258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dur="indefinite" fill="hold">
                      <p:stCondLst>
                        <p:cond delay="indefinite"/>
                      </p:stCondLst>
                      <p:childTnLst>
                        <p:par>
                          <p:cTn id="2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 -6 L -3.7037 -6 L 0.15747 -0.00069 E">
                                      <p:cBhvr>
                                        <p:cTn id="262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dur="indefinite" fill="hold">
                      <p:stCondLst>
                        <p:cond delay="indefinite"/>
                      </p:stCondLst>
                      <p:childTnLst>
                        <p:par>
                          <p:cTn id="2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7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dur="indefinite" fill="hold">
                      <p:stCondLst>
                        <p:cond delay="indefinite"/>
                      </p:stCondLst>
                      <p:childTnLst>
                        <p:par>
                          <p:cTn id="2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2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81080" y="3786120"/>
            <a:ext cx="8786880" cy="63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ние!                     </a:t>
            </a:r>
            <a:r>
              <a:rPr b="0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анное задание можно выполнять интерактивно.  Во время демонстрации навести курсор на  нужную фигуру </a:t>
            </a:r>
            <a:r>
              <a:rPr b="0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 появления ладошки. Кликнуть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0280" y="749160"/>
            <a:ext cx="57499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6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еши задачи Кати и П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0280" y="1211400"/>
            <a:ext cx="86313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.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ова решил утром 1 задачу, а днём 3 задачи. Сколько ещё задач ему надо решить, если задали 11 задач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753000" y="2898720"/>
            <a:ext cx="4917960" cy="211320"/>
            <a:chOff x="3753000" y="2898720"/>
            <a:chExt cx="4917960" cy="211320"/>
          </a:xfrm>
        </p:grpSpPr>
        <p:sp>
          <p:nvSpPr>
            <p:cNvPr id="267" name=""/>
            <p:cNvSpPr/>
            <p:nvPr/>
          </p:nvSpPr>
          <p:spPr>
            <a:xfrm>
              <a:off x="3755520" y="2989440"/>
              <a:ext cx="4913640" cy="4680"/>
            </a:xfrm>
            <a:prstGeom prst="line">
              <a:avLst/>
            </a:prstGeom>
            <a:ln w="2844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53000" y="2898720"/>
              <a:ext cx="0" cy="211320"/>
            </a:xfrm>
            <a:prstGeom prst="line">
              <a:avLst/>
            </a:prstGeom>
            <a:ln w="2844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670960" y="2898720"/>
              <a:ext cx="0" cy="211320"/>
            </a:xfrm>
            <a:prstGeom prst="line">
              <a:avLst/>
            </a:prstGeom>
            <a:ln w="2844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777960" y="2900520"/>
            <a:ext cx="981000" cy="223560"/>
            <a:chOff x="777960" y="2900520"/>
            <a:chExt cx="981000" cy="223560"/>
          </a:xfrm>
        </p:grpSpPr>
        <p:sp>
          <p:nvSpPr>
            <p:cNvPr id="271" name=""/>
            <p:cNvSpPr/>
            <p:nvPr/>
          </p:nvSpPr>
          <p:spPr>
            <a:xfrm>
              <a:off x="780840" y="2989440"/>
              <a:ext cx="969840" cy="0"/>
            </a:xfrm>
            <a:prstGeom prst="line">
              <a:avLst/>
            </a:prstGeom>
            <a:ln w="2844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77960" y="2900520"/>
              <a:ext cx="0" cy="223560"/>
            </a:xfrm>
            <a:prstGeom prst="line">
              <a:avLst/>
            </a:prstGeom>
            <a:ln w="2844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758960" y="2900520"/>
              <a:ext cx="0" cy="223560"/>
            </a:xfrm>
            <a:prstGeom prst="line">
              <a:avLst/>
            </a:prstGeom>
            <a:ln w="2844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1763640" y="2909880"/>
            <a:ext cx="1984320" cy="214200"/>
            <a:chOff x="1763640" y="2909880"/>
            <a:chExt cx="1984320" cy="214200"/>
          </a:xfrm>
        </p:grpSpPr>
        <p:sp>
          <p:nvSpPr>
            <p:cNvPr id="275" name=""/>
            <p:cNvSpPr/>
            <p:nvPr/>
          </p:nvSpPr>
          <p:spPr>
            <a:xfrm>
              <a:off x="1769760" y="2994120"/>
              <a:ext cx="1968120" cy="0"/>
            </a:xfrm>
            <a:prstGeom prst="line">
              <a:avLst/>
            </a:prstGeom>
            <a:ln w="2844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63640" y="2909880"/>
              <a:ext cx="0" cy="214200"/>
            </a:xfrm>
            <a:prstGeom prst="line">
              <a:avLst/>
            </a:prstGeom>
            <a:ln w="2844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747960" y="2909880"/>
              <a:ext cx="0" cy="214200"/>
            </a:xfrm>
            <a:prstGeom prst="line">
              <a:avLst/>
            </a:prstGeom>
            <a:ln w="2844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541600" y="1209600"/>
            <a:ext cx="10731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т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493040" y="1581120"/>
            <a:ext cx="4287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463560" y="1206360"/>
            <a:ext cx="6609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 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062680" y="1211400"/>
            <a:ext cx="9396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нё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875200" y="1211400"/>
            <a:ext cx="6609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3 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282000" y="1581120"/>
            <a:ext cx="8298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1 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4575600" y="-1321920"/>
            <a:ext cx="274680" cy="7912080"/>
          </a:xfrm>
          <a:custGeom>
            <a:avLst/>
            <a:gdLst>
              <a:gd name="textAreaLeft" fmla="*/ 0 w 274680"/>
              <a:gd name="textAreaRight" fmla="*/ 192600 w 274680"/>
              <a:gd name="textAreaTop" fmla="*/ 329400 h 7912080"/>
              <a:gd name="textAreaBottom" fmla="*/ 7582680 h 791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2000" y="5842080"/>
            <a:ext cx="8802720" cy="1440"/>
          </a:xfrm>
          <a:prstGeom prst="line">
            <a:avLst/>
          </a:prstGeom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62000" y="4832280"/>
            <a:ext cx="752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Narrow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73160" y="5445000"/>
            <a:ext cx="29494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Ответ: 7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37200" y="4691160"/>
            <a:ext cx="25750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11 – 1 – 3 = 7 (з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37200" y="5153040"/>
            <a:ext cx="29592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11 – (1 + 3 ) = 7 (з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73920" y="4356000"/>
            <a:ext cx="26733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 Narrow"/>
              </a:rPr>
              <a:t>Выбери реше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433840" y="4253040"/>
            <a:ext cx="335916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56360" y="5870520"/>
            <a:ext cx="10540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це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450200" y="5873760"/>
            <a:ext cx="11462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453440" y="5877000"/>
            <a:ext cx="11458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53440" y="5877000"/>
            <a:ext cx="11458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46160" y="44280"/>
            <a:ext cx="69469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рок 87. Числа от 10 до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307280" y="142920"/>
            <a:ext cx="1692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Times New Roman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dur="indefinite" fill="hold">
                      <p:stCondLst>
                        <p:cond delay="indefinite"/>
                      </p:stCondLst>
                      <p:childTnLst>
                        <p:par>
                          <p:cTn id="2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 fill="hold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 fill="hold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 -7 L -7.40741 -7 L -0.28507 0.25903 E">
                                      <p:cBhvr>
                                        <p:cTn id="284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 -6 L -3.7037 -6 L -0.19097 0.19561 E">
                                      <p:cBhvr>
                                        <p:cTn id="286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dur="indefinite" fill="hold">
                      <p:stCondLst>
                        <p:cond delay="indefinite"/>
                      </p:stCondLst>
                      <p:childTnLst>
                        <p:par>
                          <p:cTn id="2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 fill="hold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 fill="hold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 -6 L 4.81481 -6 L -0.3177 0.19537 E">
                                      <p:cBhvr>
                                        <p:cTn id="296" dur="2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 -6 L 4.81481 -6 L -0.39914 0.25833 E">
                                      <p:cBhvr>
                                        <p:cTn id="298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dur="indefinite" fill="hold">
                      <p:stCondLst>
                        <p:cond delay="indefinite"/>
                      </p:stCondLst>
                      <p:childTnLst>
                        <p:par>
                          <p:cTn id="3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 fill="hold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 -6 L -3.7037 -7 L -0.22466 0.07847 E">
                                      <p:cBhvr>
                                        <p:cTn id="305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dur="indefinite" fill="hold">
                      <p:stCondLst>
                        <p:cond delay="indefinite"/>
                      </p:stCondLst>
                      <p:childTnLst>
                        <p:par>
                          <p:cTn id="3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 fill="hold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 -6 L -3.7037 -7 L -0.13021 0.2044 E">
                                      <p:cBhvr>
                                        <p:cTn id="312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dur="indefinite" fill="hold">
                      <p:stCondLst>
                        <p:cond delay="indefinite"/>
                      </p:stCondLst>
                      <p:childTnLst>
                        <p:par>
                          <p:cTn id="3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 -6 L -3.33333 -6 L -0.10486 -0.54699 E">
                                      <p:cBhvr>
                                        <p:cTn id="316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dur="indefinite" fill="hold">
                      <p:stCondLst>
                        <p:cond delay="indefinite"/>
                      </p:stCondLst>
                      <p:childTnLst>
                        <p:par>
                          <p:cTn id="3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 -6 L 7.40741 -7 L -0.74792 -0.36945 E">
                                      <p:cBhvr>
                                        <p:cTn id="320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dur="indefinite" fill="hold">
                      <p:stCondLst>
                        <p:cond delay="indefinite"/>
                      </p:stCondLst>
                      <p:childTnLst>
                        <p:par>
                          <p:cTn id="3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 -6 L 7.40741 -7 L -0.59045 -0.36945 E">
                                      <p:cBhvr>
                                        <p:cTn id="324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dur="indefinite" fill="hold">
                      <p:stCondLst>
                        <p:cond delay="indefinite"/>
                      </p:stCondLst>
                      <p:childTnLst>
                        <p:par>
                          <p:cTn id="3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 -7 L 3.7037 -6 L -0.15694 -0.36899 E">
                                      <p:cBhvr>
                                        <p:cTn id="328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dur="indefinite" fill="hold">
                      <p:stCondLst>
                        <p:cond delay="indefinite"/>
                      </p:stCondLst>
                      <p:childTnLst>
                        <p:par>
                          <p:cTn id="3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 fill="hold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500" fill="hold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dur="indefinite" fill="hold">
                      <p:stCondLst>
                        <p:cond delay="indefinite"/>
                      </p:stCondLst>
                      <p:childTnLst>
                        <p:par>
                          <p:cTn id="3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 fill="hold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dur="indefinite" fill="hold">
                      <p:stCondLst>
                        <p:cond delay="indefinite"/>
                      </p:stCondLst>
                      <p:childTnLst>
                        <p:par>
                          <p:cTn id="3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 fill="hold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dur="indefinite" restart="whenNotActive" nodeType="interactiveSeq" fill="hold">
                <p:childTnLst>
                  <p:par>
                    <p:cTn id="350" dur="indefinite" fill="hold">
                      <p:childTnLst>
                        <p:par>
                          <p:cTn id="3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 -6 L 2.96296 -6 L -0.54514 -0.00625 E">
                                      <p:cBhvr>
                                        <p:cTn id="353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dur="indefinite" restart="whenNotActive" nodeType="interactiveSeq" fill="hold">
                <p:childTnLst>
                  <p:par>
                    <p:cTn id="355" dur="indefinite" fill="hold">
                      <p:childTnLst>
                        <p:par>
                          <p:cTn id="3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 -6 L 1.85185 -6 L -0.55833 -0.00648 E">
                                      <p:cBhvr>
                                        <p:cTn id="358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60280" y="749160"/>
            <a:ext cx="57499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6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еши задачи Кати и П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0280" y="1211400"/>
            <a:ext cx="86313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.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У Кати в первом букете 3 цветка, во втором – 4 цветка, в третьем столько же, сколько в первом. Сколько всего цветков в трёх букет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722760" y="2871720"/>
            <a:ext cx="3309840" cy="214560"/>
            <a:chOff x="3722760" y="2871720"/>
            <a:chExt cx="3309840" cy="214560"/>
          </a:xfrm>
        </p:grpSpPr>
        <p:sp>
          <p:nvSpPr>
            <p:cNvPr id="301" name=""/>
            <p:cNvSpPr/>
            <p:nvPr/>
          </p:nvSpPr>
          <p:spPr>
            <a:xfrm>
              <a:off x="3724200" y="2962440"/>
              <a:ext cx="3308400" cy="7920"/>
            </a:xfrm>
            <a:prstGeom prst="line">
              <a:avLst/>
            </a:prstGeom>
            <a:ln w="2844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22760" y="2871720"/>
              <a:ext cx="0" cy="214560"/>
            </a:xfrm>
            <a:prstGeom prst="line">
              <a:avLst/>
            </a:prstGeom>
            <a:ln w="2844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032600" y="2871720"/>
              <a:ext cx="0" cy="214560"/>
            </a:xfrm>
            <a:prstGeom prst="line">
              <a:avLst/>
            </a:prstGeom>
            <a:ln w="2844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244520" y="4005360"/>
            <a:ext cx="2462400" cy="214200"/>
            <a:chOff x="1244520" y="4005360"/>
            <a:chExt cx="2462400" cy="214200"/>
          </a:xfrm>
        </p:grpSpPr>
        <p:sp>
          <p:nvSpPr>
            <p:cNvPr id="305" name=""/>
            <p:cNvSpPr/>
            <p:nvPr/>
          </p:nvSpPr>
          <p:spPr>
            <a:xfrm>
              <a:off x="1252080" y="4087800"/>
              <a:ext cx="2445120" cy="0"/>
            </a:xfrm>
            <a:prstGeom prst="line">
              <a:avLst/>
            </a:prstGeom>
            <a:ln w="2844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44520" y="4005360"/>
              <a:ext cx="0" cy="214200"/>
            </a:xfrm>
            <a:prstGeom prst="line">
              <a:avLst/>
            </a:prstGeom>
            <a:ln w="2844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706920" y="4005360"/>
              <a:ext cx="0" cy="214200"/>
            </a:xfrm>
            <a:prstGeom prst="line">
              <a:avLst/>
            </a:prstGeom>
            <a:ln w="2844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1258920" y="2879640"/>
            <a:ext cx="2462040" cy="214560"/>
            <a:chOff x="1258920" y="2879640"/>
            <a:chExt cx="2462040" cy="214560"/>
          </a:xfrm>
        </p:grpSpPr>
        <p:sp>
          <p:nvSpPr>
            <p:cNvPr id="309" name=""/>
            <p:cNvSpPr/>
            <p:nvPr/>
          </p:nvSpPr>
          <p:spPr>
            <a:xfrm>
              <a:off x="1266480" y="2963880"/>
              <a:ext cx="2444400" cy="0"/>
            </a:xfrm>
            <a:prstGeom prst="line">
              <a:avLst/>
            </a:prstGeom>
            <a:ln w="2844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58920" y="2879640"/>
              <a:ext cx="0" cy="214560"/>
            </a:xfrm>
            <a:prstGeom prst="line">
              <a:avLst/>
            </a:prstGeom>
            <a:ln w="2844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720960" y="2879640"/>
              <a:ext cx="0" cy="214560"/>
            </a:xfrm>
            <a:prstGeom prst="line">
              <a:avLst/>
            </a:prstGeom>
            <a:ln w="2844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2701800" y="1211400"/>
            <a:ext cx="279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50400" y="1146240"/>
            <a:ext cx="378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28880" y="1549440"/>
            <a:ext cx="478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148280" y="1243080"/>
            <a:ext cx="8575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3 ц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238880" y="1197000"/>
            <a:ext cx="8575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4 ц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763640" y="1568520"/>
            <a:ext cx="4464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столько же, сколько в пер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63640" y="3008160"/>
            <a:ext cx="968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3 ц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380360" y="2871720"/>
            <a:ext cx="287280" cy="1563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5400" y="0"/>
                  <a:pt x="10800" y="18750"/>
                  <a:pt x="10800" y="37500"/>
                </a:cubicBezTo>
                <a:lnTo>
                  <a:pt x="10800" y="12500"/>
                </a:lnTo>
                <a:cubicBezTo>
                  <a:pt x="10800" y="31250"/>
                  <a:pt x="16200" y="50000"/>
                  <a:pt x="21600" y="50000"/>
                </a:cubicBezTo>
                <a:cubicBezTo>
                  <a:pt x="16200" y="50000"/>
                  <a:pt x="10800" y="68750"/>
                  <a:pt x="10800" y="87500"/>
                </a:cubicBezTo>
                <a:lnTo>
                  <a:pt x="10800" y="-15900"/>
                </a:lnTo>
                <a:cubicBezTo>
                  <a:pt x="10800" y="285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22520" y="1917720"/>
            <a:ext cx="4287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63640" y="2997360"/>
            <a:ext cx="968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3 ц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951440" y="3095640"/>
            <a:ext cx="11210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+ 4 ц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638360" y="4135320"/>
            <a:ext cx="15066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+ 3 ц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92360" y="5127480"/>
            <a:ext cx="12902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= 10 ц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26920" y="5630760"/>
            <a:ext cx="42548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Ответ: 10 цвет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5400000">
            <a:off x="7914960" y="4692600"/>
            <a:ext cx="90360" cy="801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9fffff"/>
              </a:gs>
              <a:gs pos="100000">
                <a:srgbClr val="e2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616880" y="5035680"/>
            <a:ext cx="718920" cy="212760"/>
          </a:xfrm>
          <a:prstGeom prst="ellipse">
            <a:avLst/>
          </a:prstGeom>
          <a:gradFill rotWithShape="0">
            <a:gsLst>
              <a:gs pos="0">
                <a:srgbClr val="9fffff"/>
              </a:gs>
              <a:gs pos="100000">
                <a:srgbClr val="e2ffff"/>
              </a:gs>
            </a:gsLst>
            <a:lin ang="16200000"/>
          </a:gradFill>
          <a:ln w="1152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7637400" y="3240000"/>
            <a:ext cx="891720" cy="2277720"/>
            <a:chOff x="7637400" y="3240000"/>
            <a:chExt cx="891720" cy="2277720"/>
          </a:xfrm>
        </p:grpSpPr>
        <p:pic>
          <p:nvPicPr>
            <p:cNvPr id="329" name="" descr=""/>
            <p:cNvPicPr/>
            <p:nvPr/>
          </p:nvPicPr>
          <p:blipFill>
            <a:blip r:embed="rId1"/>
            <a:stretch/>
          </p:blipFill>
          <p:spPr>
            <a:xfrm>
              <a:off x="7637400" y="3595320"/>
              <a:ext cx="531720" cy="175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2"/>
            <a:stretch/>
          </p:blipFill>
          <p:spPr>
            <a:xfrm>
              <a:off x="7903440" y="3240000"/>
              <a:ext cx="531000" cy="175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" descr=""/>
            <p:cNvPicPr/>
            <p:nvPr/>
          </p:nvPicPr>
          <p:blipFill>
            <a:blip r:embed="rId3"/>
            <a:stretch/>
          </p:blipFill>
          <p:spPr>
            <a:xfrm>
              <a:off x="7997400" y="3765960"/>
              <a:ext cx="531720" cy="175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2" name=""/>
          <p:cNvGrpSpPr/>
          <p:nvPr/>
        </p:nvGrpSpPr>
        <p:grpSpPr>
          <a:xfrm>
            <a:off x="7864560" y="4014720"/>
            <a:ext cx="1076040" cy="1661760"/>
            <a:chOff x="7864560" y="4014720"/>
            <a:chExt cx="1076040" cy="1661760"/>
          </a:xfrm>
        </p:grpSpPr>
        <p:pic>
          <p:nvPicPr>
            <p:cNvPr id="333" name="" descr=""/>
            <p:cNvPicPr/>
            <p:nvPr/>
          </p:nvPicPr>
          <p:blipFill>
            <a:blip r:embed="rId4"/>
            <a:stretch/>
          </p:blipFill>
          <p:spPr>
            <a:xfrm>
              <a:off x="7980840" y="4014720"/>
              <a:ext cx="789480" cy="118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5"/>
            <a:stretch/>
          </p:blipFill>
          <p:spPr>
            <a:xfrm>
              <a:off x="7864560" y="4486320"/>
              <a:ext cx="789480" cy="119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6"/>
            <a:stretch/>
          </p:blipFill>
          <p:spPr>
            <a:xfrm>
              <a:off x="8151480" y="4326840"/>
              <a:ext cx="789120" cy="1189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6" name=""/>
          <p:cNvGrpSpPr/>
          <p:nvPr/>
        </p:nvGrpSpPr>
        <p:grpSpPr>
          <a:xfrm>
            <a:off x="7129440" y="3749760"/>
            <a:ext cx="1339200" cy="2111040"/>
            <a:chOff x="7129440" y="3749760"/>
            <a:chExt cx="1339200" cy="2111040"/>
          </a:xfrm>
        </p:grpSpPr>
        <p:pic>
          <p:nvPicPr>
            <p:cNvPr id="337" name="" descr=""/>
            <p:cNvPicPr/>
            <p:nvPr/>
          </p:nvPicPr>
          <p:blipFill>
            <a:blip r:embed="rId7"/>
            <a:stretch/>
          </p:blipFill>
          <p:spPr>
            <a:xfrm>
              <a:off x="7381800" y="3749760"/>
              <a:ext cx="926640" cy="15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8"/>
            <a:stretch/>
          </p:blipFill>
          <p:spPr>
            <a:xfrm>
              <a:off x="7542000" y="4012200"/>
              <a:ext cx="926640" cy="150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9"/>
            <a:stretch/>
          </p:blipFill>
          <p:spPr>
            <a:xfrm>
              <a:off x="7129440" y="4031640"/>
              <a:ext cx="926280" cy="150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0"/>
            <a:stretch/>
          </p:blipFill>
          <p:spPr>
            <a:xfrm>
              <a:off x="7386120" y="4360320"/>
              <a:ext cx="926640" cy="1500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1" name="" descr=""/>
          <p:cNvPicPr/>
          <p:nvPr/>
        </p:nvPicPr>
        <p:blipFill>
          <a:blip r:embed="rId11"/>
          <a:stretch/>
        </p:blipFill>
        <p:spPr>
          <a:xfrm>
            <a:off x="7383600" y="5121360"/>
            <a:ext cx="1533240" cy="133200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146160" y="44280"/>
            <a:ext cx="69469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рок 87. Числа от 10 до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308000" y="142920"/>
            <a:ext cx="1692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Times New Roman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dur="indefinite" fill="hold">
                      <p:stCondLst>
                        <p:cond delay="indefinite"/>
                      </p:stCondLst>
                      <p:childTnLst>
                        <p:par>
                          <p:cTn id="3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 fill="hold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 fill="hold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 -6 L 3.52601 -6 L -0.07847 0.17988 E">
                                      <p:cBhvr>
                                        <p:cTn id="372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 fill="hold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 -7 L 3.52601 -6 L -0.26042 0.243 E">
                                      <p:cBhvr>
                                        <p:cTn id="37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dur="indefinite" fill="hold">
                      <p:stCondLst>
                        <p:cond delay="indefinite"/>
                      </p:stCondLst>
                      <p:childTnLst>
                        <p:par>
                          <p:cTn id="3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 fill="hold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 fill="hold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 -6 L -3.46821 -7 L -0.11024 0.17827 E">
                                      <p:cBhvr>
                                        <p:cTn id="389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 fill="hold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 -6 L -3.46821 -7 L -0.26841 0.25179 E">
                                      <p:cBhvr>
                                        <p:cTn id="394" dur="2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dur="indefinite" fill="hold">
                      <p:stCondLst>
                        <p:cond delay="indefinite"/>
                      </p:stCondLst>
                      <p:childTnLst>
                        <p:par>
                          <p:cTn id="3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 fill="hold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 fill="hold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 -6 L 4.9711 -6 L 0.07795 0.29849 E">
                                      <p:cBhvr>
                                        <p:cTn id="406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 fill="hold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 -7 L 4.68208 -6 L -0.13385 0.39468 E">
                                      <p:cBhvr>
                                        <p:cTn id="411" dur="2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dur="indefinite" fill="hold">
                      <p:stCondLst>
                        <p:cond delay="indefinite"/>
                      </p:stCondLst>
                      <p:childTnLst>
                        <p:par>
                          <p:cTn id="4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 fill="hold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500" fill="hold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 -6 -1.50289 -6 L -1.66667 -6 0.17827">
                                      <p:cBhvr>
                                        <p:cTn id="421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dur="indefinite" fill="hold">
                      <p:stCondLst>
                        <p:cond delay="indefinite"/>
                      </p:stCondLst>
                      <p:childTnLst>
                        <p:par>
                          <p:cTn id="4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 fill="hold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 fill="hold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856 L 0.48021 0.23908 E">
                                      <p:cBhvr>
                                        <p:cTn id="433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dur="indefinite" fill="hold">
                      <p:stCondLst>
                        <p:cond delay="indefinite"/>
                      </p:stCondLst>
                      <p:childTnLst>
                        <p:par>
                          <p:cTn id="4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 fill="hold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2 -0.00208 L -0.11024 0.31237 E">
                                      <p:cBhvr>
                                        <p:cTn id="440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 fill="hold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 -7 L -2.25434 -6 L -0.37049 0.29827 E">
                                      <p:cBhvr>
                                        <p:cTn id="445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dur="indefinite" fill="hold">
                      <p:stCondLst>
                        <p:cond delay="indefinite"/>
                      </p:stCondLst>
                      <p:childTnLst>
                        <p:par>
                          <p:cTn id="4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 fill="hold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 -6 L 1.84971 -6 L 0.0967 0.14682 E">
                                      <p:cBhvr>
                                        <p:cTn id="452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dur="indefinite" fill="hold">
                      <p:stCondLst>
                        <p:cond delay="indefinite"/>
                      </p:stCondLst>
                      <p:childTnLst>
                        <p:par>
                          <p:cTn id="4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 fill="hold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dur="indefinite" fill="hold">
                      <p:stCondLst>
                        <p:cond delay="indefinite"/>
                      </p:stCondLst>
                      <p:childTnLst>
                        <p:par>
                          <p:cTn id="4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 fill="hold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dur="indefinite" fill="hold">
                      <p:stCondLst>
                        <p:cond delay="indefinite"/>
                      </p:stCondLst>
                      <p:childTnLst>
                        <p:par>
                          <p:cTn id="4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 fill="hold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 fill="hold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 fill="hold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 fill="hold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 fill="hold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48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 fill="hold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76360" y="49536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Универсальные учебные действия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4160" y="2657520"/>
            <a:ext cx="23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33440" y="4219920"/>
            <a:ext cx="24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гулятив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65800" y="3211560"/>
            <a:ext cx="297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муника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йств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72080" y="407556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знавательны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469520" y="1268280"/>
            <a:ext cx="876600" cy="1513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404800" y="1268280"/>
            <a:ext cx="804600" cy="309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16360" y="1557360"/>
            <a:ext cx="71640" cy="151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72120" y="1285920"/>
            <a:ext cx="1079640" cy="280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1484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516720" y="4653000"/>
            <a:ext cx="1871640" cy="160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"/>
          <p:cNvGrpSpPr/>
          <p:nvPr/>
        </p:nvGrpSpPr>
        <p:grpSpPr>
          <a:xfrm>
            <a:off x="431640" y="1841400"/>
            <a:ext cx="2697480" cy="2047680"/>
            <a:chOff x="431640" y="1841400"/>
            <a:chExt cx="2697480" cy="2047680"/>
          </a:xfrm>
        </p:grpSpPr>
        <p:sp>
          <p:nvSpPr>
            <p:cNvPr id="345" name=""/>
            <p:cNvSpPr/>
            <p:nvPr/>
          </p:nvSpPr>
          <p:spPr>
            <a:xfrm>
              <a:off x="431640" y="1841400"/>
              <a:ext cx="2697480" cy="1940040"/>
            </a:xfrm>
            <a:prstGeom prst="ellipse">
              <a:avLst/>
            </a:prstGeom>
            <a:gradFill rotWithShape="0">
              <a:gsLst>
                <a:gs pos="0">
                  <a:srgbClr val="95d0ff"/>
                </a:gs>
                <a:gs pos="100000">
                  <a:srgbClr val="dee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1640" y="2579040"/>
              <a:ext cx="2610000" cy="1310040"/>
            </a:xfrm>
            <a:prstGeom prst="ellipse">
              <a:avLst/>
            </a:prstGeom>
            <a:gradFill rotWithShape="0">
              <a:gsLst>
                <a:gs pos="0">
                  <a:srgbClr val="91dd9f"/>
                </a:gs>
                <a:gs pos="100000">
                  <a:srgbClr val="def3e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14200" y="606600"/>
            <a:ext cx="87505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7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У Катиной бабушки есть коза и корова. Коза даёт 6 л молока, а корова на 4 л молока больше. Сколько литров молока дают коза и корова вмес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548160" y="3641760"/>
            <a:ext cx="2500200" cy="1440"/>
          </a:xfrm>
          <a:prstGeom prst="line">
            <a:avLst/>
          </a:prstGeom>
          <a:ln w="28440">
            <a:solidFill>
              <a:srgbClr val="0070c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048360" y="3643200"/>
            <a:ext cx="1347840" cy="1800"/>
          </a:xfrm>
          <a:prstGeom prst="line">
            <a:avLst/>
          </a:prstGeom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48680" y="2948040"/>
            <a:ext cx="4287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00040" y="4437000"/>
            <a:ext cx="4716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048360" y="2719440"/>
            <a:ext cx="1440" cy="925560"/>
          </a:xfrm>
          <a:prstGeom prst="line">
            <a:avLst/>
          </a:prstGeom>
          <a:ln w="9360">
            <a:solidFill>
              <a:srgbClr val="0070c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549600" y="2647800"/>
            <a:ext cx="1800" cy="997200"/>
          </a:xfrm>
          <a:prstGeom prst="line">
            <a:avLst/>
          </a:prstGeom>
          <a:ln w="9360">
            <a:solidFill>
              <a:srgbClr val="0070c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731000" y="2557440"/>
            <a:ext cx="3286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5400" y="0"/>
                  <a:pt x="10800" y="18750"/>
                  <a:pt x="10800" y="37500"/>
                </a:cubicBezTo>
                <a:lnTo>
                  <a:pt x="10800" y="12500"/>
                </a:lnTo>
                <a:cubicBezTo>
                  <a:pt x="10800" y="31250"/>
                  <a:pt x="16200" y="50000"/>
                  <a:pt x="21600" y="50000"/>
                </a:cubicBezTo>
                <a:cubicBezTo>
                  <a:pt x="16200" y="50000"/>
                  <a:pt x="10800" y="68750"/>
                  <a:pt x="10800" y="87500"/>
                </a:cubicBezTo>
                <a:lnTo>
                  <a:pt x="10800" y="-15900"/>
                </a:lnTo>
                <a:cubicBezTo>
                  <a:pt x="10800" y="285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92120" y="5046840"/>
            <a:ext cx="5810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46120" y="5726160"/>
            <a:ext cx="37130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Ответ: 16 лит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548160" y="2647800"/>
            <a:ext cx="2498760" cy="1800"/>
          </a:xfrm>
          <a:prstGeom prst="line">
            <a:avLst/>
          </a:prstGeom>
          <a:ln w="28440">
            <a:solidFill>
              <a:srgbClr val="0070c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617840" y="1897200"/>
            <a:ext cx="1037880" cy="103824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371520" y="2416320"/>
            <a:ext cx="1763640" cy="17240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7657920" y="606600"/>
            <a:ext cx="6134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6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763720" y="950760"/>
            <a:ext cx="37083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столько же  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ещё 4 л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16200000">
            <a:off x="4703760" y="1233000"/>
            <a:ext cx="166680" cy="2468520"/>
          </a:xfrm>
          <a:custGeom>
            <a:avLst/>
            <a:gdLst>
              <a:gd name="textAreaLeft" fmla="*/ 0 w 166680"/>
              <a:gd name="textAreaRight" fmla="*/ 117000 w 166680"/>
              <a:gd name="textAreaTop" fmla="*/ 102600 h 2468520"/>
              <a:gd name="textAreaBottom" fmla="*/ 2365920 h 246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5400000">
            <a:off x="5388480" y="1967400"/>
            <a:ext cx="166680" cy="3851280"/>
          </a:xfrm>
          <a:custGeom>
            <a:avLst/>
            <a:gdLst>
              <a:gd name="textAreaLeft" fmla="*/ 0 w 166680"/>
              <a:gd name="textAreaRight" fmla="*/ 117000 w 166680"/>
              <a:gd name="textAreaTop" fmla="*/ 160200 h 3851280"/>
              <a:gd name="textAreaBottom" fmla="*/ 3691080 h 38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16200000">
            <a:off x="6653160" y="2796840"/>
            <a:ext cx="181080" cy="1409400"/>
          </a:xfrm>
          <a:custGeom>
            <a:avLst/>
            <a:gdLst>
              <a:gd name="textAreaLeft" fmla="*/ 0 w 181080"/>
              <a:gd name="textAreaRight" fmla="*/ 127080 w 181080"/>
              <a:gd name="textAreaTop" fmla="*/ 58680 h 1409400"/>
              <a:gd name="textAreaBottom" fmla="*/ 1350720 h 14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447960" y="2951280"/>
            <a:ext cx="6134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4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37120" y="3976560"/>
            <a:ext cx="4287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592880" y="3116160"/>
            <a:ext cx="607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6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92880" y="1897200"/>
            <a:ext cx="607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6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448680" y="2967120"/>
            <a:ext cx="877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+ 4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408040" y="4437000"/>
            <a:ext cx="1040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= 10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664000" y="4406760"/>
            <a:ext cx="900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10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673520" y="3971880"/>
            <a:ext cx="11937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+ 10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0000" y="5018040"/>
            <a:ext cx="11592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= 16(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46160" y="44280"/>
            <a:ext cx="44863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рок 86. Числа от 10 до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308000" y="142920"/>
            <a:ext cx="16923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Times New Roman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dur="indefinite" fill="hold">
                      <p:stCondLst>
                        <p:cond delay="indefinite"/>
                      </p:stCondLst>
                      <p:childTnLst>
                        <p:par>
                          <p:cTn id="4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 fill="hold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dur="indefinite" fill="hold">
                      <p:stCondLst>
                        <p:cond delay="indefinite"/>
                      </p:stCondLst>
                      <p:childTnLst>
                        <p:par>
                          <p:cTn id="5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dur="indefinite" fill="hold">
                      <p:stCondLst>
                        <p:cond delay="indefinite"/>
                      </p:stCondLst>
                      <p:childTnLst>
                        <p:par>
                          <p:cTn id="5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dur="indefinite" fill="hold">
                      <p:stCondLst>
                        <p:cond delay="indefinite"/>
                      </p:stCondLst>
                      <p:childTnLst>
                        <p:par>
                          <p:cTn id="5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-2147483648">
                                      <p:cBhvr>
                                        <p:cTn id="51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147483648">
                                      <p:cBhvr>
                                        <p:cTn id="51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147483648">
                                      <p:cBhvr>
                                        <p:cTn id="51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147483648">
                                      <p:cBhvr>
                                        <p:cTn id="51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147483648">
                                      <p:cBhvr>
                                        <p:cTn id="51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dur="indefinite" fill="hold">
                      <p:stCondLst>
                        <p:cond delay="indefinite"/>
                      </p:stCondLst>
                      <p:childTnLst>
                        <p:par>
                          <p:cTn id="5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 fill="hold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dur="indefinite" fill="hold">
                      <p:stCondLst>
                        <p:cond delay="indefinite"/>
                      </p:stCondLst>
                      <p:childTnLst>
                        <p:par>
                          <p:cTn id="5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 fill="hold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 -6 L 2.10916 -6 L -0.3316 0.18894 E">
                                      <p:cBhvr>
                                        <p:cTn id="532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 fill="hold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dur="indefinite" fill="hold">
                      <p:stCondLst>
                        <p:cond delay="indefinite"/>
                      </p:stCondLst>
                      <p:childTnLst>
                        <p:par>
                          <p:cTn id="5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-2147483648">
                                      <p:cBhvr>
                                        <p:cTn id="53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147483648">
                                      <p:cBhvr>
                                        <p:cTn id="54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147483648">
                                      <p:cBhvr>
                                        <p:cTn id="54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147483648">
                                      <p:cBhvr>
                                        <p:cTn id="54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147483648">
                                      <p:cBhvr>
                                        <p:cTn id="5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dur="indefinite" fill="hold">
                      <p:stCondLst>
                        <p:cond delay="indefinite"/>
                      </p:stCondLst>
                      <p:childTnLst>
                        <p:par>
                          <p:cTn id="5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 fill="hold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 fill="hold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dur="indefinite" fill="hold">
                      <p:stCondLst>
                        <p:cond delay="indefinite"/>
                      </p:stCondLst>
                      <p:childTnLst>
                        <p:par>
                          <p:cTn id="5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 fill="hold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 -6 L -2.90472 -6 L 0.13664 0.30643 E">
                                      <p:cBhvr>
                                        <p:cTn id="562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 fill="hold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 fill="hold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 fill="hold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 fill="hold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 fill="hold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dur="indefinite" fill="hold">
                      <p:stCondLst>
                        <p:cond delay="indefinite"/>
                      </p:stCondLst>
                      <p:childTnLst>
                        <p:par>
                          <p:cTn id="5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1" dur="500" fill="hold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 fill="hold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dur="indefinite" fill="hold">
                      <p:stCondLst>
                        <p:cond delay="indefinite"/>
                      </p:stCondLst>
                      <p:childTnLst>
                        <p:par>
                          <p:cTn id="5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 fill="hold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" fill="hold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dur="indefinite" fill="hold">
                      <p:stCondLst>
                        <p:cond delay="indefinite"/>
                      </p:stCondLst>
                      <p:childTnLst>
                        <p:par>
                          <p:cTn id="5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dur="indefinite" fill="hold">
                      <p:stCondLst>
                        <p:cond delay="indefinite"/>
                      </p:stCondLst>
                      <p:childTnLst>
                        <p:par>
                          <p:cTn id="6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 fill="hold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dur="indefinite" fill="hold">
                      <p:stCondLst>
                        <p:cond delay="indefinite"/>
                      </p:stCondLst>
                      <p:childTnLst>
                        <p:par>
                          <p:cTn id="6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500" fill="hold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 -6 L -1.56337 -6 L -0.40556 0.19033 E">
                                      <p:cBhvr>
                                        <p:cTn id="615" dur="2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dur="indefinite" fill="hold">
                      <p:stCondLst>
                        <p:cond delay="indefinite"/>
                      </p:stCondLst>
                      <p:childTnLst>
                        <p:par>
                          <p:cTn id="6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 fill="hold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 -6 L -4.6901 -6 L -0.54445 0.21531 E">
                                      <p:cBhvr>
                                        <p:cTn id="622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dur="indefinite" fill="hold">
                      <p:stCondLst>
                        <p:cond delay="indefinite"/>
                      </p:stCondLst>
                      <p:childTnLst>
                        <p:par>
                          <p:cTn id="6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500" fill="hold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dur="indefinite" fill="hold">
                      <p:stCondLst>
                        <p:cond delay="indefinite"/>
                      </p:stCondLst>
                      <p:childTnLst>
                        <p:par>
                          <p:cTn id="6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500" fill="hold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 -6 L -3.33333 -6 L 0.2283 -0.05532 E">
                                      <p:cBhvr>
                                        <p:cTn id="634" dur="2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6" dur="500" fill="hold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dur="indefinite" fill="hold">
                      <p:stCondLst>
                        <p:cond delay="indefinite"/>
                      </p:stCondLst>
                      <p:childTnLst>
                        <p:par>
                          <p:cTn id="6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1" dur="500" fill="hold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dur="indefinite" fill="hold">
                      <p:stCondLst>
                        <p:cond delay="indefinite"/>
                      </p:stCondLst>
                      <p:childTnLst>
                        <p:par>
                          <p:cTn id="6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dur="indefinite" fill="hold">
                      <p:stCondLst>
                        <p:cond delay="indefinite"/>
                      </p:stCondLst>
                      <p:childTnLst>
                        <p:par>
                          <p:cTn id="6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500" fill="hold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dur="indefinite" fill="hold">
                      <p:stCondLst>
                        <p:cond delay="indefinite"/>
                      </p:stCondLst>
                      <p:childTnLst>
                        <p:par>
                          <p:cTn id="6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500" fill="hold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0093 L -0.40156 0.45324 E">
                                      <p:cBhvr>
                                        <p:cTn id="664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dur="indefinite" fill="hold">
                      <p:stCondLst>
                        <p:cond delay="indefinite"/>
                      </p:stCondLst>
                      <p:childTnLst>
                        <p:par>
                          <p:cTn id="6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500" fill="hold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 -6 L 7.40741 -7 L -0.35521 0.14977 E">
                                      <p:cBhvr>
                                        <p:cTn id="671" dur="2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dur="indefinite" fill="hold">
                      <p:stCondLst>
                        <p:cond delay="indefinite"/>
                      </p:stCondLst>
                      <p:childTnLst>
                        <p:par>
                          <p:cTn id="6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500" fill="hold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dur="indefinite" fill="hold">
                      <p:stCondLst>
                        <p:cond delay="indefinite"/>
                      </p:stCondLst>
                      <p:childTnLst>
                        <p:par>
                          <p:cTn id="6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 fill="hold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237960" y="1693800"/>
          <a:ext cx="5486400" cy="4686480"/>
        </p:xfrm>
        <a:graphic>
          <a:graphicData uri="http://schemas.openxmlformats.org/drawingml/2006/table">
            <a:tbl>
              <a:tblPr/>
              <a:tblGrid>
                <a:gridCol w="548640"/>
                <a:gridCol w="548640"/>
                <a:gridCol w="548640"/>
                <a:gridCol w="548640"/>
                <a:gridCol w="548640"/>
                <a:gridCol w="548640"/>
                <a:gridCol w="548640"/>
                <a:gridCol w="548640"/>
                <a:gridCol w="548280"/>
                <a:gridCol w="549000"/>
              </a:tblGrid>
              <a:tr h="445680"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</a:tr>
              <a:tr h="471240"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"/>
          <p:cNvSpPr/>
          <p:nvPr/>
        </p:nvSpPr>
        <p:spPr>
          <a:xfrm>
            <a:off x="179280" y="549360"/>
            <a:ext cx="87854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зови слагаемые чисел, которые Петя обвел кружками одинакового цвета. Что о них можно сказ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378160" y="2138400"/>
            <a:ext cx="465120" cy="46512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93800" y="3540240"/>
            <a:ext cx="465120" cy="46512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186520" y="2133720"/>
            <a:ext cx="465120" cy="465120"/>
          </a:xfrm>
          <a:prstGeom prst="ellipse">
            <a:avLst/>
          </a:prstGeom>
          <a:noFill/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826920" y="5916600"/>
            <a:ext cx="465480" cy="465120"/>
          </a:xfrm>
          <a:prstGeom prst="ellipse">
            <a:avLst/>
          </a:prstGeom>
          <a:noFill/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987640" y="3068640"/>
            <a:ext cx="465120" cy="465120"/>
          </a:xfrm>
          <a:prstGeom prst="ellips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874880" y="4005360"/>
            <a:ext cx="465120" cy="465120"/>
          </a:xfrm>
          <a:prstGeom prst="ellipse">
            <a:avLst/>
          </a:prstGeom>
          <a:noFill/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56360" y="1749600"/>
            <a:ext cx="16556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 + 4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156360" y="2247840"/>
            <a:ext cx="16556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4 + 1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56360" y="3405240"/>
            <a:ext cx="16556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1 + 9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156360" y="3903840"/>
            <a:ext cx="16556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9 + 1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156360" y="4940280"/>
            <a:ext cx="16556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3 + 5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156360" y="5438880"/>
            <a:ext cx="16556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5 + 3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0" name=""/>
          <p:cNvCxnSpPr/>
          <p:nvPr/>
        </p:nvCxnSpPr>
        <p:spPr>
          <a:xfrm flipV="1" rot="10800000">
            <a:off x="754920" y="2369880"/>
            <a:ext cx="1856520" cy="2160"/>
          </a:xfrm>
          <a:prstGeom prst="bentConnector3">
            <a:avLst>
              <a:gd name="adj1" fmla="val 50000"/>
            </a:avLst>
          </a:prstGeom>
          <a:ln w="28440">
            <a:solidFill>
              <a:srgbClr val="ff0000"/>
            </a:solidFill>
            <a:round/>
            <a:tailEnd len="med" type="triangle" w="med"/>
          </a:ln>
        </p:spPr>
      </p:cxnSp>
      <p:cxnSp>
        <p:nvCxnSpPr>
          <p:cNvPr id="391" name=""/>
          <p:cNvCxnSpPr/>
          <p:nvPr/>
        </p:nvCxnSpPr>
        <p:spPr>
          <a:xfrm flipV="1">
            <a:off x="2611440" y="2138040"/>
            <a:ext cx="2160" cy="227520"/>
          </a:xfrm>
          <a:prstGeom prst="bentConnector3">
            <a:avLst>
              <a:gd name="adj1" fmla="val 40000"/>
            </a:avLst>
          </a:prstGeom>
          <a:ln w="28440">
            <a:solidFill>
              <a:srgbClr val="ff0000"/>
            </a:solidFill>
            <a:round/>
            <a:tailEnd len="med" type="triangle" w="med"/>
          </a:ln>
        </p:spPr>
      </p:cxnSp>
      <p:cxnSp>
        <p:nvCxnSpPr>
          <p:cNvPr id="392" name=""/>
          <p:cNvCxnSpPr/>
          <p:nvPr/>
        </p:nvCxnSpPr>
        <p:spPr>
          <a:xfrm flipV="1" rot="10800000">
            <a:off x="591480" y="3771720"/>
            <a:ext cx="308520" cy="2160"/>
          </a:xfrm>
          <a:prstGeom prst="bentConnector3">
            <a:avLst>
              <a:gd name="adj1" fmla="val 50000"/>
            </a:avLst>
          </a:prstGeom>
          <a:ln w="28440">
            <a:solidFill>
              <a:srgbClr val="ff0000"/>
            </a:solidFill>
            <a:round/>
            <a:tailEnd len="med" type="triangle" w="med"/>
          </a:ln>
        </p:spPr>
      </p:cxnSp>
      <p:cxnSp>
        <p:nvCxnSpPr>
          <p:cNvPr id="393" name=""/>
          <p:cNvCxnSpPr/>
          <p:nvPr/>
        </p:nvCxnSpPr>
        <p:spPr>
          <a:xfrm flipV="1">
            <a:off x="1026720" y="2131200"/>
            <a:ext cx="2520" cy="1639080"/>
          </a:xfrm>
          <a:prstGeom prst="bentConnector3">
            <a:avLst>
              <a:gd name="adj1" fmla="val 50000"/>
            </a:avLst>
          </a:prstGeom>
          <a:ln w="28440">
            <a:solidFill>
              <a:srgbClr val="ff0000"/>
            </a:solidFill>
            <a:round/>
            <a:tailEnd len="med" type="triangle" w="med"/>
          </a:ln>
        </p:spPr>
      </p:cxnSp>
      <p:cxnSp>
        <p:nvCxnSpPr>
          <p:cNvPr id="394" name=""/>
          <p:cNvCxnSpPr/>
          <p:nvPr/>
        </p:nvCxnSpPr>
        <p:spPr>
          <a:xfrm flipV="1" rot="10800000">
            <a:off x="754920" y="2364840"/>
            <a:ext cx="4609080" cy="5760"/>
          </a:xfrm>
          <a:prstGeom prst="bentConnector3">
            <a:avLst>
              <a:gd name="adj1" fmla="val 50000"/>
            </a:avLst>
          </a:prstGeom>
          <a:ln w="28440">
            <a:solidFill>
              <a:srgbClr val="00b050"/>
            </a:solidFill>
            <a:round/>
            <a:tailEnd len="med" type="triangle" w="med"/>
          </a:ln>
        </p:spPr>
      </p:cxnSp>
      <p:cxnSp>
        <p:nvCxnSpPr>
          <p:cNvPr id="395" name=""/>
          <p:cNvCxnSpPr/>
          <p:nvPr/>
        </p:nvCxnSpPr>
        <p:spPr>
          <a:xfrm flipV="1">
            <a:off x="5363640" y="2131200"/>
            <a:ext cx="2520" cy="227880"/>
          </a:xfrm>
          <a:prstGeom prst="bentConnector3">
            <a:avLst>
              <a:gd name="adj1" fmla="val 50000"/>
            </a:avLst>
          </a:prstGeom>
          <a:ln w="28440">
            <a:solidFill>
              <a:srgbClr val="00b050"/>
            </a:solidFill>
            <a:round/>
            <a:tailEnd len="med" type="triangle" w="med"/>
          </a:ln>
        </p:spPr>
      </p:cxnSp>
      <p:cxnSp>
        <p:nvCxnSpPr>
          <p:cNvPr id="396" name=""/>
          <p:cNvCxnSpPr/>
          <p:nvPr/>
        </p:nvCxnSpPr>
        <p:spPr>
          <a:xfrm flipV="1" rot="10800000">
            <a:off x="639000" y="6149520"/>
            <a:ext cx="308880" cy="2520"/>
          </a:xfrm>
          <a:prstGeom prst="bentConnector3">
            <a:avLst>
              <a:gd name="adj1" fmla="val 49941"/>
            </a:avLst>
          </a:prstGeom>
          <a:ln w="28440">
            <a:solidFill>
              <a:srgbClr val="00b050"/>
            </a:solidFill>
            <a:round/>
            <a:tailEnd len="med" type="triangle" w="med"/>
          </a:ln>
        </p:spPr>
      </p:cxnSp>
      <p:cxnSp>
        <p:nvCxnSpPr>
          <p:cNvPr id="397" name=""/>
          <p:cNvCxnSpPr/>
          <p:nvPr/>
        </p:nvCxnSpPr>
        <p:spPr>
          <a:xfrm rot="10800000">
            <a:off x="1026360" y="2208960"/>
            <a:ext cx="19800" cy="3722040"/>
          </a:xfrm>
          <a:prstGeom prst="bentConnector3">
            <a:avLst>
              <a:gd name="adj1" fmla="val 50000"/>
            </a:avLst>
          </a:prstGeom>
          <a:ln w="28440">
            <a:solidFill>
              <a:srgbClr val="00b050"/>
            </a:solidFill>
            <a:round/>
            <a:tailEnd len="med" type="triangle" w="med"/>
          </a:ln>
        </p:spPr>
      </p:cxnSp>
      <p:cxnSp>
        <p:nvCxnSpPr>
          <p:cNvPr id="398" name=""/>
          <p:cNvCxnSpPr/>
          <p:nvPr/>
        </p:nvCxnSpPr>
        <p:spPr>
          <a:xfrm flipV="1" rot="10800000">
            <a:off x="745560" y="3311280"/>
            <a:ext cx="2272320" cy="2160"/>
          </a:xfrm>
          <a:prstGeom prst="bentConnector3">
            <a:avLst>
              <a:gd name="adj1" fmla="val 49992"/>
            </a:avLst>
          </a:prstGeom>
          <a:ln w="28440">
            <a:solidFill>
              <a:srgbClr val="0070c0"/>
            </a:solidFill>
            <a:round/>
            <a:tailEnd len="med" type="triangle" w="med"/>
          </a:ln>
        </p:spPr>
      </p:cxnSp>
      <p:cxnSp>
        <p:nvCxnSpPr>
          <p:cNvPr id="399" name=""/>
          <p:cNvCxnSpPr/>
          <p:nvPr/>
        </p:nvCxnSpPr>
        <p:spPr>
          <a:xfrm flipV="1">
            <a:off x="3219480" y="2137680"/>
            <a:ext cx="2160" cy="981720"/>
          </a:xfrm>
          <a:prstGeom prst="bentConnector3">
            <a:avLst>
              <a:gd name="adj1" fmla="val 40000"/>
            </a:avLst>
          </a:prstGeom>
          <a:ln w="28440">
            <a:solidFill>
              <a:srgbClr val="0070c0"/>
            </a:solidFill>
            <a:round/>
            <a:tailEnd len="med" type="triangle" w="med"/>
          </a:ln>
        </p:spPr>
      </p:cxnSp>
      <p:cxnSp>
        <p:nvCxnSpPr>
          <p:cNvPr id="400" name=""/>
          <p:cNvCxnSpPr/>
          <p:nvPr/>
        </p:nvCxnSpPr>
        <p:spPr>
          <a:xfrm flipV="1" rot="10800000">
            <a:off x="754920" y="4247640"/>
            <a:ext cx="1119960" cy="18360"/>
          </a:xfrm>
          <a:prstGeom prst="bentConnector3">
            <a:avLst>
              <a:gd name="adj1" fmla="val 50000"/>
            </a:avLst>
          </a:prstGeom>
          <a:ln w="28440">
            <a:solidFill>
              <a:srgbClr val="0070c0"/>
            </a:solidFill>
            <a:round/>
            <a:tailEnd len="med" type="triangle" w="med"/>
          </a:ln>
        </p:spPr>
      </p:cxnSp>
      <p:cxnSp>
        <p:nvCxnSpPr>
          <p:cNvPr id="401" name=""/>
          <p:cNvCxnSpPr/>
          <p:nvPr/>
        </p:nvCxnSpPr>
        <p:spPr>
          <a:xfrm flipV="1">
            <a:off x="2123640" y="2138040"/>
            <a:ext cx="2520" cy="1891440"/>
          </a:xfrm>
          <a:prstGeom prst="bentConnector3">
            <a:avLst>
              <a:gd name="adj1" fmla="val 50000"/>
            </a:avLst>
          </a:prstGeom>
          <a:ln w="28440">
            <a:solidFill>
              <a:srgbClr val="0070c0"/>
            </a:solidFill>
            <a:round/>
            <a:tailEnd len="med" type="triangle" w="med"/>
          </a:ln>
        </p:spPr>
      </p:cxnSp>
      <p:sp>
        <p:nvSpPr>
          <p:cNvPr id="402" name=""/>
          <p:cNvSpPr/>
          <p:nvPr/>
        </p:nvSpPr>
        <p:spPr>
          <a:xfrm>
            <a:off x="131760" y="77760"/>
            <a:ext cx="521496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рок 53. Таблица с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018560" y="115920"/>
            <a:ext cx="1863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Times New Roman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dur="indefinite" fill="hold">
                      <p:stCondLst>
                        <p:cond delay="indefinite"/>
                      </p:stCondLst>
                      <p:childTnLst>
                        <p:par>
                          <p:cTn id="6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dur="indefinite" fill="hold">
                      <p:stCondLst>
                        <p:cond delay="indefinite"/>
                      </p:stCondLst>
                      <p:childTnLst>
                        <p:par>
                          <p:cTn id="6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2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3000" fill="hold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dur="indefinite" fill="hold">
                      <p:stCondLst>
                        <p:cond delay="indefinite"/>
                      </p:stCondLst>
                      <p:childTnLst>
                        <p:par>
                          <p:cTn id="6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500" fill="hold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dur="indefinite" fill="hold">
                      <p:stCondLst>
                        <p:cond delay="indefinite"/>
                      </p:stCondLst>
                      <p:childTnLst>
                        <p:par>
                          <p:cTn id="7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4" dur="500" fill="hold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7" dur="500" fill="hold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dur="indefinite" fill="hold">
                      <p:stCondLst>
                        <p:cond delay="indefinite"/>
                      </p:stCondLst>
                      <p:childTnLst>
                        <p:par>
                          <p:cTn id="7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dur="indefinite" fill="hold">
                      <p:stCondLst>
                        <p:cond delay="indefinite"/>
                      </p:stCondLst>
                      <p:childTnLst>
                        <p:par>
                          <p:cTn id="7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7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3000" fill="hold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dur="indefinite" fill="hold">
                      <p:stCondLst>
                        <p:cond delay="indefinite"/>
                      </p:stCondLst>
                      <p:childTnLst>
                        <p:par>
                          <p:cTn id="7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500" fill="hold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dur="indefinite" fill="hold">
                      <p:stCondLst>
                        <p:cond delay="indefinite"/>
                      </p:stCondLst>
                      <p:childTnLst>
                        <p:par>
                          <p:cTn id="7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9" dur="500" fill="hold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2" dur="500" fill="hold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dur="indefinite" fill="hold">
                      <p:stCondLst>
                        <p:cond delay="indefinite"/>
                      </p:stCondLst>
                      <p:childTnLst>
                        <p:par>
                          <p:cTn id="7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6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dur="indefinite" fill="hold">
                      <p:stCondLst>
                        <p:cond delay="indefinite"/>
                      </p:stCondLst>
                      <p:childTnLst>
                        <p:par>
                          <p:cTn id="7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2" dur="2000" fill="hold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3000" fill="hold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dur="indefinite" fill="hold">
                      <p:stCondLst>
                        <p:cond delay="indefinite"/>
                      </p:stCondLst>
                      <p:childTnLst>
                        <p:par>
                          <p:cTn id="7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500" fill="hold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dur="indefinite" fill="hold">
                      <p:stCondLst>
                        <p:cond delay="indefinite"/>
                      </p:stCondLst>
                      <p:childTnLst>
                        <p:par>
                          <p:cTn id="7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4" dur="500" fill="hold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7" dur="500" fill="hold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dur="indefinite" fill="hold">
                      <p:stCondLst>
                        <p:cond delay="indefinite"/>
                      </p:stCondLst>
                      <p:childTnLst>
                        <p:par>
                          <p:cTn id="7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dur="indefinite" fill="hold">
                      <p:stCondLst>
                        <p:cond delay="indefinite"/>
                      </p:stCondLst>
                      <p:childTnLst>
                        <p:par>
                          <p:cTn id="7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7" dur="2000" fill="hold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3000" fill="hold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dur="indefinite" fill="hold">
                      <p:stCondLst>
                        <p:cond delay="indefinite"/>
                      </p:stCondLst>
                      <p:childTnLst>
                        <p:par>
                          <p:cTn id="7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500" fill="hold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dur="indefinite" fill="hold">
                      <p:stCondLst>
                        <p:cond delay="indefinite"/>
                      </p:stCondLst>
                      <p:childTnLst>
                        <p:par>
                          <p:cTn id="7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9" dur="500" fill="hold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2" dur="500" fill="hold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dur="indefinite" fill="hold">
                      <p:stCondLst>
                        <p:cond delay="indefinite"/>
                      </p:stCondLst>
                      <p:childTnLst>
                        <p:par>
                          <p:cTn id="7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dur="indefinite" fill="hold">
                      <p:stCondLst>
                        <p:cond delay="indefinite"/>
                      </p:stCondLst>
                      <p:childTnLst>
                        <p:par>
                          <p:cTn id="7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2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3000" fill="hold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dur="indefinite" fill="hold">
                      <p:stCondLst>
                        <p:cond delay="indefinite"/>
                      </p:stCondLst>
                      <p:childTnLst>
                        <p:par>
                          <p:cTn id="7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500" fill="hold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dur="indefinite" fill="hold">
                      <p:stCondLst>
                        <p:cond delay="indefinite"/>
                      </p:stCondLst>
                      <p:childTnLst>
                        <p:par>
                          <p:cTn id="8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4" dur="500" fill="hold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7" dur="500" fill="hold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dur="indefinite" fill="hold">
                      <p:stCondLst>
                        <p:cond delay="indefinite"/>
                      </p:stCondLst>
                      <p:childTnLst>
                        <p:par>
                          <p:cTn id="8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1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dur="indefinite" fill="hold">
                      <p:stCondLst>
                        <p:cond delay="indefinite"/>
                      </p:stCondLst>
                      <p:childTnLst>
                        <p:par>
                          <p:cTn id="8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7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3000" fill="hold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dur="indefinite" fill="hold">
                      <p:stCondLst>
                        <p:cond delay="indefinite"/>
                      </p:stCondLst>
                      <p:childTnLst>
                        <p:par>
                          <p:cTn id="8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 fill="hold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dur="indefinite" fill="hold">
                      <p:stCondLst>
                        <p:cond delay="indefinite"/>
                      </p:stCondLst>
                      <p:childTnLst>
                        <p:par>
                          <p:cTn id="8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9" dur="500" fill="hold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2" dur="500" fill="hold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4" name=""/>
          <p:cNvGraphicFramePr/>
          <p:nvPr/>
        </p:nvGraphicFramePr>
        <p:xfrm>
          <a:off x="237960" y="1693800"/>
          <a:ext cx="5486400" cy="4686480"/>
        </p:xfrm>
        <a:graphic>
          <a:graphicData uri="http://schemas.openxmlformats.org/drawingml/2006/table">
            <a:tbl>
              <a:tblPr/>
              <a:tblGrid>
                <a:gridCol w="548640"/>
                <a:gridCol w="548640"/>
                <a:gridCol w="548640"/>
                <a:gridCol w="548640"/>
                <a:gridCol w="548640"/>
                <a:gridCol w="548640"/>
                <a:gridCol w="548640"/>
                <a:gridCol w="548640"/>
                <a:gridCol w="548280"/>
                <a:gridCol w="549000"/>
              </a:tblGrid>
              <a:tr h="445680"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</a:tr>
              <a:tr h="471240"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397"/>
                    </a:solidFill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633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600" rIns="84600" tIns="57960" bIns="4212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5" name=""/>
          <p:cNvSpPr/>
          <p:nvPr/>
        </p:nvSpPr>
        <p:spPr>
          <a:xfrm>
            <a:off x="179280" y="500040"/>
            <a:ext cx="87854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йди по таблице значения выра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715080" y="1785960"/>
            <a:ext cx="1000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4 +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31760" y="77760"/>
            <a:ext cx="521496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рок 53. Таблица с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018560" y="115920"/>
            <a:ext cx="1863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Times New Roman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715080" y="2428920"/>
            <a:ext cx="1000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2 +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715080" y="3071880"/>
            <a:ext cx="1000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3 +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79280" y="857160"/>
            <a:ext cx="878544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Arial"/>
              </a:rPr>
              <a:t>Найди суммы с такими же слагаемыми в синей части таблицы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79280" y="1197000"/>
            <a:ext cx="8785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Arial"/>
              </a:rPr>
              <a:t>Назови слагаемые сумм из желтой и синей частей таблицы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929200" y="3571920"/>
            <a:ext cx="3000600" cy="28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анное задание можно выполнить интерактив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ля этого в режиме демонстрации воспользоваться </a:t>
            </a:r>
            <a:r>
              <a:rPr b="0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струментом «выделение» или  «фломастер»</a:t>
            </a:r>
            <a:r>
              <a:rPr b="0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ожно использо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ифры на магнитиках</a:t>
            </a:r>
            <a:r>
              <a:rPr b="0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dur="indefinite" fill="hold">
                      <p:stCondLst>
                        <p:cond delay="0"/>
                      </p:stCondLst>
                      <p:childTnLst>
                        <p:par>
                          <p:cTn id="8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 fill="hold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dur="indefinite" fill="hold">
                      <p:stCondLst>
                        <p:cond delay="indefinite"/>
                      </p:stCondLst>
                      <p:childTnLst>
                        <p:par>
                          <p:cTn id="8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 fill="hold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dur="indefinite" fill="hold">
                      <p:stCondLst>
                        <p:cond delay="indefinite"/>
                      </p:stCondLst>
                      <p:childTnLst>
                        <p:par>
                          <p:cTn id="8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 fill="hold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" name=""/>
          <p:cNvGraphicFramePr/>
          <p:nvPr/>
        </p:nvGraphicFramePr>
        <p:xfrm>
          <a:off x="1523880" y="1397160"/>
          <a:ext cx="6096240" cy="411480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45684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69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+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69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+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tIns="669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tIns="669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69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+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69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+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tIns="669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69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+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69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+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tIns="669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69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+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69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+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69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+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69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+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5" name=""/>
          <p:cNvSpPr/>
          <p:nvPr/>
        </p:nvSpPr>
        <p:spPr>
          <a:xfrm>
            <a:off x="285840" y="738360"/>
            <a:ext cx="867888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Чтобы Пете выучить таблицу, надо ли запоминать её  всю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547640" y="1844640"/>
            <a:ext cx="697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2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487600" y="1860480"/>
            <a:ext cx="697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568680" y="2276640"/>
            <a:ext cx="697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552680" y="2276640"/>
            <a:ext cx="697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3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593880" y="2781360"/>
            <a:ext cx="697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573280" y="2781360"/>
            <a:ext cx="697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3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835320" y="1398600"/>
            <a:ext cx="3499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835320" y="1887480"/>
            <a:ext cx="3499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835320" y="2349360"/>
            <a:ext cx="3499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835320" y="2809800"/>
            <a:ext cx="3499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835320" y="3235320"/>
            <a:ext cx="3499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835320" y="3700440"/>
            <a:ext cx="3499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835320" y="4162320"/>
            <a:ext cx="3499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835320" y="4622760"/>
            <a:ext cx="3499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751800" y="5084640"/>
            <a:ext cx="5191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517760" y="1382760"/>
            <a:ext cx="697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1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552680" y="2751120"/>
            <a:ext cx="697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4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522680" y="2797200"/>
            <a:ext cx="697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576680" y="3238560"/>
            <a:ext cx="697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560680" y="3213000"/>
            <a:ext cx="697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4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6680" y="3700440"/>
            <a:ext cx="697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3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568680" y="3700440"/>
            <a:ext cx="697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4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584680" y="3247920"/>
            <a:ext cx="697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565280" y="3236760"/>
            <a:ext cx="697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5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603760" y="3710160"/>
            <a:ext cx="697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60680" y="3672000"/>
            <a:ext cx="697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5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605560" y="4149720"/>
            <a:ext cx="697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3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581280" y="4149720"/>
            <a:ext cx="697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5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610240" y="4595760"/>
            <a:ext cx="697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4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576680" y="4610160"/>
            <a:ext cx="6973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5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1512720" y="1414440"/>
          <a:ext cx="978120" cy="4103640"/>
        </p:xfrm>
        <a:graphic>
          <a:graphicData uri="http://schemas.openxmlformats.org/drawingml/2006/table">
            <a:tbl>
              <a:tblPr/>
              <a:tblGrid>
                <a:gridCol w="978120"/>
              </a:tblGrid>
              <a:tr h="45576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</a:tr>
              <a:tr h="45612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</a:tr>
              <a:tr h="45576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</a:tr>
              <a:tr h="45612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</a:tr>
              <a:tr h="45576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</a:tr>
              <a:tr h="45612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</a:tr>
              <a:tr h="45576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</a:tr>
              <a:tr h="45612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</a:tr>
              <a:tr h="45612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2533680" y="1870200"/>
          <a:ext cx="977760" cy="3647880"/>
        </p:xfrm>
        <a:graphic>
          <a:graphicData uri="http://schemas.openxmlformats.org/drawingml/2006/table">
            <a:tbl>
              <a:tblPr/>
              <a:tblGrid>
                <a:gridCol w="977760"/>
              </a:tblGrid>
              <a:tr h="45576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612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576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612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612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576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612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612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3554280" y="2325600"/>
          <a:ext cx="978120" cy="3192480"/>
        </p:xfrm>
        <a:graphic>
          <a:graphicData uri="http://schemas.openxmlformats.org/drawingml/2006/table">
            <a:tbl>
              <a:tblPr/>
              <a:tblGrid>
                <a:gridCol w="978120"/>
              </a:tblGrid>
              <a:tr h="45576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5612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5612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5612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5612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5612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5612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9" name=""/>
          <p:cNvGraphicFramePr/>
          <p:nvPr/>
        </p:nvGraphicFramePr>
        <p:xfrm>
          <a:off x="4575240" y="2781360"/>
          <a:ext cx="977760" cy="2735280"/>
        </p:xfrm>
        <a:graphic>
          <a:graphicData uri="http://schemas.openxmlformats.org/drawingml/2006/table">
            <a:tbl>
              <a:tblPr/>
              <a:tblGrid>
                <a:gridCol w="977760"/>
              </a:tblGrid>
              <a:tr h="45576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99b3"/>
                    </a:solidFill>
                  </a:tcPr>
                </a:tc>
              </a:tr>
              <a:tr h="45576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99b3"/>
                    </a:solidFill>
                  </a:tcPr>
                </a:tc>
              </a:tr>
              <a:tr h="45612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99b3"/>
                    </a:solidFill>
                  </a:tcPr>
                </a:tc>
              </a:tr>
              <a:tr h="45576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99b3"/>
                    </a:solidFill>
                  </a:tcPr>
                </a:tc>
              </a:tr>
              <a:tr h="45576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99b3"/>
                    </a:solidFill>
                  </a:tcPr>
                </a:tc>
              </a:tr>
              <a:tr h="45612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99b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0" name=""/>
          <p:cNvGraphicFramePr/>
          <p:nvPr/>
        </p:nvGraphicFramePr>
        <p:xfrm>
          <a:off x="5595840" y="3238560"/>
          <a:ext cx="978120" cy="2279520"/>
        </p:xfrm>
        <a:graphic>
          <a:graphicData uri="http://schemas.openxmlformats.org/drawingml/2006/table">
            <a:tbl>
              <a:tblPr/>
              <a:tblGrid>
                <a:gridCol w="978120"/>
              </a:tblGrid>
              <a:tr h="45576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3650d"/>
                    </a:solidFill>
                  </a:tcPr>
                </a:tc>
              </a:tr>
              <a:tr h="45576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3650d"/>
                    </a:solidFill>
                  </a:tcPr>
                </a:tc>
              </a:tr>
              <a:tr h="45612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3650d"/>
                    </a:solidFill>
                  </a:tcPr>
                </a:tc>
              </a:tr>
              <a:tr h="45576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3650d"/>
                    </a:solidFill>
                  </a:tcPr>
                </a:tc>
              </a:tr>
              <a:tr h="45612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3650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6618240" y="1414440"/>
          <a:ext cx="978120" cy="4103640"/>
        </p:xfrm>
        <a:graphic>
          <a:graphicData uri="http://schemas.openxmlformats.org/drawingml/2006/table">
            <a:tbl>
              <a:tblPr/>
              <a:tblGrid>
                <a:gridCol w="978120"/>
              </a:tblGrid>
              <a:tr h="45576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</a:tr>
              <a:tr h="45612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</a:tr>
              <a:tr h="45576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</a:tr>
              <a:tr h="45612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</a:tr>
              <a:tr h="45576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</a:tr>
              <a:tr h="45612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</a:tr>
              <a:tr h="45576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</a:tr>
              <a:tr h="45612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</a:tr>
              <a:tr h="45612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3e7ff"/>
                    </a:solidFill>
                  </a:tcPr>
                </a:tc>
              </a:tr>
            </a:tbl>
          </a:graphicData>
        </a:graphic>
      </p:graphicFrame>
      <p:sp>
        <p:nvSpPr>
          <p:cNvPr id="452" name=""/>
          <p:cNvSpPr/>
          <p:nvPr/>
        </p:nvSpPr>
        <p:spPr>
          <a:xfrm>
            <a:off x="131760" y="77760"/>
            <a:ext cx="521496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рок 53. Таблица с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018560" y="115920"/>
            <a:ext cx="1863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Times New Roman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dur="indefinite" fill="hold">
                      <p:stCondLst>
                        <p:cond delay="indefinite"/>
                      </p:stCondLst>
                      <p:childTnLst>
                        <p:par>
                          <p:cTn id="8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5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56" dur="5000" fill="hold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dur="indefinite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59" dur="5000" fill="hold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dur="indefinite" fill="hold">
                      <p:stCondLst>
                        <p:cond delay="indefinite"/>
                      </p:stCondLst>
                      <p:childTnLst>
                        <p:par>
                          <p:cTn id="8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3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64" dur="5000" fill="hold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dur="indefinite" fill="hold">
                      <p:stCondLst>
                        <p:cond delay="indefinite"/>
                      </p:stCondLst>
                      <p:childTnLst>
                        <p:par>
                          <p:cTn id="8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8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0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1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dur="indefinite" fill="hold">
                      <p:stCondLst>
                        <p:cond delay="indefinite"/>
                      </p:stCondLst>
                      <p:childTnLst>
                        <p:par>
                          <p:cTn id="8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5" dur="500" fill="hold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dur="indefinite" fill="hold">
                      <p:stCondLst>
                        <p:cond delay="indefinite"/>
                      </p:stCondLst>
                      <p:childTnLst>
                        <p:par>
                          <p:cTn id="8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9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80" dur="5000" fill="hold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dur="indefinite" fill="hold">
                      <p:stCondLst>
                        <p:cond delay="indefinite"/>
                      </p:stCondLst>
                      <p:childTnLst>
                        <p:par>
                          <p:cTn id="8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4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dur="indefinite" fill="hold">
                      <p:stCondLst>
                        <p:cond delay="indefinite"/>
                      </p:stCondLst>
                      <p:childTnLst>
                        <p:par>
                          <p:cTn id="8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1" dur="500" fill="hold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dur="indefinite" fill="hold">
                      <p:stCondLst>
                        <p:cond delay="indefinite"/>
                      </p:stCondLst>
                      <p:childTnLst>
                        <p:par>
                          <p:cTn id="8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5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dur="indefinite" fill="hold">
                      <p:stCondLst>
                        <p:cond delay="indefinite"/>
                      </p:stCondLst>
                      <p:childTnLst>
                        <p:par>
                          <p:cTn id="9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2" dur="500" fill="hold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dur="indefinite" fill="hold">
                      <p:stCondLst>
                        <p:cond delay="indefinite"/>
                      </p:stCondLst>
                      <p:childTnLst>
                        <p:par>
                          <p:cTn id="9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6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07" dur="5000" fill="hold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dur="indefinite" fill="hold">
                      <p:stCondLst>
                        <p:cond delay="indefinite"/>
                      </p:stCondLst>
                      <p:childTnLst>
                        <p:par>
                          <p:cTn id="9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1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2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3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dur="indefinite" fill="hold">
                      <p:stCondLst>
                        <p:cond delay="indefinite"/>
                      </p:stCondLst>
                      <p:childTnLst>
                        <p:par>
                          <p:cTn id="9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8" dur="500" fill="hold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dur="indefinite" fill="hold">
                      <p:stCondLst>
                        <p:cond delay="indefinite"/>
                      </p:stCondLst>
                      <p:childTnLst>
                        <p:par>
                          <p:cTn id="9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2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dur="indefinite" fill="hold">
                      <p:stCondLst>
                        <p:cond delay="indefinite"/>
                      </p:stCondLst>
                      <p:childTnLst>
                        <p:par>
                          <p:cTn id="9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9" dur="500" fill="hold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dur="indefinite" fill="hold">
                      <p:stCondLst>
                        <p:cond delay="indefinite"/>
                      </p:stCondLst>
                      <p:childTnLst>
                        <p:par>
                          <p:cTn id="9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3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4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dur="indefinite" fill="hold">
                      <p:stCondLst>
                        <p:cond delay="indefinite"/>
                      </p:stCondLst>
                      <p:childTnLst>
                        <p:par>
                          <p:cTn id="9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0" dur="500" fill="hold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dur="indefinite" fill="hold">
                      <p:stCondLst>
                        <p:cond delay="indefinite"/>
                      </p:stCondLst>
                      <p:childTnLst>
                        <p:par>
                          <p:cTn id="9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4" dur="indefinite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45" dur="5000" fill="hold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dur="indefinite" fill="hold">
                      <p:stCondLst>
                        <p:cond delay="indefinite"/>
                      </p:stCondLst>
                      <p:childTnLst>
                        <p:par>
                          <p:cTn id="9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9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0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1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2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dur="indefinite" fill="hold">
                      <p:stCondLst>
                        <p:cond delay="indefinite"/>
                      </p:stCondLst>
                      <p:childTnLst>
                        <p:par>
                          <p:cTn id="9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6" dur="500" fill="hold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dur="indefinite" fill="hold">
                      <p:stCondLst>
                        <p:cond delay="indefinite"/>
                      </p:stCondLst>
                      <p:childTnLst>
                        <p:par>
                          <p:cTn id="9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0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6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2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63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dur="indefinite" fill="hold">
                      <p:stCondLst>
                        <p:cond delay="indefinite"/>
                      </p:stCondLst>
                      <p:childTnLst>
                        <p:par>
                          <p:cTn id="9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7" dur="500" fill="hold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dur="indefinite" fill="hold">
                      <p:stCondLst>
                        <p:cond delay="indefinite"/>
                      </p:stCondLst>
                      <p:childTnLst>
                        <p:par>
                          <p:cTn id="9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1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2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3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4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dur="indefinite" fill="hold">
                      <p:stCondLst>
                        <p:cond delay="indefinite"/>
                      </p:stCondLst>
                      <p:childTnLst>
                        <p:par>
                          <p:cTn id="9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8" dur="500" fill="hold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dur="indefinite" fill="hold">
                      <p:stCondLst>
                        <p:cond delay="indefinite"/>
                      </p:stCondLst>
                      <p:childTnLst>
                        <p:par>
                          <p:cTn id="9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2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3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4" dur="indefinite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dur="indefinite" fill="hold">
                      <p:stCondLst>
                        <p:cond delay="indefinite"/>
                      </p:stCondLst>
                      <p:childTnLst>
                        <p:par>
                          <p:cTn id="9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9" dur="500" fill="hold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1042920" y="1052640"/>
            <a:ext cx="2952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7 + 3  - 2 – 2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042920" y="1847880"/>
            <a:ext cx="2952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3 + 3 + 1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042920" y="2732040"/>
            <a:ext cx="2952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5 + 5  –  1 – 1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042920" y="3592440"/>
            <a:ext cx="2952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6 + 1  +  3  – 1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042920" y="4475160"/>
            <a:ext cx="2952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5 + 1  +  2  + 2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76280" y="1052640"/>
            <a:ext cx="397080" cy="516960"/>
          </a:xfrm>
          <a:prstGeom prst="rect">
            <a:avLst/>
          </a:pr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41360" y="1859040"/>
            <a:ext cx="436680" cy="516960"/>
          </a:xfrm>
          <a:prstGeom prst="rect">
            <a:avLst/>
          </a:pr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70160" y="2732040"/>
            <a:ext cx="416880" cy="516960"/>
          </a:xfrm>
          <a:prstGeom prst="rect">
            <a:avLst/>
          </a:pr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71600" y="3600360"/>
            <a:ext cx="435240" cy="516960"/>
          </a:xfrm>
          <a:prstGeom prst="rect">
            <a:avLst/>
          </a:pr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84200" y="4437000"/>
            <a:ext cx="372600" cy="516960"/>
          </a:xfrm>
          <a:prstGeom prst="rect">
            <a:avLst/>
          </a:pr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71600" y="1052640"/>
            <a:ext cx="397080" cy="516960"/>
          </a:xfrm>
          <a:prstGeom prst="rect">
            <a:avLst/>
          </a:pr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70160" y="2744640"/>
            <a:ext cx="416880" cy="516960"/>
          </a:xfrm>
          <a:prstGeom prst="rect">
            <a:avLst/>
          </a:pr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71600" y="3592440"/>
            <a:ext cx="435240" cy="516960"/>
          </a:xfrm>
          <a:prstGeom prst="rect">
            <a:avLst/>
          </a:pr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84200" y="4437000"/>
            <a:ext cx="372600" cy="516960"/>
          </a:xfrm>
          <a:prstGeom prst="rect">
            <a:avLst/>
          </a:pr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9560" y="1847880"/>
            <a:ext cx="436680" cy="516960"/>
          </a:xfrm>
          <a:prstGeom prst="rect">
            <a:avLst/>
          </a:pr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5713560" y="2324160"/>
          <a:ext cx="3141000" cy="1170000"/>
        </p:xfrm>
        <a:graphic>
          <a:graphicData uri="http://schemas.openxmlformats.org/drawingml/2006/table">
            <a:tbl>
              <a:tblPr/>
              <a:tblGrid>
                <a:gridCol w="622080"/>
                <a:gridCol w="503640"/>
                <a:gridCol w="648000"/>
                <a:gridCol w="503280"/>
                <a:gridCol w="432360"/>
                <a:gridCol w="431640"/>
              </a:tblGrid>
              <a:tr h="585000">
                <a:tc>
                  <a:txBody>
                    <a:bodyPr tIns="70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0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0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0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0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0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0" name=""/>
          <p:cNvSpPr/>
          <p:nvPr/>
        </p:nvSpPr>
        <p:spPr>
          <a:xfrm>
            <a:off x="4491000" y="5786280"/>
            <a:ext cx="476280" cy="51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20800" y="5786280"/>
            <a:ext cx="476280" cy="51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044800" y="5786280"/>
            <a:ext cx="476280" cy="51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878280" y="5786280"/>
            <a:ext cx="476280" cy="51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102280" y="5786280"/>
            <a:ext cx="476280" cy="51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713560" y="5786280"/>
            <a:ext cx="476280" cy="51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432080" y="5786280"/>
            <a:ext cx="475920" cy="51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655720" y="5786280"/>
            <a:ext cx="476280" cy="51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9520" y="5786280"/>
            <a:ext cx="476280" cy="51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267000" y="5786280"/>
            <a:ext cx="476280" cy="51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327720" y="5767560"/>
            <a:ext cx="692280" cy="51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82760" y="4437000"/>
            <a:ext cx="372600" cy="516960"/>
          </a:xfrm>
          <a:prstGeom prst="rect">
            <a:avLst/>
          </a:pr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09520" y="4861080"/>
            <a:ext cx="850104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има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анное задание можно выполнить интерактивно. Для этого презентацию надо перевести в режим редактиро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31760" y="77760"/>
            <a:ext cx="521496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рок 53. Таблица с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018560" y="115920"/>
            <a:ext cx="1863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Times New Roman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49120" y="549360"/>
            <a:ext cx="83584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7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йди значения выражений и ты отгадаешь сло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1042920" y="1052640"/>
            <a:ext cx="2952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7 + 3  - 2 – 2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042920" y="1847880"/>
            <a:ext cx="2952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3 + 3 + 1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042920" y="2732040"/>
            <a:ext cx="2952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5 + 5  –  1 – 1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042920" y="3592440"/>
            <a:ext cx="2952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6 + 1  +  3  – 1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042920" y="4475160"/>
            <a:ext cx="29527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5 + 1  +  2  + 2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76280" y="1052640"/>
            <a:ext cx="397080" cy="516960"/>
          </a:xfrm>
          <a:prstGeom prst="rect">
            <a:avLst/>
          </a:pr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41360" y="1859040"/>
            <a:ext cx="436680" cy="516960"/>
          </a:xfrm>
          <a:prstGeom prst="rect">
            <a:avLst/>
          </a:pr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70160" y="2732040"/>
            <a:ext cx="416880" cy="516960"/>
          </a:xfrm>
          <a:prstGeom prst="rect">
            <a:avLst/>
          </a:pr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71600" y="3600360"/>
            <a:ext cx="435240" cy="516960"/>
          </a:xfrm>
          <a:prstGeom prst="rect">
            <a:avLst/>
          </a:pr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84200" y="4437000"/>
            <a:ext cx="372600" cy="516960"/>
          </a:xfrm>
          <a:prstGeom prst="rect">
            <a:avLst/>
          </a:pr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71600" y="1052640"/>
            <a:ext cx="397080" cy="516960"/>
          </a:xfrm>
          <a:prstGeom prst="rect">
            <a:avLst/>
          </a:pr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70160" y="2744640"/>
            <a:ext cx="416880" cy="516960"/>
          </a:xfrm>
          <a:prstGeom prst="rect">
            <a:avLst/>
          </a:pr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71600" y="3592440"/>
            <a:ext cx="435240" cy="516960"/>
          </a:xfrm>
          <a:prstGeom prst="rect">
            <a:avLst/>
          </a:pr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84200" y="4437000"/>
            <a:ext cx="372600" cy="516960"/>
          </a:xfrm>
          <a:prstGeom prst="rect">
            <a:avLst/>
          </a:pr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39560" y="1847880"/>
            <a:ext cx="436680" cy="516960"/>
          </a:xfrm>
          <a:prstGeom prst="rect">
            <a:avLst/>
          </a:pr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5713560" y="2324160"/>
          <a:ext cx="3141000" cy="1170000"/>
        </p:xfrm>
        <a:graphic>
          <a:graphicData uri="http://schemas.openxmlformats.org/drawingml/2006/table">
            <a:tbl>
              <a:tblPr/>
              <a:tblGrid>
                <a:gridCol w="622080"/>
                <a:gridCol w="503640"/>
                <a:gridCol w="648000"/>
                <a:gridCol w="503280"/>
                <a:gridCol w="432360"/>
                <a:gridCol w="431640"/>
              </a:tblGrid>
              <a:tr h="585000">
                <a:tc>
                  <a:txBody>
                    <a:bodyPr tIns="70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0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0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0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0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0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156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2" name=""/>
          <p:cNvSpPr/>
          <p:nvPr/>
        </p:nvSpPr>
        <p:spPr>
          <a:xfrm>
            <a:off x="4491000" y="5786280"/>
            <a:ext cx="476280" cy="51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820800" y="5786280"/>
            <a:ext cx="476280" cy="51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044800" y="5786280"/>
            <a:ext cx="476280" cy="51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878280" y="5786280"/>
            <a:ext cx="476280" cy="51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102280" y="5786280"/>
            <a:ext cx="476280" cy="51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713560" y="5786280"/>
            <a:ext cx="476280" cy="51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432080" y="5786280"/>
            <a:ext cx="475920" cy="51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55720" y="5786280"/>
            <a:ext cx="476280" cy="51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09520" y="5786280"/>
            <a:ext cx="476280" cy="51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267000" y="5786280"/>
            <a:ext cx="476280" cy="51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327720" y="5767560"/>
            <a:ext cx="692280" cy="51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82760" y="4437000"/>
            <a:ext cx="372600" cy="516960"/>
          </a:xfrm>
          <a:prstGeom prst="rect">
            <a:avLst/>
          </a:pr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31760" y="77760"/>
            <a:ext cx="521496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Урок 53. Таблица с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018560" y="115920"/>
            <a:ext cx="1863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Times New Roman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49120" y="549360"/>
            <a:ext cx="83584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7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йди значения выражений и ты отгадаешь сло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dur="indefinite" fill="hold">
                      <p:stCondLst>
                        <p:cond delay="indefinite"/>
                      </p:stCondLst>
                      <p:childTnLst>
                        <p:par>
                          <p:cTn id="9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 -6 L 2.6827 -6 L -0.02899 -0.69612 E">
                                      <p:cBhvr>
                                        <p:cTn id="996" dur="200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dur="indefinite" fill="hold">
                      <p:stCondLst>
                        <p:cond delay="indefinite"/>
                      </p:stCondLst>
                      <p:childTnLst>
                        <p:par>
                          <p:cTn id="9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9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 -6 L 6.38298 -7 L 0.86771 0.2766 E">
                                      <p:cBhvr>
                                        <p:cTn id="1000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dur="indefinite" fill="hold">
                      <p:stCondLst>
                        <p:cond delay="indefinite"/>
                      </p:stCondLst>
                      <p:childTnLst>
                        <p:par>
                          <p:cTn id="10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 -6 L 2.6827 -6 L -0.15104 -0.57008 E">
                                      <p:cBhvr>
                                        <p:cTn id="1004" dur="2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dur="indefinite" fill="hold">
                      <p:stCondLst>
                        <p:cond delay="indefinite"/>
                      </p:stCondLst>
                      <p:childTnLst>
                        <p:par>
                          <p:cTn id="10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 -6 L -3.17299 -6 L 0.82153 0.15912 E">
                                      <p:cBhvr>
                                        <p:cTn id="1008" dur="2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dur="indefinite" fill="hold">
                      <p:stCondLst>
                        <p:cond delay="indefinite"/>
                      </p:stCondLst>
                      <p:childTnLst>
                        <p:par>
                          <p:cTn id="10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 -6 L 2.6827 -6 L -0.16285 -0.44427 E">
                                      <p:cBhvr>
                                        <p:cTn id="1012" dur="200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dur="indefinite" fill="hold">
                      <p:stCondLst>
                        <p:cond delay="indefinite"/>
                      </p:stCondLst>
                      <p:childTnLst>
                        <p:par>
                          <p:cTn id="10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 -6 L -2.12766 -7 L 0.77222 0.03192 E">
                                      <p:cBhvr>
                                        <p:cTn id="1016" dur="2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dur="indefinite" fill="hold">
                      <p:stCondLst>
                        <p:cond delay="indefinite"/>
                      </p:stCondLst>
                      <p:childTnLst>
                        <p:par>
                          <p:cTn id="10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 -6 L 2.6827 -6 L -0.21389 -0.31846 E">
                                      <p:cBhvr>
                                        <p:cTn id="1020" dur="2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dur="indefinite" fill="hold">
                      <p:stCondLst>
                        <p:cond delay="indefinite"/>
                      </p:stCondLst>
                      <p:childTnLst>
                        <p:par>
                          <p:cTn id="10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 -6 L -3.45051 -6 L 0.64514 -0.09458 E">
                                      <p:cBhvr>
                                        <p:cTn id="1024" dur="2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dur="indefinite" fill="hold">
                      <p:stCondLst>
                        <p:cond delay="indefinite"/>
                      </p:stCondLst>
                      <p:childTnLst>
                        <p:par>
                          <p:cTn id="10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 -6 L -2.10916 -6 L -0.28507 -0.18987 E">
                                      <p:cBhvr>
                                        <p:cTn id="1028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dur="indefinite" fill="hold">
                      <p:stCondLst>
                        <p:cond delay="indefinite"/>
                      </p:stCondLst>
                      <p:childTnLst>
                        <p:par>
                          <p:cTn id="10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 -6 L -1.34135 -6 L 0.59219 -0.21646 E">
                                      <p:cBhvr>
                                        <p:cTn id="1032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 -7 L -1.34135 -6 L 0.71042 -0.21646 E">
                                      <p:cBhvr>
                                        <p:cTn id="1034" dur="2000" fill="hold"/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684360" y="1197000"/>
            <a:ext cx="7632720" cy="2874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363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7451640" y="5300640"/>
            <a:ext cx="72072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92360" y="763200"/>
            <a:ext cx="705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Формирование познавате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универсальных учебных действий на уроках математики в начальной школе»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54936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Тема: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60360" y="2879640"/>
            <a:ext cx="6120000" cy="37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24000" y="2523960"/>
            <a:ext cx="8351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ирование системы универсальных учебных действий у младших школьников на урок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тематики для повышения качества образ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2016000" cy="1989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328920" y="1255680"/>
            <a:ext cx="178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33000"/>
            <a:ext cx="91440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----  знакомство с методами изучения окружающего мира (наблюдение, сравнение, измерение, моделирование) и способами представления информации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—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формирование на доступном уровне умений работать с информацией, представленной в разных видах (текст, рисунок, схема, символическая запись, модель, таблица, диаграмм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—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формирование на доступном уровне навыков самостоятельной познаватель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—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формирование навыков самостоятельной индивидуальной и коллективной работы: взаимоконтроля и самопроверки, обсуждения информации, планирования познавательной деятельности и самооце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885080" y="0"/>
            <a:ext cx="1042920" cy="98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95280" y="274680"/>
            <a:ext cx="79930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Arial"/>
              </a:rPr>
              <a:t>Современные образовательные технологии деятельностного тип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251136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-проблемно – диалогическая технолог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-технология мини – исслед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-организация проектной деяте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-оценивания образователь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достижений, (учебных успехов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-ИКТ – технолог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236000" y="4538520"/>
            <a:ext cx="1908000" cy="19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33640" y="333000"/>
            <a:ext cx="801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пекты  использования различ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овательных средств ИКТ   в образовательном процесс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19560"/>
            <a:ext cx="28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тивацион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800" y="2491200"/>
            <a:ext cx="36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бно-методиче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7080" y="3859560"/>
            <a:ext cx="29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о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67280" y="385956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трольно-оценоч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95280" y="4581360"/>
            <a:ext cx="2232000" cy="1943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H="1">
            <a:off x="1109520" y="1628640"/>
            <a:ext cx="152424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16720" y="1557360"/>
            <a:ext cx="1008000" cy="93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117520" y="1844640"/>
            <a:ext cx="1812600" cy="20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27640" y="1844640"/>
            <a:ext cx="1295280" cy="194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400720" y="4500720"/>
            <a:ext cx="324000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0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95280" y="561600"/>
            <a:ext cx="821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рганизация  учебной деятельности  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роится на основе системно- деятельностного подх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6720" y="2068200"/>
            <a:ext cx="47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ориентацию на дост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ели и основ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зультата 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3749760"/>
            <a:ext cx="515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опору на совреме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разоват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ехнологии деятельностного тип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494240" y="4941720"/>
            <a:ext cx="3715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9280" y="4319640"/>
            <a:ext cx="2700360" cy="2340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300720" y="1440000"/>
            <a:ext cx="270036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55520" y="210960"/>
            <a:ext cx="662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современ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педагогические технолог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464840"/>
            <a:ext cx="9293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информационно-комуникационные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здоровьесберегающие технологии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личностно–ориентированный подход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исследовательскую деятельность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проектный метод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дифференцированное обучение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игровые технологии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704000" y="0"/>
            <a:ext cx="1440000" cy="1428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79280" y="5400720"/>
            <a:ext cx="1979640" cy="126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16:41:14Z</dcterms:created>
  <dc:creator>Admin</dc:creator>
  <dc:description/>
  <dc:language>en-US</dc:language>
  <cp:lastModifiedBy>Admin</cp:lastModifiedBy>
  <dcterms:modified xsi:type="dcterms:W3CDTF">2011-02-28T00:51:34Z</dcterms:modified>
  <cp:revision>4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110000000000010250600207f7000400038000</vt:lpwstr>
  </property>
</Properties>
</file>