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11.jpeg" ContentType="image/jpeg"/>
  <Override PartName="/ppt/media/image22.png" ContentType="image/png"/>
  <Override PartName="/ppt/media/image3.jpeg" ContentType="image/jpeg"/>
  <Override PartName="/ppt/media/image30.png" ContentType="image/png"/>
  <Override PartName="/ppt/media/image10.jpeg" ContentType="image/jpeg"/>
  <Override PartName="/ppt/media/image8.gif" ContentType="image/gif"/>
  <Override PartName="/ppt/media/image36.png" ContentType="image/png"/>
  <Override PartName="/ppt/media/image9.gif" ContentType="image/gif"/>
  <Override PartName="/ppt/media/image37.png" ContentType="image/png"/>
  <Override PartName="/ppt/media/image31.png" ContentType="image/pn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6.jpeg" ContentType="image/jpeg"/>
  <Override PartName="/ppt/media/image4.gif" ContentType="image/gif"/>
  <Override PartName="/ppt/media/image27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AF28-B2BD-4220-9208-3732CA887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85D1-436F-4051-A772-D10AA5D7B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E667-E7E3-45FA-83F4-184C9EFB9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30A5-416D-4EFE-B1AD-A9335351A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ACB7-9DFE-4BBF-9A1F-3A3FAF260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4D1A-3265-494C-A76B-75E14CACF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85AE-299A-421A-87ED-6250A5CD3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8037-7C30-4952-8ED9-CBB3CEFDA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8BEE-7CE5-4835-9012-3E4412C85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62DD-1B04-4C86-8DFD-FDF0B5B9C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38E1-90E6-4C7B-9C4D-134BD10DC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2A89-1FE7-42F0-B37E-64DCF900A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FDD0B-AC91-4720-A2BF-51096A40C06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620640"/>
            <a:ext cx="7920000" cy="151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методический семин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760" y="2421000"/>
            <a:ext cx="88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БЕРЕЖНАЯ НАТАЛЬ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32560" y="3789360"/>
            <a:ext cx="1711440" cy="221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2362320" cy="18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9640" y="189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МБОУ «СОШ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29280" y="5402160"/>
            <a:ext cx="2971080" cy="11912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мо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дежди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.Таврич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630000"/>
            <a:ext cx="84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ущая технологи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о - комуникационн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844880"/>
            <a:ext cx="784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ыслитель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(представл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060640"/>
            <a:ext cx="789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абота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учебный словарь, учебник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342900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оде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зображение, величины с помощ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ы, рисун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2320920"/>
            <a:ext cx="1162080" cy="563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76360" y="2376360"/>
            <a:ext cx="1090800" cy="165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987640" y="2355840"/>
            <a:ext cx="1090800" cy="165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33920" y="2303640"/>
            <a:ext cx="1162080" cy="563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443640" y="2303640"/>
            <a:ext cx="1162080" cy="563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7740720" y="2303640"/>
            <a:ext cx="1162080" cy="563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71640" y="2354400"/>
            <a:ext cx="1800" cy="16272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3280" y="2367000"/>
            <a:ext cx="1440" cy="16128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3240000"/>
            <a:ext cx="8723520" cy="18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2376360"/>
            <a:ext cx="1800" cy="160524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3981600"/>
            <a:ext cx="8748720" cy="144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3168720"/>
            <a:ext cx="1800" cy="16272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3280" y="3181320"/>
            <a:ext cx="1440" cy="16128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3189240"/>
            <a:ext cx="1800" cy="160488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794120"/>
            <a:ext cx="8748720" cy="18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9600" y="4070520"/>
            <a:ext cx="577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7240" y="4084560"/>
            <a:ext cx="577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1880" y="4081320"/>
            <a:ext cx="577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26720" y="407196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6560" y="562608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6560" y="5765760"/>
            <a:ext cx="293760" cy="18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6560" y="5905440"/>
            <a:ext cx="293760" cy="18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6560" y="604692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3680" y="562608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3680" y="5765760"/>
            <a:ext cx="293760" cy="180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3680" y="5905440"/>
            <a:ext cx="293760" cy="180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3680" y="604692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6560" y="551664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6560" y="541188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3680" y="551664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3680" y="541188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9520" y="453708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98960" y="4537080"/>
            <a:ext cx="29340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453708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1880" y="453708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33760" y="455616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4546440"/>
            <a:ext cx="293760" cy="180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24560" y="453708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840" y="4809960"/>
            <a:ext cx="1181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 Narrow"/>
              </a:rPr>
              <a:t>деся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23160" y="4824360"/>
            <a:ext cx="1203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 Narrow"/>
              </a:rPr>
              <a:t>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5775480"/>
            <a:ext cx="1919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6160" y="44280"/>
            <a:ext cx="4486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6. Числа от 10 д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728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590400"/>
            <a:ext cx="87487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бята нарисовали модели чисел. Запиши их в порядке убывания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черкни    в записи числа цифры в разряде десятко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зелёны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ветом, а цифры в разряде единиц –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си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21040" y="262260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81480" y="262260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81480" y="40705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4040" y="40705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97320" y="56545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765000"/>
            <a:ext cx="8496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моги Кате найти значение выражений. Объясни ей, как надо с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917720"/>
            <a:ext cx="14940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8  + 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18880" y="2332080"/>
            <a:ext cx="835920" cy="802800"/>
            <a:chOff x="1118880" y="2332080"/>
            <a:chExt cx="835920" cy="802800"/>
          </a:xfrm>
        </p:grpSpPr>
        <p:sp>
          <p:nvSpPr>
            <p:cNvPr id="147" name=""/>
            <p:cNvSpPr/>
            <p:nvPr/>
          </p:nvSpPr>
          <p:spPr>
            <a:xfrm>
              <a:off x="1118880" y="261792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76080" y="261792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309680" y="2332080"/>
              <a:ext cx="428760" cy="2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539640" y="3357720"/>
            <a:ext cx="1949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7  +  4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16720" y="3862440"/>
            <a:ext cx="855720" cy="730440"/>
            <a:chOff x="1116720" y="3862440"/>
            <a:chExt cx="855720" cy="730440"/>
          </a:xfrm>
        </p:grpSpPr>
        <p:sp>
          <p:nvSpPr>
            <p:cNvPr id="152" name=""/>
            <p:cNvSpPr/>
            <p:nvPr/>
          </p:nvSpPr>
          <p:spPr>
            <a:xfrm>
              <a:off x="1593720" y="407592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720" y="407592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339200" y="3862440"/>
              <a:ext cx="426240" cy="2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539640" y="4940280"/>
            <a:ext cx="2038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6  +  5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93320" y="5445000"/>
            <a:ext cx="907560" cy="732960"/>
            <a:chOff x="1093320" y="5445000"/>
            <a:chExt cx="907560" cy="732960"/>
          </a:xfrm>
        </p:grpSpPr>
        <p:sp>
          <p:nvSpPr>
            <p:cNvPr id="157" name=""/>
            <p:cNvSpPr/>
            <p:nvPr/>
          </p:nvSpPr>
          <p:spPr>
            <a:xfrm>
              <a:off x="1093320" y="566100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2160" y="566100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1360440" y="5445000"/>
              <a:ext cx="42876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530640" y="190980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83920" y="191628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1600" y="191772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8520" y="191772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0640" y="33577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83920" y="336384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3040" y="336564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8520" y="336564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1917720"/>
            <a:ext cx="27018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  +  1  = 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365640"/>
            <a:ext cx="27018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  +  1  = 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0640" y="494028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85720" y="494820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2840" y="56545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73040" y="494820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4948200"/>
            <a:ext cx="27018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  +  1  = 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8520" y="494820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8. Табличное 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1820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 -6 L 6.35838 -7 L 0.16145 0.00509 E">
                                      <p:cBhvr>
                                        <p:cTn id="7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L -4.39306 -6 L 0.18351 -0.09872 E">
                                      <p:cBhvr>
                                        <p:cTn id="9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L -4.39306 -6 L 0.21979 -0.09872 E">
                                      <p:cBhvr>
                                        <p:cTn id="10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 -6 L 6.35838 -7 L 0.16145 0.00509 E">
                                      <p:cBhvr>
                                        <p:cTn id="12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0139 L 0.18577 -0.1 E">
                                      <p:cBhvr>
                                        <p:cTn id="13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L -4.39306 -6 L 0.21979 -0.09872 E">
                                      <p:cBhvr>
                                        <p:cTn id="15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 -6 L 6.35838 -7 L 0.16145 0.00509 E">
                                      <p:cBhvr>
                                        <p:cTn id="17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-1.11111 -6 L 0.18351 -0.09861 E">
                                      <p:cBhvr>
                                        <p:cTn id="186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L -4.39306 -6 L 0.21979 -0.09872 E">
                                      <p:cBhvr>
                                        <p:cTn id="19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6032520"/>
            <a:ext cx="3887640" cy="1317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581120" y="252252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20640" y="5013360"/>
            <a:ext cx="560520" cy="1019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276200" y="5013360"/>
            <a:ext cx="560520" cy="1019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1924200" y="5013360"/>
            <a:ext cx="560160" cy="1019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571840" y="5013360"/>
            <a:ext cx="560160" cy="101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219480" y="5013360"/>
            <a:ext cx="560520" cy="1019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4206960" y="2917800"/>
            <a:ext cx="17280" cy="3247920"/>
          </a:xfrm>
          <a:prstGeom prst="line">
            <a:avLst/>
          </a:prstGeom>
          <a:ln w="1908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3960" y="3911760"/>
            <a:ext cx="3888000" cy="1317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02248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458136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57920" y="3224160"/>
            <a:ext cx="1814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68720" y="3224160"/>
            <a:ext cx="1521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75360" y="5373720"/>
            <a:ext cx="1376640" cy="576360"/>
          </a:xfrm>
          <a:prstGeom prst="rect">
            <a:avLst/>
          </a:prstGeom>
          <a:solidFill>
            <a:srgbClr val="00ffff">
              <a:alpha val="70000"/>
            </a:srgbClr>
          </a:soli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5360" y="5423040"/>
            <a:ext cx="1379520" cy="576000"/>
          </a:xfrm>
          <a:prstGeom prst="rect">
            <a:avLst/>
          </a:prstGeom>
          <a:solidFill>
            <a:srgbClr val="00ffff">
              <a:alpha val="70000"/>
            </a:srgbClr>
          </a:soli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4200" y="808200"/>
            <a:ext cx="86439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тя  просит тебя сравнить объём двух банок. В одну входит 5 стаканов, а в другую 2 бутылки. Можно ли выполнить задание П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19560" y="1998720"/>
            <a:ext cx="4740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ить интерактивно. Для этого презентацию надо перевести в режим редакт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67160" y="4540320"/>
            <a:ext cx="4718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Закрой неправильный от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440" y="44280"/>
            <a:ext cx="5938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0. Величины. Объём. Ли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2636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932360" y="6032520"/>
            <a:ext cx="3887640" cy="1317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581120" y="252252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20640" y="5013360"/>
            <a:ext cx="560520" cy="101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276200" y="5013360"/>
            <a:ext cx="560520" cy="1019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924200" y="5013360"/>
            <a:ext cx="560160" cy="1019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571840" y="5013360"/>
            <a:ext cx="560160" cy="101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3219480" y="5013360"/>
            <a:ext cx="560520" cy="1019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211640" y="2071800"/>
            <a:ext cx="1440" cy="4093920"/>
          </a:xfrm>
          <a:prstGeom prst="line">
            <a:avLst/>
          </a:prstGeom>
          <a:ln w="1908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63960" y="3911760"/>
            <a:ext cx="3888000" cy="1317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202248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458136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57920" y="3224160"/>
            <a:ext cx="1814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68720" y="3224160"/>
            <a:ext cx="1521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75360" y="5373720"/>
            <a:ext cx="1376640" cy="576360"/>
          </a:xfrm>
          <a:prstGeom prst="rect">
            <a:avLst/>
          </a:prstGeom>
          <a:solidFill>
            <a:srgbClr val="00ffff">
              <a:alpha val="70000"/>
            </a:srgbClr>
          </a:soli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75360" y="5373720"/>
            <a:ext cx="1379520" cy="576360"/>
          </a:xfrm>
          <a:prstGeom prst="rect">
            <a:avLst/>
          </a:prstGeom>
          <a:solidFill>
            <a:srgbClr val="00ffff">
              <a:alpha val="75000"/>
            </a:srgbClr>
          </a:soli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67160" y="4540320"/>
            <a:ext cx="4718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Закрой неправильный от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3440" y="44280"/>
            <a:ext cx="5938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0. Величины. Объём. Ли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2636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4200" y="808200"/>
            <a:ext cx="86439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тя  просит тебя сравнить объём двух банок. В одну входит 5 стаканов, а в другую 2 бутылки. Можно ли выполнить задание П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-2.96296 -6 L -0.03107 -0.32546 E">
                                      <p:cBhvr>
                                        <p:cTn id="21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7840" y="662040"/>
            <a:ext cx="8067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Что нужно сделать, чтобы выполнить это зад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992240" y="3338640"/>
            <a:ext cx="560520" cy="1019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4000" y="202248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95600" y="290664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1339920"/>
            <a:ext cx="5327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брать одинаковую мер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2011320"/>
            <a:ext cx="612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Arial"/>
              </a:rPr>
              <a:t>!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дна из мерок объёма -  1 литр (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380360" y="2590920"/>
            <a:ext cx="1089000" cy="27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246480" y="2719440"/>
            <a:ext cx="1709640" cy="2481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510160" y="2789280"/>
            <a:ext cx="1292400" cy="2341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928960" y="1870200"/>
            <a:ext cx="1440" cy="343188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0" y="5351400"/>
            <a:ext cx="907416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Arial"/>
              </a:rPr>
              <a:t>!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Число, которое получаем при измерении объёма, - мера объё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3440" y="44280"/>
            <a:ext cx="5938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0. Величины. Объём. Ли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2636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16000" y="2276640"/>
            <a:ext cx="1440" cy="115236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3645000"/>
            <a:ext cx="1440" cy="115236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36600" y="2232000"/>
            <a:ext cx="1152720" cy="144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58920" y="3500280"/>
            <a:ext cx="1152360" cy="180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4797360"/>
            <a:ext cx="1152360" cy="180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2281320"/>
            <a:ext cx="1440" cy="115236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2920" y="3649680"/>
            <a:ext cx="1440" cy="115236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7280" y="2232000"/>
            <a:ext cx="1152720" cy="144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49600" y="3502080"/>
            <a:ext cx="1152360" cy="144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73600" y="2282760"/>
            <a:ext cx="1440" cy="115272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8. Табличное 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1820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4200" y="5380200"/>
            <a:ext cx="87156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ить интерактивно. Для этого презентацию надо перевести в режим редакт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739800"/>
            <a:ext cx="8856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*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 переложить две палочки так, чтобы получилось два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70000" y="2254320"/>
            <a:ext cx="2637000" cy="2514600"/>
          </a:xfrm>
          <a:prstGeom prst="rect">
            <a:avLst/>
          </a:prstGeom>
          <a:solidFill>
            <a:srgbClr val="ffff00"/>
          </a:solidFill>
          <a:ln w="3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8000" y="739800"/>
            <a:ext cx="8856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*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 переложить две палочки так, чтобы получилось два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2276640"/>
            <a:ext cx="1440" cy="115236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3645000"/>
            <a:ext cx="1440" cy="115236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36600" y="2232000"/>
            <a:ext cx="1152720" cy="144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58920" y="3500280"/>
            <a:ext cx="1152360" cy="180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4797360"/>
            <a:ext cx="1152360" cy="180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2920" y="2281320"/>
            <a:ext cx="1440" cy="115236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2920" y="3649680"/>
            <a:ext cx="1440" cy="115236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27280" y="2232000"/>
            <a:ext cx="1152720" cy="144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49600" y="3502080"/>
            <a:ext cx="1152360" cy="144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73600" y="2282760"/>
            <a:ext cx="1440" cy="115272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41560" y="2254320"/>
            <a:ext cx="1325520" cy="1201680"/>
          </a:xfrm>
          <a:prstGeom prst="rect">
            <a:avLst/>
          </a:prstGeom>
          <a:solidFill>
            <a:srgbClr val="92d050"/>
          </a:solidFill>
          <a:ln w="115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8. Табличное 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1820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96120" y="4365720"/>
            <a:ext cx="1919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 -6 L 1.85185 -6 L -0.00243 0.18889 E">
                                      <p:cBhvr>
                                        <p:cTn id="25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L -3.7037 -6 L 0.15747 -0.00069 E">
                                      <p:cBhvr>
                                        <p:cTn id="262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7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1080" y="3786120"/>
            <a:ext cx="8786880" cy="63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                    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ять интерактивно.  Во время демонстрации навести курсор на  нужную фигуру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появления ладошки. Кликнуть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0280" y="749160"/>
            <a:ext cx="57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ши задачи Кати и П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0280" y="1211400"/>
            <a:ext cx="8631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ва решил утром 1 задачу, а днём 3 задачи. Сколько ещё задач ему надо решить, если задали 11 зад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753000" y="2898720"/>
            <a:ext cx="4917960" cy="211320"/>
            <a:chOff x="3753000" y="2898720"/>
            <a:chExt cx="4917960" cy="211320"/>
          </a:xfrm>
        </p:grpSpPr>
        <p:sp>
          <p:nvSpPr>
            <p:cNvPr id="267" name=""/>
            <p:cNvSpPr/>
            <p:nvPr/>
          </p:nvSpPr>
          <p:spPr>
            <a:xfrm>
              <a:off x="3755520" y="2989440"/>
              <a:ext cx="4913640" cy="468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53000" y="2898720"/>
              <a:ext cx="0" cy="21132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670960" y="2898720"/>
              <a:ext cx="0" cy="21132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77960" y="2900520"/>
            <a:ext cx="981000" cy="223560"/>
            <a:chOff x="777960" y="2900520"/>
            <a:chExt cx="981000" cy="223560"/>
          </a:xfrm>
        </p:grpSpPr>
        <p:sp>
          <p:nvSpPr>
            <p:cNvPr id="271" name=""/>
            <p:cNvSpPr/>
            <p:nvPr/>
          </p:nvSpPr>
          <p:spPr>
            <a:xfrm>
              <a:off x="780840" y="2989440"/>
              <a:ext cx="969840" cy="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7960" y="2900520"/>
              <a:ext cx="0" cy="22356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58960" y="2900520"/>
              <a:ext cx="0" cy="22356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763640" y="2909880"/>
            <a:ext cx="1984320" cy="214200"/>
            <a:chOff x="1763640" y="2909880"/>
            <a:chExt cx="1984320" cy="214200"/>
          </a:xfrm>
        </p:grpSpPr>
        <p:sp>
          <p:nvSpPr>
            <p:cNvPr id="275" name=""/>
            <p:cNvSpPr/>
            <p:nvPr/>
          </p:nvSpPr>
          <p:spPr>
            <a:xfrm>
              <a:off x="1769760" y="2994120"/>
              <a:ext cx="1968120" cy="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63640" y="2909880"/>
              <a:ext cx="0" cy="21420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47960" y="2909880"/>
              <a:ext cx="0" cy="21420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541600" y="1209600"/>
            <a:ext cx="1073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3040" y="1581120"/>
            <a:ext cx="428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63560" y="1206360"/>
            <a:ext cx="6609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62680" y="1211400"/>
            <a:ext cx="9396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н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75200" y="1211400"/>
            <a:ext cx="6609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 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82000" y="1581120"/>
            <a:ext cx="829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 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575600" y="-1321920"/>
            <a:ext cx="274680" cy="7912080"/>
          </a:xfrm>
          <a:custGeom>
            <a:avLst/>
            <a:gdLst>
              <a:gd name="textAreaLeft" fmla="*/ 0 w 274680"/>
              <a:gd name="textAreaRight" fmla="*/ 192600 w 274680"/>
              <a:gd name="textAreaTop" fmla="*/ 329400 h 7912080"/>
              <a:gd name="textAreaBottom" fmla="*/ 7582680 h 791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2000" y="5842080"/>
            <a:ext cx="8802720" cy="1440"/>
          </a:xfrm>
          <a:prstGeom prst="line">
            <a:avLst/>
          </a:prstGeom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000" y="4832280"/>
            <a:ext cx="752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3160" y="5445000"/>
            <a:ext cx="2949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твет: 7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37200" y="4691160"/>
            <a:ext cx="2575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11 – 1 – 3 = 7 (з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5153040"/>
            <a:ext cx="29592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11 – (1 + 3 ) = 7 (з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73920" y="4356000"/>
            <a:ext cx="2673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Narrow"/>
              </a:rPr>
              <a:t>Выбери реш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33840" y="4253040"/>
            <a:ext cx="335916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56360" y="5870520"/>
            <a:ext cx="1054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50200" y="5873760"/>
            <a:ext cx="11462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53440" y="5877000"/>
            <a:ext cx="1145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5877000"/>
            <a:ext cx="1145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6160" y="44280"/>
            <a:ext cx="6946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7. Числа от 10 д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0728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7 L -7.40741 -7 L -0.28507 0.25903 E">
                                      <p:cBhvr>
                                        <p:cTn id="28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3.7037 -6 L -0.19097 0.19561 E">
                                      <p:cBhvr>
                                        <p:cTn id="286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4.81481 -6 L -0.3177 0.19537 E">
                                      <p:cBhvr>
                                        <p:cTn id="296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 -6 L 4.81481 -6 L -0.39914 0.25833 E">
                                      <p:cBhvr>
                                        <p:cTn id="298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 -6 L -3.7037 -7 L -0.22466 0.07847 E">
                                      <p:cBhvr>
                                        <p:cTn id="305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3.7037 -7 L -0.13021 0.2044 E">
                                      <p:cBhvr>
                                        <p:cTn id="31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L -3.33333 -6 L -0.10486 -0.54699 E">
                                      <p:cBhvr>
                                        <p:cTn id="316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 -6 L 7.40741 -7 L -0.74792 -0.36945 E">
                                      <p:cBhvr>
                                        <p:cTn id="320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 -6 L 7.40741 -7 L -0.59045 -0.36945 E">
                                      <p:cBhvr>
                                        <p:cTn id="32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7 L 3.7037 -6 L -0.15694 -0.36899 E">
                                      <p:cBhvr>
                                        <p:cTn id="32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dur="indefinite" restart="whenNotActive" nodeType="interactiveSeq" fill="hold">
                <p:childTnLst>
                  <p:par>
                    <p:cTn id="350" dur="indefinite" fill="hold"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2.96296 -6 L -0.54514 -0.0062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dur="indefinite" restart="whenNotActive" nodeType="interactiveSeq" fill="hold">
                <p:childTnLst>
                  <p:par>
                    <p:cTn id="355" dur="indefinite" fill="hold"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 -6 L 1.85185 -6 L -0.55833 -0.00648 E">
                                      <p:cBhvr>
                                        <p:cTn id="35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0280" y="749160"/>
            <a:ext cx="57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ши задачи Кати и П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0280" y="1211400"/>
            <a:ext cx="8631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 Кати в первом букете 3 цветка, во втором – 4 цветка, в третьем столько же, сколько в первом. Сколько всего цветков в трёх буке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22760" y="2871720"/>
            <a:ext cx="3309840" cy="214560"/>
            <a:chOff x="3722760" y="2871720"/>
            <a:chExt cx="3309840" cy="214560"/>
          </a:xfrm>
        </p:grpSpPr>
        <p:sp>
          <p:nvSpPr>
            <p:cNvPr id="301" name=""/>
            <p:cNvSpPr/>
            <p:nvPr/>
          </p:nvSpPr>
          <p:spPr>
            <a:xfrm>
              <a:off x="3724200" y="2962440"/>
              <a:ext cx="3308400" cy="792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22760" y="2871720"/>
              <a:ext cx="0" cy="21456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32600" y="2871720"/>
              <a:ext cx="0" cy="21456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244520" y="4005360"/>
            <a:ext cx="2462400" cy="214200"/>
            <a:chOff x="1244520" y="4005360"/>
            <a:chExt cx="2462400" cy="214200"/>
          </a:xfrm>
        </p:grpSpPr>
        <p:sp>
          <p:nvSpPr>
            <p:cNvPr id="305" name=""/>
            <p:cNvSpPr/>
            <p:nvPr/>
          </p:nvSpPr>
          <p:spPr>
            <a:xfrm>
              <a:off x="1252080" y="4087800"/>
              <a:ext cx="2445120" cy="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44520" y="4005360"/>
              <a:ext cx="0" cy="21420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06920" y="4005360"/>
              <a:ext cx="0" cy="21420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258920" y="2879640"/>
            <a:ext cx="2462040" cy="214560"/>
            <a:chOff x="1258920" y="2879640"/>
            <a:chExt cx="2462040" cy="214560"/>
          </a:xfrm>
        </p:grpSpPr>
        <p:sp>
          <p:nvSpPr>
            <p:cNvPr id="309" name=""/>
            <p:cNvSpPr/>
            <p:nvPr/>
          </p:nvSpPr>
          <p:spPr>
            <a:xfrm>
              <a:off x="1266480" y="2963880"/>
              <a:ext cx="2444400" cy="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58920" y="2879640"/>
              <a:ext cx="0" cy="21456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20960" y="2879640"/>
              <a:ext cx="0" cy="21456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701800" y="1211400"/>
            <a:ext cx="279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50400" y="114624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28880" y="1549440"/>
            <a:ext cx="47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8280" y="1243080"/>
            <a:ext cx="85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1197000"/>
            <a:ext cx="85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4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63640" y="1568520"/>
            <a:ext cx="4464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только же, сколько в пер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3640" y="3008160"/>
            <a:ext cx="968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80360" y="2871720"/>
            <a:ext cx="287280" cy="156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0"/>
                  <a:pt x="10800" y="18750"/>
                  <a:pt x="10800" y="37500"/>
                </a:cubicBezTo>
                <a:lnTo>
                  <a:pt x="10800" y="12500"/>
                </a:lnTo>
                <a:cubicBezTo>
                  <a:pt x="10800" y="31250"/>
                  <a:pt x="16200" y="50000"/>
                  <a:pt x="21600" y="50000"/>
                </a:cubicBezTo>
                <a:cubicBezTo>
                  <a:pt x="16200" y="50000"/>
                  <a:pt x="10800" y="68750"/>
                  <a:pt x="10800" y="87500"/>
                </a:cubicBezTo>
                <a:lnTo>
                  <a:pt x="10800" y="-15900"/>
                </a:lnTo>
                <a:cubicBezTo>
                  <a:pt x="10800" y="28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2520" y="1917720"/>
            <a:ext cx="428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2997360"/>
            <a:ext cx="968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51440" y="3095640"/>
            <a:ext cx="1121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+ 4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38360" y="4135320"/>
            <a:ext cx="15066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+ 3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92360" y="5127480"/>
            <a:ext cx="12902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= 10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6920" y="5630760"/>
            <a:ext cx="4254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твет: 10 цве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7914960" y="4692600"/>
            <a:ext cx="90360" cy="80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fffff"/>
              </a:gs>
              <a:gs pos="100000">
                <a:srgbClr val="e2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16880" y="5035680"/>
            <a:ext cx="718920" cy="212760"/>
          </a:xfrm>
          <a:prstGeom prst="ellipse">
            <a:avLst/>
          </a:prstGeom>
          <a:gradFill rotWithShape="0">
            <a:gsLst>
              <a:gs pos="0">
                <a:srgbClr val="9fffff"/>
              </a:gs>
              <a:gs pos="100000">
                <a:srgbClr val="e2ffff"/>
              </a:gs>
            </a:gsLst>
            <a:lin ang="16200000"/>
          </a:gra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637400" y="3240000"/>
            <a:ext cx="891720" cy="2277720"/>
            <a:chOff x="7637400" y="3240000"/>
            <a:chExt cx="891720" cy="227772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7637400" y="3595320"/>
              <a:ext cx="531720" cy="175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7903440" y="3240000"/>
              <a:ext cx="531000" cy="175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7997400" y="3765960"/>
              <a:ext cx="531720" cy="175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"/>
          <p:cNvGrpSpPr/>
          <p:nvPr/>
        </p:nvGrpSpPr>
        <p:grpSpPr>
          <a:xfrm>
            <a:off x="7864560" y="4014720"/>
            <a:ext cx="1076040" cy="1661760"/>
            <a:chOff x="7864560" y="4014720"/>
            <a:chExt cx="1076040" cy="1661760"/>
          </a:xfrm>
        </p:grpSpPr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7980840" y="4014720"/>
              <a:ext cx="78948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5"/>
            <a:stretch/>
          </p:blipFill>
          <p:spPr>
            <a:xfrm>
              <a:off x="7864560" y="4486320"/>
              <a:ext cx="78948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6"/>
            <a:stretch/>
          </p:blipFill>
          <p:spPr>
            <a:xfrm>
              <a:off x="8151480" y="4326840"/>
              <a:ext cx="789120" cy="118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7129440" y="3749760"/>
            <a:ext cx="1339200" cy="2111040"/>
            <a:chOff x="7129440" y="3749760"/>
            <a:chExt cx="1339200" cy="2111040"/>
          </a:xfrm>
        </p:grpSpPr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7381800" y="3749760"/>
              <a:ext cx="92664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8"/>
            <a:stretch/>
          </p:blipFill>
          <p:spPr>
            <a:xfrm>
              <a:off x="7542000" y="4012200"/>
              <a:ext cx="926640" cy="15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7129440" y="4031640"/>
              <a:ext cx="926280" cy="15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0"/>
            <a:stretch/>
          </p:blipFill>
          <p:spPr>
            <a:xfrm>
              <a:off x="7386120" y="4360320"/>
              <a:ext cx="926640" cy="150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7383600" y="5121360"/>
            <a:ext cx="1533240" cy="1332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46160" y="44280"/>
            <a:ext cx="6946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7. Числа от 10 д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0800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3.52601 -6 L -0.07847 0.17988 E">
                                      <p:cBhvr>
                                        <p:cTn id="372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3.52601 -6 L -0.26042 0.243 E">
                                      <p:cBhvr>
                                        <p:cTn id="37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 -6 L -3.46821 -7 L -0.11024 0.17827 E">
                                      <p:cBhvr>
                                        <p:cTn id="389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 -6 L -3.46821 -7 L -0.26841 0.25179 E">
                                      <p:cBhvr>
                                        <p:cTn id="394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4.9711 -6 L 0.07795 0.29849 E">
                                      <p:cBhvr>
                                        <p:cTn id="40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L 4.68208 -6 L -0.13385 0.39468 E">
                                      <p:cBhvr>
                                        <p:cTn id="411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-1.50289 -6 L -1.66667 -6 0.17827">
                                      <p:cBhvr>
                                        <p:cTn id="42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fill="hold">
                      <p:stCondLst>
                        <p:cond delay="indefinite"/>
                      </p:stCondLst>
                      <p:childTnLst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856 L 0.48021 0.23908 E">
                                      <p:cBhvr>
                                        <p:cTn id="433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0208 L -0.11024 0.31237 E">
                                      <p:cBhvr>
                                        <p:cTn id="440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7 L -2.25434 -6 L -0.37049 0.29827 E">
                                      <p:cBhvr>
                                        <p:cTn id="445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dur="indefinite" fill="hold">
                      <p:stCondLst>
                        <p:cond delay="indefinite"/>
                      </p:stCondLst>
                      <p:childTnLst>
                        <p:par>
                          <p:cTn id="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 -6 L 1.84971 -6 L 0.0967 0.14682 E">
                                      <p:cBhvr>
                                        <p:cTn id="452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76360" y="495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версальные учебные действи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" y="265752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3440" y="421992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ти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5800" y="321156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72080" y="40755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знава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469520" y="1268280"/>
            <a:ext cx="87660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404800" y="1268280"/>
            <a:ext cx="804600" cy="309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1557360"/>
            <a:ext cx="71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72120" y="1285920"/>
            <a:ext cx="107964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48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7164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431640" y="1841400"/>
            <a:ext cx="2697480" cy="2047680"/>
            <a:chOff x="431640" y="1841400"/>
            <a:chExt cx="2697480" cy="2047680"/>
          </a:xfrm>
        </p:grpSpPr>
        <p:sp>
          <p:nvSpPr>
            <p:cNvPr id="345" name=""/>
            <p:cNvSpPr/>
            <p:nvPr/>
          </p:nvSpPr>
          <p:spPr>
            <a:xfrm>
              <a:off x="431640" y="1841400"/>
              <a:ext cx="2697480" cy="1940040"/>
            </a:xfrm>
            <a:prstGeom prst="ellipse">
              <a:avLst/>
            </a:prstGeom>
            <a:gradFill rotWithShape="0">
              <a:gsLst>
                <a:gs pos="0">
                  <a:srgbClr val="95d0ff"/>
                </a:gs>
                <a:gs pos="100000">
                  <a:srgbClr val="dee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1640" y="2579040"/>
              <a:ext cx="2610000" cy="1310040"/>
            </a:xfrm>
            <a:prstGeom prst="ellipse">
              <a:avLst/>
            </a:prstGeom>
            <a:gradFill rotWithShape="0">
              <a:gsLst>
                <a:gs pos="0">
                  <a:srgbClr val="91dd9f"/>
                </a:gs>
                <a:gs pos="100000">
                  <a:srgbClr val="def3e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200" y="606600"/>
            <a:ext cx="8750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 Катиной бабушки есть коза и корова. Коза даёт 6 л молока, а корова на 4 л молока больше. Сколько литров молока дают коза и корова в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48160" y="3641760"/>
            <a:ext cx="2500200" cy="1440"/>
          </a:xfrm>
          <a:prstGeom prst="line">
            <a:avLst/>
          </a:prstGeom>
          <a:ln w="28440">
            <a:solidFill>
              <a:srgbClr val="0070c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48360" y="3643200"/>
            <a:ext cx="1347840" cy="1800"/>
          </a:xfrm>
          <a:prstGeom prst="line">
            <a:avLst/>
          </a:prstGeom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48680" y="2948040"/>
            <a:ext cx="428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0040" y="4437000"/>
            <a:ext cx="4716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48360" y="2719440"/>
            <a:ext cx="1440" cy="92556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49600" y="2647800"/>
            <a:ext cx="1800" cy="99720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1000" y="2557440"/>
            <a:ext cx="3286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0"/>
                  <a:pt x="10800" y="18750"/>
                  <a:pt x="10800" y="37500"/>
                </a:cubicBezTo>
                <a:lnTo>
                  <a:pt x="10800" y="12500"/>
                </a:lnTo>
                <a:cubicBezTo>
                  <a:pt x="10800" y="31250"/>
                  <a:pt x="16200" y="50000"/>
                  <a:pt x="21600" y="50000"/>
                </a:cubicBezTo>
                <a:cubicBezTo>
                  <a:pt x="16200" y="50000"/>
                  <a:pt x="10800" y="68750"/>
                  <a:pt x="10800" y="87500"/>
                </a:cubicBezTo>
                <a:lnTo>
                  <a:pt x="10800" y="-15900"/>
                </a:lnTo>
                <a:cubicBezTo>
                  <a:pt x="10800" y="28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2120" y="5046840"/>
            <a:ext cx="581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6120" y="5726160"/>
            <a:ext cx="3713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Ответ: 16 ли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48160" y="2647800"/>
            <a:ext cx="2498760" cy="1800"/>
          </a:xfrm>
          <a:prstGeom prst="line">
            <a:avLst/>
          </a:prstGeom>
          <a:ln w="28440">
            <a:solidFill>
              <a:srgbClr val="0070c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17840" y="1897200"/>
            <a:ext cx="1037880" cy="10382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71520" y="2416320"/>
            <a:ext cx="1763640" cy="17240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657920" y="606600"/>
            <a:ext cx="613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6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63720" y="950760"/>
            <a:ext cx="3708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только же 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щё 4 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703760" y="1233000"/>
            <a:ext cx="166680" cy="2468520"/>
          </a:xfrm>
          <a:custGeom>
            <a:avLst/>
            <a:gdLst>
              <a:gd name="textAreaLeft" fmla="*/ 0 w 166680"/>
              <a:gd name="textAreaRight" fmla="*/ 117000 w 166680"/>
              <a:gd name="textAreaTop" fmla="*/ 102600 h 2468520"/>
              <a:gd name="textAreaBottom" fmla="*/ 2365920 h 24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5388480" y="1967400"/>
            <a:ext cx="166680" cy="3851280"/>
          </a:xfrm>
          <a:custGeom>
            <a:avLst/>
            <a:gdLst>
              <a:gd name="textAreaLeft" fmla="*/ 0 w 166680"/>
              <a:gd name="textAreaRight" fmla="*/ 117000 w 166680"/>
              <a:gd name="textAreaTop" fmla="*/ 160200 h 3851280"/>
              <a:gd name="textAreaBottom" fmla="*/ 3691080 h 38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6653160" y="2796840"/>
            <a:ext cx="181080" cy="1409400"/>
          </a:xfrm>
          <a:custGeom>
            <a:avLst/>
            <a:gdLst>
              <a:gd name="textAreaLeft" fmla="*/ 0 w 181080"/>
              <a:gd name="textAreaRight" fmla="*/ 127080 w 181080"/>
              <a:gd name="textAreaTop" fmla="*/ 58680 h 1409400"/>
              <a:gd name="textAreaBottom" fmla="*/ 1350720 h 14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47960" y="2951280"/>
            <a:ext cx="613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37120" y="3976560"/>
            <a:ext cx="428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92880" y="3116160"/>
            <a:ext cx="60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6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92880" y="1897200"/>
            <a:ext cx="60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6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48680" y="2967120"/>
            <a:ext cx="87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+ 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08040" y="4437000"/>
            <a:ext cx="1040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= 10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64000" y="4406760"/>
            <a:ext cx="900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10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73520" y="3971880"/>
            <a:ext cx="1193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+ 10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5018040"/>
            <a:ext cx="11592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= 16(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6160" y="44280"/>
            <a:ext cx="4486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6. Числа от 10 д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30800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dur="indefinite" fill="hold">
                      <p:stCondLst>
                        <p:cond delay="indefinite"/>
                      </p:stCondLst>
                      <p:childTnLst>
                        <p:par>
                          <p:cTn id="5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5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 -6 L 2.10916 -6 L -0.3316 0.18894 E">
                                      <p:cBhvr>
                                        <p:cTn id="532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5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dur="indefinite" fill="hold">
                      <p:stCondLst>
                        <p:cond delay="indefinite"/>
                      </p:stCondLst>
                      <p:childTnLst>
                        <p:par>
                          <p:cTn id="5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-2.90472 -6 L 0.13664 0.30643 E">
                                      <p:cBhvr>
                                        <p:cTn id="56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dur="indefinite" fill="hold">
                      <p:stCondLst>
                        <p:cond delay="indefinite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dur="indefinite" fill="hold">
                      <p:stCondLst>
                        <p:cond delay="indefinite"/>
                      </p:stCondLst>
                      <p:childTnLst>
                        <p:par>
                          <p:cTn id="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-1.56337 -6 L -0.40556 0.19033 E">
                                      <p:cBhvr>
                                        <p:cTn id="615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-4.6901 -6 L -0.54445 0.21531 E">
                                      <p:cBhvr>
                                        <p:cTn id="622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-3.33333 -6 L 0.2283 -0.05532 E">
                                      <p:cBhvr>
                                        <p:cTn id="634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dur="indefinite" fill="hold">
                      <p:stCondLst>
                        <p:cond delay="indefinite"/>
                      </p:stCondLst>
                      <p:childTnLst>
                        <p:par>
                          <p:cTn id="6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dur="indefinite" fill="hold">
                      <p:stCondLst>
                        <p:cond delay="indefinite"/>
                      </p:stCondLst>
                      <p:childTnLst>
                        <p:par>
                          <p:cTn id="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0093 L -0.40156 0.45324 E">
                                      <p:cBhvr>
                                        <p:cTn id="664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L 7.40741 -7 L -0.35521 0.14977 E">
                                      <p:cBhvr>
                                        <p:cTn id="671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dur="indefinite" fill="hold">
                      <p:stCondLst>
                        <p:cond delay="indefinite"/>
                      </p:stCondLst>
                      <p:childTnLst>
                        <p:par>
                          <p:cTn id="6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237960" y="1693800"/>
          <a:ext cx="5486400" cy="4686480"/>
        </p:xfrm>
        <a:graphic>
          <a:graphicData uri="http://schemas.openxmlformats.org/drawingml/2006/table">
            <a:tbl>
              <a:tblPr/>
              <a:tblGrid>
                <a:gridCol w="548640"/>
                <a:gridCol w="548640"/>
                <a:gridCol w="548640"/>
                <a:gridCol w="548640"/>
                <a:gridCol w="548640"/>
                <a:gridCol w="548640"/>
                <a:gridCol w="548640"/>
                <a:gridCol w="548640"/>
                <a:gridCol w="548280"/>
                <a:gridCol w="549000"/>
              </a:tblGrid>
              <a:tr h="44568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179280" y="549360"/>
            <a:ext cx="8785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ови слагаемые чисел, которые Петя обвел кружками одинакового цвета. Что о них можно 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78160" y="2138400"/>
            <a:ext cx="465120" cy="4651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3800" y="3540240"/>
            <a:ext cx="465120" cy="4651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86520" y="2133720"/>
            <a:ext cx="465120" cy="465120"/>
          </a:xfrm>
          <a:prstGeom prst="ellipse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5916600"/>
            <a:ext cx="465480" cy="465120"/>
          </a:xfrm>
          <a:prstGeom prst="ellipse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87640" y="3068640"/>
            <a:ext cx="465120" cy="465120"/>
          </a:xfrm>
          <a:prstGeom prst="ellips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74880" y="4005360"/>
            <a:ext cx="465120" cy="465120"/>
          </a:xfrm>
          <a:prstGeom prst="ellips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56360" y="174960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+ 4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56360" y="224784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 + 1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340524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1 + 9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56360" y="390384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9 + 1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56360" y="494028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 + 5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56360" y="543888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5 + 3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/>
          <p:nvPr/>
        </p:nvCxnSpPr>
        <p:spPr>
          <a:xfrm flipV="1" rot="10800000">
            <a:off x="754920" y="2369880"/>
            <a:ext cx="18565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91" name=""/>
          <p:cNvCxnSpPr/>
          <p:nvPr/>
        </p:nvCxnSpPr>
        <p:spPr>
          <a:xfrm flipV="1">
            <a:off x="2611440" y="2138040"/>
            <a:ext cx="2160" cy="227520"/>
          </a:xfrm>
          <a:prstGeom prst="bentConnector3">
            <a:avLst>
              <a:gd name="adj1" fmla="val 40000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92" name=""/>
          <p:cNvCxnSpPr/>
          <p:nvPr/>
        </p:nvCxnSpPr>
        <p:spPr>
          <a:xfrm flipV="1" rot="10800000">
            <a:off x="591480" y="3771720"/>
            <a:ext cx="3085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93" name=""/>
          <p:cNvCxnSpPr/>
          <p:nvPr/>
        </p:nvCxnSpPr>
        <p:spPr>
          <a:xfrm flipV="1">
            <a:off x="1026720" y="2131200"/>
            <a:ext cx="2520" cy="163908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94" name=""/>
          <p:cNvCxnSpPr/>
          <p:nvPr/>
        </p:nvCxnSpPr>
        <p:spPr>
          <a:xfrm flipV="1" rot="10800000">
            <a:off x="754920" y="2364840"/>
            <a:ext cx="4609080" cy="5760"/>
          </a:xfrm>
          <a:prstGeom prst="bentConnector3">
            <a:avLst>
              <a:gd name="adj1" fmla="val 50000"/>
            </a:avLst>
          </a:prstGeom>
          <a:ln w="2844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>
            <a:off x="5363640" y="2131200"/>
            <a:ext cx="2520" cy="227880"/>
          </a:xfrm>
          <a:prstGeom prst="bentConnector3">
            <a:avLst>
              <a:gd name="adj1" fmla="val 50000"/>
            </a:avLst>
          </a:prstGeom>
          <a:ln w="2844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396" name=""/>
          <p:cNvCxnSpPr/>
          <p:nvPr/>
        </p:nvCxnSpPr>
        <p:spPr>
          <a:xfrm flipV="1" rot="10800000">
            <a:off x="639000" y="6149520"/>
            <a:ext cx="308880" cy="2520"/>
          </a:xfrm>
          <a:prstGeom prst="bentConnector3">
            <a:avLst>
              <a:gd name="adj1" fmla="val 49941"/>
            </a:avLst>
          </a:prstGeom>
          <a:ln w="2844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rot="10800000">
            <a:off x="1026360" y="2208960"/>
            <a:ext cx="19800" cy="3722040"/>
          </a:xfrm>
          <a:prstGeom prst="bentConnector3">
            <a:avLst>
              <a:gd name="adj1" fmla="val 50000"/>
            </a:avLst>
          </a:prstGeom>
          <a:ln w="2844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398" name=""/>
          <p:cNvCxnSpPr/>
          <p:nvPr/>
        </p:nvCxnSpPr>
        <p:spPr>
          <a:xfrm flipV="1" rot="10800000">
            <a:off x="745560" y="3311280"/>
            <a:ext cx="2272320" cy="2160"/>
          </a:xfrm>
          <a:prstGeom prst="bentConnector3">
            <a:avLst>
              <a:gd name="adj1" fmla="val 49992"/>
            </a:avLst>
          </a:prstGeom>
          <a:ln w="28440">
            <a:solidFill>
              <a:srgbClr val="0070c0"/>
            </a:solidFill>
            <a:round/>
            <a:tailEnd len="med" type="triangle" w="med"/>
          </a:ln>
        </p:spPr>
      </p:cxnSp>
      <p:cxnSp>
        <p:nvCxnSpPr>
          <p:cNvPr id="399" name=""/>
          <p:cNvCxnSpPr/>
          <p:nvPr/>
        </p:nvCxnSpPr>
        <p:spPr>
          <a:xfrm flipV="1">
            <a:off x="3219480" y="2137680"/>
            <a:ext cx="2160" cy="981720"/>
          </a:xfrm>
          <a:prstGeom prst="bentConnector3">
            <a:avLst>
              <a:gd name="adj1" fmla="val 40000"/>
            </a:avLst>
          </a:prstGeom>
          <a:ln w="28440">
            <a:solidFill>
              <a:srgbClr val="0070c0"/>
            </a:solidFill>
            <a:round/>
            <a:tailEnd len="med" type="triangle" w="med"/>
          </a:ln>
        </p:spPr>
      </p:cxnSp>
      <p:cxnSp>
        <p:nvCxnSpPr>
          <p:cNvPr id="400" name=""/>
          <p:cNvCxnSpPr/>
          <p:nvPr/>
        </p:nvCxnSpPr>
        <p:spPr>
          <a:xfrm flipV="1" rot="10800000">
            <a:off x="754920" y="4247640"/>
            <a:ext cx="1119960" cy="18360"/>
          </a:xfrm>
          <a:prstGeom prst="bentConnector3">
            <a:avLst>
              <a:gd name="adj1" fmla="val 50000"/>
            </a:avLst>
          </a:prstGeom>
          <a:ln w="28440">
            <a:solidFill>
              <a:srgbClr val="0070c0"/>
            </a:solidFill>
            <a:round/>
            <a:tailEnd len="med" type="triangle" w="med"/>
          </a:ln>
        </p:spPr>
      </p:cxnSp>
      <p:cxnSp>
        <p:nvCxnSpPr>
          <p:cNvPr id="401" name=""/>
          <p:cNvCxnSpPr/>
          <p:nvPr/>
        </p:nvCxnSpPr>
        <p:spPr>
          <a:xfrm flipV="1">
            <a:off x="2123640" y="2138040"/>
            <a:ext cx="2520" cy="1891440"/>
          </a:xfrm>
          <a:prstGeom prst="bentConnector3">
            <a:avLst>
              <a:gd name="adj1" fmla="val 50000"/>
            </a:avLst>
          </a:prstGeom>
          <a:ln w="28440">
            <a:solidFill>
              <a:srgbClr val="0070c0"/>
            </a:solidFill>
            <a:round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dur="indefinite" fill="hold">
                      <p:stCondLst>
                        <p:cond delay="indefinite"/>
                      </p:stCondLst>
                      <p:childTnLst>
                        <p:par>
                          <p:cTn id="6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dur="indefinite" fill="hold">
                      <p:stCondLst>
                        <p:cond delay="indefinite"/>
                      </p:stCondLst>
                      <p:childTnLst>
                        <p:par>
                          <p:cTn id="6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30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dur="indefinite" fill="hold">
                      <p:stCondLst>
                        <p:cond delay="indefinite"/>
                      </p:stCondLst>
                      <p:childTnLst>
                        <p:par>
                          <p:cTn id="7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dur="indefinite" fill="hold">
                      <p:stCondLst>
                        <p:cond delay="indefinite"/>
                      </p:stCondLst>
                      <p:childTnLst>
                        <p:par>
                          <p:cTn id="7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dur="indefinite" fill="hold">
                      <p:stCondLst>
                        <p:cond delay="indefinite"/>
                      </p:stCondLst>
                      <p:childTnLst>
                        <p:par>
                          <p:cTn id="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7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30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dur="indefinite" fill="hold">
                      <p:stCondLst>
                        <p:cond delay="indefinite"/>
                      </p:stCondLst>
                      <p:childTnLst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dur="indefinite" fill="hold">
                      <p:stCondLst>
                        <p:cond delay="indefinite"/>
                      </p:stCondLst>
                      <p:childTnLst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dur="indefinite" fill="hold">
                      <p:stCondLst>
                        <p:cond delay="indefinite"/>
                      </p:stCondLst>
                      <p:childTnLst>
                        <p:par>
                          <p:cTn id="7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dur="indefinite" fill="hold">
                      <p:stCondLst>
                        <p:cond delay="indefinite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30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dur="indefinite" fill="hold">
                      <p:stCondLst>
                        <p:cond delay="indefinite"/>
                      </p:stCondLst>
                      <p:childTnLst>
                        <p:par>
                          <p:cTn id="7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dur="indefinite" fill="hold">
                      <p:stCondLst>
                        <p:cond delay="indefinite"/>
                      </p:stCondLst>
                      <p:childTnLst>
                        <p:par>
                          <p:cTn id="7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dur="indefinite" fill="hold">
                      <p:stCondLst>
                        <p:cond delay="indefinite"/>
                      </p:stCondLst>
                      <p:childTnLst>
                        <p:par>
                          <p:cTn id="7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dur="indefinite" fill="hold">
                      <p:stCondLst>
                        <p:cond delay="indefinite"/>
                      </p:stCondLst>
                      <p:childTnLst>
                        <p:par>
                          <p:cTn id="7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dur="indefinite" fill="hold">
                      <p:stCondLst>
                        <p:cond delay="indefinite"/>
                      </p:stCondLst>
                      <p:childTnLst>
                        <p:par>
                          <p:cTn id="7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dur="indefinite" fill="hold">
                      <p:stCondLst>
                        <p:cond delay="indefinite"/>
                      </p:stCondLst>
                      <p:childTnLst>
                        <p:par>
                          <p:cTn id="7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3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dur="indefinite" fill="hold">
                      <p:stCondLst>
                        <p:cond delay="indefinite"/>
                      </p:stCondLst>
                      <p:childTnLst>
                        <p:par>
                          <p:cTn id="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dur="indefinite" fill="hold">
                      <p:stCondLst>
                        <p:cond delay="indefinite"/>
                      </p:stCondLst>
                      <p:childTnLst>
                        <p:par>
                          <p:cTn id="8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dur="indefinite" fill="hold">
                      <p:stCondLst>
                        <p:cond delay="indefinite"/>
                      </p:stCondLst>
                      <p:childTnLst>
                        <p:par>
                          <p:cTn id="8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dur="indefinite" fill="hold">
                      <p:stCondLst>
                        <p:cond delay="indefinite"/>
                      </p:stCondLst>
                      <p:childTnLst>
                        <p:par>
                          <p:cTn id="8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30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dur="indefinite" fill="hold">
                      <p:stCondLst>
                        <p:cond delay="indefinite"/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dur="indefinite" fill="hold">
                      <p:stCondLst>
                        <p:cond delay="indefinite"/>
                      </p:stCondLst>
                      <p:childTnLst>
                        <p:par>
                          <p:cTn id="8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37960" y="1693800"/>
          <a:ext cx="5486400" cy="4686480"/>
        </p:xfrm>
        <a:graphic>
          <a:graphicData uri="http://schemas.openxmlformats.org/drawingml/2006/table">
            <a:tbl>
              <a:tblPr/>
              <a:tblGrid>
                <a:gridCol w="548640"/>
                <a:gridCol w="548640"/>
                <a:gridCol w="548640"/>
                <a:gridCol w="548640"/>
                <a:gridCol w="548640"/>
                <a:gridCol w="548640"/>
                <a:gridCol w="548640"/>
                <a:gridCol w="548640"/>
                <a:gridCol w="548280"/>
                <a:gridCol w="549000"/>
              </a:tblGrid>
              <a:tr h="44568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179280" y="500040"/>
            <a:ext cx="8785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и по таблице значения вы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15080" y="1785960"/>
            <a:ext cx="1000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4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15080" y="2428920"/>
            <a:ext cx="1000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15080" y="3071880"/>
            <a:ext cx="1000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9280" y="857160"/>
            <a:ext cx="878544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Найди суммы с такими же слагаемыми в синей части таблиц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9280" y="1197000"/>
            <a:ext cx="878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Назови слагаемые сумм из желтой и синей частей таблиц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29200" y="3571920"/>
            <a:ext cx="30006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ить интерактив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этого в режиме демонстрации воспользоваться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ментом «выделение» или  «фломастер»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жно использ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фры на магнитиках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dur="indefinite" fill="hold">
                      <p:stCondLst>
                        <p:cond delay="0"/>
                      </p:stCondLst>
                      <p:childTnLst>
                        <p:par>
                          <p:cTn id="8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dur="indefinite" fill="hold">
                      <p:stCondLst>
                        <p:cond delay="indefinite"/>
                      </p:stCondLst>
                      <p:childTnLst>
                        <p:par>
                          <p:cTn id="8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dur="indefinite" fill="hold">
                      <p:stCondLst>
                        <p:cond delay="indefinite"/>
                      </p:stCondLst>
                      <p:childTnLst>
                        <p:par>
                          <p:cTn id="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523880" y="1397160"/>
          <a:ext cx="6096240" cy="41148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+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285840" y="738360"/>
            <a:ext cx="8678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бы Пете выучить таблицу, надо ли запоминать её  всю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47640" y="18446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7600" y="186048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568680" y="22766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52680" y="22766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93880" y="27813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73280" y="27813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35320" y="139860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35320" y="188748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35320" y="234936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35320" y="280980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35320" y="323532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35320" y="370044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35320" y="416232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35320" y="462276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51800" y="5084640"/>
            <a:ext cx="5191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17760" y="13827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52680" y="275112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22680" y="279720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6680" y="32385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60680" y="321300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6680" y="37004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8680" y="37004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84680" y="324792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65280" y="32367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03760" y="37101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60680" y="367200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05560" y="414972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81280" y="414972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10240" y="45957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76680" y="46101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512720" y="1414440"/>
          <a:ext cx="978120" cy="4103640"/>
        </p:xfrm>
        <a:graphic>
          <a:graphicData uri="http://schemas.openxmlformats.org/drawingml/2006/table">
            <a:tbl>
              <a:tblPr/>
              <a:tblGrid>
                <a:gridCol w="97812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33680" y="1870200"/>
          <a:ext cx="977760" cy="364788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3554280" y="2325600"/>
          <a:ext cx="978120" cy="3192480"/>
        </p:xfrm>
        <a:graphic>
          <a:graphicData uri="http://schemas.openxmlformats.org/drawingml/2006/table">
            <a:tbl>
              <a:tblPr/>
              <a:tblGrid>
                <a:gridCol w="97812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4575240" y="2781360"/>
          <a:ext cx="977760" cy="273528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5595840" y="3238560"/>
          <a:ext cx="978120" cy="2279520"/>
        </p:xfrm>
        <a:graphic>
          <a:graphicData uri="http://schemas.openxmlformats.org/drawingml/2006/table">
            <a:tbl>
              <a:tblPr/>
              <a:tblGrid>
                <a:gridCol w="97812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6618240" y="1414440"/>
          <a:ext cx="978120" cy="4103640"/>
        </p:xfrm>
        <a:graphic>
          <a:graphicData uri="http://schemas.openxmlformats.org/drawingml/2006/table">
            <a:tbl>
              <a:tblPr/>
              <a:tblGrid>
                <a:gridCol w="97812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dur="indefinite" fill="hold">
                      <p:stCondLst>
                        <p:cond delay="indefinite"/>
                      </p:stCondLst>
                      <p:childTnLst>
                        <p:par>
                          <p:cTn id="8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6" dur="5000" fill="hold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9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dur="indefinite" fill="hold">
                      <p:stCondLst>
                        <p:cond delay="indefinite"/>
                      </p:stCondLst>
                      <p:childTnLst>
                        <p:par>
                          <p:cTn id="8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64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dur="indefinite" fill="hold">
                      <p:stCondLst>
                        <p:cond delay="indefinite"/>
                      </p:stCondLst>
                      <p:childTnLst>
                        <p:par>
                          <p:cTn id="8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dur="indefinite" fill="hold">
                      <p:stCondLst>
                        <p:cond delay="indefinite"/>
                      </p:stCondLst>
                      <p:childTnLst>
                        <p:par>
                          <p:cTn id="8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dur="indefinite" fill="hold">
                      <p:stCondLst>
                        <p:cond delay="indefinite"/>
                      </p:stCondLst>
                      <p:childTnLst>
                        <p:par>
                          <p:cTn id="8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80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dur="indefinite" fill="hold">
                      <p:stCondLst>
                        <p:cond delay="indefinite"/>
                      </p:stCondLst>
                      <p:childTnLst>
                        <p:par>
                          <p:cTn id="8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dur="indefinite" fill="hold">
                      <p:stCondLst>
                        <p:cond delay="indefinite"/>
                      </p:stCondLst>
                      <p:childTnLst>
                        <p:par>
                          <p:cTn id="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500" fill="hold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dur="indefinite" fill="hold">
                      <p:stCondLst>
                        <p:cond delay="indefinite"/>
                      </p:stCondLst>
                      <p:childTnLst>
                        <p:par>
                          <p:cTn id="8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dur="indefinite" fill="hold">
                      <p:stCondLst>
                        <p:cond delay="indefinite"/>
                      </p:stCondLst>
                      <p:childTnLst>
                        <p:par>
                          <p:cTn id="9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5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dur="indefinite" fill="hold">
                      <p:stCondLst>
                        <p:cond delay="indefinite"/>
                      </p:stCondLst>
                      <p:childTnLst>
                        <p:par>
                          <p:cTn id="9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07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dur="indefinite" fill="hold">
                      <p:stCondLst>
                        <p:cond delay="indefinite"/>
                      </p:stCondLst>
                      <p:childTnLst>
                        <p:par>
                          <p:cTn id="9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dur="indefinite" fill="hold">
                      <p:stCondLst>
                        <p:cond delay="indefinite"/>
                      </p:stCondLst>
                      <p:childTnLst>
                        <p:par>
                          <p:cTn id="9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500" fill="hold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dur="indefinite" fill="hold">
                      <p:stCondLst>
                        <p:cond delay="indefinite"/>
                      </p:stCondLst>
                      <p:childTnLst>
                        <p:par>
                          <p:cTn id="9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dur="indefinite" fill="hold">
                      <p:stCondLst>
                        <p:cond delay="indefinite"/>
                      </p:stCondLst>
                      <p:childTnLst>
                        <p:par>
                          <p:cTn id="9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9" dur="500" fill="hold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dur="indefinite" fill="hold">
                      <p:stCondLst>
                        <p:cond delay="indefinite"/>
                      </p:stCondLst>
                      <p:childTnLst>
                        <p:par>
                          <p:cTn id="9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dur="indefinite" fill="hold">
                      <p:stCondLst>
                        <p:cond delay="indefinite"/>
                      </p:stCondLst>
                      <p:childTnLst>
                        <p:par>
                          <p:cTn id="9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5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dur="indefinite" fill="hold">
                      <p:stCondLst>
                        <p:cond delay="indefinite"/>
                      </p:stCondLst>
                      <p:childTnLst>
                        <p:par>
                          <p:cTn id="9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5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dur="indefinite" fill="hold">
                      <p:stCondLst>
                        <p:cond delay="indefinite"/>
                      </p:stCondLst>
                      <p:childTnLst>
                        <p:par>
                          <p:cTn id="9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dur="indefinite" fill="hold">
                      <p:stCondLst>
                        <p:cond delay="indefinite"/>
                      </p:stCondLst>
                      <p:childTnLst>
                        <p:par>
                          <p:cTn id="9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dur="indefinite" fill="hold">
                      <p:stCondLst>
                        <p:cond delay="indefinite"/>
                      </p:stCondLst>
                      <p:childTnLst>
                        <p:par>
                          <p:cTn id="9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dur="indefinite" fill="hold">
                      <p:stCondLst>
                        <p:cond delay="indefinite"/>
                      </p:stCondLst>
                      <p:childTnLst>
                        <p:par>
                          <p:cTn id="9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dur="indefinite" fill="hold">
                      <p:stCondLst>
                        <p:cond delay="indefinite"/>
                      </p:stCondLst>
                      <p:childTnLst>
                        <p:par>
                          <p:cTn id="9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dur="indefinite" fill="hold">
                      <p:stCondLst>
                        <p:cond delay="indefinite"/>
                      </p:stCondLst>
                      <p:childTnLst>
                        <p:par>
                          <p:cTn id="9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dur="indefinite" fill="hold">
                      <p:stCondLst>
                        <p:cond delay="indefinite"/>
                      </p:stCondLst>
                      <p:childTnLst>
                        <p:par>
                          <p:cTn id="9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dur="indefinite" fill="hold">
                      <p:stCondLst>
                        <p:cond delay="indefinite"/>
                      </p:stCondLst>
                      <p:childTnLst>
                        <p:par>
                          <p:cTn id="9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 fill="hold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042920" y="10526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7 + 3  - 2 –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184788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 + 3 +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42920" y="27320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 + 5  –  1 –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42920" y="35924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6 + 1  +  3  –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42920" y="447516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 + 1  +  2 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6280" y="1052640"/>
            <a:ext cx="3970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41360" y="1859040"/>
            <a:ext cx="4366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0160" y="2732040"/>
            <a:ext cx="4168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1600" y="3600360"/>
            <a:ext cx="43524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420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1600" y="1052640"/>
            <a:ext cx="3970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0160" y="2744640"/>
            <a:ext cx="4168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600" y="3592440"/>
            <a:ext cx="43524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420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9560" y="1847880"/>
            <a:ext cx="4366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5713560" y="2324160"/>
          <a:ext cx="3141000" cy="1170000"/>
        </p:xfrm>
        <a:graphic>
          <a:graphicData uri="http://schemas.openxmlformats.org/drawingml/2006/table">
            <a:tbl>
              <a:tblPr/>
              <a:tblGrid>
                <a:gridCol w="622080"/>
                <a:gridCol w="503640"/>
                <a:gridCol w="648000"/>
                <a:gridCol w="503280"/>
                <a:gridCol w="432360"/>
                <a:gridCol w="431640"/>
              </a:tblGrid>
              <a:tr h="585000"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44910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208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448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7828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0228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1356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32080" y="5786280"/>
            <a:ext cx="47592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5572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952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670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27720" y="5767560"/>
            <a:ext cx="692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276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9520" y="4861080"/>
            <a:ext cx="85010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ить интерактивно. Для этого презентацию надо перевести в режим редакт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49360"/>
            <a:ext cx="8358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и значения выражений и ты отгадаешь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042920" y="10526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7 + 3  - 2 –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42920" y="184788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 + 3 +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42920" y="27320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 + 5  –  1 –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42920" y="35924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6 + 1  +  3  –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447516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 + 1  +  2 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6280" y="1052640"/>
            <a:ext cx="3970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1360" y="1859040"/>
            <a:ext cx="4366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0160" y="2732040"/>
            <a:ext cx="4168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1600" y="3600360"/>
            <a:ext cx="43524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420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1600" y="1052640"/>
            <a:ext cx="3970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0160" y="2744640"/>
            <a:ext cx="4168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1600" y="3592440"/>
            <a:ext cx="43524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420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39560" y="1847880"/>
            <a:ext cx="4366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5713560" y="2324160"/>
          <a:ext cx="3141000" cy="1170000"/>
        </p:xfrm>
        <a:graphic>
          <a:graphicData uri="http://schemas.openxmlformats.org/drawingml/2006/table">
            <a:tbl>
              <a:tblPr/>
              <a:tblGrid>
                <a:gridCol w="622080"/>
                <a:gridCol w="503640"/>
                <a:gridCol w="648000"/>
                <a:gridCol w="503280"/>
                <a:gridCol w="432360"/>
                <a:gridCol w="431640"/>
              </a:tblGrid>
              <a:tr h="585000"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4910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208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448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7828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0228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356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32080" y="5786280"/>
            <a:ext cx="47592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5572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952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670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27720" y="5767560"/>
            <a:ext cx="692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276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9120" y="549360"/>
            <a:ext cx="8358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и значения выражений и ты отгадаешь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dur="indefinite" fill="hold">
                      <p:stCondLst>
                        <p:cond delay="indefinite"/>
                      </p:stCondLst>
                      <p:childTnLst>
                        <p:par>
                          <p:cTn id="9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 -6 L 2.6827 -6 L -0.02899 -0.69612 E">
                                      <p:cBhvr>
                                        <p:cTn id="996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dur="indefinite" fill="hold">
                      <p:stCondLst>
                        <p:cond delay="indefinite"/>
                      </p:stCondLst>
                      <p:childTnLst>
                        <p:par>
                          <p:cTn id="9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6.38298 -7 L 0.86771 0.2766 E">
                                      <p:cBhvr>
                                        <p:cTn id="100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dur="indefinite" fill="hold">
                      <p:stCondLst>
                        <p:cond delay="indefinite"/>
                      </p:stCondLst>
                      <p:childTnLst>
                        <p:par>
                          <p:cTn id="10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2.6827 -6 L -0.15104 -0.57008 E">
                                      <p:cBhvr>
                                        <p:cTn id="1004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 -6 L -3.17299 -6 L 0.82153 0.15912 E">
                                      <p:cBhvr>
                                        <p:cTn id="1008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dur="indefinite" fill="hold">
                      <p:stCondLst>
                        <p:cond delay="indefinite"/>
                      </p:stCondLst>
                      <p:childTnLst>
                        <p:par>
                          <p:cTn id="10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 -6 L 2.6827 -6 L -0.16285 -0.44427 E">
                                      <p:cBhvr>
                                        <p:cTn id="1012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dur="indefinite" fill="hold">
                      <p:stCondLst>
                        <p:cond delay="indefinite"/>
                      </p:stCondLst>
                      <p:childTnLst>
                        <p:par>
                          <p:cTn id="10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 -6 L -2.12766 -7 L 0.77222 0.03192 E">
                                      <p:cBhvr>
                                        <p:cTn id="1016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dur="indefinite" fill="hold">
                      <p:stCondLst>
                        <p:cond delay="indefinite"/>
                      </p:stCondLst>
                      <p:childTnLst>
                        <p:par>
                          <p:cTn id="10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 -6 L 2.6827 -6 L -0.21389 -0.31846 E">
                                      <p:cBhvr>
                                        <p:cTn id="1020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dur="indefinite" fill="hold">
                      <p:stCondLst>
                        <p:cond delay="indefinite"/>
                      </p:stCondLst>
                      <p:childTnLst>
                        <p:par>
                          <p:cTn id="10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6 L -3.45051 -6 L 0.64514 -0.09458 E">
                                      <p:cBhvr>
                                        <p:cTn id="1024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dur="indefinite" fill="hold">
                      <p:stCondLst>
                        <p:cond delay="indefinite"/>
                      </p:stCondLst>
                      <p:childTnLst>
                        <p:par>
                          <p:cTn id="10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 -6 L -2.10916 -6 L -0.28507 -0.18987 E">
                                      <p:cBhvr>
                                        <p:cTn id="102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dur="indefinite" fill="hold">
                      <p:stCondLst>
                        <p:cond delay="indefinite"/>
                      </p:stCondLst>
                      <p:childTnLst>
                        <p:par>
                          <p:cTn id="10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-1.34135 -6 L 0.59219 -0.21646 E">
                                      <p:cBhvr>
                                        <p:cTn id="1032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7 L -1.34135 -6 L 0.71042 -0.21646 E">
                                      <p:cBhvr>
                                        <p:cTn id="1034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684360" y="1197000"/>
            <a:ext cx="7632720" cy="2874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363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2360" y="76320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ормирование познав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ниверсальных учебных действий на уроках математики в начальной школе»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49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Тема: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120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25239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системы универсальных учебных действий у младших школьников на уро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и для повышения качества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016000" cy="198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28920" y="1255680"/>
            <a:ext cx="178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3300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---  знакомство с методами изучения окружающего мира (наблюдение, сравнение, измерение, моделирование) и способами представления информаци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ормирование на доступном уровне умений работать с информацией, представленной в разных видах (текст, рисунок, схема, символическая запись, модель, таблица, диаграм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ормирование на доступном уровне навыков самостоятельной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ормирование навыков самостоятельной индивидуальной и коллективной работы: взаимоконтроля и самопроверки, обсуждения информации, планирования познавательной деятельности и само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104292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274680"/>
            <a:ext cx="79930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Современные образовательные технологии деятельностного тип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5113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проблемно – диалогическая техноло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технология мини – исслед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организация проект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оценивания образов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достижений, (учебных успех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ИКТ – технолог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6000" y="453852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33640" y="333000"/>
            <a:ext cx="801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 использования разли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х средств ИКТ   в образовательном процесс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19560"/>
            <a:ext cx="28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800" y="249120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7080" y="385956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38595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ьно-оцен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2232000" cy="1943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1109520" y="1628640"/>
            <a:ext cx="15242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1557360"/>
            <a:ext cx="100800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117520" y="1844640"/>
            <a:ext cx="181260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1844640"/>
            <a:ext cx="1295280" cy="19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00720" y="450072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561600"/>
            <a:ext cx="821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я  учебной деятельности  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ится на основе системно- деятельностного под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720" y="2068200"/>
            <a:ext cx="47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риентацию на дост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и и основ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ультата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3749760"/>
            <a:ext cx="515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пору на соврем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хнологии деятельностного ти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94240" y="4941720"/>
            <a:ext cx="371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4319640"/>
            <a:ext cx="2700360" cy="23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00720" y="1440000"/>
            <a:ext cx="270036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55520" y="210960"/>
            <a:ext cx="662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врем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едагогические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464840"/>
            <a:ext cx="929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нформационно-комуникацион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здоровьесберегающие технологи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личностно–ориентированный подход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сследовательскую деятель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проектный мет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дифференцированное обучен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гровые технологи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704000" y="0"/>
            <a:ext cx="144000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5400720"/>
            <a:ext cx="19796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6:41:14Z</dcterms:created>
  <dc:creator>Admin</dc:creator>
  <dc:description/>
  <dc:language>en-US</dc:language>
  <cp:lastModifiedBy>Admin</cp:lastModifiedBy>
  <dcterms:modified xsi:type="dcterms:W3CDTF">2011-02-28T00:51:34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110000000000010250600207f7000400038000</vt:lpwstr>
  </property>
</Properties>
</file>