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0C4-252C-4668-AA52-A33EE72D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96E-AD27-45A6-9466-1E43FC29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5E0-93C8-4F22-9FFB-F82C6D65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01B-96E9-4F40-BB6D-07B6B045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7B2-B6BB-4E43-87EF-676A43A3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B9B-70BC-4BBC-86C0-9EB86B3F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F94-4009-4C76-BFC4-88ECE30B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81E-EA8B-43D8-8E9B-C378E1F6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37F-59BD-4E1F-A01C-1CF5BAFF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C58-0677-40BE-8A8B-4245C838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DAF-7CFE-4587-9095-F4C0C3EC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734-BFDE-4278-BF65-46A6EA69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96AC-C0E3-4E35-9F83-CF58D98A9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стер-класс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готовление пингвина из пластил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720" y="3580920"/>
            <a:ext cx="5410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Кюрджиева Наталия Александ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Лицей № 4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63961" b="51682"/>
          <a:stretch/>
        </p:blipFill>
        <p:spPr>
          <a:xfrm>
            <a:off x="0" y="-228600"/>
            <a:ext cx="72388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4800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Скатайте туловище конусовидной формы из синего пластилина. Сделайте плоское голубое пятнышко и соедините с туловищ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делайте лапки и хвостик. Стекой сделайте проре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Соедините с туловищем глазки, клюв, лапки и хвост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6045" t="2465" r="47724" b="26227"/>
          <a:stretch/>
        </p:blipFill>
        <p:spPr>
          <a:xfrm>
            <a:off x="5486400" y="-762120"/>
            <a:ext cx="32814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Слепите два крыла и соедините с тулови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Из розового пластилина сделайте ще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7. Соедините шапку с тулови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52237" t="10014" r="31538" b="34177"/>
          <a:stretch/>
        </p:blipFill>
        <p:spPr>
          <a:xfrm>
            <a:off x="5715000" y="228600"/>
            <a:ext cx="2738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9. Из пластилина желтого цвета скатайте шарик и жгутик. Придайте рельеф в виде углублений с помощью зубочис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66631" t="10110" r="18947" b="34008"/>
          <a:stretch/>
        </p:blipFill>
        <p:spPr>
          <a:xfrm>
            <a:off x="5715000" y="0"/>
            <a:ext cx="251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-11. Скатайте жгутики розового цвета и украсьте ими шап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Пингвин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81025" t="7556" r="4575" b="33879"/>
          <a:stretch/>
        </p:blipFill>
        <p:spPr>
          <a:xfrm>
            <a:off x="6019920" y="0"/>
            <a:ext cx="240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5T14:09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