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FC5D-3346-4D48-ACE7-E5ACBF73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C9A-DF1E-4207-9A7F-41E24F6C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ABE-9998-449D-9780-2EDECC74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54A-5C0C-4F76-9A2D-37879EDE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D35-B474-4AD1-8EDB-993F5482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8D7-0EE9-4DAA-A4B9-5D993005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6D7E-48F4-4454-ABF7-696CDC4B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35F1-2553-4485-85DC-E272C37A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CFBA-791F-4AC2-AAF7-98991ABC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9B0-F04A-47A3-A3E7-9FDB978F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D6C9-590C-419F-8AA4-F8952BD8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25A-F563-4001-9068-45C2A613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1955-FABA-404F-971F-9973D750F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стер-класс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готовление пингвина из пластил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76720" y="3580920"/>
            <a:ext cx="5410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 Кюрджиева Наталия Александ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«Лицей № 47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Сар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0" r="63961" b="51682"/>
          <a:stretch/>
        </p:blipFill>
        <p:spPr>
          <a:xfrm>
            <a:off x="0" y="-228600"/>
            <a:ext cx="72388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4800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Скатайте туловище конусовидной формы из синего пластилина. Сделайте плоское голубое пятнышко и соедините с туловищ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Сделайте лапки и хвостик. Стекой сделайте проре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Соедините с туловищем глазки, клюв, лапки и хвост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6045" t="2465" r="47724" b="26227"/>
          <a:stretch/>
        </p:blipFill>
        <p:spPr>
          <a:xfrm>
            <a:off x="5486400" y="-762120"/>
            <a:ext cx="328140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Слепите два крыла и соедините с туловищ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Из розового пластилина сделайте ще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-7. Соедините шапку с туловищ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52237" t="10014" r="31538" b="34177"/>
          <a:stretch/>
        </p:blipFill>
        <p:spPr>
          <a:xfrm>
            <a:off x="5715000" y="228600"/>
            <a:ext cx="27385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-9. Из пластилина желтого цвета скатайте шарик и жгутик. Придайте рельеф в виде углублений с помощью зубочис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66631" t="10110" r="18947" b="34008"/>
          <a:stretch/>
        </p:blipFill>
        <p:spPr>
          <a:xfrm>
            <a:off x="5715000" y="0"/>
            <a:ext cx="251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-11. Скатайте жгутики розового цвета и украсьте ими шап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 Пингвин го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81025" t="7556" r="4575" b="33879"/>
          <a:stretch/>
        </p:blipFill>
        <p:spPr>
          <a:xfrm>
            <a:off x="6019920" y="0"/>
            <a:ext cx="240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5T14:09:0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