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D71-E2EC-4CC8-B367-2B44132D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CD9-99D7-4164-8818-73329E17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5D7-6FCD-49B3-8193-EB227DCA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109-576D-4B3A-94EC-8C25CEE1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0AC-678F-47C2-B852-77FDDEF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205-7A8C-418B-BE41-ABD11228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827-0B77-4064-A325-AD13709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151-568C-488D-88DD-0AB1D00D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854-04D4-467E-B844-7E4B0860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1C4C-E868-4318-9344-B8ED0905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B20-400A-4D44-BBCE-51F1319E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D4B-2DDA-4CB0-B44D-97520C99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161-E9BC-4BD7-A5EE-A7CFEC6A5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тер-класс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готовление черепашки из пластил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76720" y="3580920"/>
            <a:ext cx="5410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а: Кюрджиева Наталия Александ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У «Лицей № 4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Сар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0" t="-80" r="71160" b="62009"/>
          <a:stretch/>
        </p:blipFill>
        <p:spPr>
          <a:xfrm>
            <a:off x="1219320" y="380880"/>
            <a:ext cx="640080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4267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Сделайте из пластилина розового цвета панцирь для череп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Придайте изящную волнистость нижней части панци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8845" t="-80" r="53121" b="46736"/>
          <a:stretch/>
        </p:blipFill>
        <p:spPr>
          <a:xfrm>
            <a:off x="4800600" y="228600"/>
            <a:ext cx="28544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572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4. Выполните голову и лапки из пластилина зеленого цвета. С помощью стека обозначьте складки на шее и пальчики на лапк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8845" t="50871" r="53121" b="23801"/>
          <a:stretch/>
        </p:blipFill>
        <p:spPr>
          <a:xfrm>
            <a:off x="4952880" y="457200"/>
            <a:ext cx="2514600" cy="249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45042" t="2465" r="35138" b="69582"/>
          <a:stretch/>
        </p:blipFill>
        <p:spPr>
          <a:xfrm>
            <a:off x="4724280" y="3200400"/>
            <a:ext cx="2971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Соедините панцирь, лапки и го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делаем глазки и подарим черепахе улыб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46839" t="27945" r="36930" b="46639"/>
          <a:stretch/>
        </p:blipFill>
        <p:spPr>
          <a:xfrm>
            <a:off x="5257800" y="228600"/>
            <a:ext cx="2630520" cy="28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63031" t="2465" r="18952" b="72127"/>
          <a:stretch/>
        </p:blipFill>
        <p:spPr>
          <a:xfrm>
            <a:off x="5105520" y="3124080"/>
            <a:ext cx="3200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52578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9. Из пластилина желтого цвета изготовим цветочки. Украсьте цветочками панцирь и голову черепа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79228" t="2465" r="986" b="46623"/>
          <a:stretch/>
        </p:blipFill>
        <p:spPr>
          <a:xfrm>
            <a:off x="5715000" y="1981080"/>
            <a:ext cx="2703600" cy="4876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63031" t="27945" r="18952" b="46639"/>
          <a:stretch/>
        </p:blipFill>
        <p:spPr>
          <a:xfrm>
            <a:off x="5791320" y="0"/>
            <a:ext cx="24382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5T14:15:5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