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798-EF07-46B3-A81B-1ECB609E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831-3DD7-4C6F-BE11-0D8C8999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AE7-354F-4817-9044-8FF8C53A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7E1-C533-4B99-91D7-F93E555C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03F-FF5C-4D1A-BF96-BA93BC22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CAD-7597-4866-8106-1A9A2BC8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2DB-8CAD-47D7-A8BF-094F43A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32A-6747-4083-B41D-CCE0E96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71F-1E33-4D90-9333-A3F58F18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E3D-C2B1-46B9-B430-185313D3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FB3-79B3-4E0F-B355-936E79DF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4D2-456E-49FB-B65A-0D56499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4599-0E5F-4766-839E-9C82E7BD0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готовление черепашки из пластил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5410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-80" r="71160" b="62009"/>
          <a:stretch/>
        </p:blipFill>
        <p:spPr>
          <a:xfrm>
            <a:off x="1219320" y="380880"/>
            <a:ext cx="64008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4267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делайте из пластилина розового цвета панцирь для череп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идайте изящную волнистость нижней части панци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8845" t="-80" r="53121" b="46736"/>
          <a:stretch/>
        </p:blipFill>
        <p:spPr>
          <a:xfrm>
            <a:off x="4800600" y="228600"/>
            <a:ext cx="285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572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4. Выполните голову и лапки из пластилина зеленого цвета. С помощью стека обозначьте складки на шее и пальчики на лап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8845" t="50871" r="53121" b="23801"/>
          <a:stretch/>
        </p:blipFill>
        <p:spPr>
          <a:xfrm>
            <a:off x="4952880" y="457200"/>
            <a:ext cx="2514600" cy="249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45042" t="2465" r="35138" b="69582"/>
          <a:stretch/>
        </p:blipFill>
        <p:spPr>
          <a:xfrm>
            <a:off x="4724280" y="3200400"/>
            <a:ext cx="2971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Соедините панцирь, лапки и го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Сделаем глазки и подарим черепахе улыб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6839" t="27945" r="36930" b="46639"/>
          <a:stretch/>
        </p:blipFill>
        <p:spPr>
          <a:xfrm>
            <a:off x="5257800" y="228600"/>
            <a:ext cx="263052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63031" t="2465" r="18952" b="72127"/>
          <a:stretch/>
        </p:blipFill>
        <p:spPr>
          <a:xfrm>
            <a:off x="5105520" y="3124080"/>
            <a:ext cx="3200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5257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9. Из пластилина желтого цвета изготовим цветочки. Украсьте цветочками панцирь и голову черепа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79228" t="2465" r="986" b="46623"/>
          <a:stretch/>
        </p:blipFill>
        <p:spPr>
          <a:xfrm>
            <a:off x="5715000" y="1981080"/>
            <a:ext cx="2703600" cy="487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3031" t="27945" r="18952" b="46639"/>
          <a:stretch/>
        </p:blipFill>
        <p:spPr>
          <a:xfrm>
            <a:off x="5791320" y="0"/>
            <a:ext cx="2438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15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