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883-67E2-4DD5-9B00-241F8E9C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555-E5EF-4173-9A9F-334D51D5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A17-7FD7-4721-ACC2-6FC4A250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39A-EBB2-460A-B857-7AE409DD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E37-6137-42BF-92F1-C478C87D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C76-C872-44D9-AC64-35761FDC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C99-C3AA-4D57-BBDC-FA5FAEEE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237-33C0-4B72-AECB-48E26B77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0F7-F793-41EF-A7FC-F0AA16DA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D22-3D57-438D-8C35-97B2776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794-629F-4906-806C-B3A177D0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346-203E-41A5-97DF-576D840C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C8C5-2E66-474D-A600-00B076CB3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valentina.ru/school.php?act=0&amp;gr=78&amp;lv=1&amp;pc=7&amp;statid=203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стер-класс по изготовлению помпо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3828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43434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Просуньте двойную нить между картонными кольцами и намотайте их по кру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Завяжите их крепким двойным узлом, концы нитей пока не отрез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76920" y="304920"/>
            <a:ext cx="3886200" cy="292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39625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38088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Надрежьте картон так, чтобы его можно было вытащ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Возьмите помпон за длинные концы и несколько раз побейте помпоном по столу, чтобы выпали незакрепленные н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8320" y="419040"/>
            <a:ext cx="4114800" cy="3094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114800" cy="30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3434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Теперь можно подравнять помп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. Длинные нити (нить) можно оставить, чтобы крепить помпон, если вы будете использовать его как составную часть нов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. Помпон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809880" cy="2865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380988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alentina.ru/school.php?act=0&amp;gr=78&amp;lv=1&amp;pc=7&amp;statid=2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3505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м потребуется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• шерсть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• тонкий карто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• циркуль и ножниц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800600" cy="38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80880"/>
            <a:ext cx="45720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чертите маленький круг (здесь с радиусом 1,5 cм), а затем из того же центра – круг побольше (с радиусом 3 c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ырежьте большой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вторите предыдущие действия и вы получите два больших к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перь у обоих вырежьте внутренние кр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276720" cy="246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34120" y="3200400"/>
            <a:ext cx="33526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7242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Отмотайте и отрежьте от мотка шерсти от 4 до 8 одинаковых нитей (каждую длиной ок. 2 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Сложите вместе два картонных кольца и начинайте обматывать их ни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При этом одной рукой крепко прижмите кончики ни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6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7339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572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Равномерно наматывайте нити вокруг коль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Обмотав кольцо полностью, заходите на новый вит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Если вы хотите, чтобы помпон стал густым и плотным, начиная со второго витка, натягивайте нити си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505320" cy="2635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581640" cy="26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Когда нити закончатся, просто отрежьте новые и наматывайте да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Когда отверстие посередине станет узким, используйте для обмотки меньшее количество ни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4038840" cy="3036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3886200" cy="29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19112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В конце можно помогать карандаш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Продолжайте намотку, пока отверстие не станет совсем маленьк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4114800" cy="3094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96216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41911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Надрежьте нити по краю, пока ножницы не наткнутся на карт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Разрезайте слой нитей по краю, пока не разрежете по всей окруж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979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96252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3962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Если хотите, можете подравнять помпон, отрезав торчащие кончики ни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Теперь помпон выглядит т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0600" y="228600"/>
            <a:ext cx="3886200" cy="292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3657600"/>
            <a:ext cx="37335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05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