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DC4-3752-49C2-B0BE-A7E49DE3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7D0-3A03-429E-ADB7-14722DED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975-1EA5-4F15-AA68-4EE43E2C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529-E0DD-4370-BF48-73E48591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72E-4DA0-475B-91D1-9D2201FD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A57-06E8-48EE-BA06-B3A5451F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2CA-46E1-4BD0-B27F-5BEFA601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ACE-45BC-4A4D-81D9-AEC9761B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E81-6DC6-47A2-A33F-218DD65A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040-2555-4189-9DD5-104CDC0B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42B-B0EE-41B5-BDE6-252232B0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77C-A3C1-4B31-830A-5D1E4E7E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AD83-5722-4EC3-8ADD-658A5F5EC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alentina.ru/school.php?act=0&amp;gr=78&amp;lv=1&amp;pc=7&amp;statid=203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стер-класс по изготовлению помпон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3828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Кюрджиева Наталия Александ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Лицей № 47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Са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43434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 Просуньте двойную нить между картонными кольцами и намотайте их по к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 Завяжите их крепким двойным узлом, концы нитей пока не отрез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876920" y="304920"/>
            <a:ext cx="3886200" cy="292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00600" y="3429000"/>
            <a:ext cx="396252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380880"/>
            <a:ext cx="3962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Надрежьте картон так, чтобы его можно было вытащ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Возьмите помпон за длинные концы и несколько раз побейте помпоном по столу, чтобы выпали незакрепленные н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419040"/>
            <a:ext cx="4114800" cy="3094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114800" cy="30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28600"/>
            <a:ext cx="43434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. Теперь можно подравнять помп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. Длинные нити (нить) можно оставить, чтобы крепить помпон, если вы будете использовать его как составную часть нов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. Помпон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809880" cy="2865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3809880" cy="28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alentina.ru/school.php?act=0&amp;gr=78&amp;lv=1&amp;pc=7&amp;statid=2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3505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м потребуется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• шерсть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• тонкий картон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• циркуль и ножниц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800600" cy="38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80880"/>
            <a:ext cx="45720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чертите маленький круг (здесь с радиусом 1,5 cм), а затем из того же центра – круг побольше (с радиусом 3 c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ырежьте большой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вторите предыдущие действия и вы получите два больших к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Теперь у обоих вырежьте внутренние кр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276720" cy="246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4120" y="3200400"/>
            <a:ext cx="335268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28600"/>
            <a:ext cx="47242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Отмотайте и отрежьте от мотка шерсти от 4 до 8 одинаковых нитей (каждую длиной ок. 2 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Сложите вместе два картонных кольца и начинайте обматывать их ни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При этом одной рукой крепко прижмите кончики ни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809880" cy="286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37339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5720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Равномерно наматывайте нити вокруг коль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Обмотав кольцо полностью, заходите на новый ви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Если вы хотите, чтобы помпон стал густым и плотным, начиная со второго витка, натягивайте нити си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505320" cy="2635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3581280"/>
            <a:ext cx="3581640" cy="26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Когда нити закончатся, просто отрежьте новые и наматывайте дал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Когда отверстие посередине станет узким, используйте для обмотки меньшее количество ни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038840" cy="3036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3886200" cy="29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1911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В конце можно помогать карандаш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Продолжайте намотку, пока отверстие не станет совсем малень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00600" y="152280"/>
            <a:ext cx="4114800" cy="309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396216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41911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Надрежьте нити по краю, пока ножницы не наткнутся на кар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 Разрезайте слой нитей по краю, пока не разрежете по всей окру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97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00600" y="3505320"/>
            <a:ext cx="396252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39625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 Если хотите, можете подравнять помпон, отрезав торчащие кончики ни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 Теперь помпон выглядит т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0600" y="228600"/>
            <a:ext cx="3886200" cy="2922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37335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5T14:05:2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