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9E3-62EF-4489-AAA0-8EA68BF5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6C1-7F1A-49B7-AB12-CD83E04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365-3EF0-4520-92F4-D8F7E3F1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8A1-7310-4912-B94F-03CDB6DC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932-C755-429C-8AC1-0E478D27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918-ED0C-4EFE-94F7-F851DC7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9D1-A41F-42BC-8E3B-822B4C5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3A3-4022-4451-858B-10AC48E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E7E-144B-4B99-92DE-E5C6D2A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E7B-381D-4644-9AF3-5305A39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0FF-45A2-4F01-931F-F063331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833-F5F5-4B3A-A9DF-23C865D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FD8-0BBC-41B1-BA4A-80F8E06F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жирафа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7" t="0" r="72958" b="52387"/>
          <a:stretch/>
        </p:blipFill>
        <p:spPr>
          <a:xfrm>
            <a:off x="1676520" y="-685800"/>
            <a:ext cx="57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катайте 7 шариков из пластилина желтого цвета, как показано на рису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0648" t="5218" r="53121" b="70959"/>
          <a:stretch/>
        </p:blipFill>
        <p:spPr>
          <a:xfrm>
            <a:off x="4343400" y="14479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аскатайте шарики, предназначенные для ног. Из пластилина красного цвета сделайте к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Из самого большого шарика вылепите туловище жирафа и соедините с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5251" t="26465" r="51324" b="28447"/>
          <a:stretch/>
        </p:blipFill>
        <p:spPr>
          <a:xfrm>
            <a:off x="4648320" y="762120"/>
            <a:ext cx="4065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озьмите оставшийся шарик желтого цвета и вылепите голову.  Потом из пластилина красного цвета оформите переднюю часть морд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текой обозначьте ноздри и р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2237" t="2567" r="31538" b="28439"/>
          <a:stretch/>
        </p:blipFill>
        <p:spPr>
          <a:xfrm>
            <a:off x="5105520" y="0"/>
            <a:ext cx="29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Слепите глаза, рожки, ушки. Соединит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9.Раскатайте 2 полоски красного цвета. Надрежьте ножницами гриву по всей д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8428" t="2567" r="17149" b="31090"/>
          <a:stretch/>
        </p:blipFill>
        <p:spPr>
          <a:xfrm>
            <a:off x="5867280" y="-762120"/>
            <a:ext cx="246384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Соедините ранее изготовленное туловище с головой. Из 7 шарика скатайте хвостик. Налепите гриву. Из второй полоски сделайте пятнышки и украсьте жи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Из пластилина зеленого цвета вылепите листочек и вставьте в ротик жираф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2822" t="5218" r="986" b="28439"/>
          <a:stretch/>
        </p:blipFill>
        <p:spPr>
          <a:xfrm>
            <a:off x="6019920" y="0"/>
            <a:ext cx="249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12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