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0249-7897-4B30-BE90-6313DBFE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0953-356E-4B57-8C1B-0A57B585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2DFB-C97C-418A-9C17-02949376A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22B9-1292-4454-9923-2F1A760E5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E0A3-DA6B-4673-BB59-E1F1935B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B7B8-BD0D-4B8B-B186-E3DFA62F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0733-2E9D-4BA9-A6F4-92D7DA0F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FD80-3FA9-491C-86C8-C959A391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E466-357E-413A-AE2A-3F709780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BA45-1DC4-4922-9FFD-4F66A2E1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A89D-71FE-4C27-A7C3-0EA362E0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D769-DD31-478C-8D46-DC386100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FA05-0654-4783-8203-E7B16A139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астер-класс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зготовление жирафа из пластили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76720" y="3580920"/>
            <a:ext cx="5410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ла: Кюрджиева Наталия Александро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У «Лицей № 47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 Сар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57" t="0" r="72958" b="52387"/>
          <a:stretch/>
        </p:blipFill>
        <p:spPr>
          <a:xfrm>
            <a:off x="1676520" y="-685800"/>
            <a:ext cx="574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Скатайте 7 шариков из пластилина желтого цвета, как показано на рисун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30648" t="5218" r="53121" b="70959"/>
          <a:stretch/>
        </p:blipFill>
        <p:spPr>
          <a:xfrm>
            <a:off x="4343400" y="1447920"/>
            <a:ext cx="426708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Раскатайте шарики, предназначенные для ног. Из пластилина красного цвета сделайте копы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Из самого большого шарика вылепите туловище жирафа и соедините с ног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25251" t="26465" r="51324" b="28447"/>
          <a:stretch/>
        </p:blipFill>
        <p:spPr>
          <a:xfrm>
            <a:off x="4648320" y="762120"/>
            <a:ext cx="4065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Возьмите оставшийся шарик желтого цвета и вылепите голову.  Потом из пластилина красного цвета оформите переднюю часть морд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Стекой обозначьте ноздри и рот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52237" t="2567" r="31538" b="28439"/>
          <a:stretch/>
        </p:blipFill>
        <p:spPr>
          <a:xfrm>
            <a:off x="5105520" y="0"/>
            <a:ext cx="297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Слепите глаза, рожки, ушки. Соедините дет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-9.Раскатайте 2 полоски красного цвета. Надрежьте ножницами гриву по всей дл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68428" t="2567" r="17149" b="31090"/>
          <a:stretch/>
        </p:blipFill>
        <p:spPr>
          <a:xfrm>
            <a:off x="5867280" y="-762120"/>
            <a:ext cx="246384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 Соедините ранее изготовленное туловище с головой. Из 7 шарика скатайте хвостик. Налепите гриву. Из второй полоски сделайте пятнышки и украсьте жираф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 Из пластилина зеленого цвета вылепите листочек и вставьте в ротик жираф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82822" t="5218" r="986" b="28439"/>
          <a:stretch/>
        </p:blipFill>
        <p:spPr>
          <a:xfrm>
            <a:off x="6019920" y="0"/>
            <a:ext cx="2492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4-15T14:12:5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