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58F4-E7B6-429C-BBC3-DE51C3E4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37EB-CC81-412B-BE12-AB76DE2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C01C-F7F6-4F37-AA5E-1B9EB828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8450-9C0F-407F-A0F1-6C941A5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66DA-CABD-4A03-801B-9405D823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FF1-294C-4109-A7DE-FB6B987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ABFE-74AC-45CF-9B9C-A3081A9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666-EF1C-4FB3-A23A-0EBB5A7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6E56-C157-487B-BBC7-FA1CF8E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6A3-0BBB-4B4F-85F4-69967A4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61FA-0693-45C2-9F4A-6C492D8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0AC4-4569-4E85-B813-1E04C4B0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3234-2DA4-4B47-BB7E-ECF283AE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F497-AF11-4C8B-8F96-800789E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5123-F59E-413A-A33C-295821D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B7B2-E8EB-4106-9E5C-9538455D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D715-F92F-49CD-BCED-6B5C635D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9618-9A7E-4E40-BDB8-9E52F69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483A-089A-4A71-BCD3-E7CCD966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EA42-BD48-4444-A8C0-71FD1099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D658-9F39-47A5-A87D-BE1F502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1A4F-48E3-4378-8019-3191FCC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4570-CE28-48E1-9C8A-BE9D84A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2DDA-6F0D-44EE-89F7-B620231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E135-14D1-4FA0-8A04-025F738920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827-1D36-4CF0-B8E8-86AE4349C6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240" y="765000"/>
            <a:ext cx="72723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выполнена учеником 7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Михайловская СОШ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енделевым Антон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28880" y="285840"/>
            <a:ext cx="3929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286000" y="1500120"/>
            <a:ext cx="4429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усских народны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10" descr="i?id=132286861&amp;tov=0"/>
          <p:cNvPicPr/>
          <p:nvPr/>
        </p:nvPicPr>
        <p:blipFill>
          <a:blip r:embed="rId1"/>
          <a:stretch/>
        </p:blipFill>
        <p:spPr>
          <a:xfrm>
            <a:off x="571680" y="2643120"/>
            <a:ext cx="1357200" cy="211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i?id=88000180&amp;tov=8"/>
          <p:cNvPicPr/>
          <p:nvPr/>
        </p:nvPicPr>
        <p:blipFill>
          <a:blip r:embed="rId2"/>
          <a:stretch/>
        </p:blipFill>
        <p:spPr>
          <a:xfrm>
            <a:off x="7072200" y="2714760"/>
            <a:ext cx="142884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http://im8-tub.yandex.net/i?id=139167116&amp;tov=8"/>
          <p:cNvPicPr/>
          <p:nvPr/>
        </p:nvPicPr>
        <p:blipFill>
          <a:blip r:embed="rId3"/>
          <a:stretch/>
        </p:blipFill>
        <p:spPr>
          <a:xfrm>
            <a:off x="7643880" y="714240"/>
            <a:ext cx="942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сказок о животных вы прочитал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357120" y="1714680"/>
          <a:ext cx="81439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14680"/>
                    <a:ext cx="81439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ие звери встречались в сказках чащ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760320" y="2000160"/>
          <a:ext cx="776772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000160"/>
                    <a:ext cx="77677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ие черты   характера присуще 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43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трос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http://im6-tub.yandex.net/i?id=18333493&amp;tov=6"/>
          <p:cNvPicPr/>
          <p:nvPr/>
        </p:nvPicPr>
        <p:blipFill>
          <a:blip r:embed="rId1"/>
          <a:stretch/>
        </p:blipFill>
        <p:spPr>
          <a:xfrm>
            <a:off x="3643200" y="1571760"/>
            <a:ext cx="2049480" cy="185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http://im4-tub.yandex.net/i?id=34993156&amp;tov=4"/>
          <p:cNvPicPr/>
          <p:nvPr/>
        </p:nvPicPr>
        <p:blipFill>
          <a:blip r:embed="rId2"/>
          <a:stretch/>
        </p:blipFill>
        <p:spPr>
          <a:xfrm>
            <a:off x="6286680" y="2357280"/>
            <a:ext cx="2060280" cy="27147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4357800" y="3244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п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9" descr="http://im0-tub.yandex.net/i?id=10633366&amp;tov=0"/>
          <p:cNvPicPr/>
          <p:nvPr/>
        </p:nvPicPr>
        <p:blipFill>
          <a:blip r:embed="rId3"/>
          <a:stretch/>
        </p:blipFill>
        <p:spPr>
          <a:xfrm>
            <a:off x="2500200" y="3230640"/>
            <a:ext cx="1857600" cy="25556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8"/>
          <p:cNvSpPr/>
          <p:nvPr/>
        </p:nvSpPr>
        <p:spPr>
          <a:xfrm>
            <a:off x="1071720" y="328608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му учат сказки о животных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5043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о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http://im4-tub.yandex.net/i?id=31611269&amp;tov=4"/>
          <p:cNvPicPr/>
          <p:nvPr/>
        </p:nvPicPr>
        <p:blipFill>
          <a:blip r:embed="rId1"/>
          <a:stretch/>
        </p:blipFill>
        <p:spPr>
          <a:xfrm>
            <a:off x="2286000" y="171468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5786280" y="17859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6000840" y="3244680"/>
            <a:ext cx="29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ижать         маленьких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5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часто встречаются в сказках такие животные: лиса, волк, медвед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зки о животных носят не только  развлекательно-забавный характер, но и поучительны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 приписал животным способность рассуждать и говорить стремлением понять жизнь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 наделял образы животных человеческими чертам и чаще всего негатив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икин В.П. Русская народная сказка М., «Просвещение», 197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анасьев. А.Н. Народные русские сказки / Под ред. Грузинского. — Изд. 3-е. — 189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рникова Н.М.  Русская народная сказка М., «Нау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ль работы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9720" y="2071440"/>
            <a:ext cx="6000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особенности образов животных и их роль в народных сказка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i?id=10504635&amp;tov=2"/>
          <p:cNvPicPr/>
          <p:nvPr/>
        </p:nvPicPr>
        <p:blipFill>
          <a:blip r:embed="rId1"/>
          <a:stretch/>
        </p:blipFill>
        <p:spPr>
          <a:xfrm>
            <a:off x="6858000" y="3143160"/>
            <a:ext cx="1996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адачи: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43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самых распространенных животных в сказ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мотреть особенности характе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, являются они главным или второстепенным лиц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место и особенности изображения животных в сказ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2" descr="i?id=88000180&amp;tov=8"/>
          <p:cNvPicPr/>
          <p:nvPr/>
        </p:nvPicPr>
        <p:blipFill>
          <a:blip r:embed="rId1"/>
          <a:stretch/>
        </p:blipFill>
        <p:spPr>
          <a:xfrm>
            <a:off x="6786720" y="1143000"/>
            <a:ext cx="18396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то такое сказка?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57120" y="1356840"/>
            <a:ext cx="8143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о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аз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записано в письменных источниках XVI века. От слова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з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Значение: перечень, список, точное описание. Современное значение слово приобретает с XIX века. До XIX века использовалось слово XI века - кощу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9" descr="http://im7-tub.yandex.net/i?id=20648831&amp;tov=7"/>
          <p:cNvPicPr/>
          <p:nvPr/>
        </p:nvPicPr>
        <p:blipFill>
          <a:blip r:embed="rId1"/>
          <a:stretch/>
        </p:blipFill>
        <p:spPr>
          <a:xfrm>
            <a:off x="6572160" y="3786120"/>
            <a:ext cx="1571760" cy="1920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im7-tub.yandex.net/i?id=66835297&amp;tov=7"/>
          <p:cNvPicPr/>
          <p:nvPr/>
        </p:nvPicPr>
        <p:blipFill>
          <a:blip r:embed="rId2"/>
          <a:stretch/>
        </p:blipFill>
        <p:spPr>
          <a:xfrm>
            <a:off x="3929040" y="3857760"/>
            <a:ext cx="2000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иса семерых волков проведе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5" descr="i?id=87872791&amp;tov=5"/>
          <p:cNvPicPr/>
          <p:nvPr/>
        </p:nvPicPr>
        <p:blipFill>
          <a:blip r:embed="rId1"/>
          <a:stretch/>
        </p:blipFill>
        <p:spPr>
          <a:xfrm>
            <a:off x="5786280" y="1643040"/>
            <a:ext cx="15624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?id=97161412&amp;tov=3"/>
          <p:cNvPicPr/>
          <p:nvPr/>
        </p:nvPicPr>
        <p:blipFill>
          <a:blip r:embed="rId2"/>
          <a:stretch/>
        </p:blipFill>
        <p:spPr>
          <a:xfrm>
            <a:off x="6858000" y="3214800"/>
            <a:ext cx="2000160" cy="27032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7"/>
          <p:cNvSpPr/>
          <p:nvPr/>
        </p:nvSpPr>
        <p:spPr>
          <a:xfrm>
            <a:off x="214200" y="1643040"/>
            <a:ext cx="5572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 лисы стабилен. Она рисуется  как лживая, хитрая обманщи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сех сказках она льстив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стительная, хитрая, расчетли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а Патрикеевна,  лисица-красавица,  лисица—масляна губица, лиса-кумушка, Лисаф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i?id=7502624&amp;tov=2"/>
          <p:cNvPicPr/>
          <p:nvPr/>
        </p:nvPicPr>
        <p:blipFill>
          <a:blip r:embed="rId3"/>
          <a:stretch/>
        </p:blipFill>
        <p:spPr>
          <a:xfrm>
            <a:off x="7215120" y="1357200"/>
            <a:ext cx="164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лк меняет шерсть, но не характер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61437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казках волк беспредельн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луп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насытная жажда кров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ты насильника, который призн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 право — право сильног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зубов, — без этой черты  волк не волк. Народ знал немало лиходеев и преступников, от которых ему приходилось тяж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и о волке не скрывают, кого они имеют в ви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ttp://im2-tub.yandex.net/i?id=141932656&amp;tov=2"/>
          <p:cNvPicPr/>
          <p:nvPr/>
        </p:nvPicPr>
        <p:blipFill>
          <a:blip r:embed="rId1"/>
          <a:stretch/>
        </p:blipFill>
        <p:spPr>
          <a:xfrm>
            <a:off x="6286680" y="3214800"/>
            <a:ext cx="1643040" cy="233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im3-tub.yandex.net/i?id=12034703&amp;tov=3"/>
          <p:cNvPicPr/>
          <p:nvPr/>
        </p:nvPicPr>
        <p:blipFill>
          <a:blip r:embed="rId2"/>
          <a:stretch/>
        </p:blipFill>
        <p:spPr>
          <a:xfrm>
            <a:off x="6929280" y="1428840"/>
            <a:ext cx="16434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дведь, хоть и старый, - двух лисиц стои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i?id=57392985&amp;tov=7"/>
          <p:cNvPicPr/>
          <p:nvPr/>
        </p:nvPicPr>
        <p:blipFill>
          <a:blip r:embed="rId1"/>
          <a:stretch/>
        </p:blipFill>
        <p:spPr>
          <a:xfrm>
            <a:off x="6786720" y="1857240"/>
            <a:ext cx="2152440" cy="27860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7120" y="1500480"/>
            <a:ext cx="678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ведь олицетворяет грубую силу, обладает властью над другими животными. Медведь также глуп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упость медведя — рознь волчьей глупости. Это — глупость человека, располагающего властью. Свою силу медведь употребляет не по разуму.  Медведь представляет собой человека, облеченного власт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ягкие лап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 в лапках - цап-царапк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8" descr="i?id=7284008&amp;tov=5"/>
          <p:cNvPicPr/>
          <p:nvPr/>
        </p:nvPicPr>
        <p:blipFill>
          <a:blip r:embed="rId1"/>
          <a:stretch/>
        </p:blipFill>
        <p:spPr>
          <a:xfrm>
            <a:off x="6858000" y="1643040"/>
            <a:ext cx="2101680" cy="307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42920" y="1477800"/>
            <a:ext cx="671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Кот часто встречается в образе спасителя от различных напастей. Он  выступает бравым защитником петуха. У кота прекрасный слух, он умен и заботлив.  В сказках кот выступает как положительный гер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Можно отметить общие чер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везде звери боятся ко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у кота всегда есть имя, причем с отчеств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бескорыстен в дружб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кетирование среди учащихся 3- 6 классов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 сказок о животных вы прочита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звери встречались в сказках чащ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черты присущ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у учат сказки о животны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1:52:23Z</dcterms:created>
  <dc:creator>Admin</dc:creator>
  <dc:description/>
  <dc:language>en-US</dc:language>
  <cp:lastModifiedBy>ученик</cp:lastModifiedBy>
  <dcterms:modified xsi:type="dcterms:W3CDTF">2012-04-04T08:15:43Z</dcterms:modified>
  <cp:revision>36</cp:revision>
  <dc:subject/>
  <dc:title>Слайд 1</dc:title>
</cp:coreProperties>
</file>