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.jpeg" ContentType="image/jpeg"/>
  <Override PartName="/ppt/media/image15.wmf" ContentType="image/x-wmf"/>
  <Override PartName="/ppt/media/image14.wmf" ContentType="image/x-wmf"/>
  <Override PartName="/ppt/media/image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5BA2F-713B-452C-BA56-814CB3BB4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A47E8-A152-480E-90CE-C3155B492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D838A-FDF4-4E11-BE1B-3A81498D6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88246-0650-4B72-AC8E-2DA0A87CF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696A1-64AC-4926-9970-DA7109D9A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0C052-3379-40D0-A581-9F61F269C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5E3F3-5D23-4C85-B0EC-3808059AE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FCB55-505C-43A4-A18B-51698F57D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E1291-8C81-4396-91AC-EF9C7CF76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4F1D2-D0F8-45B0-8A74-F67FA9C39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61EE6-822C-434D-BE3D-65E350E4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B2FC5-732E-4F08-AFBD-AFAB7FDAD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EF9CD-C01B-4FE9-B786-4FE61A2E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E6AC8-7B70-4DCB-8581-0B154535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D85CB-9846-4110-A863-E3E731461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4257A-9291-48D3-88E0-DACE28234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4ACF2-3116-4750-BD00-A1DFCAE63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060D5-95D1-4726-8DD1-8059174AE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A9221-DE57-4AB3-904F-3BFD957F0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56D94-AA9D-44E3-B603-502AA3B93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7DAB6-61BB-44C6-8770-D69AE278F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F9A1C-10C9-4B2A-8927-A0D4E596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64186-C893-4AF0-8608-9F31FCAD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A6FCC-C0FA-4492-9629-4B7BEDF2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2E2CD-BDFD-41EE-8757-A5524A8D828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E044F-5CF1-457E-96F3-AD8A06D355E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371240" y="765000"/>
            <a:ext cx="727236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езентация выполнена учеником 7 класс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ОУ Михайловская СОШ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ренделевым Антоно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WordArt 4"/>
          <p:cNvSpPr txBox="1"/>
          <p:nvPr/>
        </p:nvSpPr>
        <p:spPr>
          <a:xfrm>
            <a:off x="1928880" y="285840"/>
            <a:ext cx="3929040" cy="13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9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бразы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8" name="WordArt 5"/>
          <p:cNvSpPr txBox="1"/>
          <p:nvPr/>
        </p:nvSpPr>
        <p:spPr>
          <a:xfrm>
            <a:off x="2286000" y="1500120"/>
            <a:ext cx="4429080" cy="31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животных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          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 русских народных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                  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казках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9" name="Picture 10" descr="i?id=132286861&amp;tov=0"/>
          <p:cNvPicPr/>
          <p:nvPr/>
        </p:nvPicPr>
        <p:blipFill>
          <a:blip r:embed="rId1"/>
          <a:stretch/>
        </p:blipFill>
        <p:spPr>
          <a:xfrm>
            <a:off x="571680" y="2643120"/>
            <a:ext cx="1357200" cy="2113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2" descr="i?id=88000180&amp;tov=8"/>
          <p:cNvPicPr/>
          <p:nvPr/>
        </p:nvPicPr>
        <p:blipFill>
          <a:blip r:embed="rId2"/>
          <a:stretch/>
        </p:blipFill>
        <p:spPr>
          <a:xfrm>
            <a:off x="7072200" y="2714760"/>
            <a:ext cx="1428840" cy="18954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4" descr="http://im8-tub.yandex.net/i?id=139167116&amp;tov=8"/>
          <p:cNvPicPr/>
          <p:nvPr/>
        </p:nvPicPr>
        <p:blipFill>
          <a:blip r:embed="rId3"/>
          <a:stretch/>
        </p:blipFill>
        <p:spPr>
          <a:xfrm>
            <a:off x="7643880" y="714240"/>
            <a:ext cx="94284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Сколько сказок о животных вы прочитали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1" name="Object 5"/>
          <p:cNvGraphicFramePr/>
          <p:nvPr/>
        </p:nvGraphicFramePr>
        <p:xfrm>
          <a:off x="357120" y="1714680"/>
          <a:ext cx="8143920" cy="392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20" y="1714680"/>
                    <a:ext cx="814392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Какие звери встречались в сказках чаще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5" name="Object 4"/>
          <p:cNvGraphicFramePr/>
          <p:nvPr/>
        </p:nvGraphicFramePr>
        <p:xfrm>
          <a:off x="760320" y="2000160"/>
          <a:ext cx="7767720" cy="3786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0320" y="2000160"/>
                    <a:ext cx="7767720" cy="37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Какие черты   характера присуще …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599840"/>
            <a:ext cx="404352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хитрость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5" descr="http://im6-tub.yandex.net/i?id=18333493&amp;tov=6"/>
          <p:cNvPicPr/>
          <p:nvPr/>
        </p:nvPicPr>
        <p:blipFill>
          <a:blip r:embed="rId1"/>
          <a:stretch/>
        </p:blipFill>
        <p:spPr>
          <a:xfrm>
            <a:off x="3643200" y="1571760"/>
            <a:ext cx="2049480" cy="1858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http://im4-tub.yandex.net/i?id=34993156&amp;tov=4"/>
          <p:cNvPicPr/>
          <p:nvPr/>
        </p:nvPicPr>
        <p:blipFill>
          <a:blip r:embed="rId2"/>
          <a:stretch/>
        </p:blipFill>
        <p:spPr>
          <a:xfrm>
            <a:off x="6286680" y="2357280"/>
            <a:ext cx="2060280" cy="2714760"/>
          </a:xfrm>
          <a:prstGeom prst="rect">
            <a:avLst/>
          </a:prstGeom>
          <a:ln w="0">
            <a:noFill/>
          </a:ln>
        </p:spPr>
      </p:pic>
      <p:sp>
        <p:nvSpPr>
          <p:cNvPr id="171" name="Прямоугольник 5"/>
          <p:cNvSpPr/>
          <p:nvPr/>
        </p:nvSpPr>
        <p:spPr>
          <a:xfrm>
            <a:off x="4357800" y="3244680"/>
            <a:ext cx="235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лупост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9" descr="http://im0-tub.yandex.net/i?id=10633366&amp;tov=0"/>
          <p:cNvPicPr/>
          <p:nvPr/>
        </p:nvPicPr>
        <p:blipFill>
          <a:blip r:embed="rId3"/>
          <a:stretch/>
        </p:blipFill>
        <p:spPr>
          <a:xfrm>
            <a:off x="2500200" y="3230640"/>
            <a:ext cx="1857600" cy="2555640"/>
          </a:xfrm>
          <a:prstGeom prst="rect">
            <a:avLst/>
          </a:prstGeom>
          <a:ln w="0">
            <a:noFill/>
          </a:ln>
        </p:spPr>
      </p:pic>
      <p:sp>
        <p:nvSpPr>
          <p:cNvPr id="173" name="Прямоугольник 8"/>
          <p:cNvSpPr/>
          <p:nvPr/>
        </p:nvSpPr>
        <p:spPr>
          <a:xfrm>
            <a:off x="1071720" y="328608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л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Чему учат сказки о животных?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599840"/>
            <a:ext cx="5043600" cy="22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брот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Picture 5" descr="http://im4-tub.yandex.net/i?id=31611269&amp;tov=4"/>
          <p:cNvPicPr/>
          <p:nvPr/>
        </p:nvPicPr>
        <p:blipFill>
          <a:blip r:embed="rId1"/>
          <a:stretch/>
        </p:blipFill>
        <p:spPr>
          <a:xfrm>
            <a:off x="2286000" y="1714680"/>
            <a:ext cx="3214800" cy="3214440"/>
          </a:xfrm>
          <a:prstGeom prst="rect">
            <a:avLst/>
          </a:prstGeom>
          <a:ln w="0">
            <a:noFill/>
          </a:ln>
        </p:spPr>
      </p:pic>
      <p:sp>
        <p:nvSpPr>
          <p:cNvPr id="177" name="Прямоугольник 4"/>
          <p:cNvSpPr/>
          <p:nvPr/>
        </p:nvSpPr>
        <p:spPr>
          <a:xfrm>
            <a:off x="5786280" y="1785960"/>
            <a:ext cx="221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юбв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Прямоугольник 5"/>
          <p:cNvSpPr/>
          <p:nvPr/>
        </p:nvSpPr>
        <p:spPr>
          <a:xfrm>
            <a:off x="6000840" y="3244680"/>
            <a:ext cx="2928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ижать         маленьких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571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Вывод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28760" y="1143000"/>
            <a:ext cx="8501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buClr>
                <a:srgbClr val="ebf25a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иболее часто встречаются в сказках такие животные: лиса, волк, медведь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ebf25a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казки о животных носят не только  развлекательно-забавный характер, но и поучительный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ebf25a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еловек приписал животным способность рассуждать и говорить стремлением понять жизнь животных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ebf25a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род наделял образы животных человеческими чертам и чаще всего негативны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Список литератур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икин В.П. Русская народная сказка М., «Просвещение», 1977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фанасьев. А.Н. Народные русские сказки / Под ред. Грузинского. — Изд. 3-е. — 1897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едерникова Н.М.  Русская народная сказка М., «Наука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7772400" cy="1928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Цель работы: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999720" y="2071440"/>
            <a:ext cx="600084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явить особенности образов животных и их роль в народных сказках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6" descr="i?id=10504635&amp;tov=2"/>
          <p:cNvPicPr/>
          <p:nvPr/>
        </p:nvPicPr>
        <p:blipFill>
          <a:blip r:embed="rId1"/>
          <a:stretch/>
        </p:blipFill>
        <p:spPr>
          <a:xfrm>
            <a:off x="6858000" y="3143160"/>
            <a:ext cx="199692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Задачи: 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543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пределить самых распространенных животных в сказка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ссмотреть особенности характер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пределить, являются они главным или второстепенным лицо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явить место и особенности изображения животных в сказка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12" descr="i?id=88000180&amp;tov=8"/>
          <p:cNvPicPr/>
          <p:nvPr/>
        </p:nvPicPr>
        <p:blipFill>
          <a:blip r:embed="rId1"/>
          <a:stretch/>
        </p:blipFill>
        <p:spPr>
          <a:xfrm>
            <a:off x="6786720" y="1143000"/>
            <a:ext cx="1839600" cy="24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Что такое сказка? 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357120" y="1356840"/>
            <a:ext cx="814392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лово «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казк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» записано в письменных источниках XVI века. От слова «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азать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». Значение: перечень, список, точное описание. Современное значение слово приобретает с XIX века. До XIX века использовалось слово XI века - кощун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9" descr="http://im7-tub.yandex.net/i?id=20648831&amp;tov=7"/>
          <p:cNvPicPr/>
          <p:nvPr/>
        </p:nvPicPr>
        <p:blipFill>
          <a:blip r:embed="rId1"/>
          <a:stretch/>
        </p:blipFill>
        <p:spPr>
          <a:xfrm>
            <a:off x="6572160" y="3786120"/>
            <a:ext cx="1571760" cy="19209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http://im7-tub.yandex.net/i?id=66835297&amp;tov=7"/>
          <p:cNvPicPr/>
          <p:nvPr/>
        </p:nvPicPr>
        <p:blipFill>
          <a:blip r:embed="rId2"/>
          <a:stretch/>
        </p:blipFill>
        <p:spPr>
          <a:xfrm>
            <a:off x="3929040" y="3857760"/>
            <a:ext cx="200016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Лиса семерых волков проведет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3" name="Picture 5" descr="i?id=87872791&amp;tov=5"/>
          <p:cNvPicPr/>
          <p:nvPr/>
        </p:nvPicPr>
        <p:blipFill>
          <a:blip r:embed="rId1"/>
          <a:stretch/>
        </p:blipFill>
        <p:spPr>
          <a:xfrm>
            <a:off x="5786280" y="1643040"/>
            <a:ext cx="1562400" cy="2222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3" descr="i?id=97161412&amp;tov=3"/>
          <p:cNvPicPr/>
          <p:nvPr/>
        </p:nvPicPr>
        <p:blipFill>
          <a:blip r:embed="rId2"/>
          <a:stretch/>
        </p:blipFill>
        <p:spPr>
          <a:xfrm>
            <a:off x="6858000" y="3214800"/>
            <a:ext cx="2000160" cy="2703240"/>
          </a:xfrm>
          <a:prstGeom prst="rect">
            <a:avLst/>
          </a:prstGeom>
          <a:ln w="0">
            <a:noFill/>
          </a:ln>
        </p:spPr>
      </p:pic>
      <p:sp>
        <p:nvSpPr>
          <p:cNvPr id="145" name="Прямоугольник 7"/>
          <p:cNvSpPr/>
          <p:nvPr/>
        </p:nvSpPr>
        <p:spPr>
          <a:xfrm>
            <a:off x="214200" y="1643040"/>
            <a:ext cx="5572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раз лисы стабилен. Она рисуется  как лживая, хитрая обманщиц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 всех сказках она льстивая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стительная, хитрая, расчетлива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иса Патрикеевна,  лисица-красавица,  лисица—масляна губица, лиса-кумушка, Лисафь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5" descr="i?id=7502624&amp;tov=2"/>
          <p:cNvPicPr/>
          <p:nvPr/>
        </p:nvPicPr>
        <p:blipFill>
          <a:blip r:embed="rId3"/>
          <a:stretch/>
        </p:blipFill>
        <p:spPr>
          <a:xfrm>
            <a:off x="7215120" y="1357200"/>
            <a:ext cx="16416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Волк меняет шерсть, но не характер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14200" y="1599840"/>
            <a:ext cx="6143760" cy="42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сказках волк беспредельно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глуп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насытная жажда крови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ерты насильника, который призна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дно право — право сильного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о зубов, — без этой черты  волк не волк. Народ знал немало лиходеев и преступников, от которых ему приходилось тяжк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казки о волке не скрывают, кого они имеют в вид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7" descr="http://im2-tub.yandex.net/i?id=141932656&amp;tov=2"/>
          <p:cNvPicPr/>
          <p:nvPr/>
        </p:nvPicPr>
        <p:blipFill>
          <a:blip r:embed="rId1"/>
          <a:stretch/>
        </p:blipFill>
        <p:spPr>
          <a:xfrm>
            <a:off x="6286680" y="3214800"/>
            <a:ext cx="1643040" cy="2330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http://im3-tub.yandex.net/i?id=12034703&amp;tov=3"/>
          <p:cNvPicPr/>
          <p:nvPr/>
        </p:nvPicPr>
        <p:blipFill>
          <a:blip r:embed="rId2"/>
          <a:stretch/>
        </p:blipFill>
        <p:spPr>
          <a:xfrm>
            <a:off x="6929280" y="1428840"/>
            <a:ext cx="164340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Медведь, хоть и старый, - двух лисиц стоит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2" name="Picture 4" descr="i?id=57392985&amp;tov=7"/>
          <p:cNvPicPr/>
          <p:nvPr/>
        </p:nvPicPr>
        <p:blipFill>
          <a:blip r:embed="rId1"/>
          <a:stretch/>
        </p:blipFill>
        <p:spPr>
          <a:xfrm>
            <a:off x="6786720" y="1857240"/>
            <a:ext cx="2152440" cy="278604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6"/>
          <p:cNvSpPr/>
          <p:nvPr/>
        </p:nvSpPr>
        <p:spPr>
          <a:xfrm>
            <a:off x="357120" y="1500480"/>
            <a:ext cx="6786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едведь олицетворяет грубую силу, обладает властью над другими животными. Медведь также глуп.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Глупость медведя — рознь волчьей глупости. Это — глупость человека, располагающего властью. Свою силу медведь употребляет не по разуму.  Медведь представляет собой человека, облеченного властью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Мягкие лапки,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а в лапках - цап-царапки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5" name="Picture 8" descr="i?id=7284008&amp;tov=5"/>
          <p:cNvPicPr/>
          <p:nvPr/>
        </p:nvPicPr>
        <p:blipFill>
          <a:blip r:embed="rId1"/>
          <a:stretch/>
        </p:blipFill>
        <p:spPr>
          <a:xfrm>
            <a:off x="6858000" y="1643040"/>
            <a:ext cx="2101680" cy="30718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1"/>
          <p:cNvSpPr/>
          <p:nvPr/>
        </p:nvSpPr>
        <p:spPr>
          <a:xfrm>
            <a:off x="142920" y="1477800"/>
            <a:ext cx="6715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SimSun"/>
              </a:rPr>
              <a:t>Кот часто встречается в образе спасителя от различных напастей. Он  выступает бравым защитником петуха. У кота прекрасный слух, он умен и заботлив.  В сказках кот выступает как положительный геро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SimSun"/>
              </a:rPr>
              <a:t>Можно отметить общие черт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SimSun"/>
              </a:rPr>
              <a:t>везде звери боятся кот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SimSun"/>
              </a:rPr>
              <a:t>у кота всегда есть имя, причем с отчество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SimSun"/>
              </a:rPr>
              <a:t>бескорыстен в дружб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Анкетирование среди учащихся 3- 6 классов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колько  сказок о животных вы прочитал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ие звери встречались в сказках чащ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ие черты присущ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ему учат сказки о животных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1:52:23Z</dcterms:created>
  <dc:creator>Admin</dc:creator>
  <dc:description/>
  <dc:language>en-US</dc:language>
  <cp:lastModifiedBy>ученик</cp:lastModifiedBy>
  <dcterms:modified xsi:type="dcterms:W3CDTF">2012-04-04T08:15:43Z</dcterms:modified>
  <cp:revision>36</cp:revision>
  <dc:subject/>
  <dc:title>Слайд 1</dc:title>
</cp:coreProperties>
</file>