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34EB-1ECD-4AA2-BDDC-4904013E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DF0F-D06C-4D70-94D6-95C52F39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05BE-1507-471F-A200-F77094E3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626C-3C87-4BC6-9148-D74D4D23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11C-4DB2-4EC0-8949-20456C75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1EC-5BF2-4D80-8511-0DB019B0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52D7-365E-4872-99D2-1D340BEA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51A2-91FA-4E80-A419-3F907B47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692E-F52C-44CA-889F-5EA2A3C4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56D3-0034-483D-B229-56E0877D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3888-B812-484F-B83F-E92A04A4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BB3-63F7-400F-9D2E-9A9B427C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E4B3-3270-4914-8969-005A597327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omic Sans MS"/>
              </a:rPr>
              <a:t>ВЕСЁЛЫЙ СЧЕ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Красова Мар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602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7164360" y="3573360"/>
            <a:ext cx="1440000" cy="141300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3564000" y="0"/>
            <a:ext cx="1800000" cy="184644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99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395280" y="189000"/>
            <a:ext cx="1800360" cy="184464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6012000" y="5011560"/>
            <a:ext cx="1476360" cy="184644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6877080" y="404640"/>
            <a:ext cx="1800360" cy="180036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2484360" y="5157720"/>
            <a:ext cx="1440000" cy="141300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ff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395280" y="2997360"/>
            <a:ext cx="1368360" cy="177300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99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250920" y="4653000"/>
            <a:ext cx="1944720" cy="184464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800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68360" y="5013360"/>
            <a:ext cx="482472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ВЯТЬ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маленьких букаше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ет в саду букашек краш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красных пуговках лис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Что ни пуговка – жуч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1256189332_bozhya-korovka-0"/>
          <p:cNvPicPr/>
          <p:nvPr/>
        </p:nvPicPr>
        <p:blipFill>
          <a:blip r:embed="rId1"/>
          <a:stretch/>
        </p:blipFill>
        <p:spPr>
          <a:xfrm>
            <a:off x="1619280" y="17640"/>
            <a:ext cx="5761080" cy="48495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7"/>
          <p:cNvSpPr/>
          <p:nvPr/>
        </p:nvSpPr>
        <p:spPr>
          <a:xfrm>
            <a:off x="6948360" y="0"/>
            <a:ext cx="2195640" cy="220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4700"/>
            </a:gs>
            <a:gs pos="50000">
              <a:srgbClr val="cc9900"/>
            </a:gs>
            <a:gs pos="100000">
              <a:srgbClr val="5e47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700000" y="4869000"/>
            <a:ext cx="43196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ДЕСЯТЬ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 рыжих муравьи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На опушке строят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Их в лесу совсем не слыш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И увидишь их с труд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1248959135_x_87171 копия"/>
          <p:cNvPicPr/>
          <p:nvPr/>
        </p:nvPicPr>
        <p:blipFill>
          <a:blip r:embed="rId1"/>
          <a:stretch/>
        </p:blipFill>
        <p:spPr>
          <a:xfrm>
            <a:off x="2484360" y="260280"/>
            <a:ext cx="4896000" cy="460872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5"/>
          <p:cNvSpPr/>
          <p:nvPr/>
        </p:nvSpPr>
        <p:spPr>
          <a:xfrm>
            <a:off x="6948360" y="0"/>
            <a:ext cx="2195640" cy="220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99cc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692000" y="5084280"/>
            <a:ext cx="5543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ДИН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большой рогатый ж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ел на большой рогатый су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А был бы маленький жуч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ел бы на маленький су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119640" cy="45831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6"/>
          <p:cNvSpPr/>
          <p:nvPr/>
        </p:nvSpPr>
        <p:spPr>
          <a:xfrm>
            <a:off x="6948360" y="0"/>
            <a:ext cx="2195640" cy="220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6948360" y="0"/>
            <a:ext cx="2195640" cy="220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99cc00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700000" y="4941720"/>
            <a:ext cx="4032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ежонка, два дружк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ва колючих коло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 лесу броди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Листья ворош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58920" y="142920"/>
            <a:ext cx="7056360" cy="465444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5"/>
          <p:cNvSpPr/>
          <p:nvPr/>
        </p:nvSpPr>
        <p:spPr>
          <a:xfrm>
            <a:off x="6948360" y="0"/>
            <a:ext cx="2195640" cy="220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5e18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484360" y="4941720"/>
            <a:ext cx="42595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ТРИ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 зеленые ляг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Веселились у п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А потом в пруду умылись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Ква! – прекрасная 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6985080" cy="468468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6"/>
          <p:cNvSpPr/>
          <p:nvPr/>
        </p:nvSpPr>
        <p:spPr>
          <a:xfrm>
            <a:off x="6948360" y="0"/>
            <a:ext cx="2195640" cy="220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1403280" y="0"/>
            <a:ext cx="6193080" cy="51595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2268360" y="4869000"/>
            <a:ext cx="52578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ТЫРЕ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бабочки порх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 отдыхали на цве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уда же бабочки пропа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ни – «цветы» на стебелька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6948360" y="0"/>
            <a:ext cx="2195640" cy="220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95280" y="4797000"/>
            <a:ext cx="5770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ПЯТЬ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 стрекоз над водной гладь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И, на них с восторгом гляд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Наблюдая их пол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Вспоминаешь вертол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75640" cy="44593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6"/>
          <p:cNvSpPr/>
          <p:nvPr/>
        </p:nvSpPr>
        <p:spPr>
          <a:xfrm>
            <a:off x="6948360" y="0"/>
            <a:ext cx="2195640" cy="220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908000" y="4723920"/>
            <a:ext cx="518328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ШЕСТЬ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 трусишек – серых мы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Заприметил рыжий к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Хоть крадется он неслыш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Все равно их не найд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Мышь_2"/>
          <p:cNvPicPr/>
          <p:nvPr/>
        </p:nvPicPr>
        <p:blipFill>
          <a:blip r:embed="rId1"/>
          <a:stretch/>
        </p:blipFill>
        <p:spPr>
          <a:xfrm>
            <a:off x="0" y="0"/>
            <a:ext cx="3276720" cy="1727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Мышь_2"/>
          <p:cNvPicPr/>
          <p:nvPr/>
        </p:nvPicPr>
        <p:blipFill>
          <a:blip r:embed="rId2"/>
          <a:stretch/>
        </p:blipFill>
        <p:spPr>
          <a:xfrm>
            <a:off x="3132000" y="0"/>
            <a:ext cx="3313080" cy="174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Мышь_2"/>
          <p:cNvPicPr/>
          <p:nvPr/>
        </p:nvPicPr>
        <p:blipFill>
          <a:blip r:embed="rId3"/>
          <a:stretch/>
        </p:blipFill>
        <p:spPr>
          <a:xfrm>
            <a:off x="2195640" y="1557360"/>
            <a:ext cx="3241440" cy="1708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Мышь_2"/>
          <p:cNvPicPr/>
          <p:nvPr/>
        </p:nvPicPr>
        <p:blipFill>
          <a:blip r:embed="rId4"/>
          <a:stretch/>
        </p:blipFill>
        <p:spPr>
          <a:xfrm>
            <a:off x="5364000" y="2349360"/>
            <a:ext cx="3780000" cy="1992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Мышь_2"/>
          <p:cNvPicPr/>
          <p:nvPr/>
        </p:nvPicPr>
        <p:blipFill>
          <a:blip r:embed="rId5"/>
          <a:stretch/>
        </p:blipFill>
        <p:spPr>
          <a:xfrm>
            <a:off x="0" y="1628640"/>
            <a:ext cx="2916360" cy="15382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20"/>
          <p:cNvSpPr/>
          <p:nvPr/>
        </p:nvSpPr>
        <p:spPr>
          <a:xfrm>
            <a:off x="6948360" y="0"/>
            <a:ext cx="2195640" cy="220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Мышь_2"/>
          <p:cNvPicPr/>
          <p:nvPr/>
        </p:nvPicPr>
        <p:blipFill>
          <a:blip r:embed="rId6"/>
          <a:stretch/>
        </p:blipFill>
        <p:spPr>
          <a:xfrm>
            <a:off x="1476360" y="2852640"/>
            <a:ext cx="2879640" cy="15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979280" y="4581000"/>
            <a:ext cx="525636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М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тенцов в гнезде у птич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 заботливой синичк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Хором  целый день крича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Есть, наверное, хот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sin"/>
          <p:cNvPicPr/>
          <p:nvPr/>
        </p:nvPicPr>
        <p:blipFill>
          <a:blip r:embed="rId1"/>
          <a:stretch/>
        </p:blipFill>
        <p:spPr>
          <a:xfrm>
            <a:off x="4859280" y="0"/>
            <a:ext cx="2232000" cy="1724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sin"/>
          <p:cNvPicPr/>
          <p:nvPr/>
        </p:nvPicPr>
        <p:blipFill>
          <a:blip r:embed="rId2"/>
          <a:stretch/>
        </p:blipFill>
        <p:spPr>
          <a:xfrm>
            <a:off x="2987640" y="2421000"/>
            <a:ext cx="2016000" cy="1557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sin"/>
          <p:cNvPicPr/>
          <p:nvPr/>
        </p:nvPicPr>
        <p:blipFill>
          <a:blip r:embed="rId3"/>
          <a:stretch/>
        </p:blipFill>
        <p:spPr>
          <a:xfrm>
            <a:off x="2843280" y="333360"/>
            <a:ext cx="1944720" cy="1501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sin"/>
          <p:cNvPicPr/>
          <p:nvPr/>
        </p:nvPicPr>
        <p:blipFill>
          <a:blip r:embed="rId4"/>
          <a:stretch/>
        </p:blipFill>
        <p:spPr>
          <a:xfrm>
            <a:off x="4356000" y="1341360"/>
            <a:ext cx="2016360" cy="155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sin"/>
          <p:cNvPicPr/>
          <p:nvPr/>
        </p:nvPicPr>
        <p:blipFill>
          <a:blip r:embed="rId5"/>
          <a:stretch/>
        </p:blipFill>
        <p:spPr>
          <a:xfrm>
            <a:off x="684360" y="0"/>
            <a:ext cx="2050920" cy="1584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sin"/>
          <p:cNvPicPr/>
          <p:nvPr/>
        </p:nvPicPr>
        <p:blipFill>
          <a:blip r:embed="rId6"/>
          <a:stretch/>
        </p:blipFill>
        <p:spPr>
          <a:xfrm>
            <a:off x="1547640" y="1341360"/>
            <a:ext cx="1872000" cy="1444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sin"/>
          <p:cNvPicPr/>
          <p:nvPr/>
        </p:nvPicPr>
        <p:blipFill>
          <a:blip r:embed="rId7"/>
          <a:stretch/>
        </p:blipFill>
        <p:spPr>
          <a:xfrm>
            <a:off x="5940360" y="2349360"/>
            <a:ext cx="2449440" cy="189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9" descr="sin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611280" y="2349360"/>
            <a:ext cx="2376360" cy="183528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0"/>
          <p:cNvSpPr/>
          <p:nvPr/>
        </p:nvSpPr>
        <p:spPr>
          <a:xfrm>
            <a:off x="6948360" y="0"/>
            <a:ext cx="2195640" cy="220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907640" y="4797360"/>
            <a:ext cx="56278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ОСЕМЬ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рыбок серебрист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Юрких, ловких, шустрых, быстр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Если в салочки игр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икому их не догн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a50c48f73e21"/>
          <p:cNvPicPr/>
          <p:nvPr/>
        </p:nvPicPr>
        <p:blipFill>
          <a:blip r:embed="rId1"/>
          <a:stretch/>
        </p:blipFill>
        <p:spPr>
          <a:xfrm>
            <a:off x="1187280" y="260280"/>
            <a:ext cx="6551640" cy="438948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6"/>
          <p:cNvSpPr/>
          <p:nvPr/>
        </p:nvSpPr>
        <p:spPr>
          <a:xfrm>
            <a:off x="6948360" y="0"/>
            <a:ext cx="2195640" cy="220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6948360" y="0"/>
            <a:ext cx="2195640" cy="220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6948360" y="0"/>
            <a:ext cx="2195640" cy="220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0000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7:03:39Z</dcterms:created>
  <dc:creator>полина</dc:creator>
  <dc:description/>
  <dc:language>en-US</dc:language>
  <cp:lastModifiedBy>kmvs</cp:lastModifiedBy>
  <dcterms:modified xsi:type="dcterms:W3CDTF">2013-04-15T06:48:15Z</dcterms:modified>
  <cp:revision>16</cp:revision>
  <dc:subject/>
  <dc:title>ВЕСЕЛЫЙ СЧЕТ</dc:title>
</cp:coreProperties>
</file>