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57B7-C2B1-450D-8BE2-A508EEB1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06E7-285E-4E4C-8EE2-43CE1DFB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3715-AA6E-42C7-BC63-8FB9D492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FAFD-8BBD-4E1A-B37B-989EDD90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656A-A17B-4D48-BB59-498A5204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A167-59F7-4EBD-B08E-B500DCB7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6C24-973A-4747-97CF-0E27C32F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7EE0-AE9C-4A0A-8181-3C488099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0C89-162F-4799-AD53-340BA665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62AA-58F6-4106-A019-91C1B515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6290-2B81-47B3-BABF-E1BA013A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78D6-ABA1-44BE-AB73-4C7C7696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AA50-5256-457A-8794-60EAA296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2FB5-5EC1-492C-B9AB-CA003436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61E2-111B-42A9-872B-84321854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5114-507E-4E72-B302-E720DFBB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E443-6E8D-4AF6-94EF-329011F81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1E7B-47A1-4AD7-BF3B-870B7922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8B3D-8E7A-4446-9263-BE3E586A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C9E6-32B6-4FD1-85DF-75BA2E5B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BA19-F100-4810-A97C-BD12851F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7842-E543-4BEB-A492-ABF68B09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6DD8-EF5F-47E5-813B-B9F72FFB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80A1-73F1-4F63-9C4A-7AB52CED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DE99-2800-4587-A626-E72A28A0E8A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23F0-2EAF-4192-B019-B839DF14EE7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9900"/>
                </a:solidFill>
                <a:latin typeface="Garamond"/>
              </a:rPr>
              <a:t>Работа с негативными переживаниями</a:t>
            </a:r>
            <a:r>
              <a:rPr b="0" lang="ru-RU" sz="5800" spc="-1" strike="noStrike">
                <a:solidFill>
                  <a:srgbClr val="999900"/>
                </a:solidFill>
                <a:latin typeface="Garamond"/>
              </a:rPr>
              <a:t>. 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4149360"/>
            <a:ext cx="64008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классный час 6 класс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клас. рук-ль: Видершпан И.П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. Ключ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14200" y="590400"/>
            <a:ext cx="89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У «Ключевская средняя общеобразовательная школа  № 1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Ключевского района, Алтайского кра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333360"/>
            <a:ext cx="88200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окончания упражнения  </a:t>
            </a:r>
            <a:r>
              <a:rPr b="0" lang="ru-RU" sz="2800" spc="-1" strike="noStrike">
                <a:solidFill>
                  <a:srgbClr val="ffcc00"/>
                </a:solidFill>
                <a:latin typeface="Verdana"/>
              </a:rPr>
              <a:t>нарисова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Verdana"/>
              </a:rPr>
              <a:t>чувства, которые испытал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ить на вопрос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вы испытывали в момент знакомств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было наиболее приятно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вас удивило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было легче делать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го не хотелось делать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чувства  вызывали у вас прикосновения к рукам партнера? Что вы можете сказать о парте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V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. Обсуждение итогов занятия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чувства вы испытывали на занят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вам понравилос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удивил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обрадовало на занят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получилос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м доволь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вопросы остались неразрешенны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V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.Домашнее задание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гда почувствуете сильную обиду, выполни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ющее упражнени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9900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999900"/>
                </a:solidFill>
                <a:latin typeface="Verdana"/>
              </a:rPr>
              <a:t>Сосредоточьтесь на своем дыхании, представьт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9900"/>
                </a:solidFill>
                <a:latin typeface="Verdana"/>
              </a:rPr>
              <a:t>себе, что в руках у вас сильно зажата в кулак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9900"/>
                </a:solidFill>
                <a:latin typeface="Verdana"/>
              </a:rPr>
              <a:t>обида, почувствуйте напряжение в кистях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9900"/>
                </a:solidFill>
                <a:latin typeface="Verdana"/>
              </a:rPr>
              <a:t>напрягите руки. Почувствуйте напряжение и 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9900"/>
                </a:solidFill>
                <a:latin typeface="Verdana"/>
              </a:rPr>
              <a:t>кисти, и во всей руке. Разожмите кулак, расслабьт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9900"/>
                </a:solidFill>
                <a:latin typeface="Verdana"/>
              </a:rPr>
              <a:t>мышцы, отпустите обиды,  чтобы они упали 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9900"/>
                </a:solidFill>
                <a:latin typeface="Verdana"/>
              </a:rPr>
              <a:t>рассыпались на мелкие части. Расслабьте рук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9900"/>
                </a:solidFill>
                <a:latin typeface="Verdana"/>
              </a:rPr>
              <a:t>Ваша обида исчезла.</a:t>
            </a: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6" name="Picture 4" descr="AG00052_"/>
          <p:cNvPicPr/>
          <p:nvPr/>
        </p:nvPicPr>
        <p:blipFill>
          <a:blip r:embed="rId1"/>
          <a:stretch/>
        </p:blipFill>
        <p:spPr>
          <a:xfrm flipH="1">
            <a:off x="4858920" y="3652920"/>
            <a:ext cx="3087720" cy="19303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684360" y="1989000"/>
            <a:ext cx="7848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Verdana"/>
              </a:rPr>
              <a:t>Благодарю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Verdana"/>
              </a:rPr>
              <a:t>     </a:t>
            </a:r>
            <a:r>
              <a:rPr b="1" i="1" lang="ru-RU" sz="3600" spc="-1" strike="noStrike">
                <a:solidFill>
                  <a:srgbClr val="ff0066"/>
                </a:solidFill>
                <a:latin typeface="Verdana"/>
              </a:rPr>
              <a:t>за работу и внимание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7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9900"/>
                </a:solidFill>
                <a:latin typeface="Verdana"/>
              </a:rPr>
              <a:t>Цели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повышение  эмоциональной устойчивости детей;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формирование навыков принятия собственны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гативных эмоц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формирование умения адекватно воспринимат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идные замеча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9900"/>
                </a:solidFill>
                <a:latin typeface="Verdana"/>
              </a:rPr>
              <a:t>Материалы: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плакат   с изображениями эмоц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повязки для глаз (для упражнения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Знакомство с закрытыми глазами» 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Рисуем обиду»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тетради для классных час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. Разминка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800" spc="-1" strike="noStrike">
                <a:solidFill>
                  <a:srgbClr val="cc9900"/>
                </a:solidFill>
                <a:latin typeface="Verdana"/>
              </a:rPr>
              <a:t>Упражнение «Передай ритм по круг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ущий хлопает в ладоши, задавая определенный ритм по кругу, остальные последовательно передают ритм по круг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II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. Обсуждение домашнего зада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800" spc="-1" strike="noStrike">
                <a:solidFill>
                  <a:srgbClr val="cc9900"/>
                </a:solidFill>
                <a:latin typeface="Verdana"/>
              </a:rPr>
              <a:t>Рассказать 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9900"/>
                </a:solidFill>
                <a:latin typeface="Verdana"/>
              </a:rPr>
              <a:t>       </a:t>
            </a:r>
            <a:r>
              <a:rPr b="0" i="1" lang="ru-RU" sz="2800" spc="-1" strike="noStrike">
                <a:solidFill>
                  <a:srgbClr val="cc9900"/>
                </a:solidFill>
                <a:latin typeface="Verdana"/>
              </a:rPr>
              <a:t>«магическом превращении слова»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вращали </a:t>
            </a:r>
            <a:r>
              <a:rPr b="1" lang="ru-RU" sz="2800" spc="-1" strike="noStrike">
                <a:solidFill>
                  <a:srgbClr val="ff0066"/>
                </a:solidFill>
                <a:latin typeface="Verdana"/>
              </a:rPr>
              <a:t>СЛО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с которым   работали в классе (или другое), в магическо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ились ли чувства в результате  «колдовства», связанные с этим словом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лучшую сторон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II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. Работа по теме занятия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6756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cc9900"/>
                </a:solidFill>
                <a:latin typeface="Verdana"/>
              </a:rPr>
              <a:t>Упражне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9900"/>
                </a:solidFill>
                <a:latin typeface="Verdana"/>
              </a:rPr>
              <a:t>     </a:t>
            </a:r>
            <a:r>
              <a:rPr b="0" i="1" lang="ru-RU" sz="2400" spc="-1" strike="noStrike">
                <a:solidFill>
                  <a:srgbClr val="cc9900"/>
                </a:solidFill>
                <a:latin typeface="Verdana"/>
              </a:rPr>
              <a:t>«Как реагировать на обидное замечание?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ждение вопросов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такое обид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такое обидное замеч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ведите примеры замечаний, которые вы сами пережили или наблюдали со сторон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вы можете сказать или  сделать в ответ на обидное замеч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 Записать варианты ответ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ыграть с детьми обидные ситуации, котор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ни вспомнил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возможные пути выхода из конфлик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Дискуссия на тему занятия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ждение с детьми следующих вопросов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й из предложенных вариантов ответов характеризует человека как </a:t>
            </a:r>
            <a:r>
              <a:rPr b="0" lang="ru-RU" sz="2400" spc="-1" strike="noStrike">
                <a:solidFill>
                  <a:srgbClr val="cc9900"/>
                </a:solidFill>
                <a:latin typeface="Verdana"/>
              </a:rPr>
              <a:t>уверенного, неуверенного, агрессивног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можно сказать о людях, которые обижают других, они сами чувствуют в этот момент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относиться к обидчик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долго сохраняются обиды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ывают ли </a:t>
            </a:r>
            <a:r>
              <a:rPr b="0" lang="ru-RU" sz="2400" spc="-1" strike="noStrike">
                <a:solidFill>
                  <a:srgbClr val="cc9900"/>
                </a:solidFill>
                <a:latin typeface="Verdana"/>
              </a:rPr>
              <a:t>«справедливые» и «несправедливые»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обиды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выразить обид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i="1" lang="ru-RU" sz="4400" spc="-1" strike="noStrike">
                <a:solidFill>
                  <a:srgbClr val="cc9900"/>
                </a:solidFill>
                <a:latin typeface="Garamond"/>
              </a:rPr>
              <a:t>Упражнение «Рисуем обиду»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спомните случай, когда почувствовали сильную обид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гда это был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де это был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то там  (во время чувства обиды) рядом был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- Нарисуйте свою обид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желанию в парах обсудите свою обид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желанию в классе обсудите свою обид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ь ли в них что-то общее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9900"/>
                </a:solidFill>
                <a:latin typeface="Garamond"/>
              </a:rPr>
              <a:t>Упражнение на релаксацию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Закройте глаза, сосредоточьтесь на сво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дыхании, представьте себе, что в руках у вас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сильно зажата в кулак обида, почувствуйт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напряжение в кистях, напрягите ру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Почувствуйте напряжение и в кисти, и в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всей руке. Разожмите кулак, расслабьт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мышцы, отпустите обиды,  чтобы они упал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и рассыпались на мелкие ча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Расслабьте руку. Ваша обида исчезла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i="1" lang="ru-RU" sz="4000" spc="-1" strike="noStrike">
                <a:solidFill>
                  <a:srgbClr val="cc9900"/>
                </a:solidFill>
                <a:latin typeface="Garamond"/>
              </a:rPr>
              <a:t>Упражнение </a:t>
            </a:r>
            <a:br>
              <a:rPr sz="4000"/>
            </a:br>
            <a:r>
              <a:rPr b="0" i="1" lang="ru-RU" sz="4000" spc="-1" strike="noStrike">
                <a:solidFill>
                  <a:srgbClr val="cc9900"/>
                </a:solidFill>
                <a:latin typeface="Garamond"/>
              </a:rPr>
              <a:t>    «Знакомство с закрытыми глазами»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Сейчас вам предоставляется возможность узнать что-нибуд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новое друг о друге необычным способом. Для этого нуж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распределиться по парам, сесть на стулья, повернувшись лицо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друг к другу, и закрыть глаза. Нельзя открывать глаза до те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пор, пока не последует разрешение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тянуть руки вперед и найти руки своего партнера: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познакомиться руками (1 мин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поссориться (1 мин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помириться  (1 мин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подружиться (1 мин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поддержать друг друга (1 мин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7T13:45:58Z</dcterms:created>
  <dc:creator>1</dc:creator>
  <dc:description/>
  <dc:language>en-US</dc:language>
  <cp:lastModifiedBy>WIN7XP</cp:lastModifiedBy>
  <dcterms:modified xsi:type="dcterms:W3CDTF">2013-04-14T17:01:23Z</dcterms:modified>
  <cp:revision>7</cp:revision>
  <dc:subject/>
  <dc:title>Работа с негативными переживаниями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