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D4F-8247-4FF9-B6F1-06A21080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A12-D083-48D3-885A-D76FA03B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F0A-F9E7-4259-A213-1B88E5FD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34C-605A-409E-9E68-FD8FA94B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2E65-0636-4AAD-A6E6-5516CF10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2B5B-DAD2-4FD4-9D31-48C55C2A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EFAA-5C6E-480A-A4E8-CA83A247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4FF1-1AB0-4D05-A7E0-9DFC6E91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E14-5699-42BE-AA94-3B073BA4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2904-B5DC-4060-93AB-7520F263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61BE-320E-43A7-9FBC-C90A3AE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BB0-8500-475C-9E09-5351976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716E-E4E4-4ABB-A125-8B1A49F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5C8D-566E-4E9B-8194-514D5107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DEAB-8CED-4D28-8E15-2486DB36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877-3AC4-4DBE-95AC-0520C2CA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588E-0C21-435D-8BD8-4849C2F5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2F1-06B1-47AE-AEBD-FA80F37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F11-7E9C-457C-A013-AFEA9F8B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08C-4087-4F27-8E55-114CEF6D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51C-B460-4926-BAEF-BFC172C0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B4B-A9E8-4C07-BB19-D7EA196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0D6-CB75-4236-8F99-1245DBC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5BF9-1C49-4AC7-87C0-3B8B0697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327A-4FB4-4643-AEAB-96A305EC7B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306D-C2FA-4F96-9535-9816A5A0A1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Garamond"/>
              </a:rPr>
              <a:t>Работа с негативными переживаниями</a:t>
            </a: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.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лассный час 6 клас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лас. рук-ль: Видершпан И.П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. Ключ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14200" y="590400"/>
            <a:ext cx="892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У «Ключевская средняя общеобразовательная школа  № 1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Ключевского района, Алтайского края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820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окончания упражнения  </a:t>
            </a: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нарисова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чувства, которые испыта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ить на вопрос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 испытывали в момент знакомств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было наиболее приятн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ас удивило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было легче дел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го не хотелось делать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чувства  вызывали у вас прикосновения к рукам партнера? Что вы можете сказать о партер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V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 Обсуждение итогов занятия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чувства вы испытывали на заняти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ам понравило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удивил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обрадовало на занят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получилос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доволь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вопросы остались неразрешен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Домашнее задание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почувствуете сильную обиду, выполни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ющее упражнение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Сосредоточьтесь на своем дыхании, представь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себе, что в руках у вас сильно зажата в кула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обида, почувствуйте напряжение в кистях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напрягите руки. Почувствуйте напряжение и 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кисти, и во всей руке. Разожмите кулак, расслабь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мышцы, отпустите обиды,  чтобы они упали 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рассыпались на мелкие части. Расслабьте ру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9900"/>
                </a:solidFill>
                <a:latin typeface="Verdana"/>
              </a:rPr>
              <a:t>Ваша обида исчезла.</a:t>
            </a:r>
            <a:r>
              <a:rPr b="0" lang="ru-RU" sz="2400" spc="-1" strike="noStrike">
                <a:solidFill>
                  <a:srgbClr val="9999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Picture 4" descr="AG00052_"/>
          <p:cNvPicPr/>
          <p:nvPr/>
        </p:nvPicPr>
        <p:blipFill>
          <a:blip r:embed="rId1"/>
          <a:stretch/>
        </p:blipFill>
        <p:spPr>
          <a:xfrm flipH="1">
            <a:off x="4858920" y="3652920"/>
            <a:ext cx="3087720" cy="1930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684360" y="1989000"/>
            <a:ext cx="7848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Благодар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     </a:t>
            </a: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за работу и внимани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Verdana"/>
              </a:rPr>
              <a:t>Цели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овышение  эмоциональной устойчивости детей;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ормирование навыков принятия собствен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гативных эмо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ормирование умения адекватно воспринима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идные замеч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9900"/>
                </a:solidFill>
                <a:latin typeface="Verdana"/>
              </a:rPr>
              <a:t>Материалы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лакат   с изображениями эмо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вязки для глаз (для упражнения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Знакомство с закрытыми глазами»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исуем обиду»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тетради для классных час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 Размин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Упражнение «Передай ритм по круг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ущий хлопает в ладоши, задавая определенный ритм по кругу, остальные последовательно передают ритм по круг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II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. Обсуждение домашнего зад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Рассказать 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       </a:t>
            </a:r>
            <a:r>
              <a:rPr b="0" i="1" lang="ru-RU" sz="2800" spc="-1" strike="noStrike">
                <a:solidFill>
                  <a:srgbClr val="cc9900"/>
                </a:solidFill>
                <a:latin typeface="Verdana"/>
              </a:rPr>
              <a:t>«магическом превращении слова»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вращали </a:t>
            </a:r>
            <a:r>
              <a:rPr b="1" lang="ru-RU" sz="2800" spc="-1" strike="noStrike">
                <a:solidFill>
                  <a:srgbClr val="ff0066"/>
                </a:solidFill>
                <a:latin typeface="Verdana"/>
              </a:rPr>
              <a:t>СЛО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с которым   работали в классе (или другое), в магическо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ились ли чувства в результате  «колдовства», связанные с этим словом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учшую сторон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II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. Работа по теме занятия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675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9900"/>
                </a:solidFill>
                <a:latin typeface="Verdana"/>
              </a:rPr>
              <a:t>Упражне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9900"/>
                </a:solidFill>
                <a:latin typeface="Verdana"/>
              </a:rPr>
              <a:t>     </a:t>
            </a:r>
            <a:r>
              <a:rPr b="0" i="1" lang="ru-RU" sz="2400" spc="-1" strike="noStrike">
                <a:solidFill>
                  <a:srgbClr val="cc9900"/>
                </a:solidFill>
                <a:latin typeface="Verdana"/>
              </a:rPr>
              <a:t>«Как реагировать на обидное замечание?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ждение вопрос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такое оби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такое обидное заме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едите примеры замечаний, которые вы сами пережили или наблюдали со сторон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вы можете сказать или  сделать в ответ на обидное замеч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 Записать варианты ответов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ыграть с детьми обидные ситуации, котор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ни вспомни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возможные пути выхода из конфлик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Дискуссия на тему заняти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ждение с детьми следующих вопросо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й из предложенных вариантов ответов характеризует человека как </a:t>
            </a: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уверенного, неуверенного, агрессивног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можно сказать о людях, которые обижают других, они сами чувствуют в этот момен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относиться к обидчи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долго сохраняются обид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ывают ли </a:t>
            </a: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«справедливые» и «несправедливые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иды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разить обид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i="1" lang="ru-RU" sz="4400" spc="-1" strike="noStrike">
                <a:solidFill>
                  <a:srgbClr val="cc9900"/>
                </a:solidFill>
                <a:latin typeface="Garamond"/>
              </a:rPr>
              <a:t>Упражнение «Рисуем обиду»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помните случай, когда почувствовали сильную обид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гда это был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де это был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то там  (во время чувства обиды) рядом был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- Нарисуйте свою оби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желанию в парах обсудите свою оби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желанию в классе обсудите свою обид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в них что-то обще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9900"/>
                </a:solidFill>
                <a:latin typeface="Garamond"/>
              </a:rPr>
              <a:t>Упражнение на релаксацию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Закройте глаза, сосредоточьтесь на сво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дыхании, представьте себе, что в руках у ва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сильно зажата в кулак обида, почувствуй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апряжение в кистях, напрягите рук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чувствуйте напряжение и в кисти, и в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сей руке. Разожмите кулак, расслабь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ышцы, отпустите обиды,  чтобы они упа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и рассыпались на мелкие ча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асслабьте руку. Ваша обида исчезл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i="1" lang="ru-RU" sz="4000" spc="-1" strike="noStrike">
                <a:solidFill>
                  <a:srgbClr val="cc9900"/>
                </a:solidFill>
                <a:latin typeface="Garamond"/>
              </a:rPr>
              <a:t>Упражнение </a:t>
            </a:r>
            <a:br>
              <a:rPr sz="4000"/>
            </a:br>
            <a:r>
              <a:rPr b="0" i="1" lang="ru-RU" sz="4000" spc="-1" strike="noStrike">
                <a:solidFill>
                  <a:srgbClr val="cc9900"/>
                </a:solidFill>
                <a:latin typeface="Garamond"/>
              </a:rPr>
              <a:t>    «Знакомство с закрытыми глазами»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йчас вам предоставляется возможность узнать что-нибуд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овое друг о друге необычным способом. Для этого нужн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пределиться по парам, сесть на стулья, повернувшись лиц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руг к другу, и закрыть глаза. Нельзя открывать глаза до те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ор, пока не последует разрешение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тянуть руки вперед и найти руки своего партнера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знакомиться руками (1 мин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ссориться (1 мин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мириться  (1 мин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дружиться (1 мин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поддержать друг друга (1 мин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7T13:45:58Z</dcterms:created>
  <dc:creator>1</dc:creator>
  <dc:description/>
  <dc:language>en-US</dc:language>
  <cp:lastModifiedBy>WIN7XP</cp:lastModifiedBy>
  <dcterms:modified xsi:type="dcterms:W3CDTF">2013-04-14T17:01:23Z</dcterms:modified>
  <cp:revision>7</cp:revision>
  <dc:subject/>
  <dc:title>Работа с негативными переживаниям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