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800C-1DDF-4DD4-8DCB-E2985345C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9985-6768-4FC9-80BD-CCCD7228EF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46F-D0CF-42F6-9E06-6ECFAC12C1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649E-0EA2-438F-ADA9-D23266788A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AA61-00B6-495C-8132-2CDAA9E94C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36F6-3C74-4A0A-85A4-182BDBCB5C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F58-2673-4047-8AD5-645AF454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2B2-F755-4D98-A8C4-EC6823BE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9C47C-81DC-424F-B1D2-FE08B82D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27EBEE-651B-4AB2-8BEC-5BF76A66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3FCE0D-C4D5-48D0-9B44-2E64E918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7265E-519A-4D56-B02A-FA483D08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9980BD-5FBC-4022-A00A-1A03031E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92D98-4B6F-4A95-B609-EB04272A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1644E1-706D-4C96-B5F2-4F279E72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1EBD5-E07B-4A55-9133-E24928FF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3145F0-F2DF-41D8-83FC-CFC63B6E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E56-BAB2-482C-976A-6A0E34D1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D92-D9AD-454D-A524-5F6510D5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8E58C-F3AB-4279-B94A-2FA54ADC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3081B-D9AE-4E05-9832-D6CEFE8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1F51D-D80A-4591-852F-3D5820D4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95DDF-15F8-468F-A4A3-ECC6FABD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5CB65-B1C0-473C-8A2E-C5C7EF41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E6275-1BE4-4FB0-8070-78D605EE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C4157-19EE-41D6-BAE9-0F5AFD3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BD4-1BE1-4646-852B-A150E617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FBA7E-6662-4F46-BBA0-D813004C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30B69-8BC9-48D3-B290-75EA3EF5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91AFC-E591-48C1-9EF6-26FB5988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57E75-F57B-472B-A593-996961CD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473A4-AE6E-4CD4-A747-06DAFEE0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A32F-DD3B-413D-9370-7C462959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DE71-A6BF-4D05-AA8A-D87AA691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010F-223C-4C67-A285-C599CCC9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5095-1F90-4E69-B45E-BDE0E4ED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8B71-4CFE-4E81-A3EB-3625B9BF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D8D-68EE-4BB1-AADD-E769DFAF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8EBA-BC98-44BF-AC62-388871F4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27B1-5FC1-40E2-823A-58E9A6B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163A-0AB3-4E45-A889-94BBCDD8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5561-58A3-4C15-A87B-B080D3C8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3155-4745-4371-B513-24042E69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E0F9-B7A7-48E0-BF2B-38B68F0A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12FE-95B2-49E7-8422-DB7B42E1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0503D-496D-42CF-BBB9-1086D9E3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18A22-852E-4BED-9FF3-794C83B8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E4ACD-33B8-4D59-A3F9-42639E8C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85F-60EA-4833-A3C1-39BFBBFB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FF777-5091-4835-9A49-AF441C0A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A9164-418E-497B-90E2-18446B0B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BC103-17C2-46C9-8355-E5BDC7F4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AA678-4948-42A1-BBA7-8DF879DC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0E649-DCDE-4420-8DF6-1B1E4547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21DC3-4550-481B-86C0-78A877AA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4A3A6-50CC-4F37-8989-EC296475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23699-705F-485C-9357-41807AE5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1A8A4-DDEF-4869-A1F4-B9C789DF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59EC0-B9C8-4E64-A47D-EECFD977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1EC-97D9-4847-A696-ED0081BB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7B96-BC0C-4D5C-B5AA-63B7497E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75C72-82A3-4E03-BFD7-8C2C992C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936B-6849-41FD-8EAA-15DCBB4A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384D-0CBC-4638-A267-F290B778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7663-8D96-4A03-B117-92F233ED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7CE6-9C6E-4903-BAC0-D0787F43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D2269-B6FC-4485-9503-4381AEAE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999D7-0437-44A4-AD1B-A7E28CD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ADFA-CE1F-46EB-8C42-6AA97691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749F-6C35-4C6F-A4A6-28579BC1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674-1046-43C7-AD36-13B58D77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72C7B-81BC-4E7D-B4C7-A025B814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CF39E-CE2A-41E6-9740-E681B1DA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DE71-B2CA-4C4D-B8AF-D8FA013B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580B3-FAB3-4D7E-B480-FE4F06D6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75E82-A0B4-4BA0-9465-29D082D4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0C9BD-B99D-47CC-A8F1-E4914D82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0583-0739-4B1C-8AB5-C0DD43CE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5A99-F6F7-4339-98EC-AAF9607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DF39-B121-4A9D-BE15-401A8BC0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17D04-0245-4A36-B1D2-1014A44A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681-DDF9-4ECA-A0F9-D6C1F6C0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EAA78-C9DC-4319-A749-497390A6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4C1B0-FFA5-4E2F-BE20-3505E637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73856-9ABF-4C91-986D-5C40D8FD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B5933-FDCA-42A1-90FD-69997C0C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B05D-1F7B-4996-A03C-732669B6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21CB1-B4D7-4D2E-B463-84B2B3C8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F745-17D9-483A-9D7C-E97FA47F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0D19B-9D9B-4615-AF4C-10409E7D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74C3-3A0B-4135-9D97-75B9B12B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CD88B-5A59-4187-B8FA-C7180D5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B56-86AE-4726-BA16-42A3426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6916D-F8F9-435A-97AB-E680491D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084F8-4FD7-49EE-9174-43D2714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F81C6-1FD5-48F1-8597-48B13865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A9B1E-BABA-44FF-8DB1-1177F366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034CF-F1CE-4AD5-9F85-41C7E54A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498B9E-F1B9-48CA-BE29-F570EDE9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76B100-A10F-4521-AB77-FA4BBF1B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F2211C-1A01-4C0C-8F1A-A0D4D4B5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0CA7A7-35FE-43E5-93BC-D8667248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55B259-1409-438C-B7C4-3A936379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E23-39B2-4A60-91F1-FA595734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68D626-682E-458E-85BF-86FB3C1F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E2CAB0-B6D9-478A-B128-5C0677B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9EDDF-B896-423B-9B89-CEF39B4C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0CD79-439A-437C-BA4C-2881068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F5F943-2980-4DD2-9465-5C120068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ACB84-DB55-4C86-98C2-8B1FCD05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48B86F-AA49-4D82-B752-FBBB538B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43D60-5F86-4819-AD01-A1D8E331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24724C-B303-4AC2-8DEC-60996C60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8B9F0-1AAE-4DA3-AB69-DDBCE4C2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AB8D-D42A-429C-9F00-B3875556A39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E24-1B5E-41DC-BE51-43365907675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778D-57A1-4FBC-BFC9-E4B5AD0C47C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81C9-C02D-42B6-BBB5-1D1D28E54FF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B700-DDD6-4CEC-A1BC-EF587DB9F7D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012F-EACE-434F-AD99-18DD16C926B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DE3-F05F-4804-9298-38296343B78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0C0D-9B7C-42ED-A8E5-0DB34D69FEE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98A9-9D5D-4A79-A70E-CDD982E380F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1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0" y="2000160"/>
            <a:ext cx="8693280" cy="4857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. - Phonetische Übung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. - Kontrolle der H/A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. - Festigung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) mündlicher Teil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) Erholungspaus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) Prüfe dich selbs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4.  Schlüss der Stund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642960" y="1643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Rockwell"/>
              </a:rPr>
              <a:t>Festigung des erlernten Stoffes</a:t>
            </a:r>
            <a:endParaRPr b="0" lang="en-US" sz="8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Rockwell"/>
              </a:rPr>
              <a:t>Mündlicher Teil </a:t>
            </a:r>
            <a:endParaRPr b="0" lang="en-US" sz="9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-6480" y="-85680"/>
            <a:ext cx="8729640" cy="811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-360" y="907920"/>
            <a:ext cx="507204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Meine Freundin  trägt  nur  die Kleidung,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Welche Schuhe willst du kaufen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Wem gehören diese Reisetaschen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Welche Kleidung willst du mitnehmen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Welches Essen nimmst du mit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578560" y="836280"/>
            <a:ext cx="356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die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sie modern finde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Sie gehören den Menschen, die mitfahren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Nur die Kleidung, die modern ist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Das Essen, das mir gut schmeck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Die Schuhe, die modern und bequem sind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Прямая соединительная линия 5"/>
          <p:cNvSpPr/>
          <p:nvPr/>
        </p:nvSpPr>
        <p:spPr>
          <a:xfrm>
            <a:off x="5286240" y="1071720"/>
            <a:ext cx="0" cy="5500440"/>
          </a:xfrm>
          <a:prstGeom prst="line">
            <a:avLst/>
          </a:prstGeom>
          <a:ln w="936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-360" y="571320"/>
            <a:ext cx="853596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Erholungspause</a:t>
            </a:r>
            <a:endParaRPr b="0" lang="en-US" sz="8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(Bewegen wir uns)</a:t>
            </a:r>
            <a:endParaRPr b="0" lang="en-US" sz="8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8869320" cy="513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-360" y="836280"/>
            <a:ext cx="85359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Vater Abracham hat sieben Söhne,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Sieben Söhne hat Vater Abracham.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Und sie sa</a:t>
            </a:r>
            <a:r>
              <a:rPr b="0" lang="el-GR" sz="4000" spc="-1" strike="noStrike">
                <a:solidFill>
                  <a:srgbClr val="ffffff"/>
                </a:solidFill>
                <a:latin typeface="Cambria"/>
              </a:rPr>
              <a:t>β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n und sie a</a:t>
            </a:r>
            <a:r>
              <a:rPr b="0" lang="el-GR" sz="4000" spc="-1" strike="noStrike">
                <a:solidFill>
                  <a:srgbClr val="ffffff"/>
                </a:solidFill>
                <a:latin typeface="Cambria"/>
              </a:rPr>
              <a:t>β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n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und sie singen nur ein Lied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Прямая соединительная линия 5"/>
          <p:cNvSpPr/>
          <p:nvPr/>
        </p:nvSpPr>
        <p:spPr>
          <a:xfrm>
            <a:off x="8858160" y="1000080"/>
            <a:ext cx="0" cy="6072120"/>
          </a:xfrm>
          <a:prstGeom prst="line">
            <a:avLst/>
          </a:prstGeom>
          <a:ln w="936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-360" y="571320"/>
            <a:ext cx="853596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Rockwell"/>
              </a:rPr>
              <a:t>Schriftlicher Teil</a:t>
            </a:r>
            <a:endParaRPr b="0" lang="en-US" sz="10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-79200" y="-96840"/>
            <a:ext cx="8942040" cy="9144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0" y="836280"/>
            <a:ext cx="66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as ist die Tasche , …    mir  gefäll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 Hier ist der Koffer, …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ir pass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. Das ist der Anzug, …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ir passt.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4. Das sind die Souvenirs, … mir gefallen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5. Das ist die Stadt, …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ch besuchen möcht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6. Hier ist das Schloss, …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ch besichtigen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öcht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Прямая соединительная линия 5"/>
          <p:cNvSpPr/>
          <p:nvPr/>
        </p:nvSpPr>
        <p:spPr>
          <a:xfrm>
            <a:off x="6877080" y="785880"/>
            <a:ext cx="0" cy="6072120"/>
          </a:xfrm>
          <a:prstGeom prst="line">
            <a:avLst/>
          </a:prstGeom>
          <a:ln w="936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-6480" y="-255600"/>
            <a:ext cx="8869320" cy="1127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0" y="83628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” – eine Erzählung “Reise nach Deutschland” zusammenstellen (mit Relativpronomen )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– не менее 10 предложений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4” – 6-7 Sätzen mit Relativpronomen und Schemas dabei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3” – Theorie lernen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Прямая соединительная линия 5"/>
          <p:cNvSpPr/>
          <p:nvPr/>
        </p:nvSpPr>
        <p:spPr>
          <a:xfrm>
            <a:off x="8501040" y="785880"/>
            <a:ext cx="0" cy="6072120"/>
          </a:xfrm>
          <a:prstGeom prst="line">
            <a:avLst/>
          </a:prstGeom>
          <a:ln w="936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Rockwell"/>
              </a:rPr>
              <a:t>Phonetische Übung</a:t>
            </a:r>
            <a:endParaRPr b="0" lang="en-US" sz="9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chauen –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смотре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ahlen –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хвастатьс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osten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тои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rkennen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знавать, познава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s Zauberwort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аклинани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llig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дешёвы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schwind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стро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ügen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лга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erlachen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смеива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tdecken -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крыва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491680" cy="2097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chaut mal hier  Münchhausen an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lustig prahlen kann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ört mal her was er erzählt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isen”, sagt er, - “kostet Geld.”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st du doch die Welt erkennen?-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llst ein Zauberwort du nennen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d schon fliegst du mit dem Wind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llig ist das und geschwind!”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00120"/>
            <a:ext cx="82296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chaut mal hier Münchhausen an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lustig lügen  kann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</a:t>
            </a: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rkennen will die Wel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hne Wissen, ohne Geld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n Wind zum Pferde mach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d die Skeptiker verlacht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entdecken Länder will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artet lustig er zum Ziel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4"/>
          <p:cNvSpPr txBox="1"/>
          <p:nvPr/>
        </p:nvSpPr>
        <p:spPr>
          <a:xfrm>
            <a:off x="1258920" y="1197000"/>
            <a:ext cx="648000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Century Gothic"/>
              </a:rPr>
              <a:t>Relativpronomen. Attributsätze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411" name="Picture 6" descr="39_97"/>
          <p:cNvPicPr/>
          <p:nvPr/>
        </p:nvPicPr>
        <p:blipFill>
          <a:blip r:embed="rId1"/>
          <a:stretch/>
        </p:blipFill>
        <p:spPr>
          <a:xfrm>
            <a:off x="2700360" y="2421000"/>
            <a:ext cx="3371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381880" cy="2219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(Wiederholung)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. Wie viel Kasusen gibt es in Deutschen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. Nennt, bitte sie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. Wie dekliniert man die Relativpronomen? (wie das Substantiv, wie das Adjektiv, wie den Artikel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285840" y="1714680"/>
          <a:ext cx="8643960" cy="4363920"/>
        </p:xfrm>
        <a:graphic>
          <a:graphicData uri="http://schemas.openxmlformats.org/drawingml/2006/table">
            <a:tbl>
              <a:tblPr/>
              <a:tblGrid>
                <a:gridCol w="934920"/>
                <a:gridCol w="1457280"/>
                <a:gridCol w="1751040"/>
                <a:gridCol w="1763640"/>
                <a:gridCol w="1368720"/>
                <a:gridCol w="136836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asu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e (Femininum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er (Maskulinum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s (Neutrum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e (Plural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Nominati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Geneti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Dati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Akkusati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4:26:39Z</dcterms:created>
  <dc:creator>teacher1</dc:creator>
  <dc:description/>
  <dc:language>en-US</dc:language>
  <cp:lastModifiedBy>User</cp:lastModifiedBy>
  <dcterms:modified xsi:type="dcterms:W3CDTF">2013-04-14T13:31:02Z</dcterms:modified>
  <cp:revision>65</cp:revision>
  <dc:subject/>
  <dc:title>Тест по грамматике «Относительные  местоимения».</dc:title>
</cp:coreProperties>
</file>