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9D9F-D5FE-4A30-8667-40E4367171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BDFE-BD3E-4283-8A4E-31E53ABDAD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283D-D711-4F57-9355-215B82CCEB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CD1E-9163-44D5-BCB2-E85AABB42A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30F8-05DF-4D3C-AABF-364739F484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AA0C-B831-4722-9187-AC8EF5C5AC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CAB0-BC4F-43DC-9FBC-F8AF34FA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4C4-D5BB-45ED-9573-86A482AB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2844A0-8202-405E-9C03-16E265B1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50D416-F26F-4C9A-8355-FEB00DE4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919344-86B7-4275-90BF-0940E991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6C5FBE-044A-4E6A-A40F-D6071516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43BF73-230F-4DFD-9380-CFED0132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5AF11C-16D5-4507-8394-D8C8A8E4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24B422-8D30-4665-A9F4-ECABFD0A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42CCB3-C379-47B8-9D6D-9781FC15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C1BBF6-20AE-4CA1-9B34-46BD4832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E5B7-AD24-4619-976F-A58575B2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0AEE-5B89-48BE-887E-24D4B892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13A26-869D-487A-B968-8CBA3996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696EA-5635-408F-B21D-42D494BD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34102-B175-4BED-BDAD-2EDAA145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D2F35-8A16-400A-9E3A-F9C7BDBB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52405-8850-4CBA-BDE4-FC2C099B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0CAD6-04DD-4FDB-9FA0-13F52D9A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F84A7-85B9-46A6-B132-A128A97A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735-EA1F-4047-905B-BDD64410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118B6-20EE-45A3-91DC-71F2FF00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C84D6-6A09-456F-994A-FDAB04BA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D66D1-A1FA-4361-AF3C-D3DE0B65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6CED8-CAF9-4DAC-A348-52BFBCE8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A92A3-878D-45E8-A915-3AB07CC1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304A3-D207-474B-A7DE-AF380E54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DB5D4-68CC-4B3E-A9A9-5290108A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C299A-989A-43B5-9F0B-EC0863AF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AB999-8A09-4EDE-A6B0-96935918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32CEE-02C8-45DE-8F5E-F30A3E34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A1B1-8EEE-4D64-96F7-316C86A5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2522-A0D1-4AC9-B55D-0CB07201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F7BBE-A62B-49AC-B2AB-EBF8C15C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FD7EB-8E97-42D9-874C-37DC68BE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10D95-A611-4AE2-ACDD-EBB19FEF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54C27-6E18-431C-A597-443F1310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A47C7-C050-4F77-8511-3539E509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960E7-345C-4333-A7C0-7542F893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FC7245-4B2A-4803-B5B6-2136469D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68D905-17F8-40D0-A824-7C6D7B63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31919B-4A0E-440C-803D-5032B64A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0AD-AF6E-414E-BEFC-9ECCE8CC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507319-BD14-4816-9824-AA838D68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EF34E-595D-4EAE-977A-244316E3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FD94CA-85D5-4271-8064-EFDBFFA9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26B5A6-8BF3-40A6-A0CD-025CD88C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EBEE82-4004-45D5-86CA-8A5FE900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78B4F-21C0-4F8F-A22F-8A143419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880EE1-B362-4941-B5E6-4C1EE845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BE7F48-F256-42E6-BF64-F838780A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7D7B08-9939-454D-9351-3F04D3A4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02645-1089-42DF-A3A1-8E1FDA99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A5F-2ED3-461B-9D5E-118D7238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2C8F3-0848-47C2-B150-44754595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8F5A7-1167-4241-B136-3EC501CD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5E0A4-7B3B-41DC-84B2-7836C40D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ED682-E08B-4478-9955-FD99CB6A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B0541-7B86-4D9C-9104-01D3BA0E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ED4DB-AE39-4C3F-A494-461BC190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41A5D-3E9C-4932-90FD-AA85FE2A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36CD1-63CE-4291-8C8A-B6608D11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B96A4-D2EB-4B23-A279-B52DD663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82DD4-DF4A-4892-BF19-977E0522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4E8-E200-4334-A616-AB6159FB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FDD82-6957-4AF1-9A1B-0A9686D3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E4AD0-6369-455A-B37A-D3361759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8F43E-086A-4874-9F03-C7CD7C0E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FA01C-1664-4544-889F-95695CE6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0AF34-DDEF-4181-8946-8A6F29AC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866B5-D161-46D4-99D7-8B34E854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94119-026B-45E7-A862-DAA0CB47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84CDB-6AF2-42E0-BB83-F8610F7C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B8803-2127-403B-A299-F829CFB0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EEE7D-7551-48A7-9780-2A3ED91A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AB0E-BECA-49EF-9629-E8237F09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03683-7EB2-45CF-AFAA-2AE5C684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9E901-9EAC-4194-A95F-7E3C9ACF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3622D-5D81-4EFF-A31F-76969AAA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B3724-559E-4302-8E5F-C6F2D906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4CC4A-1DA0-4117-B128-92582109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3396A-BFCA-4773-BFBA-155FE401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27F1B-8677-43B3-B808-CD141C58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03823-0298-4ADB-B2BB-B406726E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38B94-3188-4520-AAEE-6E887EC6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51927-2672-48B8-9AAD-F5F8BBAC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FF9-4853-48BF-9D1A-B252DA49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81D4A-BE63-494F-9067-75530814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E083E-43E2-4DD1-AB3D-EF6FBD3C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C2698-F422-491B-93DA-98FE32D4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92B80-2DE4-4501-8AFD-A4864841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0D47C-3013-4DE1-AF70-0D51D56B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9CECAA-470D-4EEA-8B65-7505EBF1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F939DA-1645-4D0F-AF60-33AEBB70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E18071-F0B2-48AC-BE8F-4DA1558F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D53D31-050F-4DBF-9AB7-4C62A036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1EEC75-9174-4BFD-9F86-C956E1AD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75E-7853-44CD-98C9-4B010CE2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399F5B-B6F8-4DBF-841B-D23E1303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20E2A2-3699-4158-9DCE-A0E1B14B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BDE3C0-E3DE-4644-AB1B-CD055851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77933F-B43E-4FC7-91CA-5F1EAA72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F11416-EE24-489E-B562-89776209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E2C7C6-CE37-4C0D-A676-C254E36E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3851FB-D7D1-4C9A-A881-99FA62C2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46C43C-7915-4D69-BC59-E0477A23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487E0A-64F1-4CB1-8587-655A17FD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94E421-2AAB-4EEE-BAC0-2B27FCCC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DB4C-58D8-4763-9FA1-480DC40E621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2140-C115-433A-8CF1-2D5E90F56EF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F40E-1594-475F-A135-0DD8F590037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5994-1771-46BF-916C-91957270072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3976-616B-4DBD-A130-78AA6DBAA7D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8DF0-D2BA-404B-850D-3EDBAA6AF00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C6B7-04EB-4347-AECD-0BA63C98987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7A14-5E13-4DC3-B5FD-5100C9B5357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B4EC-685C-4685-B879-83DF7098B25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190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0" y="2000160"/>
            <a:ext cx="8693280" cy="485784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. - Phonetische Übung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. - Kontrolle der H/A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. - Festigung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) mündlicher Teil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) Erholungspause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) Prüfe dich selbs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4.  Schlüss der Stunde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642960" y="16430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Rockwell"/>
              </a:rPr>
              <a:t>Festigung des erlernten Stoffes</a:t>
            </a:r>
            <a:endParaRPr b="0" lang="en-US" sz="8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Rockwell"/>
              </a:rPr>
              <a:t>Mündlicher Teil </a:t>
            </a:r>
            <a:endParaRPr b="0" lang="en-US" sz="9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-6480" y="-85680"/>
            <a:ext cx="8729640" cy="811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-360" y="907920"/>
            <a:ext cx="507204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Meine Freundin  trägt  nur  die Kleidung,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Welche Schuhe willst du kaufen?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Wem gehören diese Reisetaschen?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Welche Kleidung willst du mitnehmen?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Welches Essen nimmst du mit?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578560" y="836280"/>
            <a:ext cx="3565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die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sie modern findet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Sie gehören den Menschen, die mitfahren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Nur die Kleidung, die modern ist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Das Essen, das mir gut schmeckt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Die Schuhe, die modern und bequem sind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buClr>
                <a:srgbClr val="72a376"/>
              </a:buClr>
              <a:buSzPct val="70000"/>
              <a:buFont typeface="Rockwel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4" name="Прямая соединительная линия 5"/>
          <p:cNvSpPr/>
          <p:nvPr/>
        </p:nvSpPr>
        <p:spPr>
          <a:xfrm>
            <a:off x="5286240" y="1071720"/>
            <a:ext cx="0" cy="5500440"/>
          </a:xfrm>
          <a:prstGeom prst="line">
            <a:avLst/>
          </a:prstGeom>
          <a:ln w="936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-360" y="571320"/>
            <a:ext cx="853596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Erholungspause</a:t>
            </a:r>
            <a:endParaRPr b="0" lang="en-US" sz="8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(Bewegen wir uns)</a:t>
            </a:r>
            <a:endParaRPr b="0" lang="en-US" sz="8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-6480" y="133200"/>
            <a:ext cx="8869320" cy="5130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-360" y="836280"/>
            <a:ext cx="85359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Vater Abracham hat sieben Söhne,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Sieben Söhne hat Vater Abracham.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Und sie sa</a:t>
            </a:r>
            <a:r>
              <a:rPr b="0" lang="el-GR" sz="4000" spc="-1" strike="noStrike">
                <a:solidFill>
                  <a:srgbClr val="ffffff"/>
                </a:solidFill>
                <a:latin typeface="Cambria"/>
              </a:rPr>
              <a:t>β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en und sie a</a:t>
            </a:r>
            <a:r>
              <a:rPr b="0" lang="el-GR" sz="4000" spc="-1" strike="noStrike">
                <a:solidFill>
                  <a:srgbClr val="ffffff"/>
                </a:solidFill>
                <a:latin typeface="Cambria"/>
              </a:rPr>
              <a:t>β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en 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und sie singen nur ein Lied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8" name="Прямая соединительная линия 5"/>
          <p:cNvSpPr/>
          <p:nvPr/>
        </p:nvSpPr>
        <p:spPr>
          <a:xfrm>
            <a:off x="8858160" y="1000080"/>
            <a:ext cx="0" cy="6072120"/>
          </a:xfrm>
          <a:prstGeom prst="line">
            <a:avLst/>
          </a:prstGeom>
          <a:ln w="936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-360" y="571320"/>
            <a:ext cx="853596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Rockwell"/>
              </a:rPr>
              <a:t>Schriftlicher Teil</a:t>
            </a:r>
            <a:endParaRPr b="0" lang="en-US" sz="10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-79200" y="-96840"/>
            <a:ext cx="8942040" cy="9144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0" y="836280"/>
            <a:ext cx="66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as ist die Tasche , …    mir  gefällt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 Hier ist der Koffer, …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mir passt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. Das ist der Anzug, …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mir passt.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4. Das sind die Souvenirs, … mir gefallen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5. Das ist die Stadt, …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ch besuchen möchte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6. Hier ist das Schloss, …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ch besichtigen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möchte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2" name="Прямая соединительная линия 5"/>
          <p:cNvSpPr/>
          <p:nvPr/>
        </p:nvSpPr>
        <p:spPr>
          <a:xfrm>
            <a:off x="6877080" y="785880"/>
            <a:ext cx="0" cy="6072120"/>
          </a:xfrm>
          <a:prstGeom prst="line">
            <a:avLst/>
          </a:prstGeom>
          <a:ln w="936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-6480" y="-255600"/>
            <a:ext cx="8869320" cy="11271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0" y="836280"/>
            <a:ext cx="8858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” – eine Erzählung “Reise nach Deutschland” zusammenstellen (mit Relativpronomen )</a:t>
            </a: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 – не менее 10 предложений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4” – 6-7 Sätzen mit Relativpronomen und Schemas dabei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3” – Theorie lernen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5" name="Прямая соединительная линия 5"/>
          <p:cNvSpPr/>
          <p:nvPr/>
        </p:nvSpPr>
        <p:spPr>
          <a:xfrm>
            <a:off x="8501040" y="785880"/>
            <a:ext cx="0" cy="6072120"/>
          </a:xfrm>
          <a:prstGeom prst="line">
            <a:avLst/>
          </a:prstGeom>
          <a:ln w="9360">
            <a:solidFill>
              <a:srgbClr val="679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Rockwell"/>
              </a:rPr>
              <a:t>Phonetische Übung</a:t>
            </a:r>
            <a:endParaRPr b="0" lang="en-US" sz="96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chauen –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смотреть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ahlen –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хвастаться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osten –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тоить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rkennen –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узнавать, познавать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as Zauberwort –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заклинание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illig –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дешёвый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eschwind –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ыстро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ügen –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лгать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verlachen –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высмеивать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ntdecken -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ткрывать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491680" cy="20973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chaut mal hier  Münchhausen an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Der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 lustig prahlen kann!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ört mal her was er erzählt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isen”, sagt er, - “kostet Geld.”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illst du doch die Welt erkennen?-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llst ein Zauberwort du nennen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nd schon fliegst du mit dem Wind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illig ist das und geschwind!”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500120"/>
            <a:ext cx="82296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chaut mal hier Münchhausen an,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Der</a:t>
            </a:r>
            <a:r>
              <a:rPr b="1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o lustig lügen  kann!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Der</a:t>
            </a:r>
            <a:r>
              <a:rPr b="0" lang="en-US" sz="3200" spc="-1" strike="noStrike">
                <a:solidFill>
                  <a:srgbClr val="ff0000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rkennen will die Wel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hne Wissen, ohne Geld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Der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n Wind zum Pferde mach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nd die Skeptiker verlacht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Rockwell"/>
              </a:rPr>
              <a:t>Der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entdecken Länder will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artet lustig er zum Ziel!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WordArt 4"/>
          <p:cNvSpPr txBox="1"/>
          <p:nvPr/>
        </p:nvSpPr>
        <p:spPr>
          <a:xfrm>
            <a:off x="1258920" y="1197000"/>
            <a:ext cx="648000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993d00"/>
                  </a:outerShdw>
                </a:effectLst>
                <a:latin typeface="Century Gothic"/>
              </a:rPr>
              <a:t>Relativpronomen. Attributsätze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53753" dir="2700000" blurRad="0" rotWithShape="0">
                  <a:srgbClr val="993d00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411" name="Picture 6" descr="39_97"/>
          <p:cNvPicPr/>
          <p:nvPr/>
        </p:nvPicPr>
        <p:blipFill>
          <a:blip r:embed="rId1"/>
          <a:stretch/>
        </p:blipFill>
        <p:spPr>
          <a:xfrm>
            <a:off x="2700360" y="2421000"/>
            <a:ext cx="3371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381880" cy="22190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Rockwell"/>
              </a:rPr>
              <a:t>(Wiederholung)</a:t>
            </a:r>
            <a:endParaRPr b="0" lang="en-US" sz="4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. Wie viel Kasusen gibt es in Deutschen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. Nennt, bitte sie!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. Wie dekliniert man die Relativpronomen? (wie das Substantiv, wie das Adjektiv, wie den Artikel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7" name=""/>
          <p:cNvGraphicFramePr/>
          <p:nvPr/>
        </p:nvGraphicFramePr>
        <p:xfrm>
          <a:off x="285840" y="1714680"/>
          <a:ext cx="8643960" cy="4363920"/>
        </p:xfrm>
        <a:graphic>
          <a:graphicData uri="http://schemas.openxmlformats.org/drawingml/2006/table">
            <a:tbl>
              <a:tblPr/>
              <a:tblGrid>
                <a:gridCol w="934920"/>
                <a:gridCol w="1457280"/>
                <a:gridCol w="1751040"/>
                <a:gridCol w="1763640"/>
                <a:gridCol w="1368720"/>
                <a:gridCol w="1368360"/>
              </a:tblGrid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Kasu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ie (Femininum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er (Maskulinum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s (Neutrum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ie (Plural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Nominativ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Genetiv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Dativ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Akkusativ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4:26:39Z</dcterms:created>
  <dc:creator>teacher1</dc:creator>
  <dc:description/>
  <dc:language>en-US</dc:language>
  <cp:lastModifiedBy>User</cp:lastModifiedBy>
  <dcterms:modified xsi:type="dcterms:W3CDTF">2013-04-14T13:31:02Z</dcterms:modified>
  <cp:revision>65</cp:revision>
  <dc:subject/>
  <dc:title>Тест по грамматике «Относительные  местоимения».</dc:title>
</cp:coreProperties>
</file>