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89C-6577-4102-8113-D1CF29F4C6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40BC-44E0-491D-8D63-E5335FFE654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EE1-F6CC-42C3-89AA-71D4BC5B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824-5817-45CC-B9C5-2D17623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ACB-2C17-414C-A272-9043DDCA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3C6-EE4C-4E2F-A2B4-5449657D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ADD2-955A-4365-8FB8-C78F1290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527-6DA0-434C-ABC4-723FB8F6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B8F-3987-40B1-A80C-534B585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B9C-5DC2-4B79-AB5B-A933AE0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DAC-AFFF-4908-A9BA-EE940CE3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5958-4299-46BD-AA3F-94139991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56FE-3C98-4F15-9CCF-AB865E1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7C6-EE7B-4199-96DC-2313B116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E6D1-27B4-4FEB-A7DB-790FC4F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69E-16E6-45C2-B72D-2B9AB25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0259-AD20-4996-9B1B-4FD62901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02C-E57A-4E8F-B873-B183BC32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9F6-61E2-439A-9633-76FAF135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22B-FAB4-451A-BDEB-A20CFC0D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FEC-EC17-478B-AC4C-BF2DE24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B0D-0530-483A-83EB-5C0874A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5B3-CFD7-46DF-BC5B-072F6C02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E9B-1823-4568-9B33-2A26685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0BB-5726-4359-9749-779902A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F6B-FD10-453D-BF1E-B01B59E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ABE-7377-4A7E-A5B7-0565D7EF1A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E56F-560B-4095-B1F8-597C88B9B7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Мәңге яшәр Сәйдәш моңнары</a:t>
            </a:r>
            <a:br>
              <a:rPr sz="7000"/>
            </a:b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Башкарды : Казан шәһәре Яңа Савин районы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89 нчы урта мәктәбенең 5А сыйныф </a:t>
            </a:r>
            <a:br>
              <a:rPr sz="1800"/>
            </a:b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      укучысы Садриева Айгөл</a:t>
            </a:r>
            <a:br>
              <a:rPr sz="1800"/>
            </a:b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                                               Җитәкчесе – Зарипова Алсу Рәшит кыз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s07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8765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47" name="Rectangle 6"/>
          <p:cNvSpPr/>
          <p:nvPr/>
        </p:nvSpPr>
        <p:spPr>
          <a:xfrm>
            <a:off x="838080" y="3963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Салих Сәйдашев, Зәйнәп Әхмерова, Әминә Сәйдашева. 1923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s10"/>
          <p:cNvPicPr/>
          <p:nvPr/>
        </p:nvPicPr>
        <p:blipFill>
          <a:blip r:embed="rId1"/>
          <a:stretch/>
        </p:blipFill>
        <p:spPr>
          <a:xfrm>
            <a:off x="304920" y="1981080"/>
            <a:ext cx="3286080" cy="46389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149" name="Picture 7" descr="s11"/>
          <p:cNvPicPr/>
          <p:nvPr/>
        </p:nvPicPr>
        <p:blipFill>
          <a:blip r:embed="rId2"/>
          <a:stretch/>
        </p:blipFill>
        <p:spPr>
          <a:xfrm>
            <a:off x="5410080" y="228600"/>
            <a:ext cx="3333960" cy="49528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50" name="Rectangle 8"/>
          <p:cNvSpPr/>
          <p:nvPr/>
        </p:nvSpPr>
        <p:spPr>
          <a:xfrm>
            <a:off x="228600" y="280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С.Сәйдашев – татар театрында музыкаль</a:t>
            </a:r>
            <a:r>
              <a:rPr b="1" lang="tt-RU" sz="2400" spc="-1" strike="noStrike">
                <a:solidFill>
                  <a:srgbClr val="f2d686"/>
                </a:solidFill>
                <a:latin typeface="Arial"/>
              </a:rPr>
              <a:t> бүлекнең җитәкчесе</a:t>
            </a: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. 20 нче еллар уртасы.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733920" y="51037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Беренче укучылары Асия Рафикова-Саинова һәм  Суфия Сәйдашев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Мактаулы исемнә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1939 нчы ел – Татарстанның атказанган сәнгать эшлеклес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1950 нче ел – Татарстанның халык артис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66680" y="0"/>
            <a:ext cx="73915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Салих Сәйдәшев иҗат иткән әсәрләр  сәхнәбез түренд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агына халкым моңлы Сәйдәшен…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инчурин һәм Сәйдәш дуслыгының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Гасырларга бара яктылыг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“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Зәңгәр шәл”ләр иңли сәхнәбезне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еатрга әйди бар халык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“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Зәңгәр шәл”нең төсе уңмас төсле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угрылыкка әйдәр яшь буын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Яңа “Булат”, яңа “Мәйсәрә”лә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Искә төшереп тора </a:t>
            </a:r>
            <a:r>
              <a:rPr b="1" i="1" lang="tt-RU" sz="2000" spc="-1" strike="noStrike" u="sng">
                <a:solidFill>
                  <a:srgbClr val="eaeaea"/>
                </a:solidFill>
                <a:uFillTx/>
                <a:latin typeface="Verdana"/>
              </a:rPr>
              <a:t>Сәйдәшн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993</a:t>
            </a:r>
            <a:r>
              <a:rPr b="0" lang="tt-RU" sz="2400" spc="-1" strike="noStrike">
                <a:solidFill>
                  <a:srgbClr val="ffffcc"/>
                </a:solidFill>
                <a:latin typeface="Arial"/>
              </a:rPr>
              <a:t>нче елның 25 июнендә Казан шәһәрендә Салих Сәйдәшевнең музее ачыла. Ул Кәрим Тинчурин исемендәге Татар дәүләт драма һәм комедия театрының ишегалдында урнашкан. Чөнки монда Сәйдәш үзе яшәгән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10" descr="300"/>
          <p:cNvPicPr/>
          <p:nvPr/>
        </p:nvPicPr>
        <p:blipFill>
          <a:blip r:embed="rId1"/>
          <a:stretch/>
        </p:blipFill>
        <p:spPr>
          <a:xfrm>
            <a:off x="1676520" y="2514600"/>
            <a:ext cx="6172200" cy="363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Кеше китә, җыры кала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5" descr="s26_"/>
          <p:cNvPicPr/>
          <p:nvPr/>
        </p:nvPicPr>
        <p:blipFill>
          <a:blip r:embed="rId1"/>
          <a:stretch/>
        </p:blipFill>
        <p:spPr>
          <a:xfrm>
            <a:off x="2871720" y="1600200"/>
            <a:ext cx="3398760" cy="45306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14440" y="1828800"/>
            <a:ext cx="4724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Шәһәребезнең үзәген Салих Сәйдәшев Һәйкәле бизәп тор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276360" cy="55623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Сәйдәш! Мәңгелек аның җырлары, мәңгелек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Сәйдәш үлгән! Үлде, - дилә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Ышанасы кил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үлмәдең, җырчы, үлмәдең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Якты йолдыз күктә сүнде, диләр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сүнмәдең, йолдыз, сүнмәдең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Моңлы сазың синең сынды, диләр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сынмады, җырчы, сынмад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Мәңге яшәр аның моңна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Уйнат әле, дустым, Сәйдәш маршын,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Күтәрелеп китсен күңелләр.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Ни өчендер, белмим, башка көйләр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Шушы кадәр матур түгеллә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4078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5100" spc="-1" strike="noStrike">
                <a:solidFill>
                  <a:srgbClr val="ffffcc"/>
                </a:solidFill>
                <a:latin typeface="Arial"/>
              </a:rPr>
              <a:t>Мин музыкант булачакмын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2670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Салих Сәйдәшев 1900 нче елның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3 нче декаберендә Казанда ту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7" descr="Файл:Salih Saydashev.jpg"/>
          <p:cNvPicPr/>
          <p:nvPr/>
        </p:nvPicPr>
        <p:blipFill>
          <a:blip r:embed="rId1"/>
          <a:stretch/>
        </p:blipFill>
        <p:spPr>
          <a:xfrm>
            <a:off x="304920" y="1600200"/>
            <a:ext cx="3733560" cy="480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38320" y="81360"/>
            <a:ext cx="2590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s01"/>
          <p:cNvPicPr/>
          <p:nvPr/>
        </p:nvPicPr>
        <p:blipFill>
          <a:blip r:embed="rId1"/>
          <a:stretch/>
        </p:blipFill>
        <p:spPr>
          <a:xfrm>
            <a:off x="838080" y="1752480"/>
            <a:ext cx="2832120" cy="45309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80880" y="609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Verdana"/>
              </a:rPr>
              <a:t>Салихка 10 яшь</a:t>
            </a:r>
            <a:r>
              <a:rPr b="0" lang="ru-RU" sz="3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7" descr="s02"/>
          <p:cNvPicPr/>
          <p:nvPr/>
        </p:nvPicPr>
        <p:blipFill>
          <a:blip r:embed="rId2"/>
          <a:stretch/>
        </p:blipFill>
        <p:spPr>
          <a:xfrm>
            <a:off x="5334120" y="228600"/>
            <a:ext cx="3562200" cy="53341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4419720" y="54464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Беренче т</a:t>
            </a:r>
            <a:r>
              <a:rPr b="0" i="1" lang="tt-RU" sz="2400" spc="-1" strike="noStrike">
                <a:solidFill>
                  <a:srgbClr val="ffffcc"/>
                </a:solidFill>
                <a:latin typeface="Arial"/>
              </a:rPr>
              <a:t>әрбиячес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Насрытдин Хәмитов хатыны Рауза белән</a:t>
            </a:r>
            <a:r>
              <a:rPr b="0" i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1676520"/>
            <a:ext cx="5257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Салихның табигатьтән бирелгән сәләтен беренче күрүче – Шиһап Ахмер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s06"/>
          <p:cNvPicPr/>
          <p:nvPr/>
        </p:nvPicPr>
        <p:blipFill>
          <a:blip r:embed="rId1"/>
          <a:stretch/>
        </p:blipFill>
        <p:spPr>
          <a:xfrm>
            <a:off x="457200" y="1828800"/>
            <a:ext cx="2801880" cy="453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Тирә-ягымдагы кешелә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85840" y="9903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2800" spc="-1" strike="noStrike">
                <a:solidFill>
                  <a:srgbClr val="ffffcc"/>
                </a:solidFill>
                <a:latin typeface="Arial"/>
              </a:rPr>
              <a:t>Салих Сәйдәшевнең беренче музыка укытучысы – Заһидулла Ярулли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29000" cy="5562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Дуслар җыелган җирдә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37702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Сәйдәш – күңел тургае.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5" descr="s04"/>
          <p:cNvPicPr/>
          <p:nvPr/>
        </p:nvPicPr>
        <p:blipFill>
          <a:blip r:embed="rId1"/>
          <a:stretch/>
        </p:blipFill>
        <p:spPr>
          <a:xfrm>
            <a:off x="533520" y="685800"/>
            <a:ext cx="7696080" cy="48006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33520" y="5562720"/>
            <a:ext cx="7696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2d686"/>
                </a:solidFill>
                <a:latin typeface="Verdana"/>
              </a:rPr>
              <a:t>Шигаб Әхмеров гаиләсе. Утыручылар (сулдан уңга): Шигаб Әхмеров, Әминә Сәйдашева-Әхмерова, Мәхубҗамал Сәйдашева (әнисе), Зөләйха Әхмерова (Шигаб Әхмеровның әнисе); </a:t>
            </a:r>
            <a:br>
              <a:rPr sz="1600"/>
            </a:br>
            <a:r>
              <a:rPr b="0" lang="ru-RU" sz="1600" spc="-1" strike="noStrike">
                <a:solidFill>
                  <a:srgbClr val="f2d686"/>
                </a:solidFill>
                <a:latin typeface="Verdana"/>
              </a:rPr>
              <a:t>Басканнар: Зәйнәп һәм Хәйрулла, С.Сәйдашев һәм кечкенә Узбәк Әхмеров. 1914 е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534160" y="6019920"/>
            <a:ext cx="1522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5" descr="s03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52578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457200" y="1677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Апасы Әминә Сәйдашева-Әхмерова улы белән. 1914 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267080" y="583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7T16:07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