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8109-8E85-47B6-84E0-EBAC4BC37F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548F-0A3B-42A6-905E-48C01EAFEFE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9EE0-3785-40EC-A840-89DC935E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3B2E-5EA1-412B-BDD0-1EA54742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A57-FDAD-4AFE-8920-FC8EF000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EA8-028A-4C3D-902C-560A68C0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A5A8-469B-4FC7-BC0A-EB8187D0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2568-BCB4-4C82-9F2A-7B7ECE6B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B6F9-4A17-4B94-9BFB-DB01FEB7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0CAB-F46A-45A0-8556-8B207373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BC9B-924C-4A9F-8C03-308CBCBC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D5FC-4371-4665-890F-B0745693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DCDF-9429-4360-9CA8-3E840AFE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8F84-31A1-4A18-AEBF-305CC6CD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8F6A-E203-4FD9-A0A8-B0687D67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6CE1-3C67-4344-A0B7-6ED49533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CC2A-3788-455A-A3A1-C12DC02A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1F71-4970-430C-91F1-FCC8321B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181F-B9B0-49DC-AF29-DCBF2B72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FA7-06A1-46AD-9AA4-DF139C96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739-53E7-4C96-8EF8-00CD1283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60E-4C03-4CD3-9249-62B7EEAE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C395-CFD3-4A05-8CE5-4DB325D0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330A-EC23-422A-BAFE-F972D38D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B98-CF6E-4C22-BF8B-6106E17C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EA2-1E59-4871-8BC4-4312A377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567C-A2C1-417A-8CF3-F52C729493E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2713-AA3C-444B-9BD0-0E0051A5368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7000" spc="-1" strike="noStrike">
                <a:solidFill>
                  <a:srgbClr val="ffffcc"/>
                </a:solidFill>
                <a:latin typeface="Arial"/>
              </a:rPr>
              <a:t>Мәңге яшәр Сәйдәш моңнары</a:t>
            </a:r>
            <a:br>
              <a:rPr sz="7000"/>
            </a:br>
            <a:r>
              <a:rPr b="0" i="1" lang="tt-RU" sz="7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tt-RU" sz="7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tt-RU" sz="7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tt-RU" sz="7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i="1" lang="tt-RU" sz="1800" spc="-1" strike="noStrike">
                <a:solidFill>
                  <a:srgbClr val="ffffcc"/>
                </a:solidFill>
                <a:latin typeface="Arial"/>
              </a:rPr>
              <a:t>Башкарды : Казан шәһәре Яңа Савин районы</a:t>
            </a:r>
            <a:r>
              <a:rPr b="0" i="1" lang="tt-RU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tt-RU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tt-RU" sz="1800" spc="-1" strike="noStrike">
                <a:solidFill>
                  <a:srgbClr val="ffffcc"/>
                </a:solidFill>
                <a:latin typeface="Arial"/>
              </a:rPr>
              <a:t> 89 нчы урта мәктәбенең 5А сыйныф </a:t>
            </a:r>
            <a:br>
              <a:rPr sz="1800"/>
            </a:br>
            <a:r>
              <a:rPr b="0" i="1" lang="tt-RU" sz="1800" spc="-1" strike="noStrike">
                <a:solidFill>
                  <a:srgbClr val="ffffcc"/>
                </a:solidFill>
                <a:latin typeface="Arial"/>
              </a:rPr>
              <a:t>       укучысы Садриева Айгөл</a:t>
            </a:r>
            <a:br>
              <a:rPr sz="1800"/>
            </a:br>
            <a:r>
              <a:rPr b="0" i="1" lang="tt-RU" sz="1800" spc="-1" strike="noStrike">
                <a:solidFill>
                  <a:srgbClr val="ffffcc"/>
                </a:solidFill>
                <a:latin typeface="Arial"/>
              </a:rPr>
              <a:t>                                                Җитәкчесе – Зарипова Алсу Рәшит кызы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s07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487656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sp>
        <p:nvSpPr>
          <p:cNvPr id="147" name="Rectangle 6"/>
          <p:cNvSpPr/>
          <p:nvPr/>
        </p:nvSpPr>
        <p:spPr>
          <a:xfrm>
            <a:off x="838080" y="39636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2d686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2d686"/>
                </a:solidFill>
                <a:latin typeface="Arial"/>
              </a:rPr>
              <a:t>Салих Сәйдашев, Зәйнәп Әхмерова, Әминә Сәйдашева. 1923е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s10"/>
          <p:cNvPicPr/>
          <p:nvPr/>
        </p:nvPicPr>
        <p:blipFill>
          <a:blip r:embed="rId1"/>
          <a:stretch/>
        </p:blipFill>
        <p:spPr>
          <a:xfrm>
            <a:off x="304920" y="1981080"/>
            <a:ext cx="3286080" cy="463896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pic>
        <p:nvPicPr>
          <p:cNvPr id="149" name="Picture 7" descr="s11"/>
          <p:cNvPicPr/>
          <p:nvPr/>
        </p:nvPicPr>
        <p:blipFill>
          <a:blip r:embed="rId2"/>
          <a:stretch/>
        </p:blipFill>
        <p:spPr>
          <a:xfrm>
            <a:off x="5410080" y="228600"/>
            <a:ext cx="3333960" cy="495288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sp>
        <p:nvSpPr>
          <p:cNvPr id="150" name="Rectangle 8"/>
          <p:cNvSpPr/>
          <p:nvPr/>
        </p:nvSpPr>
        <p:spPr>
          <a:xfrm>
            <a:off x="228600" y="28080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d686"/>
                </a:solidFill>
                <a:latin typeface="Arial"/>
              </a:rPr>
              <a:t>С.Сәйдашев – татар театрында музыкаль</a:t>
            </a:r>
            <a:r>
              <a:rPr b="1" lang="tt-RU" sz="2400" spc="-1" strike="noStrike">
                <a:solidFill>
                  <a:srgbClr val="f2d686"/>
                </a:solidFill>
                <a:latin typeface="Arial"/>
              </a:rPr>
              <a:t> бүлекнең җитәкчесе</a:t>
            </a:r>
            <a:r>
              <a:rPr b="1" lang="ru-RU" sz="2400" spc="-1" strike="noStrike">
                <a:solidFill>
                  <a:srgbClr val="f2d686"/>
                </a:solidFill>
                <a:latin typeface="Arial"/>
              </a:rPr>
              <a:t>. 20 нче еллар уртасы.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3733920" y="510372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d68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2d686"/>
                </a:solidFill>
                <a:latin typeface="Arial"/>
              </a:rPr>
              <a:t>Беренче укучылары Асия Рафикова-Саинова һәм  Суфия Сәйдашева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ffffcc"/>
                </a:solidFill>
                <a:latin typeface="Arial"/>
              </a:rPr>
              <a:t>Мактаулы исемнәр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eaeaea"/>
                </a:solidFill>
                <a:latin typeface="Verdana"/>
              </a:rPr>
              <a:t>1939 нчы ел – Татарстанның атказанган сәнгать эшлеклес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eaeaea"/>
                </a:solidFill>
                <a:latin typeface="Verdana"/>
              </a:rPr>
              <a:t>1950 нче ел – Татарстанның халык артис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66680" y="0"/>
            <a:ext cx="73915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tt-RU" sz="3600" spc="-1" strike="noStrike">
                <a:solidFill>
                  <a:srgbClr val="eaeaea"/>
                </a:solidFill>
                <a:latin typeface="Verdana"/>
              </a:rPr>
              <a:t>Салих Сәйдәшев иҗат иткән әсәрләр  сәхнәбез түрендә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cc"/>
                </a:solidFill>
                <a:latin typeface="Arial"/>
              </a:rPr>
              <a:t>Сагына халкым моңлы Сәйдәшен…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Тинчурин һәм Сәйдәш дуслыгының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           </a:t>
            </a: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Гасырларга бара яктылыг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           “</a:t>
            </a: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Зәңгәр шәл”ләр иңли сәхнәбезне-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           </a:t>
            </a: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Театрга әйди бар халык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           “</a:t>
            </a: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Зәңгәр шәл”нең төсе уңмас төсле,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          </a:t>
            </a: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Тугрылыкка әйдәр яшь буын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Яңа “Булат”, яңа “Мәйсәрә”ләр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           </a:t>
            </a:r>
            <a:r>
              <a:rPr b="1" i="1" lang="tt-RU" sz="2000" spc="-1" strike="noStrike">
                <a:solidFill>
                  <a:srgbClr val="eaeaea"/>
                </a:solidFill>
                <a:latin typeface="Verdana"/>
              </a:rPr>
              <a:t>Искә төшереп тора </a:t>
            </a:r>
            <a:r>
              <a:rPr b="1" i="1" lang="tt-RU" sz="2000" spc="-1" strike="noStrike" u="sng">
                <a:solidFill>
                  <a:srgbClr val="eaeaea"/>
                </a:solidFill>
                <a:uFillTx/>
                <a:latin typeface="Verdana"/>
              </a:rPr>
              <a:t>Сәйдәшн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77320" cy="19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1993</a:t>
            </a:r>
            <a:r>
              <a:rPr b="0" lang="tt-RU" sz="2400" spc="-1" strike="noStrike">
                <a:solidFill>
                  <a:srgbClr val="ffffcc"/>
                </a:solidFill>
                <a:latin typeface="Arial"/>
              </a:rPr>
              <a:t>нче елның 25 июнендә Казан шәһәрендә Салих Сәйдәшевнең музее ачыла. Ул Кәрим Тинчурин исемендәге Татар дәүләт драма һәм комедия театрының ишегалдында урнашкан. Чөнки монда Сәйдәш үзе яшәгән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Picture 10" descr="300"/>
          <p:cNvPicPr/>
          <p:nvPr/>
        </p:nvPicPr>
        <p:blipFill>
          <a:blip r:embed="rId1"/>
          <a:stretch/>
        </p:blipFill>
        <p:spPr>
          <a:xfrm>
            <a:off x="1676520" y="2514600"/>
            <a:ext cx="6172200" cy="363060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ffffcc"/>
                </a:solidFill>
                <a:latin typeface="Arial"/>
              </a:rPr>
              <a:t>Кеше китә, җыры кала..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Picture 5" descr="s26_"/>
          <p:cNvPicPr/>
          <p:nvPr/>
        </p:nvPicPr>
        <p:blipFill>
          <a:blip r:embed="rId1"/>
          <a:stretch/>
        </p:blipFill>
        <p:spPr>
          <a:xfrm>
            <a:off x="2871720" y="1600200"/>
            <a:ext cx="3398760" cy="453060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14440" y="1828800"/>
            <a:ext cx="4724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tt-RU" sz="3600" spc="-1" strike="noStrike">
                <a:solidFill>
                  <a:srgbClr val="ffffcc"/>
                </a:solidFill>
                <a:latin typeface="Arial"/>
              </a:rPr>
              <a:t>Шәһәребезнең үзәген Салих Сәйдәшев Һәйкәле бизәп тор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276360" cy="556236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991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cc"/>
                </a:solidFill>
                <a:latin typeface="Arial"/>
              </a:rPr>
              <a:t>Сәйдәш! Мәңгелек аның җырлары, мәңгелек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eaeaea"/>
                </a:solidFill>
                <a:latin typeface="Verdana"/>
              </a:rPr>
              <a:t>Сәйдәш үлгән! Үлде, - диләр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eaeaea"/>
                </a:solidFill>
                <a:latin typeface="Verdana"/>
              </a:rPr>
              <a:t>Ышанасы килм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eaeaea"/>
                </a:solidFill>
                <a:latin typeface="Verdana"/>
              </a:rPr>
              <a:t>Юк, үлмәдең, җырчы, үлмәдең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eaeaea"/>
                </a:solidFill>
                <a:latin typeface="Verdana"/>
              </a:rPr>
              <a:t>Якты йолдыз күктә сүнде, диләр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eaeaea"/>
                </a:solidFill>
                <a:latin typeface="Verdana"/>
              </a:rPr>
              <a:t>Юк, сүнмәдең, йолдыз, сүнмәдең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eaeaea"/>
                </a:solidFill>
                <a:latin typeface="Verdana"/>
              </a:rPr>
              <a:t>Моңлы сазың синең сынды, диләр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eaeaea"/>
                </a:solidFill>
                <a:latin typeface="Verdana"/>
              </a:rPr>
              <a:t>Юк, сынмады, җырчы, сынмад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200" spc="-1" strike="noStrike">
                <a:solidFill>
                  <a:srgbClr val="eaeaea"/>
                </a:solidFill>
                <a:latin typeface="Verdana"/>
              </a:rPr>
              <a:t>Мәңге яшәр аның моңнар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1295280"/>
            <a:ext cx="74674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cc"/>
                </a:solidFill>
                <a:latin typeface="Arial"/>
              </a:rPr>
              <a:t>Уйнат әле, дустым, Сәйдәш маршын,</a:t>
            </a:r>
            <a:br>
              <a:rPr sz="3200"/>
            </a:br>
            <a:r>
              <a:rPr b="0" lang="tt-RU" sz="3200" spc="-1" strike="noStrike">
                <a:solidFill>
                  <a:srgbClr val="ffffcc"/>
                </a:solidFill>
                <a:latin typeface="Arial"/>
              </a:rPr>
              <a:t>Күтәрелеп китсен күңелләр.</a:t>
            </a:r>
            <a:br>
              <a:rPr sz="3200"/>
            </a:br>
            <a:r>
              <a:rPr b="0" lang="tt-RU" sz="3200" spc="-1" strike="noStrike">
                <a:solidFill>
                  <a:srgbClr val="ffffcc"/>
                </a:solidFill>
                <a:latin typeface="Arial"/>
              </a:rPr>
              <a:t>Ни өчендер, белмим, башка көйләр</a:t>
            </a:r>
            <a:br>
              <a:rPr sz="3200"/>
            </a:br>
            <a:r>
              <a:rPr b="0" lang="tt-RU" sz="3200" spc="-1" strike="noStrike">
                <a:solidFill>
                  <a:srgbClr val="ffffcc"/>
                </a:solidFill>
                <a:latin typeface="Arial"/>
              </a:rPr>
              <a:t>Шушы кадәр матур түгелләр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62320" y="50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4078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5100" spc="-1" strike="noStrike">
                <a:solidFill>
                  <a:srgbClr val="ffffcc"/>
                </a:solidFill>
                <a:latin typeface="Arial"/>
              </a:rPr>
              <a:t>Мин музыкант булачакмын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26708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tt-RU" sz="3200" spc="-1" strike="noStrike">
                <a:solidFill>
                  <a:srgbClr val="eaeaea"/>
                </a:solidFill>
                <a:latin typeface="Verdana"/>
              </a:rPr>
              <a:t>Салих Сәйдәшев 1900 нче елның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eaeaea"/>
                </a:solidFill>
                <a:latin typeface="Verdana"/>
              </a:rPr>
              <a:t>3 нче декаберендә Казанда ту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7" descr="Файл:Salih Saydashev.jpg"/>
          <p:cNvPicPr/>
          <p:nvPr/>
        </p:nvPicPr>
        <p:blipFill>
          <a:blip r:embed="rId1"/>
          <a:stretch/>
        </p:blipFill>
        <p:spPr>
          <a:xfrm>
            <a:off x="304920" y="1600200"/>
            <a:ext cx="3733560" cy="480060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38320" y="81360"/>
            <a:ext cx="2590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Picture 5" descr="s01"/>
          <p:cNvPicPr/>
          <p:nvPr/>
        </p:nvPicPr>
        <p:blipFill>
          <a:blip r:embed="rId1"/>
          <a:stretch/>
        </p:blipFill>
        <p:spPr>
          <a:xfrm>
            <a:off x="838080" y="1752480"/>
            <a:ext cx="2832120" cy="453096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80880" y="6094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cc"/>
                </a:solidFill>
                <a:latin typeface="Verdana"/>
              </a:rPr>
              <a:t>Салихка 10 яшь</a:t>
            </a:r>
            <a:r>
              <a:rPr b="0" lang="ru-RU" sz="36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icture 7" descr="s02"/>
          <p:cNvPicPr/>
          <p:nvPr/>
        </p:nvPicPr>
        <p:blipFill>
          <a:blip r:embed="rId2"/>
          <a:stretch/>
        </p:blipFill>
        <p:spPr>
          <a:xfrm>
            <a:off x="5334120" y="228600"/>
            <a:ext cx="3562200" cy="533412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sp>
        <p:nvSpPr>
          <p:cNvPr id="131" name="Rectangle 9"/>
          <p:cNvSpPr/>
          <p:nvPr/>
        </p:nvSpPr>
        <p:spPr>
          <a:xfrm>
            <a:off x="4419720" y="544644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cc"/>
                </a:solidFill>
                <a:latin typeface="Arial"/>
              </a:rPr>
              <a:t>Беренче т</a:t>
            </a:r>
            <a:r>
              <a:rPr b="0" i="1" lang="tt-RU" sz="2400" spc="-1" strike="noStrike">
                <a:solidFill>
                  <a:srgbClr val="ffffcc"/>
                </a:solidFill>
                <a:latin typeface="Arial"/>
              </a:rPr>
              <a:t>әрбиячес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Arial"/>
              </a:rPr>
              <a:t>Насрытдин Хәмитов хатыны Рауза белән</a:t>
            </a:r>
            <a:r>
              <a:rPr b="0" i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57240" y="1676520"/>
            <a:ext cx="5257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tt-RU" sz="3200" spc="-1" strike="noStrike">
                <a:solidFill>
                  <a:srgbClr val="ffffcc"/>
                </a:solidFill>
                <a:latin typeface="Arial"/>
              </a:rPr>
              <a:t>Салихның табигатьтән бирелгән сәләтен беренче күрүче – Шиһап Ахмеров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Picture 4" descr="s06"/>
          <p:cNvPicPr/>
          <p:nvPr/>
        </p:nvPicPr>
        <p:blipFill>
          <a:blip r:embed="rId1"/>
          <a:stretch/>
        </p:blipFill>
        <p:spPr>
          <a:xfrm>
            <a:off x="457200" y="1828800"/>
            <a:ext cx="2801880" cy="453060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ffffcc"/>
                </a:solidFill>
                <a:latin typeface="Arial"/>
              </a:rPr>
              <a:t>Тирә-ягымдагы кешеләр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85840" y="990360"/>
            <a:ext cx="5257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tt-RU" sz="2800" spc="-1" strike="noStrike">
                <a:solidFill>
                  <a:srgbClr val="ffffcc"/>
                </a:solidFill>
                <a:latin typeface="Arial"/>
              </a:rPr>
              <a:t>Салих Сәйдәшевнең беренче музыка укытучысы – Заһидулла Яруллин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429000" cy="556272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>
                <a:solidFill>
                  <a:srgbClr val="ffffcc"/>
                </a:solidFill>
                <a:latin typeface="Arial"/>
              </a:rPr>
              <a:t>Дуслар җыелган җирдә..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095880" cy="377028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ffcc"/>
                </a:solidFill>
                <a:latin typeface="Arial"/>
              </a:rPr>
              <a:t>Сәйдәш – күңел тургае..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Picture 5" descr="s04"/>
          <p:cNvPicPr/>
          <p:nvPr/>
        </p:nvPicPr>
        <p:blipFill>
          <a:blip r:embed="rId1"/>
          <a:stretch/>
        </p:blipFill>
        <p:spPr>
          <a:xfrm>
            <a:off x="533520" y="685800"/>
            <a:ext cx="7696080" cy="480060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533520" y="5562720"/>
            <a:ext cx="7696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2d686"/>
                </a:solidFill>
                <a:latin typeface="Verdana"/>
              </a:rPr>
              <a:t>Шигаб Әхмеров гаиләсе. Утыручылар (сулдан уңга): Шигаб Әхмеров, Әминә Сәйдашева-Әхмерова, Мәхубҗамал Сәйдашева (әнисе), Зөләйха Әхмерова (Шигаб Әхмеровның әнисе); </a:t>
            </a:r>
            <a:br>
              <a:rPr sz="1600"/>
            </a:br>
            <a:r>
              <a:rPr b="0" lang="ru-RU" sz="1600" spc="-1" strike="noStrike">
                <a:solidFill>
                  <a:srgbClr val="f2d686"/>
                </a:solidFill>
                <a:latin typeface="Verdana"/>
              </a:rPr>
              <a:t>Басканнар: Зәйнәп һәм Хәйрулла, С.Сәйдашев һәм кечкенә Узбәк Әхмеров. 1914 ел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534160" y="6019920"/>
            <a:ext cx="152280" cy="1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Picture 5" descr="s03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525780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sp>
        <p:nvSpPr>
          <p:cNvPr id="144" name="Rectangle 8"/>
          <p:cNvSpPr/>
          <p:nvPr/>
        </p:nvSpPr>
        <p:spPr>
          <a:xfrm>
            <a:off x="457200" y="16776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2d686"/>
                </a:solidFill>
                <a:latin typeface="Arial"/>
              </a:rPr>
              <a:t>Апасы Әминә Сәйдашева-Әхмерова улы белән. 1914 е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267080" y="5835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2-27T16:07:3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