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EE5-F42E-4EAA-985B-0274FC5A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716-DED6-4122-9399-2C9727A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04B-190A-4139-82FA-74FA411E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C75-257A-4B0C-ADF7-7BBD6ACD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14E-A5F3-4419-8BF9-7B9F36D5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B90-C74C-4B5E-9831-A4B6811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CD1-9CE1-43F6-99AD-CC89F829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9C4-9A74-4209-B0EB-4CFBEC86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4F8-5A4E-4A9E-BE6B-03A0EF0D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585-2AE3-470A-9DCB-84B2AC3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B25-797D-4D15-A1AE-8F759CE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FB6-1775-4A84-9FEE-BC8A643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B8C-A890-4774-9978-73DDA89B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einternet.r/" TargetMode="External"/><Relationship Id="rId2" Type="http://schemas.openxmlformats.org/officeDocument/2006/relationships/hyperlink" Target="http://www.liveinternet.ru/" TargetMode="External"/><Relationship Id="rId3" Type="http://schemas.openxmlformats.org/officeDocument/2006/relationships/hyperlink" Target="http://library.ikz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08720" y="400536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700280"/>
            <a:ext cx="403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бирь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йга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Сбоева М.А. МАОУ лицей №135 Екатеринбург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915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3311280" cy="2486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2808360" cy="2081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03640" y="3716280"/>
            <a:ext cx="3816360" cy="283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хранение тай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хран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храна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запов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ие пос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4716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айга находится на терри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Сибири, Европейской части России, севере Евр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ибири, юге Европы, севере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сновные представители растительного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лиственные дере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хвойные дере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 тай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ять яру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три- четыре я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два- три яруса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естные жит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занимаются охотой и рыболо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занимаются рыболовством и вырубкой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 тайге сохранилось много растений и животных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einternet.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brary.ikz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700280"/>
          <a:ext cx="8229600" cy="467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у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узнал (а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65164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78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ьеф Сиби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2205000"/>
            <a:ext cx="2305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ад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357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256536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ибир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667600">
            <a:off x="5579640" y="3500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я и 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тры Северного Ледовит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пады дневных и ночных темпер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пады летних и зимних темпер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537" t="0" r="0" b="0"/>
          <a:stretch/>
        </p:blipFill>
        <p:spPr>
          <a:xfrm>
            <a:off x="900000" y="1268280"/>
            <a:ext cx="33847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529080" cy="242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529080" cy="25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4578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1871640" cy="264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492360" cy="248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588000" y="3860640"/>
            <a:ext cx="189396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56000" y="4005360"/>
            <a:ext cx="3600360" cy="23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00360" cy="231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21440" y="36450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ё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240360" cy="23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95080" y="3573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095640" cy="2252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53800" y="623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8:36:02Z</dcterms:created>
  <dc:creator>User</dc:creator>
  <dc:description/>
  <dc:language>en-US</dc:language>
  <cp:lastModifiedBy>User</cp:lastModifiedBy>
  <dcterms:modified xsi:type="dcterms:W3CDTF">2013-04-15T12:07:49Z</dcterms:modified>
  <cp:revision>4</cp:revision>
  <dc:subject/>
  <dc:title>Сибирь. Тайга.</dc:title>
</cp:coreProperties>
</file>