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E16B-B640-4805-A89D-D4776F68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BC9-CF50-4DEE-BAD8-EE3406C4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6DD-3D26-407B-9E6F-ECB245BC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D06-4743-4FBB-AE81-FA8B842D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016-49D3-4800-8889-52C5A104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F6E-F4BD-4CCC-93AB-AC417F95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BE4-43B5-4D04-A33F-79D4C5E5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1D5-99F7-43DE-84F8-311C3AD2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228-0BC0-42B2-B640-C144F7F8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E67-0730-491B-A972-394BE1F6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97D-BF19-4F80-B7E2-C0663F98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228-1228-4076-85E1-51470FF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445-0F2C-41D5-BAE0-2C1F2381B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veinternet.r/" TargetMode="External"/><Relationship Id="rId2" Type="http://schemas.openxmlformats.org/officeDocument/2006/relationships/hyperlink" Target="http://www.liveinternet.ru/" TargetMode="External"/><Relationship Id="rId3" Type="http://schemas.openxmlformats.org/officeDocument/2006/relationships/hyperlink" Target="http://library.ikz.ru/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508720" y="400536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ужающ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1700280"/>
            <a:ext cx="403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ибирь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айга.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Сбоева М.А. МАОУ лицей №135 Екатеринбург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9151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84360" y="3933720"/>
            <a:ext cx="3311280" cy="2486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2808360" cy="2081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003640" y="3716280"/>
            <a:ext cx="3816360" cy="2838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50920" y="836640"/>
            <a:ext cx="36716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охранение тай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храна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храна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ние заповед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граничение посе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140360" y="2060640"/>
            <a:ext cx="4716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Тайга находится на терри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Сибири, Европейской части России, севере Европ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Сибири, юге Европы, севере Ам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сновные представители растительного ми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лиственные деревь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хвойные дере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 тайг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пять яру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три- четыре яру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два- три яруса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Местные жит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занимаются охотой и рыболовств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занимаются рыболовством и вырубкой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В тайге сохранилось много растений и животных.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сы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veinternet.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ibrary.ikz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1700280"/>
          <a:ext cx="8229600" cy="4672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я 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я узна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я узнал (а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24720" cy="5651640"/>
          </a:xfrm>
          <a:prstGeom prst="rect">
            <a:avLst/>
          </a:prstGeom>
          <a:ln w="19080">
            <a:solidFill>
              <a:srgbClr val="66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3800" cy="4781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льеф Сиби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2205000"/>
            <a:ext cx="2305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адно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35772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256536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ибир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ског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667600">
            <a:off x="5579640" y="3500280"/>
            <a:ext cx="486000" cy="720720"/>
          </a:xfrm>
          <a:prstGeom prst="downArrow">
            <a:avLst>
              <a:gd name="adj1" fmla="val 50000"/>
              <a:gd name="adj2" fmla="val 37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ря и оке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тры Северного Ледовит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пады дневных и ночных темпер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пады летних и зимних темпера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й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6764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8537" t="0" r="0" b="0"/>
          <a:stretch/>
        </p:blipFill>
        <p:spPr>
          <a:xfrm>
            <a:off x="900000" y="1268280"/>
            <a:ext cx="33847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529080" cy="2422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88000" y="4005360"/>
            <a:ext cx="3529080" cy="25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34578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итель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1871640" cy="264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492360" cy="248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588000" y="3860640"/>
            <a:ext cx="1893960" cy="273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56000" y="4005360"/>
            <a:ext cx="3600360" cy="23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859280" y="126828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dd43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ивотны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00360" cy="2314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21440" y="36450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ё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3240360" cy="2303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995080" y="3573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е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095640" cy="2252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53800" y="623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08:36:02Z</dcterms:created>
  <dc:creator>User</dc:creator>
  <dc:description/>
  <dc:language>en-US</dc:language>
  <cp:lastModifiedBy>User</cp:lastModifiedBy>
  <dcterms:modified xsi:type="dcterms:W3CDTF">2013-04-15T12:07:49Z</dcterms:modified>
  <cp:revision>4</cp:revision>
  <dc:subject/>
  <dc:title>Сибирь. Тайга.</dc:title>
</cp:coreProperties>
</file>