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54D-37C7-4505-8887-672F6814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683-EE36-4778-8F80-A86ECCE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10E-A75E-4403-BAB7-60EA1597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3C8-69FB-4EDA-AD06-E0CA1FB8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2D77-7BA1-4E6A-8D28-9E2D2FFE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CC1-FA04-4625-B336-BB5B93C5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1A28-E3AC-462F-93C8-F8822097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5CC6-3D06-4A55-8DC2-CC774B3F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C12-12AF-4EED-97C7-D721913B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13B3-3714-42BC-A1DC-199D7E2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03BB-25AD-48AA-A271-68DF84A1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9C6-0AE2-4670-97C2-1454979C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0F2-930B-4746-B7DA-471B991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4542-6BA2-4CEA-8326-C1A3FF3E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8638-0A62-46D1-BC57-7A7DBBE5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E56-70A6-4B68-B668-07E1A259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D6F1-B08A-44A4-B7D9-C1D78F75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633-5221-4249-AB40-B2899B78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43C-500B-43C3-B5B5-5A76CC38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836-F6BF-47A9-8BBC-8EA1132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3794-BD42-417B-BFFB-51D23A7C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A02-A3C8-460D-8ADC-26C281A4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16F-7D14-4A11-BBAA-B412721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7768-5175-4240-9FDE-4234F7B9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91A-F8C3-4FCB-8B2D-08E9B4BA9B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6C6A-3B76-4A3C-9781-B63FF7DE9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76280" y="566640"/>
            <a:ext cx="7027920" cy="567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әтнең яшәешенә борынгы заманнарда ук кереп урнашкан тормыш-көнкүреш, дин кануннарын үтәү белән бәйле тәртип һәм гадәт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-үзеңне тотышта ныгытылган тәртип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кка хас, нык урнашкан үзенчәлек, һәркем үтәргә тиешле кагыйдә, канун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474920" y="268200"/>
            <a:ext cx="7370640" cy="27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434600" y="2852280"/>
            <a:ext cx="6953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схакый 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нәтче бабай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Миңнуллин “Туган ягым – яшел бишек”, “Әлдермештән Әлмәндәр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браһимов “Алмачуар” һәм башкалар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1" name="Picture 2" descr="C:\Documents and Settings\User\Рабочий стол\Рамки для слайдов\ik0hrufnkub8SHWdW.jpg"/>
          <p:cNvPicPr/>
          <p:nvPr/>
        </p:nvPicPr>
        <p:blipFill>
          <a:blip r:embed="rId2"/>
          <a:stretch/>
        </p:blipFill>
        <p:spPr>
          <a:xfrm>
            <a:off x="357120" y="1571760"/>
            <a:ext cx="1147680" cy="893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3"/>
          <a:stretch/>
        </p:blipFill>
        <p:spPr>
          <a:xfrm>
            <a:off x="428760" y="2500200"/>
            <a:ext cx="1006200" cy="129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4400" y="2060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гътибарыгыз өчен рәхмәт!</a:t>
            </a:r>
            <a:endParaRPr b="0" lang="en-US" sz="5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Admin</cp:lastModifiedBy>
  <dcterms:modified xsi:type="dcterms:W3CDTF">2013-01-08T16:17:52Z</dcterms:modified>
  <cp:revision>23</cp:revision>
  <dc:subject/>
  <dc:title>Слайд 1</dc:title>
</cp:coreProperties>
</file>