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CAE-A429-4B6E-AD54-BD9441B1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A0C-D9C9-44F8-8E8C-545B04B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47D-C967-40AD-A3D2-A091893F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BC7-5F95-4348-8830-1F1590B3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D3C-295A-4FF7-B1B1-66BDD78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D2D1-B233-4865-9D51-0FE43E0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DC51-EC56-4A90-AC86-68D3CF9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BE0E-D012-4764-A97C-984C3D4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2F47-37C2-4616-85BB-94EE82C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C3B4-5F8F-4561-8D74-A5049752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924F-53D5-49D6-8D56-5BF261C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2FA-97AA-46B7-9627-5642E00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334-9BEE-44ED-B84C-C300661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3524-BEC0-4B38-AA2B-C939006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E16-DB72-48A8-BDB9-28D06C53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E596-6AEF-4784-9E85-91E83508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502-D194-4F22-AC5A-2B6FE3D3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69A-2A00-40CA-96D5-ACF26BC7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DC8-9975-45ED-90DC-FBEC7F83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2B1-BCD4-4114-B5E3-3A8C63B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B53-D6BA-4628-980A-DC7E24C4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303-11CA-42D7-AF55-F7977D7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9FA-9D1C-4B31-B295-9DDA456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7F6-49A0-46C4-A579-A5FD2EA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E140-D86F-4920-94DA-14C7D5524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120-6CEF-4036-A9ED-68050BDAE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76280" y="566640"/>
            <a:ext cx="702792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әтнең яшәешенә борынгы заманнарда ук кереп урнашкан тормыш-көнкүреш, дин кануннарын үтәү белән бәйле тәртип һәм гадәт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-үзеңне тотышта ныгытылган тәртип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кка хас, нык урнашкан үзенчәлек, һәркем үтәргә тиешле кагыйдә, канун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474920" y="268200"/>
            <a:ext cx="7370640" cy="27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434600" y="2852280"/>
            <a:ext cx="6953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схакый 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нәтче бабай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Миңнуллин “Туган ягым – яшел бишек”, “Әлдермештән Әлмәндәр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“Алмачуар” һәм башкалар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1" name="Picture 2" descr="C:\Documents and Settings\User\Рабочий стол\Рамки для слайдов\ik0hrufnkub8SHWdW.jpg"/>
          <p:cNvPicPr/>
          <p:nvPr/>
        </p:nvPicPr>
        <p:blipFill>
          <a:blip r:embed="rId2"/>
          <a:stretch/>
        </p:blipFill>
        <p:spPr>
          <a:xfrm>
            <a:off x="357120" y="1571760"/>
            <a:ext cx="1147680" cy="89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3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2060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гътибарыгыз өчен рәхмәт!</a:t>
            </a:r>
            <a:endParaRPr b="0" lang="en-US" sz="5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Admin</cp:lastModifiedBy>
  <dcterms:modified xsi:type="dcterms:W3CDTF">2013-01-08T16:17:52Z</dcterms:modified>
  <cp:revision>23</cp:revision>
  <dc:subject/>
  <dc:title>Слайд 1</dc:title>
</cp:coreProperties>
</file>