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EF8-97FD-4E39-80B5-4FEE3E1C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30E-B341-49A1-BB48-E7EC3BC3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9FB-86D0-42B1-B47F-460E2283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DBA-B8A0-415E-8DAD-2B07162A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4F55-6A31-40E8-BAC6-F8B42DD3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7D5D-CE5A-4955-AB12-98FE3675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6269-0A14-453C-8342-5F77CC7F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6D4D-AB63-4302-9BFA-6B2FEDFC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4CF7-9E8A-4BC2-8ED9-EC0678DD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8B03-3CC1-45CC-8867-DEED0F9D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717D-4438-48D3-86B1-676AF770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A40D-6D5B-4A4E-AB89-3C67DB6B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7BCB-70D7-47F7-9966-7DDA7570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57E1-9ACD-48DB-BBD3-53331A71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613A-F42A-4E33-98F3-0057ECF2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6CB5-77A9-4C99-BE3E-91D44AD4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DFDD-3C1D-48E2-920E-C05271AD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CC0-223A-493F-ABD7-7A14D31A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803-72F6-4480-9FB6-506910C6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29E-D16C-4CEC-9E8A-E0AD1423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9649-E92B-4C58-81BE-5BC74496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49E-14DD-4F52-A18E-A6AC48A4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922-5738-48C3-82F3-12801ED3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999-A5E2-40B3-A24C-7B6A1EC7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3F33-DEA4-42FF-A236-D817CE003A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247D-8FB6-49D2-B02C-407503B019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76280" y="566640"/>
            <a:ext cx="7027920" cy="5675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ләтнең яшәешенә борынгы заманнарда ук кереп урнашкан тормыш-көнкүреш, дин кануннарын үтәү белән бәйле тәртип һәм гадәт</a:t>
            </a: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366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з-үзеңне тотышта ныгытылган тәртип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ыкка хас, нык урнашкан үзенчәлек, һәркем үтәргә тиешле кагыйдә, канун</a:t>
            </a: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474920" y="268200"/>
            <a:ext cx="7370640" cy="2737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434600" y="2852280"/>
            <a:ext cx="69534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схакый 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ннәтче бабай”;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Миңнуллин “Туган ягым – яшел бишек”, “Әлдермештән Әлмәндәр”;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браһимов “Алмачуар” һәм башкалар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91" name="Picture 2" descr="C:\Documents and Settings\User\Рабочий стол\Рамки для слайдов\ik0hrufnkub8SHWdW.jpg"/>
          <p:cNvPicPr/>
          <p:nvPr/>
        </p:nvPicPr>
        <p:blipFill>
          <a:blip r:embed="rId2"/>
          <a:stretch/>
        </p:blipFill>
        <p:spPr>
          <a:xfrm>
            <a:off x="357120" y="1571760"/>
            <a:ext cx="1147680" cy="8935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3"/>
          <a:stretch/>
        </p:blipFill>
        <p:spPr>
          <a:xfrm>
            <a:off x="428760" y="2500200"/>
            <a:ext cx="1006200" cy="1298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14400" y="2060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Игътибарыгыз өчен рәхмәт!</a:t>
            </a:r>
            <a:endParaRPr b="0" lang="en-US" sz="54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6:58:57Z</dcterms:created>
  <dc:creator>Comp</dc:creator>
  <dc:description/>
  <dc:language>en-US</dc:language>
  <cp:lastModifiedBy>Admin</cp:lastModifiedBy>
  <dcterms:modified xsi:type="dcterms:W3CDTF">2013-01-08T16:17:52Z</dcterms:modified>
  <cp:revision>23</cp:revision>
  <dc:subject/>
  <dc:title>Слайд 1</dc:title>
</cp:coreProperties>
</file>