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12D9-6949-4E89-B96A-C38782AF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9F9-DA0D-492C-BBC0-8806DA5F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22A5-7AB3-40E9-9852-7389F274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ABF4-6DC1-4953-AEBA-096827CF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3408-714C-4EB7-999B-79890196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0AEA-E871-43E9-A7C4-74B09EB7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3564-B50B-47FA-AD17-1F470808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9C1C-8147-4DFE-8BB9-37C1FB36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2F19-3A04-4457-ABFD-72EF6DE8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ED88-A1A4-411C-9F97-8D0CF621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9C87-FFB7-4CEF-B4A8-DC0939A9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534-EF7B-4BA1-9CBC-B4EFA924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0663-E7F2-43E1-AF8D-7C041401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B7B9-1920-4A4F-AFDF-3657E320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E566-2166-4ED1-BBCC-04E8B608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A19B-410E-488A-8EF6-F5EC5074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57D4-5B87-4CDA-9A4C-2A8D40D1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454-1596-4C77-87D3-05369F2A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916-B060-43CD-8C6F-E4BA20EA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0FB-0AD5-4A7A-8DF7-BF5F7550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D43E-1710-4B13-8AAB-E30F8A1C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B75-D96C-4AC0-8474-3C5CEDD6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C0F5-C761-4197-8F9B-D9602229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E271-DF18-4931-BC43-101B9A53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B095-6C1A-4E25-B677-7358576C2A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4A22-15A7-44EF-B666-980F8EB117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76280" y="566640"/>
            <a:ext cx="7027920" cy="5675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ләтнең яшәешенә борынгы заманнарда ук кереп урнашкан тормыш-көнкүреш, дин кануннарын үтәү белән бәйле тәртип һәм гадәт</a:t>
            </a: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366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з-үзеңне тотышта ныгытылган тәртип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ыкка хас, нык урнашкан үзенчәлек, һәркем үтәргә тиешле кагыйдә, канун</a:t>
            </a: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474920" y="268200"/>
            <a:ext cx="7370640" cy="273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434600" y="2852280"/>
            <a:ext cx="69534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Исхакый 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ннәтче бабай”;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Миңнуллин “Туган ягым – яшел бишек”, “Әлдермештән Әлмәндәр”;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Ибраһимов “Алмачуар” һәм башкалар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91" name="Picture 2" descr="C:\Documents and Settings\User\Рабочий стол\Рамки для слайдов\ik0hrufnkub8SHWdW.jpg"/>
          <p:cNvPicPr/>
          <p:nvPr/>
        </p:nvPicPr>
        <p:blipFill>
          <a:blip r:embed="rId2"/>
          <a:stretch/>
        </p:blipFill>
        <p:spPr>
          <a:xfrm>
            <a:off x="357120" y="1571760"/>
            <a:ext cx="1147680" cy="8935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"/>
          <p:cNvPicPr/>
          <p:nvPr/>
        </p:nvPicPr>
        <p:blipFill>
          <a:blip r:embed="rId3"/>
          <a:stretch/>
        </p:blipFill>
        <p:spPr>
          <a:xfrm>
            <a:off x="428760" y="2500200"/>
            <a:ext cx="1006200" cy="1298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14400" y="2060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гътибарыгыз өчен рәхмәт!</a:t>
            </a:r>
            <a:endParaRPr b="0" lang="en-US" sz="54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6:58:57Z</dcterms:created>
  <dc:creator>Comp</dc:creator>
  <dc:description/>
  <dc:language>en-US</dc:language>
  <cp:lastModifiedBy>Admin</cp:lastModifiedBy>
  <dcterms:modified xsi:type="dcterms:W3CDTF">2013-01-08T16:17:52Z</dcterms:modified>
  <cp:revision>23</cp:revision>
  <dc:subject/>
  <dc:title>Слайд 1</dc:title>
</cp:coreProperties>
</file>