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F84-1AAC-41B3-97B0-6C1A84AC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8F7-3B60-4A36-8018-077E0B30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461-E25D-48AA-9B66-C53E2172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474-747C-4757-81B7-725AD374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A020-231B-4448-B745-4C41110E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CF43-FDEB-4D2F-B24E-4ECE76AD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F78A-24D0-49DC-B9EA-F5DB6138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6B86-64D4-408E-A4D5-409D37D2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0222-B82D-42B0-94A0-52FFC9F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9C3C-BB2E-41FF-B9B1-CFC3B6C4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7EE8-1402-4B61-8123-4303BB00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481-DE62-496A-B157-44174681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DE9E-CA46-4FFC-9A3E-1700480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8AEE-E115-49B6-ABFC-0909C8F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6478-F388-469A-9801-07E73A78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1B71-697A-4AC9-9820-19C07617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C0AB-9790-494E-B8B9-86D12BA1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5F8D-34C8-4D30-AEC3-6C6D9084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7D2B-BAF7-4986-B61E-61CEC2D6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F954-AD14-442F-91F2-4317E1FB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7A1B-5550-4908-972D-7516D84D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B507-33D0-4C95-8435-20072E3D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D26-1874-42E0-92FF-31C76AE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FEB7-E936-4947-821E-87444D0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E253-CAA0-4F42-A740-93C64EE3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1CD6-8E87-4D61-92D8-B6E0A29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4A5A-9590-40D7-A579-D320159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5B6D-0CD1-496E-BF21-EFA0CDB0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B5E1-6CB6-497F-85C5-0673A688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3052-82A9-46D6-9CB0-5647F53C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8180-82BD-4615-9588-2AC4CFC9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ED04-F1B8-4B2A-8622-9E71FA59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A2AC-FC8B-44C3-879D-D09819CF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341-5D7A-4E6C-B2CE-F912509A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0B4B-AE67-4FAF-9CD6-37A61824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3B47-32A9-4DD4-984A-F27E3DF6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30C7F-2D7E-4AB2-8313-24C1A2C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47BD-CDEC-4940-B2C4-40A01F9D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659DE-4F04-4550-B8D1-ECF272E7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A317-B196-4BC3-967A-10A2E5A3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5585-E14D-40A0-8E4A-03024A4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2512-30E6-4E25-BDF2-F7BF3EEA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DC0D-C3AB-4AB1-A812-F4CC60A2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E58-9DFE-45B8-B950-A24ED464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1B9-A9E9-4F2E-85F5-36CCD248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EE4-944F-4D60-8C59-FC2CCEBB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69D-053D-4C06-9909-4E843264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FDC-CEA6-474E-B85C-EE4BC1A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CFF-2412-4627-8EC5-8FD528820E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05D4-C9E8-4854-AADD-5343A2371E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AF7-7767-4061-80E6-75164565E1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89F1-448C-4869-9A44-F807DC8B2C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:\Поль Гоген\Африка\An-Empty-Hammock-Kauai-Hawai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195640" y="907920"/>
            <a:ext cx="56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ahoma"/>
              </a:rPr>
              <a:t>ТЕМА: </a:t>
            </a:r>
            <a:br>
              <a:rPr sz="5400"/>
            </a:br>
            <a:r>
              <a:rPr b="0" lang="en-US" sz="5400" spc="-1" strike="noStrike">
                <a:solidFill>
                  <a:srgbClr val="b7e7ff"/>
                </a:solidFill>
                <a:latin typeface="Tahoma"/>
              </a:rPr>
              <a:t>Гидрография  Африки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Крупные  реки 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 Африки  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(длиной более 1400 км):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л (с Кагерой) (6671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го (Заир) (437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гер (4160 км.),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бези (266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анжевая (186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ванго (Кубанго) (180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мпопо (160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ьта (160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ри (145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негал (1430 км.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959280" y="0"/>
            <a:ext cx="5184720" cy="6626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1700280"/>
            <a:ext cx="399564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л - рек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уанде, Танзани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анде, Судане, Египт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ина 6671 км ( 1 место в мире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ощадь бассейна 2870 тыс. кв. км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инается на Восточно-Африканском плоскогорье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востоку от озер Киву и Танганьика, впада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редиземное море, образуя дельту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та Нила, вид из космос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2"/>
          <a:stretch/>
        </p:blipFill>
        <p:spPr>
          <a:xfrm>
            <a:off x="-384120" y="-648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D:\Поль Гоген\Африка\1208169386_nil2.jpg"/>
          <p:cNvPicPr/>
          <p:nvPr/>
        </p:nvPicPr>
        <p:blipFill>
          <a:blip r:embed="rId3"/>
          <a:stretch/>
        </p:blipFill>
        <p:spPr>
          <a:xfrm>
            <a:off x="0" y="3357720"/>
            <a:ext cx="5748480" cy="3500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D:\Поль Гоген\Африка\800px-Nile03(js).jpg"/>
          <p:cNvPicPr/>
          <p:nvPr/>
        </p:nvPicPr>
        <p:blipFill>
          <a:blip r:embed="rId4"/>
          <a:stretch/>
        </p:blipFill>
        <p:spPr>
          <a:xfrm>
            <a:off x="3714840" y="0"/>
            <a:ext cx="5429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ка Конг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8541000" cy="4422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81120" y="5086440"/>
            <a:ext cx="778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Tahoma"/>
              </a:rPr>
              <a:t>Конго —слово , означающе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a4"/>
                </a:solidFill>
                <a:latin typeface="Tahoma"/>
              </a:rPr>
              <a:t>река, поглотившая все реки”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-544680" y="2887560"/>
            <a:ext cx="102315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́нго (Заи́р) — река в Центральной Африке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ая полноводная и вторая по длине река Африк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торая река по водности в мире после Амазон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динственная крупная река, пересекающая экватор два раз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ина Конго составляет-4370 к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го обладает наибольшими запасами гидроэнергии, которые оцениваются в 390 ГВт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Конго построено несколько крупных ГЭС 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ые знаменитые водопады на реке —семиступенчатый Стэнли в верховьях Конго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га в ее среднем течении, а также каскад водопадов Ливингстона в низовья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940360" cy="3213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867280" y="404640"/>
            <a:ext cx="32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ка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игер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чинается на юго-востоке Гвине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падает в Гвинейский залив Атлантического океа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ина реки 4160 км , площадь бассейна 2 117 700 кв.к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1189080" y="3068640"/>
            <a:ext cx="113997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ажнейшая достопримечательность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мбез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опад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иктория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ин из величайших водопадов мир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ека Лимпоп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356000" y="0"/>
            <a:ext cx="6240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Приезжайте, доктор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В Африку скоре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И спасите, доктор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Наших малышей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Ладно, ладно, побег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Вашим детям помог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Только где же вы живёт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На горе или в болот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Мы живём на Занзибаре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В Калахари и Сахаре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На горе Фернандо-П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Где гуляет Гиппоп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По широкой Лимпопо</a:t>
            </a:r>
            <a:r>
              <a:rPr b="0" lang="ru-RU" sz="1800" spc="-1" strike="noStrike">
                <a:solidFill>
                  <a:srgbClr val="ee941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301680" y="396360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4648320" y="396360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9280" y="4581360"/>
            <a:ext cx="9753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виду значительной приподнятости африканского материка 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арактерного гористого рельефа, реки Африки обладают большим гидроэнергетическим потенциалом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упнейшие ГЭС и водохранилища построены на реках Ни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суанская плотина)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ьта (Акосомбо) и Замбези (Кабора-Басса)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слайде – ГЭС «Акосомбо» (Ган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рупные озёра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(площадью более 2000 кв.км)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ктория (69000 кв.км; наибольшая глубина – 92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нганьика (34000 кв.км; наибольшая глубина – 1435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ьяса (30800 кв.км; наибольшая глубина – 706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д (16600 кв. км; наибольшая глубина – 12 м.), Рудольф (8500 кв.км; наибольшая глубина – 73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буту-Сесе-Секо (5600 кв.км; наибольшая глубина – 58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на (3150 кв.км; наибольшая глубина – 70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ву (2370 кв.км; наибольшая глубина – 496 м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7420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900000" y="4653000"/>
            <a:ext cx="7344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нганьика - озеро в Африке, в Заире, Танзании, Замбии и Бурунди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ина озера — около 650 км, ширина — 40—80 км. Площадь 34 тыс. км². Лежит на высоте 773 метров над уровнем моря в тектонической впадине Восточно-Африканской зо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глубина до 1470 м (второе по глубине после Байкала)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Эпиграф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Я жалею о том, что не видел лица всей Зем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Всех её океанов, вершин ледяных и зака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Только парус мечты вел по свету мои кораб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Только в стеклах витрин я встречал альбатросов и ска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Я не слышал, как в Лондоне час отбивает Биг Бен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Я не видел, как звезды сползают к фиордам все ниж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Как кипит за кормой горький снег атлантических пе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И в начале весны голубеют фиалки в Париж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 algn="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берт Рождественски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еро Чад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оложено на южной оконечности пустыни Сахара, находится на территории 4 государств: Камерун, Нигер, Нигерия, Чад.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24000" y="209700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ahoma"/>
              </a:rPr>
              <a:t>Чад является бессточным озером, питается посредством осадков и рек. Площадь поверхности озера составляет в среднем около 11 - 27 тыс. кв. км, в зависимости от сезон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ahoma"/>
              </a:rPr>
              <a:t>Средняя глубина озера колеблется около двух метров, максимальная – 11м. Крупнейший приток озера река Шари приносит до 90% всех вод в водое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684360" y="1413000"/>
          <a:ext cx="8135280" cy="4064040"/>
        </p:xfrm>
        <a:graphic>
          <a:graphicData uri="http://schemas.openxmlformats.org/drawingml/2006/table">
            <a:tbl>
              <a:tblPr/>
              <a:tblGrid>
                <a:gridCol w="2089440"/>
                <a:gridCol w="1418760"/>
                <a:gridCol w="1227600"/>
                <a:gridCol w="1907280"/>
                <a:gridCol w="14922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реки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к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ь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сейн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жим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го (Заир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гер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мбези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Подведение итогов урока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ая длинная река мира.(Ни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ая полновод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фр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онг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длинное озеро мира. (Танганьи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большое озеро Африки. (Виктор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мелководное озеро Африки. (Ча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стр. 172- 180, ответить на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Работа по карте - на  с. 180 задание 1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ставить кроссворд по теме: Гидрография Афр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-1244520" y="290160"/>
            <a:ext cx="11634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333300"/>
                </a:solidFill>
                <a:latin typeface="Verdana"/>
              </a:rPr>
              <a:t> вариант – экваториальный климатический пояс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Verdana"/>
              </a:rPr>
              <a:t>II</a:t>
            </a:r>
            <a:r>
              <a:rPr b="1" lang="ru-RU" sz="1800" spc="-1" strike="noStrike">
                <a:solidFill>
                  <a:srgbClr val="333300"/>
                </a:solidFill>
                <a:latin typeface="Verdana"/>
              </a:rPr>
              <a:t> вариант - тропический климатический пояс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акие утверждения верны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Этот пояс находится между 2 º ю. ш. и 5 º с. ш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В этом поясе жарко и сухо в течение всего г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Весь год преобладают влажные воздушные масс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Летом исключительно жарко, почти безоблачно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мпература в тени +50 º С, а около города Триполи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фиксирована температура воздуха + 58 граду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Осадков выпадает мало, летом и зимой менее 100 м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Пояс располагается  по обе стороны от экватора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севере образуя более широкую полос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 Нет смены времен года. Средняя годовая температур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духа составляет + 26 граду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8. У растений этого пояса не формируются годовые кольц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. В этом поясе находятся основные пустыни Африки, где днем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дух сильно нагревается, а ночью  быстро остывает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точная амплитуда температур достигает  более 20 граду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0. Самум – ветер, несущий тучи песка частое явление в этом пояс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. За год выпадает огромное количество осадков – 2000-3000 мм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Цифровой диктант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вариант – экваториальный климатический пояс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вариант - тропический климатический пояс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628640"/>
          <a:ext cx="8497800" cy="4461120"/>
        </p:xfrm>
        <a:graphic>
          <a:graphicData uri="http://schemas.openxmlformats.org/drawingml/2006/table">
            <a:tbl>
              <a:tblPr/>
              <a:tblGrid>
                <a:gridCol w="1849320"/>
                <a:gridCol w="623880"/>
                <a:gridCol w="623880"/>
                <a:gridCol w="622440"/>
                <a:gridCol w="623880"/>
                <a:gridCol w="623880"/>
                <a:gridCol w="623880"/>
                <a:gridCol w="623880"/>
                <a:gridCol w="623880"/>
                <a:gridCol w="623880"/>
                <a:gridCol w="10350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11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вариант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       </a:t>
                      </a: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вариант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611280" y="1701000"/>
            <a:ext cx="8343360" cy="1557360"/>
            <a:chOff x="611280" y="1701000"/>
            <a:chExt cx="8343360" cy="1557360"/>
          </a:xfrm>
        </p:grpSpPr>
        <p:cxnSp>
          <p:nvCxnSpPr>
            <p:cNvPr id="280" name="_s24582"/>
            <p:cNvCxnSpPr>
              <a:stCxn id="281" idx="0"/>
              <a:endCxn id="282" idx="4"/>
            </p:cNvCxnSpPr>
            <p:nvPr/>
          </p:nvCxnSpPr>
          <p:spPr>
            <a:xfrm flipV="1" rot="16200000">
              <a:off x="6363720" y="667800"/>
              <a:ext cx="274680" cy="3436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3" name="_s24583"/>
            <p:cNvCxnSpPr>
              <a:stCxn id="284" idx="0"/>
              <a:endCxn id="282" idx="3"/>
            </p:cNvCxnSpPr>
            <p:nvPr/>
          </p:nvCxnSpPr>
          <p:spPr>
            <a:xfrm flipV="1" rot="16200000">
              <a:off x="5504040" y="1527480"/>
              <a:ext cx="274680" cy="1716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5" name="_s24584"/>
            <p:cNvCxnSpPr>
              <a:stCxn id="286" idx="0"/>
              <a:endCxn id="282" idx="2"/>
            </p:cNvCxnSpPr>
            <p:nvPr/>
          </p:nvCxnSpPr>
          <p:spPr>
            <a:xfrm flipV="1">
              <a:off x="4783680" y="2248560"/>
              <a:ext cx="2160" cy="2746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7" name="_s24585"/>
            <p:cNvCxnSpPr>
              <a:stCxn id="288" idx="0"/>
              <a:endCxn id="282" idx="1"/>
            </p:cNvCxnSpPr>
            <p:nvPr/>
          </p:nvCxnSpPr>
          <p:spPr>
            <a:xfrm flipH="1" flipV="1" rot="5400000">
              <a:off x="3787560" y="1526760"/>
              <a:ext cx="274680" cy="1718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9" name="_s24586"/>
            <p:cNvCxnSpPr>
              <a:stCxn id="290" idx="0"/>
              <a:endCxn id="282" idx="0"/>
            </p:cNvCxnSpPr>
            <p:nvPr/>
          </p:nvCxnSpPr>
          <p:spPr>
            <a:xfrm flipH="1" flipV="1" rot="5400000">
              <a:off x="2928600" y="667800"/>
              <a:ext cx="274680" cy="3436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82" name="_s24587"/>
            <p:cNvSpPr/>
            <p:nvPr/>
          </p:nvSpPr>
          <p:spPr>
            <a:xfrm>
              <a:off x="2526840" y="1701000"/>
              <a:ext cx="4510080" cy="548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00a4"/>
                </a:gs>
                <a:gs pos="100000">
                  <a:srgbClr val="0099cc"/>
                </a:gs>
              </a:gsLst>
              <a:lin ang="8100000"/>
            </a:gra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ВНУТРЕННИЕ   ВОДЫ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0" name="_s24588"/>
            <p:cNvSpPr/>
            <p:nvPr/>
          </p:nvSpPr>
          <p:spPr>
            <a:xfrm>
              <a:off x="611280" y="2523600"/>
              <a:ext cx="147168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РЕКИ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_s24589"/>
            <p:cNvSpPr/>
            <p:nvPr/>
          </p:nvSpPr>
          <p:spPr>
            <a:xfrm>
              <a:off x="2328840" y="2523600"/>
              <a:ext cx="147204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    </a:t>
              </a: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БОЛОТА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_s24590"/>
            <p:cNvSpPr/>
            <p:nvPr/>
          </p:nvSpPr>
          <p:spPr>
            <a:xfrm>
              <a:off x="4046760" y="2523600"/>
              <a:ext cx="147168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ЛЕДНИКИ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_s24591"/>
            <p:cNvSpPr/>
            <p:nvPr/>
          </p:nvSpPr>
          <p:spPr>
            <a:xfrm>
              <a:off x="5764320" y="2523600"/>
              <a:ext cx="147204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ОЗЕРА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_s24592"/>
            <p:cNvSpPr/>
            <p:nvPr/>
          </p:nvSpPr>
          <p:spPr>
            <a:xfrm>
              <a:off x="7482600" y="2523600"/>
              <a:ext cx="147204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ПОДЗЕМНЫЕ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ВОДЫ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нутренние воды Афр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должны вспомнить некоторые географические терм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мы имеем в виду, когда говорим” внутренние воды"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ре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исто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тье - это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ток - это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бассейн рек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водораздел рек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ое питание имеют рек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режим рек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ие бывают ре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водопад и порог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озе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подземны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дники - эт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ЛИЯНИЕ ВНЕШНИХ ФАКТОРОВ НА РЕ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200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4720" y="1676160"/>
            <a:ext cx="4197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ЛИЯНИЕ ВНЕШНИХ ФАКТОРОВ НА РЕ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200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.ХАРАКТЕР Т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. ПОРОГИ И ВОДОП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 РАБОТА Р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. НА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ольшая часть рек порожиста, много водопа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ассейн Атлантического океана  имеет большую площадь вследствие того, что рельеф материка понижается к северу и зап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обладают реки, впадающие в Атлантический оке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720" y="1676160"/>
            <a:ext cx="4197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МНОГОВОД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ПИТ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РЕЖ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ЛЕДОСТА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ноговодны полноводны круглый год  реки, текущие в  экваториальном климатическом поясе, преобладает питание дождев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убэкваториальных поясах  половодье наступает в летние месяц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убтропических поясах  реки разливаются зи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едостава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пределение вод Афр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ды Африки распределяются крайне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еравномерно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устая речная сеть имеется там, где выпадает много осадков и распространенны водоупорные горные породы (в бассейне Конго (Заир), на побережье Гвинейского залив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Более трети континент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вообще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е имеет постоянного сто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 вода появляется только в понижениях после редких дождей (в Сахаре, пустыне Намиб и др.). Вода теряется из-за просачивания в пески и каменистые россыпи пустын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личительной особенностью водной сети Африки является и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начительная площадь областе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нутреннего сто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(около 1/3 всей площади материка). Реки впадают в озера, не имеющие стока в океан, или теряются в песках и толщах щебня либо в болотах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нутренний сток связан как с дефицитом влаги, так и с котлованным характером поверх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пустынях есть сухие русла —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ади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свидетельствующие о более влажном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климате в прошлом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8:43:12Z</dcterms:created>
  <dc:creator>юлия</dc:creator>
  <dc:description/>
  <dc:language>en-US</dc:language>
  <cp:lastModifiedBy>Comp</cp:lastModifiedBy>
  <dcterms:modified xsi:type="dcterms:W3CDTF">2013-04-15T09:31:22Z</dcterms:modified>
  <cp:revision>21</cp:revision>
  <dc:subject/>
  <dc:title>Слайд 1</dc:title>
</cp:coreProperties>
</file>