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D9F-8362-4D87-BB38-239668608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5CB-BE08-4420-862C-E423684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4CE0-D73D-4693-8C9E-CC72877A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D6B-18CB-40B5-B177-72DA5885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7F04-46FD-4B80-B894-9DC86F97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08EC-6893-4FE1-9011-27EC4447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44E9-9F90-4A65-8339-F4519FA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B52D-F4CC-4544-BD66-19324796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821E-4C11-4DB5-AF1D-078AC005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82CB-523D-45DE-897F-D17BB551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2939-8DE6-4B9B-952C-B77D39E3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09A-80B8-47A8-80EA-AA78AC97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CFB4-3DA1-4129-8556-2D199DC3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D857-8D13-4D6C-B0B4-E3954EA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9529-8EB6-42AE-8AF2-21A5E3C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A446-5A3F-4D13-8F3B-6ACD8AAB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EC6C-1C39-4B26-B146-FB91A2F6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E12DC-B100-45DD-9432-93C5A8A1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020A-060E-4E1D-8006-261C7E65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7D183-942D-4DD8-80A3-0AD73C91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6EA6-DC76-4AE4-BFCF-1118BF5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2635B-4A90-4835-9714-61ED63D3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763-C18F-49E0-ABE8-8F2AB3AA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DE13-8DF7-422D-AD33-2026DA36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696DD-7B62-4FF2-AE41-2FF01D79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C0112-AE7A-442D-87F8-57CD50D4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32922-617D-42BF-A467-FF170132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D5EF-BA4A-4606-8F10-0B1A7175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37994-898E-461F-A3FF-21393CBF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1624A-3779-4274-80FF-07A1E73E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38D6A-3C1B-468D-AD77-06E7DF15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96D8-DB13-459D-ACEA-0FF1AB4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62F75-AABE-4A9E-928D-1D17337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26A-F019-46AB-B631-A4FCD092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2E8A-FC01-45C8-901A-515F928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DABC-438C-45D4-BAE2-E612C3FE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2D1A-BB0B-47BD-B71D-2D8A939C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6C72-CBB1-46CC-AACE-8A79294F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D50F-120B-45B7-928E-988B1793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6670-77E7-45B1-A5DF-5E6F3A3E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47CC-C472-4349-9E64-59CD21DF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9F12-78C7-4CD8-B019-EC8E61F4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6D330-1859-4A8C-AB17-250713E2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3CB-5E42-438F-A4A1-4B907A0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32F-1A2A-4032-B5B8-FAC3CB29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808E-6D66-48C9-8F14-19DDFB15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9DF-E9DA-4545-9220-E8B798AA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3E3-9CBD-41C4-A879-F781D019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DF00-86F9-4A6C-A657-C10F681C32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280E-0F07-4406-8810-9C78DD79BB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6A59-3162-49AF-919A-BDF5A2935D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569D-07F3-4A44-B62C-2B77FFCD7B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:\Поль Гоген\Африка\An-Empty-Hammock-Kauai-Hawai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195640" y="907920"/>
            <a:ext cx="568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ahoma"/>
              </a:rPr>
              <a:t>ТЕМА: </a:t>
            </a:r>
            <a:br>
              <a:rPr sz="5400"/>
            </a:br>
            <a:r>
              <a:rPr b="0" lang="en-US" sz="5400" spc="-1" strike="noStrike">
                <a:solidFill>
                  <a:srgbClr val="b7e7ff"/>
                </a:solidFill>
                <a:latin typeface="Tahoma"/>
              </a:rPr>
              <a:t>Гидрография  Африки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7e7ff"/>
                </a:solidFill>
                <a:latin typeface="Arial"/>
              </a:rPr>
              <a:t>Крупные  реки 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 Африки  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(длиной более 1400 км):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л (с Кагерой) (6671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го (Заир) (437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гер (4160 км.),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бези (266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анжевая (186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ванго (Кубанго) (180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мпопо (160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ьта (160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ари (1450 км.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негал (1430 км.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959280" y="0"/>
            <a:ext cx="5184720" cy="6626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1700280"/>
            <a:ext cx="399564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л - рек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уанде, Танзан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ганде, Судане, Египт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ина 6671 км ( 1 место в мире)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лощадь бассейна 2870 тыс. кв. к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инается на Восточно-Африканском плоскогорье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востоку от озер Киву и Танганьика, впада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Средиземное море, образуя дельту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та Нила, вид из космос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2"/>
          <a:stretch/>
        </p:blipFill>
        <p:spPr>
          <a:xfrm>
            <a:off x="-384120" y="-6480"/>
            <a:ext cx="869940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D:\Поль Гоген\Африка\1208169386_nil2.jpg"/>
          <p:cNvPicPr/>
          <p:nvPr/>
        </p:nvPicPr>
        <p:blipFill>
          <a:blip r:embed="rId3"/>
          <a:stretch/>
        </p:blipFill>
        <p:spPr>
          <a:xfrm>
            <a:off x="0" y="3357720"/>
            <a:ext cx="5748480" cy="35002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D:\Поль Гоген\Африка\800px-Nile03(js).jpg"/>
          <p:cNvPicPr/>
          <p:nvPr/>
        </p:nvPicPr>
        <p:blipFill>
          <a:blip r:embed="rId4"/>
          <a:stretch/>
        </p:blipFill>
        <p:spPr>
          <a:xfrm>
            <a:off x="3714840" y="0"/>
            <a:ext cx="5429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ека Конг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541000" cy="44226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81120" y="5086440"/>
            <a:ext cx="778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ahoma"/>
              </a:rPr>
              <a:t>Конго —слово , означающе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00a4"/>
                </a:solidFill>
                <a:latin typeface="Tahoma"/>
              </a:rPr>
              <a:t>река, поглотившая все реки”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-544680" y="2887560"/>
            <a:ext cx="102315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́нго (Заи́р) — река в Центральной Африке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ая полноводная и вторая по длине река Африк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торая река по водности в мире после Амазонк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динственная крупная река, пересекающая экватор два раз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ина Конго составляет-4370 к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го обладает наибольшими запасами гидроэнергии, которые оцениваются в 390 ГВт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Конго построено несколько крупных ГЭС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мые знаменитые водопады на реке —семиступенчатый Стэнли в верховьях Конго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нга в ее среднем течении, а также каскад водопадов Ливингстона в низовьях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940360" cy="3213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867280" y="40464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ка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игер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чинается на юго-востоке Гвине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падает в Гвинейский залив Атлантического океа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ина реки 4160 км , площадь бассейна 2 117 700 кв.к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-1189080" y="3068640"/>
            <a:ext cx="113997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ажнейшая достопримечательность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мбез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допад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Виктория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ин из величайших водопадов мир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ека Лимпоп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356000" y="0"/>
            <a:ext cx="6240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Приезжайте, доктор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В Африку скорей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И спасите, доктор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Наших малышей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Ладно, ладно, побегу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Вашим детям помогу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Только где же вы живё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На горе или в болоте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Мы живём на Занзибар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В Калахари и Сахаре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На горе Фернандо-По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Где гуляет Гиппоп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ee941c"/>
                </a:solidFill>
                <a:latin typeface="Tahoma"/>
              </a:rPr>
              <a:t>По широкой Лимпопо</a:t>
            </a:r>
            <a:r>
              <a:rPr b="0" lang="ru-RU" sz="1800" spc="-1" strike="noStrike">
                <a:solidFill>
                  <a:srgbClr val="ee941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0168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30168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9280" y="4581360"/>
            <a:ext cx="9753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виду значительной приподнятости африканского материка и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характерного гористого рельефа, реки Африки обладают большим гидроэнергетическим потенциалом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упнейшие ГЭС и водохранилища построены на реках Ни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суанская плотина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ьта (Акосомбо) и Замбези (Кабора-Басса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слайде – ГЭС «Акосомбо» (Ган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Крупные озёра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(площадью более 2000 кв.км)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ктория (69000 кв.км; наибольшая глубина – 92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ганьика (34000 кв.км; наибольшая глубина – 1435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ьяса (30800 кв.км; наибольшая глубина – 706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д (16600 кв. км; наибольшая глубина – 12 м.), Рудольф (8500 кв.км; наибольшая глубина – 73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буту-Сесе-Секо (5600 кв.км; наибольшая глубина – 58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на (3150 кв.км; наибольшая глубина – 70 м.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ву (2370 кв.км; наибольшая глубина – 496 м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7420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00000" y="4653000"/>
            <a:ext cx="73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нганьика - озеро в Африке, в Заире, Танзании, Замбии и Бурунди.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лина озера — около 650 км, ширина — 40—80 км. Площадь 34 тыс. км². Лежит на высоте 773 метров над уровнем моря в тектонической впадине Восточно-Африканской зо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глубина до 1470 м (второе по глубине после Байкала)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Эпигра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Я жалею о том, что не видел лица всей Зем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Всех её океанов, вершин ледяных и зака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Только парус мечты вел по свету мои корабл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Только в стеклах витрин я встречал альбатросов и ска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Я не слышал, как в Лондоне час отбивает Биг Бен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Я не видел, как звезды сползают к фиордам все ниже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Как кипит за кормой горький снег атлантических пе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 Unicode MS"/>
              </a:rPr>
              <a:t>И в начале весны голубеют фиалки в Париж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5360" indent="-315360" algn="r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Роберт Рождественский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зеро Чад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оложено на южной оконечности пустыни Сахара, находится на территории 4 государств: Камерун, Нигер, Нигерия, Чад.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01680" y="1676520"/>
            <a:ext cx="8540640" cy="4422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24000" y="209700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ahoma"/>
              </a:rPr>
              <a:t>Чад является бессточным озером, питается посредством осадков и рек. Площадь поверхности озера составляет в среднем около 11 - 27 тыс. кв. км, в зависимости от сезо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ahoma"/>
              </a:rPr>
              <a:t>Средняя глубина озера колеблется около двух метров, максимальная – 11м. Крупнейший приток озера река Шари приносит до 90% всех вод в водое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684360" y="1413000"/>
          <a:ext cx="8135280" cy="4064040"/>
        </p:xfrm>
        <a:graphic>
          <a:graphicData uri="http://schemas.openxmlformats.org/drawingml/2006/table">
            <a:tbl>
              <a:tblPr/>
              <a:tblGrid>
                <a:gridCol w="2089440"/>
                <a:gridCol w="1418760"/>
                <a:gridCol w="1227600"/>
                <a:gridCol w="1907280"/>
                <a:gridCol w="14922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реки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ток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ь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ссейн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жим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го (Заир)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гер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бези 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Подведение итогов урока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длинная река мира.(Нил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ая полноводна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фр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онго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длинное озеро мира. (Танганьи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большое озеро Африки. (Виктор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мелководное озеро Африки. (Чад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стр. 172- 180, ответить на вопро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Работа по карте - на  с. 180 задание 1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ставить кроссворд по теме: Гидрография Афр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-1244520" y="290160"/>
            <a:ext cx="11634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Verdana"/>
              </a:rPr>
              <a:t>I</a:t>
            </a:r>
            <a:r>
              <a:rPr b="1" lang="ru-RU" sz="1800" spc="-1" strike="noStrike">
                <a:solidFill>
                  <a:srgbClr val="333300"/>
                </a:solidFill>
                <a:latin typeface="Verdana"/>
              </a:rPr>
              <a:t> вариант – экваториальный климатический пояс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Verdana"/>
              </a:rPr>
              <a:t>II</a:t>
            </a:r>
            <a:r>
              <a:rPr b="1" lang="ru-RU" sz="1800" spc="-1" strike="noStrike">
                <a:solidFill>
                  <a:srgbClr val="333300"/>
                </a:solidFill>
                <a:latin typeface="Verdana"/>
              </a:rPr>
              <a:t> вариант - тропический климатический пояс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акие утверждения верны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 Этот пояс находится между 2 º ю. ш. и 5 º с. ш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В этом поясе жарко и сухо в течение всего год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Весь год преобладают влажные воздушные масс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Летом исключительно жарко, почти безоблачно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мпература в тени +50 º С, а около города Триполи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фиксирована температура воздуха + 58 граду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Осадков выпадает мало, летом и зимой менее 100 м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Пояс располагается  по обе стороны от экватора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евере образуя более широкую полосу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 Нет смены времен года. Средняя годовая температур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уха составляет + 26 граду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8. У растений этого пояса не формируются годовые кольц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9. В этом поясе находятся основные пустыни Африки, где днем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здух сильно нагревается, а ночью  быстро остывает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точная амплитуда температур достигает  более 20 градус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0. Самум – ветер, несущий тучи песка частое явление в этом пояс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1. За год выпадает огромное количество осадков – 2000-3000 мм!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Цифровой диктант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вариант – экваториальный климатический пояс</a:t>
            </a:r>
            <a:br>
              <a:rPr sz="2400"/>
            </a:b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 вариант - тропический климатический пояс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628640"/>
          <a:ext cx="8497800" cy="4461120"/>
        </p:xfrm>
        <a:graphic>
          <a:graphicData uri="http://schemas.openxmlformats.org/drawingml/2006/table">
            <a:tbl>
              <a:tblPr/>
              <a:tblGrid>
                <a:gridCol w="1849320"/>
                <a:gridCol w="623880"/>
                <a:gridCol w="623880"/>
                <a:gridCol w="622440"/>
                <a:gridCol w="623880"/>
                <a:gridCol w="623880"/>
                <a:gridCol w="623880"/>
                <a:gridCol w="623880"/>
                <a:gridCol w="623880"/>
                <a:gridCol w="623880"/>
                <a:gridCol w="103500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 11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 вариант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        </a:t>
                      </a: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 вариант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+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611280" y="1701000"/>
            <a:ext cx="8343360" cy="1557360"/>
            <a:chOff x="611280" y="1701000"/>
            <a:chExt cx="8343360" cy="1557360"/>
          </a:xfrm>
        </p:grpSpPr>
        <p:cxnSp>
          <p:nvCxnSpPr>
            <p:cNvPr id="280" name="_s24582"/>
            <p:cNvCxnSpPr>
              <a:stCxn id="281" idx="0"/>
              <a:endCxn id="282" idx="4"/>
            </p:cNvCxnSpPr>
            <p:nvPr/>
          </p:nvCxnSpPr>
          <p:spPr>
            <a:xfrm flipV="1" rot="16200000">
              <a:off x="6363720" y="667800"/>
              <a:ext cx="274680" cy="3436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3" name="_s24583"/>
            <p:cNvCxnSpPr>
              <a:stCxn id="284" idx="0"/>
              <a:endCxn id="282" idx="3"/>
            </p:cNvCxnSpPr>
            <p:nvPr/>
          </p:nvCxnSpPr>
          <p:spPr>
            <a:xfrm flipV="1" rot="16200000">
              <a:off x="5504040" y="1527480"/>
              <a:ext cx="274680" cy="1716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5" name="_s24584"/>
            <p:cNvCxnSpPr>
              <a:stCxn id="286" idx="0"/>
              <a:endCxn id="282" idx="2"/>
            </p:cNvCxnSpPr>
            <p:nvPr/>
          </p:nvCxnSpPr>
          <p:spPr>
            <a:xfrm flipV="1">
              <a:off x="4783680" y="2248560"/>
              <a:ext cx="2160" cy="2746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7" name="_s24585"/>
            <p:cNvCxnSpPr>
              <a:stCxn id="288" idx="0"/>
              <a:endCxn id="282" idx="1"/>
            </p:cNvCxnSpPr>
            <p:nvPr/>
          </p:nvCxnSpPr>
          <p:spPr>
            <a:xfrm flipH="1" flipV="1" rot="5400000">
              <a:off x="3787560" y="1526760"/>
              <a:ext cx="274680" cy="1718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89" name="_s24586"/>
            <p:cNvCxnSpPr>
              <a:stCxn id="290" idx="0"/>
              <a:endCxn id="282" idx="0"/>
            </p:cNvCxnSpPr>
            <p:nvPr/>
          </p:nvCxnSpPr>
          <p:spPr>
            <a:xfrm flipH="1" flipV="1" rot="5400000">
              <a:off x="2928600" y="667800"/>
              <a:ext cx="274680" cy="3436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282" name="_s24587"/>
            <p:cNvSpPr/>
            <p:nvPr/>
          </p:nvSpPr>
          <p:spPr>
            <a:xfrm>
              <a:off x="2526840" y="1701000"/>
              <a:ext cx="4510080" cy="548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cc"/>
                </a:gs>
                <a:gs pos="50000">
                  <a:srgbClr val="0000a4"/>
                </a:gs>
                <a:gs pos="100000">
                  <a:srgbClr val="0099cc"/>
                </a:gs>
              </a:gsLst>
              <a:lin ang="8100000"/>
            </a:gra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Verdana"/>
                </a:rPr>
                <a:t>ВНУТРЕННИЕ   ВОДЫ</a:t>
              </a:r>
              <a:endParaRPr b="0" lang="en-US" sz="3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90" name="_s24588"/>
            <p:cNvSpPr/>
            <p:nvPr/>
          </p:nvSpPr>
          <p:spPr>
            <a:xfrm>
              <a:off x="611280" y="2523600"/>
              <a:ext cx="147168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РЕКИ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8" name="_s24589"/>
            <p:cNvSpPr/>
            <p:nvPr/>
          </p:nvSpPr>
          <p:spPr>
            <a:xfrm>
              <a:off x="2328840" y="2523600"/>
              <a:ext cx="147204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    </a:t>
              </a: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БОЛОТА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endParaRPr b="0" lang="en-US" sz="12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_s24590"/>
            <p:cNvSpPr/>
            <p:nvPr/>
          </p:nvSpPr>
          <p:spPr>
            <a:xfrm>
              <a:off x="4046760" y="2523600"/>
              <a:ext cx="147168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ЛЕДНИКИ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_s24591"/>
            <p:cNvSpPr/>
            <p:nvPr/>
          </p:nvSpPr>
          <p:spPr>
            <a:xfrm>
              <a:off x="5764320" y="2523600"/>
              <a:ext cx="147204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ОЗЕРА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_s24592"/>
            <p:cNvSpPr/>
            <p:nvPr/>
          </p:nvSpPr>
          <p:spPr>
            <a:xfrm>
              <a:off x="7482600" y="2523600"/>
              <a:ext cx="1472040" cy="734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0000a4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ПОДЗЕМНЫЕ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Verdana"/>
                </a:rPr>
                <a:t>ВОДЫ</a:t>
              </a:r>
              <a:endParaRPr b="0" lang="en-US" sz="21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нутренние воды Афр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ы должны вспомнить некоторые географические терм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мы имеем в виду, когда говорим” внутренние воды"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ре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исток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стье - это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ток - это..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бассейн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водораздел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ое питание имеют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 такое режим рек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ие бывают ре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водопад и порог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озер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такое подзем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дники - эт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ЛИЯНИЕ ВНЕШНИХ ФАКТОРОВ НА РЕ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200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4720" y="1676160"/>
            <a:ext cx="4197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ЛИЯНИЕ ВНЕШНИХ ФАКТОРОВ НА РЕ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200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.ХАРАКТЕР ТЕ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. ПОРОГИ И ВОДОП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. РАБОТА Р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4. НА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ольшая часть рек порожиста, много водопа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ассейн Атлантического океана  имеет большую площадь вследствие того, что рельеф материка понижается к северу и зап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обладают реки, впадающие в Атлантический оке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720" y="1676160"/>
            <a:ext cx="4197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МНОГОВОД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ПИТ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РЕЖ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ЛЕДОСТА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ноговодны полноводны круглый год  реки, текущие в  экваториальном климатическом поясе, преобладает питание дождев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убэкваториальных поясах  половодье наступает в летние месяц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субтропических поясах  реки разливаются зи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едостава 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Распределение вод Афри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оды Африки распределяются крайне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еравномерно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устая речная сеть имеется там, где выпадает много осадков и распространенны водоупорные горные породы (в бассейне Конго (Заир), на побережье Гвинейского залива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Более трети континент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вообще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е имеет постоянного сто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: вода появляется только в понижениях после редких дождей (в Сахаре, пустыне Намиб и др.). Вода теряется из-за просачивания в пески и каменистые россыпи пустын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тличительной особенностью водной сети Африки является и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начительная площадь областе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нутреннего сто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(около 1/3 всей площади материка). Реки впадают в озера, не имеющие стока в океан, или теряются в песках и толщах щебня либо в болотах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нутренний сток связан как с дефицитом влаги, так и с котлованным характером поверх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пустынях есть сухие русла —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ади,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свидетельствующие о более влажном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климате в прошлом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8:43:12Z</dcterms:created>
  <dc:creator>юлия</dc:creator>
  <dc:description/>
  <dc:language>en-US</dc:language>
  <cp:lastModifiedBy>Comp</cp:lastModifiedBy>
  <dcterms:modified xsi:type="dcterms:W3CDTF">2013-04-15T09:31:22Z</dcterms:modified>
  <cp:revision>21</cp:revision>
  <dc:subject/>
  <dc:title>Слайд 1</dc:title>
</cp:coreProperties>
</file>