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B31-3888-488C-B454-DC9126F4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D67-CDBC-4C0E-86F6-325418F7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A28-BB3A-453D-A41C-30D99B4F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68B-FB74-48F3-BA58-C236783E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78B-0C3F-4C85-BCB4-FC0C5319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F16-4CB5-4867-A99A-2BEA542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6CB-B27D-49CD-A7D1-771CC57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9A93-5A19-44FB-B3BC-B650128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1902-7E1A-4F0B-99DF-4F4AABE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015-816E-47BC-887B-E28CF11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8861-7840-4A93-B394-80E33B1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1D8-57C0-4542-B0D5-50C543A2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D414-942D-4DF6-93BF-6D787A0F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E91-4629-494D-A31A-47E10543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4EB6-9C3F-4A32-AA1F-4CEEC85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8B9-6E01-47FA-8CD9-DA3FC57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B273-537D-4AC3-B6BF-E339DAE2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3BE-54A4-4315-AB0A-206A244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2CE-27E3-432C-8D8D-0627284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B5C-B592-46C8-9562-1248BFA9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ECE-DEC2-4B78-BA35-CE80B337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611-3680-4B97-B49C-EA20BA9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5E1-BA0D-4D05-B28D-4CD6D0B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290-9189-42CE-94EF-93759CF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0BD-BF7D-495E-ABC0-202E5B96A2C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7F99-FBBE-49B8-BFE2-EB877CA9695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Comic Sans MS"/>
              </a:rPr>
              <a:t>Застенчивые дети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43640" y="4778280"/>
            <a:ext cx="25210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Застенчивость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 (</a:t>
            </a: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стеснительность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, </a:t>
            </a: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робость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) — состояние психики и обусловленное им поведение животных и человека, характерными чертами которого являются: нерешительность, боязливость, напряжённость, скованность и неловкость в обществе из-за неуверенности в себ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застенчивость"/>
          <p:cNvPicPr/>
          <p:nvPr/>
        </p:nvPicPr>
        <p:blipFill>
          <a:blip r:embed="rId1"/>
          <a:stretch/>
        </p:blipFill>
        <p:spPr>
          <a:xfrm rot="520200">
            <a:off x="5651640" y="3644640"/>
            <a:ext cx="2679480" cy="254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26920" y="3097080"/>
            <a:ext cx="435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20807400">
            <a:off x="900000" y="3715920"/>
            <a:ext cx="2313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Природа застенчивост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Исследователи личности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(такие как Рэймонд Кэтелл) убеждены, что застенчивость передается по наследству, точно так же, как умственные способности или рост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Бихевиористы 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полагают, что застенчивым просто недостает социальных навыков, необходимых для полноценного общения с другими людь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Психоаналитики 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говорят, что застенчивость — это не что иное, как симптом выражения на сознательном уровне бушующих в подсознании глубинных психических противореч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циологи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  считают, что застенчивость можно понимать в аспекте социальных установок: мы смущаемся, когда речь заходит о соблюдении общественных прилич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циопсихологи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утверждают, что застенчивость дает о себе знать с того момента, как человек говорит себе: «Я застенчив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Причины застенчив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аследствен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Копирование повед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едостаток комфор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Чрезмерная забота родите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Противоречия в воспитан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Отсутствие родительского участ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Дразнения, угрозы, крит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Семейные пробл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егативный социальный опы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 rot="932400">
            <a:off x="6588000" y="836280"/>
            <a:ext cx="234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Симптомы застенчивост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Застенчивость «читается» по внешним признакам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покраснение лица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потливость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дрожь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учащение сердцебиения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стесненное дыхание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согбенная поза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опущенные вниз глаза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тихий голос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скованность мышц и движен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656400">
            <a:off x="6587640" y="5084280"/>
            <a:ext cx="2333880" cy="1552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768600">
            <a:off x="6372360" y="2924280"/>
            <a:ext cx="22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Для застенчивых детей характерно следующе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они ощущают на себе взгляд другого челове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чувствительны к еле слышимым или очень высоким звук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не переносят прямых физических контактов с другими людьми и могут на них отреагировать даже шоковым состояние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многолюдье и человеческая суета их очень утомляю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они очень медленно и постепенно привыкают к новым для них ситуациям и окружению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часто им не хватает социальных навыков или уверенности в себ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96360" y="5227560"/>
            <a:ext cx="1401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Психологические особенности застенчивых дет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97160" y="1107000"/>
            <a:ext cx="4549320" cy="4470120"/>
            <a:chOff x="2297160" y="1107000"/>
            <a:chExt cx="4549320" cy="4470120"/>
          </a:xfrm>
        </p:grpSpPr>
        <p:sp>
          <p:nvSpPr>
            <p:cNvPr id="191" name="_s10258"/>
            <p:cNvSpPr/>
            <p:nvPr/>
          </p:nvSpPr>
          <p:spPr>
            <a:xfrm flipH="1" flipV="1">
              <a:off x="3445920" y="3142440"/>
              <a:ext cx="565560" cy="1872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_s10257"/>
            <p:cNvSpPr/>
            <p:nvPr/>
          </p:nvSpPr>
          <p:spPr>
            <a:xfrm>
              <a:off x="2297160" y="2356200"/>
              <a:ext cx="1179000" cy="12020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Чувство вины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_s10252"/>
            <p:cNvSpPr/>
            <p:nvPr/>
          </p:nvSpPr>
          <p:spPr>
            <a:xfrm flipH="1">
              <a:off x="3876120" y="3998520"/>
              <a:ext cx="349920" cy="4921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_s10251"/>
            <p:cNvSpPr/>
            <p:nvPr/>
          </p:nvSpPr>
          <p:spPr>
            <a:xfrm>
              <a:off x="2940840" y="4375080"/>
              <a:ext cx="1179000" cy="1202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Высокая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тревожность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_s10254"/>
            <p:cNvSpPr/>
            <p:nvPr/>
          </p:nvSpPr>
          <p:spPr>
            <a:xfrm>
              <a:off x="4915800" y="3998520"/>
              <a:ext cx="351720" cy="4921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_s10253"/>
            <p:cNvSpPr/>
            <p:nvPr/>
          </p:nvSpPr>
          <p:spPr>
            <a:xfrm>
              <a:off x="5023440" y="4375080"/>
              <a:ext cx="1179720" cy="1202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Зависимость от 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Мнения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окружающих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_s10250"/>
            <p:cNvSpPr/>
            <p:nvPr/>
          </p:nvSpPr>
          <p:spPr>
            <a:xfrm flipV="1">
              <a:off x="5129640" y="3139920"/>
              <a:ext cx="567720" cy="1890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_s10249"/>
            <p:cNvSpPr/>
            <p:nvPr/>
          </p:nvSpPr>
          <p:spPr>
            <a:xfrm>
              <a:off x="5667480" y="2356200"/>
              <a:ext cx="1179000" cy="1202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страх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_s10248"/>
            <p:cNvSpPr/>
            <p:nvPr/>
          </p:nvSpPr>
          <p:spPr>
            <a:xfrm flipV="1">
              <a:off x="4571280" y="2307240"/>
              <a:ext cx="0" cy="6073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_s10247"/>
            <p:cNvSpPr/>
            <p:nvPr/>
          </p:nvSpPr>
          <p:spPr>
            <a:xfrm>
              <a:off x="3981960" y="1107000"/>
              <a:ext cx="1179000" cy="1202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Смущение при 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контактах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_s10246"/>
            <p:cNvSpPr/>
            <p:nvPr/>
          </p:nvSpPr>
          <p:spPr>
            <a:xfrm>
              <a:off x="3981960" y="2915280"/>
              <a:ext cx="1179000" cy="120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99"/>
                  </a:solidFill>
                  <a:latin typeface="Arial"/>
                </a:rPr>
                <a:t>Застенчивые дети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343240" cy="1552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905120" cy="1400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1672920" cy="2521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39640" y="5157720"/>
            <a:ext cx="23338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Рекомендации для педагогов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 ставить в ситуацию неопределенности, неизвест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Включать в посильные общественные д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Хвалить самостоятель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Стимулировать личную ответствен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 создавать напряжения во взаимоотношениях, не угрож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Отношения ровные, открытые. Ребенок должен принимать ваши эмоции и чувства к нем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гативизм относить к  поступку, но не к личности в цело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Ребенок должен расставаться с Вами, успокоившис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Быть осторожным с передачей стрессовой информаци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Иногда можно позволить отвечать с места или письмен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ичего не навязывать, а приспосабливаться к ни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 призывать к совести, не читать морал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020000" y="4952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11:22:09Z</dcterms:created>
  <dc:creator>Admin</dc:creator>
  <dc:description/>
  <dc:language>en-US</dc:language>
  <cp:lastModifiedBy>Admin</cp:lastModifiedBy>
  <dcterms:modified xsi:type="dcterms:W3CDTF">2012-12-20T16:52:37Z</dcterms:modified>
  <cp:revision>2</cp:revision>
  <dc:subject/>
  <dc:title>Застенчивые дети</dc:title>
</cp:coreProperties>
</file>