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2F6F-74A4-487F-828B-64763E56C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42A9-84DB-4A37-B1EB-0F27847DC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B879-0060-4037-9159-CD4A287CF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AC4D-4985-4EDE-9B6C-5FEAC042E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CE837-2B5F-4DA9-954D-DFBA52384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F8F5F-65FC-4368-9F85-80B35AD32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61363-1F67-408A-BB53-64DD6E56B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0D95E-7D79-4E89-953C-A064C2032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26DC5-8241-4EC8-BB5B-F9CDE9E7F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E861F-8B2E-4465-AA6D-9F6B13FDD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013A2-C746-4566-810B-0C7B4D30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FDEA-2208-49B3-9206-EE53B5578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DD6F7-7869-4C8E-A098-4E9AD2F6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17FD7-9FCF-450C-B8EC-5790BD67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C7935-9A46-4A5D-A2AB-7E4240185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7D965-C85C-4E19-A6B3-0F3F1999C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0E073-4F52-4474-8C86-A5E32C543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3FD6-D49C-4C89-AB7B-3C0181150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7722-9593-4094-A93D-AB9193D7F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F279-B3A4-4B58-A8C9-C693F79EC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2E94-4948-4C83-ABD5-2808B75F3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1317-433D-47AD-8489-85E419F8B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188C-ED54-417A-AA58-2C24F60BC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D195-DE14-4DD4-AC98-4E7BF68B2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74855-BADD-4C44-95AE-BE4529047889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47467-9D42-4D2A-BA80-36010C30EBD2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Comic Sans MS"/>
              </a:rPr>
              <a:t>Застенчивые дети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443640" y="4778280"/>
            <a:ext cx="2521080" cy="19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1" lang="en-US" sz="2400" spc="-1" strike="noStrike">
                <a:solidFill>
                  <a:srgbClr val="006699"/>
                </a:solidFill>
                <a:latin typeface="Comic Sans MS"/>
              </a:rPr>
              <a:t>Застенчивость</a:t>
            </a: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 (</a:t>
            </a:r>
            <a:r>
              <a:rPr b="1" lang="en-US" sz="2400" spc="-1" strike="noStrike">
                <a:solidFill>
                  <a:srgbClr val="006699"/>
                </a:solidFill>
                <a:latin typeface="Comic Sans MS"/>
              </a:rPr>
              <a:t>стеснительность</a:t>
            </a: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, </a:t>
            </a:r>
            <a:r>
              <a:rPr b="1" lang="en-US" sz="2400" spc="-1" strike="noStrike">
                <a:solidFill>
                  <a:srgbClr val="006699"/>
                </a:solidFill>
                <a:latin typeface="Comic Sans MS"/>
              </a:rPr>
              <a:t>робость</a:t>
            </a: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) — состояние психики и обусловленное им поведение животных и человека, характерными чертами которого являются: нерешительность, боязливость, напряжённость, скованность и неловкость в обществе из-за неуверенности в себе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3" name="" descr="застенчивость"/>
          <p:cNvPicPr/>
          <p:nvPr/>
        </p:nvPicPr>
        <p:blipFill>
          <a:blip r:embed="rId1"/>
          <a:stretch/>
        </p:blipFill>
        <p:spPr>
          <a:xfrm rot="520200">
            <a:off x="5651640" y="3644640"/>
            <a:ext cx="2679480" cy="25462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826920" y="3097080"/>
            <a:ext cx="43578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 rot="20807400">
            <a:off x="900000" y="3715920"/>
            <a:ext cx="2313000" cy="23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9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Comic Sans MS"/>
              </a:rPr>
              <a:t>Природа застенчивости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Comic Sans MS"/>
              </a:rPr>
              <a:t>Исследователи личности</a:t>
            </a:r>
            <a:r>
              <a:rPr b="0" lang="ru-RU" sz="2400" spc="-1" strike="noStrike">
                <a:solidFill>
                  <a:srgbClr val="006699"/>
                </a:solidFill>
                <a:latin typeface="Comic Sans MS"/>
              </a:rPr>
              <a:t> (такие как Рэймонд Кэтелл) убеждены, что застенчивость передается по наследству, точно так же, как умственные способности или рост человека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Comic Sans MS"/>
              </a:rPr>
              <a:t>Бихевиористы </a:t>
            </a:r>
            <a:r>
              <a:rPr b="0" lang="ru-RU" sz="2400" spc="-1" strike="noStrike">
                <a:solidFill>
                  <a:srgbClr val="006699"/>
                </a:solidFill>
                <a:latin typeface="Comic Sans MS"/>
              </a:rPr>
              <a:t>полагают, что застенчивым просто недостает социальных навыков, необходимых для полноценного общения с другими людьм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Comic Sans MS"/>
              </a:rPr>
              <a:t>Психоаналитики </a:t>
            </a:r>
            <a:r>
              <a:rPr b="0" lang="ru-RU" sz="2400" spc="-1" strike="noStrike">
                <a:solidFill>
                  <a:srgbClr val="006699"/>
                </a:solidFill>
                <a:latin typeface="Comic Sans MS"/>
              </a:rPr>
              <a:t>говорят, что застенчивость — это не что иное, как симптом выражения на сознательном уровне бушующих в подсознании глубинных психических противоречий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Comic Sans MS"/>
              </a:rPr>
              <a:t>Социологи</a:t>
            </a:r>
            <a:r>
              <a:rPr b="0" lang="ru-RU" sz="2400" spc="-1" strike="noStrike">
                <a:solidFill>
                  <a:srgbClr val="006699"/>
                </a:solidFill>
                <a:latin typeface="Comic Sans MS"/>
              </a:rPr>
              <a:t>  считают, что застенчивость можно понимать в аспекте социальных установок: мы смущаемся, когда речь заходит о соблюдении общественных приличий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Comic Sans MS"/>
              </a:rPr>
              <a:t>Социопсихологи</a:t>
            </a:r>
            <a:r>
              <a:rPr b="0" lang="ru-RU" sz="2400" spc="-1" strike="noStrike">
                <a:solidFill>
                  <a:srgbClr val="006699"/>
                </a:solidFill>
                <a:latin typeface="Comic Sans MS"/>
              </a:rPr>
              <a:t> утверждают, что застенчивость дает о себе знать с того момента, как человек говорит себе: «Я застенчив»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1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Comic Sans MS"/>
              </a:rPr>
              <a:t>Причины застенчивости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Наследственност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Копирование поведени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Недостаток комфорт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Чрезмерная забота родителе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Противоречия в воспитани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Отсутствие родительского участи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Дразнения, угрозы, критик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Семейные проблемы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Негативный социальный опыт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7020000" y="465300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 rot="932400">
            <a:off x="6588000" y="836280"/>
            <a:ext cx="23400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9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Comic Sans MS"/>
              </a:rPr>
              <a:t>Симптомы застенчивости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Застенчивость «читается» по внешним признакам: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- покраснение лица;</a:t>
            </a:r>
            <a:br>
              <a:rPr sz="2400"/>
            </a:b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- потливость;</a:t>
            </a:r>
            <a:br>
              <a:rPr sz="2400"/>
            </a:b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- дрожь;</a:t>
            </a:r>
            <a:br>
              <a:rPr sz="2400"/>
            </a:b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- учащение сердцебиения;</a:t>
            </a:r>
            <a:br>
              <a:rPr sz="2400"/>
            </a:b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- стесненное дыхание;</a:t>
            </a:r>
            <a:br>
              <a:rPr sz="2400"/>
            </a:b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- согбенная поза;</a:t>
            </a:r>
            <a:br>
              <a:rPr sz="2400"/>
            </a:b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- опущенные вниз глаза;</a:t>
            </a:r>
            <a:br>
              <a:rPr sz="2400"/>
            </a:b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- тихий голос;</a:t>
            </a:r>
            <a:br>
              <a:rPr sz="2400"/>
            </a:b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- скованность мышц и движений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 rot="656400">
            <a:off x="6587640" y="5084280"/>
            <a:ext cx="2333880" cy="15526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 rot="768600">
            <a:off x="6372360" y="2924280"/>
            <a:ext cx="222876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Comic Sans MS"/>
              </a:rPr>
              <a:t>Для застенчивых детей характерно следующее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они ощущают на себе взгляд другого человека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чувствительны к еле слышимым или очень высоким звукам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не переносят прямых физических контактов с другими людьми и могут на них отреагировать даже шоковым состоянием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многолюдье и человеческая суета их очень утомляют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они очень медленно и постепенно привыкают к новым для них ситуациям и окружению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mic Sans MS"/>
              </a:rPr>
              <a:t>часто им не хватает социальных навыков или уверенности в себе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596360" y="5227560"/>
            <a:ext cx="140148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Comic Sans MS"/>
              </a:rPr>
              <a:t>Психологические особенности застенчивых детей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297160" y="1107000"/>
            <a:ext cx="4549320" cy="4470120"/>
            <a:chOff x="2297160" y="1107000"/>
            <a:chExt cx="4549320" cy="4470120"/>
          </a:xfrm>
        </p:grpSpPr>
        <p:sp>
          <p:nvSpPr>
            <p:cNvPr id="191" name="_s10258"/>
            <p:cNvSpPr/>
            <p:nvPr/>
          </p:nvSpPr>
          <p:spPr>
            <a:xfrm flipH="1" flipV="1">
              <a:off x="3445920" y="3142440"/>
              <a:ext cx="565560" cy="187200"/>
            </a:xfrm>
            <a:prstGeom prst="line">
              <a:avLst/>
            </a:prstGeom>
            <a:ln w="284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2" name="_s10257"/>
            <p:cNvSpPr/>
            <p:nvPr/>
          </p:nvSpPr>
          <p:spPr>
            <a:xfrm>
              <a:off x="2297160" y="2356200"/>
              <a:ext cx="1179000" cy="120204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99"/>
                  </a:solidFill>
                  <a:latin typeface="Arial"/>
                </a:rPr>
                <a:t>Чувство вины</a:t>
              </a:r>
              <a:endParaRPr b="0" lang="en-US" sz="13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3" name="_s10252"/>
            <p:cNvSpPr/>
            <p:nvPr/>
          </p:nvSpPr>
          <p:spPr>
            <a:xfrm flipH="1">
              <a:off x="3876120" y="3998520"/>
              <a:ext cx="349920" cy="492120"/>
            </a:xfrm>
            <a:prstGeom prst="line">
              <a:avLst/>
            </a:prstGeom>
            <a:ln w="284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4" name="_s10251"/>
            <p:cNvSpPr/>
            <p:nvPr/>
          </p:nvSpPr>
          <p:spPr>
            <a:xfrm>
              <a:off x="2940840" y="4375080"/>
              <a:ext cx="1179000" cy="1202040"/>
            </a:xfrm>
            <a:prstGeom prst="ellipse">
              <a:avLst/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99"/>
                  </a:solidFill>
                  <a:latin typeface="Arial"/>
                </a:rPr>
                <a:t>Высокая</a:t>
              </a:r>
              <a:endParaRPr b="0" lang="en-US" sz="1300" spc="-1" strike="noStrike">
                <a:solidFill>
                  <a:srgbClr val="006699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99"/>
                  </a:solidFill>
                  <a:latin typeface="Arial"/>
                </a:rPr>
                <a:t> </a:t>
              </a:r>
              <a:r>
                <a:rPr b="0" lang="en-US" sz="1300" spc="-1" strike="noStrike">
                  <a:solidFill>
                    <a:srgbClr val="006699"/>
                  </a:solidFill>
                  <a:latin typeface="Arial"/>
                </a:rPr>
                <a:t>тревожность</a:t>
              </a:r>
              <a:endParaRPr b="0" lang="en-US" sz="13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5" name="_s10254"/>
            <p:cNvSpPr/>
            <p:nvPr/>
          </p:nvSpPr>
          <p:spPr>
            <a:xfrm>
              <a:off x="4915800" y="3998520"/>
              <a:ext cx="351720" cy="492120"/>
            </a:xfrm>
            <a:prstGeom prst="line">
              <a:avLst/>
            </a:prstGeom>
            <a:ln w="284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6" name="_s10253"/>
            <p:cNvSpPr/>
            <p:nvPr/>
          </p:nvSpPr>
          <p:spPr>
            <a:xfrm>
              <a:off x="5023440" y="4375080"/>
              <a:ext cx="1179720" cy="1202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99"/>
                  </a:solidFill>
                  <a:latin typeface="Arial"/>
                </a:rPr>
                <a:t>Зависимость от </a:t>
              </a:r>
              <a:endParaRPr b="0" lang="en-US" sz="1300" spc="-1" strike="noStrike">
                <a:solidFill>
                  <a:srgbClr val="006699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99"/>
                  </a:solidFill>
                  <a:latin typeface="Arial"/>
                </a:rPr>
                <a:t>Мнения</a:t>
              </a:r>
              <a:endParaRPr b="0" lang="en-US" sz="1300" spc="-1" strike="noStrike">
                <a:solidFill>
                  <a:srgbClr val="006699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99"/>
                  </a:solidFill>
                  <a:latin typeface="Arial"/>
                </a:rPr>
                <a:t>окружающих</a:t>
              </a:r>
              <a:endParaRPr b="0" lang="en-US" sz="13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7" name="_s10250"/>
            <p:cNvSpPr/>
            <p:nvPr/>
          </p:nvSpPr>
          <p:spPr>
            <a:xfrm flipV="1">
              <a:off x="5129640" y="3139920"/>
              <a:ext cx="567720" cy="189000"/>
            </a:xfrm>
            <a:prstGeom prst="line">
              <a:avLst/>
            </a:prstGeom>
            <a:ln w="284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8" name="_s10249"/>
            <p:cNvSpPr/>
            <p:nvPr/>
          </p:nvSpPr>
          <p:spPr>
            <a:xfrm>
              <a:off x="5667480" y="2356200"/>
              <a:ext cx="1179000" cy="1202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99"/>
                  </a:solidFill>
                  <a:latin typeface="Arial"/>
                </a:rPr>
                <a:t>страх</a:t>
              </a:r>
              <a:endParaRPr b="0" lang="en-US" sz="13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9" name="_s10248"/>
            <p:cNvSpPr/>
            <p:nvPr/>
          </p:nvSpPr>
          <p:spPr>
            <a:xfrm flipV="1">
              <a:off x="4571280" y="2307240"/>
              <a:ext cx="0" cy="607320"/>
            </a:xfrm>
            <a:prstGeom prst="line">
              <a:avLst/>
            </a:prstGeom>
            <a:ln w="284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0" name="_s10247"/>
            <p:cNvSpPr/>
            <p:nvPr/>
          </p:nvSpPr>
          <p:spPr>
            <a:xfrm>
              <a:off x="3981960" y="1107000"/>
              <a:ext cx="1179000" cy="120204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99"/>
                  </a:solidFill>
                  <a:latin typeface="Arial"/>
                </a:rPr>
                <a:t>Смущение при </a:t>
              </a:r>
              <a:endParaRPr b="0" lang="en-US" sz="1300" spc="-1" strike="noStrike">
                <a:solidFill>
                  <a:srgbClr val="006699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6699"/>
                  </a:solidFill>
                  <a:latin typeface="Arial"/>
                </a:rPr>
                <a:t>контактах</a:t>
              </a:r>
              <a:endParaRPr b="0" lang="en-US" sz="13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1" name="_s10246"/>
            <p:cNvSpPr/>
            <p:nvPr/>
          </p:nvSpPr>
          <p:spPr>
            <a:xfrm>
              <a:off x="3981960" y="2915280"/>
              <a:ext cx="1179000" cy="1202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6699"/>
                  </a:solidFill>
                  <a:latin typeface="Arial"/>
                </a:rPr>
                <a:t>Застенчивые дети</a:t>
              </a:r>
              <a:endParaRPr b="0" lang="en-US" sz="13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6443640" y="4941720"/>
            <a:ext cx="2343240" cy="15526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6804000" y="981000"/>
            <a:ext cx="1905120" cy="14004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324000" y="836640"/>
            <a:ext cx="1672920" cy="25210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539640" y="5157720"/>
            <a:ext cx="233388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1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Comic Sans MS"/>
              </a:rPr>
              <a:t>Рекомендации для педагогов:</a:t>
            </a:r>
            <a:br>
              <a:rPr sz="2800"/>
            </a:b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Не ставить в ситуацию неопределенности, неизвестности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Включать в посильные общественные дела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Хвалить самостоятельность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Стимулировать личную ответственность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Не создавать напряжения во взаимоотношениях, не угрожать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Отношения ровные, открытые. Ребенок должен принимать ваши эмоции и чувства к нему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Негативизм относить к  поступку, но не к личности в целом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Ребенок должен расставаться с Вами, успокоившись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Быть осторожным с передачей стрессовой информации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Иногда можно позволить отвечать с места или письменно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Ничего не навязывать, а приспосабливаться к ним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Comic Sans MS"/>
              </a:rPr>
              <a:t>Не призывать к совести, не читать морали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7020000" y="4952880"/>
            <a:ext cx="19047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0T11:22:09Z</dcterms:created>
  <dc:creator>Admin</dc:creator>
  <dc:description/>
  <dc:language>en-US</dc:language>
  <cp:lastModifiedBy>Admin</cp:lastModifiedBy>
  <dcterms:modified xsi:type="dcterms:W3CDTF">2012-12-20T16:52:37Z</dcterms:modified>
  <cp:revision>2</cp:revision>
  <dc:subject/>
  <dc:title>Застенчивые дети</dc:title>
</cp:coreProperties>
</file>